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37C9F-CD92-4775-826A-C6E73DA7E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6A33D-3F5C-4B8C-9634-9EB95A8B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69DD5-5539-4F27-9ACA-FEC71EC0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0846-AED9-4569-B6DA-2C604DAC1B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A99E-95A5-4111-B073-B2E45FF9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BE448-D666-4676-8231-894B2112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DE709-59DC-4BB0-A054-01555D3C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3BBBE-F34E-4B2D-BC42-2885CB21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DF3C-37B5-438D-AB76-503F5CE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7097E-08D4-464C-B903-9843F316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56EB1-26CC-4689-8776-12AA6AD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EDA0A-844D-4C32-A5C6-502A7343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B8603-0096-43FD-9C95-C8A8605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603CA-3E1C-4C0D-A2AE-A7A3C712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4E144-9217-4D90-9FDC-4DC8745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B81E8-056F-4B92-8B7B-E960E5DA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3864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15160" y="152388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76212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3864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15160" y="3912120"/>
            <a:ext cx="245340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DA10-5E32-49D3-AB38-B9B1EC0E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7B3E-521B-4019-834D-A24E987D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0E2C5-B402-40EB-B450-29B29509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75D0-AA3B-4D65-9598-648820FB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57400" y="228240"/>
            <a:ext cx="67802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2861C-E9A5-4E71-B4B0-00B45CAB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2269-7094-4B92-9252-394B35FB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6320" y="391212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888F2-18B4-42EE-BB56-21AF3677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6320" y="1523880"/>
            <a:ext cx="371808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62120" y="3912120"/>
            <a:ext cx="7619760" cy="218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3195-BB3A-40AF-9A6F-5BFF80AB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2" name=""/>
          <p:cNvSpPr/>
          <p:nvPr/>
        </p:nvSpPr>
        <p:spPr>
          <a:xfrm>
            <a:off x="0" y="10666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07E-66E0-4B23-87AE-54D54CD465F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720" y="647712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76320"/>
            <a:ext cx="1676520" cy="901440"/>
          </a:xfrm>
          <a:prstGeom prst="rect">
            <a:avLst/>
          </a:prstGeom>
          <a:ln w="0">
            <a:noFill/>
          </a:ln>
        </p:spPr>
      </p:pic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C Half Banner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71467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-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361944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EC16-F8A5-48DB-8FE0-78A0BCEDC8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7632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600" y="6553080"/>
            <a:ext cx="1725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Property of ERCOT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00400" cy="172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G Omeg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TCA, CAM, and SFT Upd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4920" y="4038480"/>
            <a:ext cx="6326280" cy="152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Presented by: John Adam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March 1, 2005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EB854-4A17-4971-AD74-14E9790C34A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3880" y="152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l Constraint Flowchar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Each Inter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114800"/>
            <a:ext cx="3276720" cy="109980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 Estimator Solu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Current Network Topology / Lo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5486400"/>
            <a:ext cx="3276720" cy="91692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Flow Case with Network Topology and MW Inj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1600200"/>
            <a:ext cx="83844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5181480"/>
            <a:ext cx="0" cy="2286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828800"/>
            <a:ext cx="129528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505320"/>
            <a:ext cx="3962520" cy="119124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T Loadflow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gency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s Limited Unit Specific Constra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5200" y="1143000"/>
            <a:ext cx="1600200" cy="119124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 for th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6560" y="121932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600200"/>
            <a:ext cx="396216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Entered Constraints (oc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240" y="2819520"/>
            <a:ext cx="447228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/CMZ Res. Plan &amp; Real-Time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267080" y="1981080"/>
            <a:ext cx="1371600" cy="4572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5960" y="2209680"/>
            <a:ext cx="3720960" cy="36828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SE Schedules and Bid (inc. B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952880" y="2133720"/>
            <a:ext cx="762120" cy="83808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1828800"/>
            <a:ext cx="45720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3920" y="365760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 of CAM/SFT to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48520" y="2286000"/>
            <a:ext cx="0" cy="1066680"/>
          </a:xfrm>
          <a:prstGeom prst="line">
            <a:avLst/>
          </a:prstGeom>
          <a:ln w="34920">
            <a:solidFill>
              <a:srgbClr val="99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5638680"/>
            <a:ext cx="30492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5920" y="2514600"/>
            <a:ext cx="14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e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2879640"/>
            <a:ext cx="8782200" cy="625680"/>
          </a:xfrm>
          <a:custGeom>
            <a:avLst/>
            <a:gdLst/>
            <a:ahLst/>
            <a:rect l="l" t="t" r="r" b="b"/>
            <a:pathLst>
              <a:path w="5532" h="394">
                <a:moveTo>
                  <a:pt x="0" y="394"/>
                </a:moveTo>
                <a:lnTo>
                  <a:pt x="2888" y="381"/>
                </a:lnTo>
                <a:lnTo>
                  <a:pt x="3468" y="4"/>
                </a:lnTo>
                <a:lnTo>
                  <a:pt x="5532" y="0"/>
                </a:lnTo>
              </a:path>
            </a:pathLst>
          </a:custGeom>
          <a:noFill/>
          <a:ln cap="rnd" w="63360">
            <a:solidFill>
              <a:srgbClr val="0000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080" y="5446800"/>
            <a:ext cx="3444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5627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5334120"/>
            <a:ext cx="2133360" cy="100836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case/Cont Overload Det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5105520"/>
            <a:ext cx="2438280" cy="1557000"/>
          </a:xfrm>
          <a:prstGeom prst="rect">
            <a:avLst/>
          </a:prstGeom>
          <a:noFill/>
          <a:ln w="763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case/Contingency Overloads Selectable for Deplo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7543800" y="4800240"/>
            <a:ext cx="0" cy="22860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5715000"/>
            <a:ext cx="228600" cy="0"/>
          </a:xfrm>
          <a:prstGeom prst="line">
            <a:avLst/>
          </a:prstGeom>
          <a:ln w="2232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733920" y="4114800"/>
            <a:ext cx="1218960" cy="533520"/>
          </a:xfrm>
          <a:prstGeom prst="line">
            <a:avLst/>
          </a:prstGeom>
          <a:ln w="22320">
            <a:solidFill>
              <a:srgbClr val="c0c0c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20149200">
            <a:off x="4038840" y="4343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Arial"/>
              </a:rPr>
              <a:t>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4F4F7-8533-426E-A184-EFD0C8C8B48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13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0"/>
                            </p:stCondLst>
                            <p:childTnLst>
                              <p:par>
                                <p:cTn id="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straint Activity Manag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50481" t="1783" r="6938" b="57665"/>
          <a:stretch/>
        </p:blipFill>
        <p:spPr>
          <a:xfrm>
            <a:off x="380880" y="1676520"/>
            <a:ext cx="8455320" cy="450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5B18-FFC4-40CF-B974-FAC6B7F5C5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arket Operator Interfac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914400" y="1415880"/>
            <a:ext cx="7467480" cy="5059440"/>
            <a:chOff x="914400" y="1415880"/>
            <a:chExt cx="7467480" cy="505944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rcRect l="0" t="6733" r="60185" b="30972"/>
            <a:stretch/>
          </p:blipFill>
          <p:spPr>
            <a:xfrm>
              <a:off x="914400" y="1415880"/>
              <a:ext cx="7467480" cy="505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 txBox="1"/>
            <p:nvPr/>
          </p:nvSpPr>
          <p:spPr>
            <a:xfrm>
              <a:off x="914400" y="1415880"/>
              <a:ext cx="7467480" cy="505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buClr>
                  <a:srgbClr val="000066"/>
                </a:buClr>
                <a:buSzPct val="135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C71F3-4557-422D-9D28-206928F4C90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Only units online in the State Estimator are considered available to SPD in real-time balancing deploymen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s means that the present practice of bidding off-line Gas Turbines into the balancing market will be rejected in the validation phase of the SPD analysis.  (i.e. it cannot find sufficient generators to allocate the step 1 solution in order to analyze local congestion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urrent CAM design cannot be implemented if offline GT’s are allowed to bid into the Balancing Market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E893-02F4-4090-A680-07A0EB48E2C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693432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al-Time Contingency Analysis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ontingency Analysis that runs at regular 5-minute intervals, or upon demand, using the State Estimator Solution and Network Topology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e RTCA Solution provides accurate and reliable information to the ERCOT Operators for Congestion Management purposes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FBDF6-8AF0-4EC0-B5C7-9A78EEECE69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eal Time Contingency Analysis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50932" t="1687" r="938" b="10783"/>
          <a:stretch/>
        </p:blipFill>
        <p:spPr>
          <a:xfrm>
            <a:off x="914400" y="1371600"/>
            <a:ext cx="7238880" cy="495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576D-A0EF-41B6-A4A1-1A1D9CFB460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Uses of RTCA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Identify areas of congestion, both local and zonal in post-contingency situations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This allows operators to mediate potential problems before a given contingency occurs (N-1 secure)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inimizes the potential for load loss or equipment damage when a contingency does occur.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D8B4-9189-4965-BB23-801DB6315E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imultaneous Feasibility Tes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Omega"/>
              </a:rPr>
              <a:t>Prevents physical operating limits from being exceeded by constraining the optimized SPD solution during:</a:t>
            </a:r>
            <a:endParaRPr b="0" lang="en-US" sz="32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Omega"/>
              </a:rPr>
              <a:t>Realtime Redispatch  14 min before start of each Interval (9 minutes before ramp starts) 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G Omega"/>
              </a:rPr>
              <a:t>Constraint Examples: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Lines at rated normal MVA loading with no contingencie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22200" indent="-322200"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Lines at rated emergency limits during contingency outage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596FC-366A-474A-B693-8B3A3D4100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SFT Overview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Inputs: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Network topology including all outages (SE or Outage Scheduler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All MW injections including load and generation (SE &amp; Loadflow)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Contingency Definitions for performing powerflow analysi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Processing: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Powerflow Analysis for normal and contingency outage conditions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Unit Shift Factors calculated for all overloads of normal and contingency emergency ratings in the network model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Outputs: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G Omega"/>
              </a:rPr>
              <a:t>Unit specific constraints fed back to SPD for the interval and limited to units with most significant shift factor impact (&lt; threshold; currently 2%).</a:t>
            </a: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703D-061F-4657-B9A8-58FFCE08F4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he Problem with SF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FT Basic Flaw Encountered: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Constrains For ANY Overload Detected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Provides No User Interface Except On/Off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Unsuccessful implementation – required further development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1499-813C-4DD8-B996-71980CE0B3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straint Activity Manag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SFT Gets An Overhaul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FT Chain Extends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SE -&gt; </a:t>
            </a:r>
            <a:r>
              <a:rPr b="0" lang="en-US" sz="2400" spc="-1" strike="noStrike">
                <a:solidFill>
                  <a:srgbClr val="006600"/>
                </a:solidFill>
                <a:latin typeface="CG Omega"/>
              </a:rPr>
              <a:t>RTCA -&gt; RTCAM</a:t>
            </a:r>
            <a:r>
              <a:rPr b="0" lang="en-US" sz="2400" spc="-1" strike="noStrike">
                <a:solidFill>
                  <a:srgbClr val="a50021"/>
                </a:solidFill>
                <a:latin typeface="CG Omeg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-&gt; SFT -&gt; SPD -&gt; QS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Display Customization Very Flexible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0130-BE88-46BF-908A-53CAC374C9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78024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nstraint Activity Manager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Greatly improved pro-active CM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Much more accurate “Shift Factors”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G Omeg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G Omega"/>
              </a:rPr>
              <a:t>Used in congestion management</a:t>
            </a:r>
            <a:endParaRPr b="0" lang="en-US" sz="2400" spc="-1" strike="noStrike">
              <a:solidFill>
                <a:srgbClr val="000000"/>
              </a:solidFill>
              <a:latin typeface="CG Omega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SzPct val="13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G Omega"/>
              </a:rPr>
              <a:t>Less OOM deployments</a:t>
            </a:r>
            <a:endParaRPr b="0" lang="en-US" sz="2800" spc="-1" strike="noStrike">
              <a:solidFill>
                <a:srgbClr val="000000"/>
              </a:solidFill>
              <a:latin typeface="CG Omeg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1551-6E4E-4CD6-B9A1-BBB9287D0B4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17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0:24:45Z</dcterms:created>
  <dc:creator>Manuel Atanacio</dc:creator>
  <dc:description>Presented at the Load Profiling, Forecasting &amp; Settlements Conference;</dc:description>
  <cp:keywords>ERCOT Retail Pros Cons Commercial Operations</cp:keywords>
  <dc:language>en-US</dc:language>
  <cp:lastModifiedBy>bgarza</cp:lastModifiedBy>
  <cp:lastPrinted>2000-04-06T20:17:02Z</cp:lastPrinted>
  <dcterms:modified xsi:type="dcterms:W3CDTF">2005-03-03T17:19:39Z</dcterms:modified>
  <cp:revision>276</cp:revision>
  <dc:subject>Texas Commercial Operations</dc:subject>
  <dc:title>PR-30148 EMMS Release 3.0 Monthly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