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96C7-76F7-4760-8E9A-CFA8B5F7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AE4-CF0C-42C3-8885-C99C3DF7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5C96-4244-431C-8475-56428FCA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E072-22DC-443F-9639-05F5E42AA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7E80-7BFE-4CB6-A01E-5AC16304B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847B-F26A-4CA5-9254-5552370E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F6DD-6488-4489-AD82-85918ADB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DF2A-1163-43D6-822E-183CB3A6F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395D-DF2F-494D-AD78-858B07E3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3B6B8-982F-4EE4-89DE-2250F892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FB5BD-717F-411D-8253-93712A35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5D66-FA0A-40D4-BB53-49A49FBA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8BCF-1F5F-4C6D-921B-E3FC50F2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9C30-1873-4710-ADAF-DECFD117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AA81-764E-4D64-B37D-AC9FA84E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0EAD-6EA4-4E62-9E1B-DC52523E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825B-662C-49BF-9A05-334D598F2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DAB3-250E-4CD3-B407-DE077007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2CE-A53D-42D2-B265-6BCA3393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F6A-CBE2-4871-863C-F0585B53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81FC-FE67-4A38-ADE1-4283567C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49D-22A3-47B9-ADB7-7FB04346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AA3D-93FB-4028-B930-11A4B48F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A85-279B-41D2-A343-478D29FF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D2AC4-2B3F-405D-9859-B540BFCC9ADA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B5B1A-FA63-460D-9F81-CCF9810B67DA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742840" y="3809880"/>
            <a:ext cx="57150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Market Operations Suppor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ERCO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March 1, 20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819520" y="914040"/>
            <a:ext cx="5790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6666"/>
                </a:solidFill>
                <a:latin typeface="Arial"/>
                <a:ea typeface="宋体"/>
              </a:rPr>
              <a:t>Shadow Price Cap &amp; Averaging Shift Factors</a:t>
            </a:r>
            <a:endParaRPr b="0" lang="en-US" sz="33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438280"/>
            <a:ext cx="6400800" cy="15264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425600" y="357120"/>
            <a:ext cx="7201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Special Case Results – 3: BES Deployment Cost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verage change of BES deployment Cos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762120" y="2971800"/>
          <a:ext cx="7999200" cy="2008080"/>
        </p:xfrm>
        <a:graphic>
          <a:graphicData uri="http://schemas.openxmlformats.org/drawingml/2006/table">
            <a:tbl>
              <a:tblPr/>
              <a:tblGrid>
                <a:gridCol w="1251000"/>
                <a:gridCol w="1033200"/>
                <a:gridCol w="1144800"/>
                <a:gridCol w="1141200"/>
                <a:gridCol w="1144800"/>
                <a:gridCol w="1139760"/>
                <a:gridCol w="114444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 Interv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up S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 (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 ($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olation &amp; CSC cong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,72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18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.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&gt; $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,40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,4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80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Sep 2004 cas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95280" y="2666880"/>
          <a:ext cx="7164360" cy="2744640"/>
        </p:xfrm>
        <a:graphic>
          <a:graphicData uri="http://schemas.openxmlformats.org/drawingml/2006/table">
            <a:tbl>
              <a:tblPr/>
              <a:tblGrid>
                <a:gridCol w="2414520"/>
                <a:gridCol w="474984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 of interv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SC cong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cong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*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9/06 Local violation (deploy Nuclear units for local congestio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cong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BES Deploymen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371600" y="1752480"/>
          <a:ext cx="7162920" cy="3962520"/>
        </p:xfrm>
        <a:graphic>
          <a:graphicData uri="http://schemas.openxmlformats.org/drawingml/2006/table">
            <a:tbl>
              <a:tblPr/>
              <a:tblGrid>
                <a:gridCol w="1143000"/>
                <a:gridCol w="990720"/>
                <a:gridCol w="936360"/>
                <a:gridCol w="1022400"/>
                <a:gridCol w="1024200"/>
                <a:gridCol w="1022040"/>
                <a:gridCol w="1024200"/>
              </a:tblGrid>
              <a:tr h="536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 Interv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B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up S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 (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 (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SC co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6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6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7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cal co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5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3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5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*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9/06 Local 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6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7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6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cong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p. 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0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9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0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0.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Study Conclusions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With both proposals, there is a great decrease in BES deployment for those intervals with inefficient BES deployment for CSC conges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81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宋体"/>
              </a:rPr>
              <a:t>Both proposed methods have small impact on all other intervals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1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Implementation Choic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Shadow Price Cap only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Grouping Shift Factor only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Both Shadow Price Cap and Grouping Shift Facto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9" name=""/>
          <p:cNvGraphicFramePr/>
          <p:nvPr/>
        </p:nvGraphicFramePr>
        <p:xfrm>
          <a:off x="1371600" y="1143000"/>
          <a:ext cx="7315200" cy="5386320"/>
        </p:xfrm>
        <a:graphic>
          <a:graphicData uri="http://schemas.openxmlformats.org/drawingml/2006/table">
            <a:tbl>
              <a:tblPr/>
              <a:tblGrid>
                <a:gridCol w="1473120"/>
                <a:gridCol w="2803680"/>
                <a:gridCol w="30384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posal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uping shift facto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 A great decrease in BES inefficient deployment;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 Small impact on all other intervals;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 Not require a system change;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o implementation cost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Several more MW calculated CSC violation;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Affect the value of TC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adow price c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 Decrease inefficient deployment;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 No impact to other intervals;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 Not require a system change;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No implementation cost;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Price Admin process may not be necessary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 Need to determine the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p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ints for all of them;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 Affect the value of TCR;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Several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e MW calculated CSC violation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Both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Implementation – Shadow Price Cap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ERCOT set the Shadow Price Cap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The BES deployment will stop at a set poin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This proposed method does not require a system chang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Exampl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70160" y="1827360"/>
            <a:ext cx="7316640" cy="33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nterval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0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/16/2005  15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CSC Conges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North-Houst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CSC limit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910 MW;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Shadow Pric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579.7 $/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Local Conges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Gibbons Creek – Twin Oak SW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굴림"/>
              </a:rPr>
              <a:t>345KV (Viol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BES Deployment and MCP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71600" y="2057400"/>
          <a:ext cx="7162920" cy="3467160"/>
        </p:xfrm>
        <a:graphic>
          <a:graphicData uri="http://schemas.openxmlformats.org/drawingml/2006/table">
            <a:tbl>
              <a:tblPr/>
              <a:tblGrid>
                <a:gridCol w="1434960"/>
                <a:gridCol w="1370160"/>
                <a:gridCol w="1400040"/>
                <a:gridCol w="1249560"/>
                <a:gridCol w="170820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Z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F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CPE F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$/MW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ous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6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3.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o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1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8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.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371600" y="59436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Subject to N-H con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sult of Shadow Price Ca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371600" y="1981080"/>
          <a:ext cx="7467480" cy="3749760"/>
        </p:xfrm>
        <a:graphic>
          <a:graphicData uri="http://schemas.openxmlformats.org/drawingml/2006/table">
            <a:tbl>
              <a:tblPr/>
              <a:tblGrid>
                <a:gridCol w="1209600"/>
                <a:gridCol w="754200"/>
                <a:gridCol w="753840"/>
                <a:gridCol w="928800"/>
                <a:gridCol w="841320"/>
                <a:gridCol w="876240"/>
                <a:gridCol w="1051200"/>
                <a:gridCol w="1052280"/>
              </a:tblGrid>
              <a:tr h="53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rig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hadow Price C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46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Z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C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$/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CPE ($/MW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ith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ous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3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0.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e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o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8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6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Background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宋体"/>
              </a:rPr>
              <a:t>Issue - Inefficient Deployment of B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宋体"/>
              </a:rPr>
              <a:t>Proposed Metho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Study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宋体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宋体"/>
              </a:rPr>
              <a:t>Special” Ca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  <a:ea typeface="宋体"/>
              </a:rPr>
              <a:t>One Month Cas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Study Resul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Implementatio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SC Shadow pric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370160" y="2362320"/>
          <a:ext cx="7313400" cy="2895480"/>
        </p:xfrm>
        <a:graphic>
          <a:graphicData uri="http://schemas.openxmlformats.org/drawingml/2006/table">
            <a:tbl>
              <a:tblPr/>
              <a:tblGrid>
                <a:gridCol w="2439720"/>
                <a:gridCol w="1600200"/>
                <a:gridCol w="1676520"/>
                <a:gridCol w="1596960"/>
              </a:tblGrid>
              <a:tr h="98028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$/MW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adow Price Cap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$/MW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th P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PA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0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adow Price Of CSC N-H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79.7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.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1425600" y="357120"/>
            <a:ext cx="7201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Modifying Shift Factor in Example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600200" y="1752480"/>
          <a:ext cx="6400800" cy="3994200"/>
        </p:xfrm>
        <a:graphic>
          <a:graphicData uri="http://schemas.openxmlformats.org/drawingml/2006/table">
            <a:tbl>
              <a:tblPr/>
              <a:tblGrid>
                <a:gridCol w="2133720"/>
                <a:gridCol w="2133360"/>
                <a:gridCol w="2133720"/>
              </a:tblGrid>
              <a:tr h="5778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Z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rig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odif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hift 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hift 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ous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6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36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0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e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0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o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1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21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0.00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1600200" y="58672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N-H con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sult of Averaging Shift Fact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371600" y="1981080"/>
          <a:ext cx="6781680" cy="3700440"/>
        </p:xfrm>
        <a:graphic>
          <a:graphicData uri="http://schemas.openxmlformats.org/drawingml/2006/table">
            <a:tbl>
              <a:tblPr/>
              <a:tblGrid>
                <a:gridCol w="1279440"/>
                <a:gridCol w="797040"/>
                <a:gridCol w="797040"/>
                <a:gridCol w="981000"/>
                <a:gridCol w="890640"/>
                <a:gridCol w="925560"/>
                <a:gridCol w="1110960"/>
              </a:tblGrid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rigi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veraging Shift F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0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Z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C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$/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C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$/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ous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3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.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ea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.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o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8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Results – Comparing with origina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447920" y="1981080"/>
          <a:ext cx="7085880" cy="3429000"/>
        </p:xfrm>
        <a:graphic>
          <a:graphicData uri="http://schemas.openxmlformats.org/drawingml/2006/table">
            <a:tbl>
              <a:tblPr/>
              <a:tblGrid>
                <a:gridCol w="3060720"/>
                <a:gridCol w="1663200"/>
                <a:gridCol w="2361960"/>
              </a:tblGrid>
              <a:tr h="96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02/16/2005 15: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S Deployment decr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2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M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4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P C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Group S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425600" y="357120"/>
            <a:ext cx="7201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Calculated flow increas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600200" y="2286000"/>
          <a:ext cx="6477120" cy="3249720"/>
        </p:xfrm>
        <a:graphic>
          <a:graphicData uri="http://schemas.openxmlformats.org/drawingml/2006/table">
            <a:tbl>
              <a:tblPr/>
              <a:tblGrid>
                <a:gridCol w="2157480"/>
                <a:gridCol w="2162160"/>
                <a:gridCol w="2157480"/>
              </a:tblGrid>
              <a:tr h="609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02/16/2005 15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alculated Flow Vio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M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rig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P C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Group S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Ques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819520" y="1981080"/>
            <a:ext cx="3281400" cy="3810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2971800" y="3429000"/>
            <a:ext cx="3581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Thank you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eb 16, 2005, 15: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1370160" y="1827360"/>
          <a:ext cx="7392960" cy="4270320"/>
        </p:xfrm>
        <a:graphic>
          <a:graphicData uri="http://schemas.openxmlformats.org/drawingml/2006/table">
            <a:tbl>
              <a:tblPr/>
              <a:tblGrid>
                <a:gridCol w="842760"/>
                <a:gridCol w="673200"/>
                <a:gridCol w="619200"/>
                <a:gridCol w="750600"/>
                <a:gridCol w="621000"/>
                <a:gridCol w="635040"/>
                <a:gridCol w="812520"/>
                <a:gridCol w="812880"/>
                <a:gridCol w="812880"/>
                <a:gridCol w="812880"/>
              </a:tblGrid>
              <a:tr h="609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rigi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hadow Price Cap (45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hadow Price Cap (3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Z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C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$/M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C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$/M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C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$/M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13.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80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.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7.2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e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.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.71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8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6.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2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6.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Feb 16, 2005, 15:00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1370160" y="1827360"/>
          <a:ext cx="7392960" cy="4084560"/>
        </p:xfrm>
        <a:graphic>
          <a:graphicData uri="http://schemas.openxmlformats.org/drawingml/2006/table">
            <a:tbl>
              <a:tblPr/>
              <a:tblGrid>
                <a:gridCol w="842760"/>
                <a:gridCol w="673200"/>
                <a:gridCol w="619200"/>
                <a:gridCol w="750600"/>
                <a:gridCol w="621000"/>
                <a:gridCol w="635040"/>
                <a:gridCol w="812520"/>
                <a:gridCol w="812880"/>
                <a:gridCol w="812880"/>
                <a:gridCol w="812880"/>
              </a:tblGrid>
              <a:tr h="609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hadow Price Cap (25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hadow Price Cap (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hadow Price Cap (15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Z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C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$/M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C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$/M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M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C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$/M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 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ou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6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rthe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ou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U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D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1425600" y="357120"/>
            <a:ext cx="7201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Calculated flow increas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600200" y="2286000"/>
          <a:ext cx="6705720" cy="3317760"/>
        </p:xfrm>
        <a:graphic>
          <a:graphicData uri="http://schemas.openxmlformats.org/drawingml/2006/table">
            <a:tbl>
              <a:tblPr/>
              <a:tblGrid>
                <a:gridCol w="1674720"/>
                <a:gridCol w="1522440"/>
                <a:gridCol w="1833480"/>
                <a:gridCol w="1675080"/>
              </a:tblGrid>
              <a:tr h="3682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02/16/2005 15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alculated Flow Vio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M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rig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P C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00 C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00 C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500 C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00 C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500 C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Backgroun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ssue: Inefficient BES deployments when resolving zonal conges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 proposed methods to reduce inefficient deployments 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veraging of similar shift factor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adow Price Ca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istory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veraging Shift Factor method: Oct 2004 WM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adow Price Cap method: Jan 2005 WM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 proposals: Nov 2004 OR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RCOT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study 2 proposals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present results in detail at ORG and WM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425600" y="357120"/>
            <a:ext cx="7201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Recall 1 -  Shadow Price Cap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termine value of shadow price ca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 penalty factor of constraint violation = shadow price cap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 CSC, the cap acts as system’s stopping poi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1295280" y="3429000"/>
          <a:ext cx="7313400" cy="2441520"/>
        </p:xfrm>
        <a:graphic>
          <a:graphicData uri="http://schemas.openxmlformats.org/drawingml/2006/table">
            <a:tbl>
              <a:tblPr/>
              <a:tblGrid>
                <a:gridCol w="3227400"/>
                <a:gridCol w="1863720"/>
                <a:gridCol w="222228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adow price cap (penalty fac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rrent (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posed (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rtfolio Ramp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,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3 (contingenc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1 (CS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4,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3 (base cas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wer Bal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5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Recall 2 – Averaging Shift Facto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1. Find the zones where the Shift Factor difference for a CSC is less than or equal to </a:t>
            </a:r>
            <a:r>
              <a:rPr b="0" lang="en-US" sz="2900" spc="-1" strike="noStrike">
                <a:solidFill>
                  <a:srgbClr val="cc0000"/>
                </a:solidFill>
                <a:latin typeface="Verdana"/>
                <a:ea typeface="宋体"/>
              </a:rPr>
              <a:t>0.02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(or other value)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2. Reset the Shift Factor to the average value for each applicable zone;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  <a:ea typeface="宋体"/>
              </a:rPr>
              <a:t>3. Adjust the CSC limi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427040" y="357120"/>
            <a:ext cx="720036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  <a:ea typeface="宋体"/>
              </a:rPr>
              <a:t>ERCOT Study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71600" y="1828440"/>
            <a:ext cx="7391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un production cases (a) using proposed Shadow Price Caps (b) using averaged shift facto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l intervals with violation (price administration) and CSC Congestion (after R3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4 Cases from June 2, 2004 to Dec 31, 200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l intervals with CSC shadow price &gt; $1000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0 Cases from June 2, 2004 to Dec 31, 200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l intervals of one month (Sept. 2004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879 Cases of September 200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mpare study results with production resul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Special Case Result – 1: BES Deployment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2743200"/>
          <a:ext cx="8002080" cy="2666520"/>
        </p:xfrm>
        <a:graphic>
          <a:graphicData uri="http://schemas.openxmlformats.org/drawingml/2006/table">
            <a:tbl>
              <a:tblPr/>
              <a:tblGrid>
                <a:gridCol w="1250640"/>
                <a:gridCol w="1034640"/>
                <a:gridCol w="1144080"/>
                <a:gridCol w="1143000"/>
                <a:gridCol w="1144440"/>
                <a:gridCol w="1140840"/>
                <a:gridCol w="114444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 Interv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BE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up S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 (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 (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olation &amp; CSC cong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1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4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&gt; $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7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83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9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1370160" y="1827360"/>
            <a:ext cx="73134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verage change of BES Deploym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BES deployment change distrib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00200" y="2895480"/>
          <a:ext cx="6781680" cy="2489400"/>
        </p:xfrm>
        <a:graphic>
          <a:graphicData uri="http://schemas.openxmlformats.org/drawingml/2006/table">
            <a:tbl>
              <a:tblPr/>
              <a:tblGrid>
                <a:gridCol w="1647720"/>
                <a:gridCol w="1324080"/>
                <a:gridCol w="1371600"/>
                <a:gridCol w="1154160"/>
                <a:gridCol w="1284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olation &amp;CSC Co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&gt; 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S Decr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g S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g S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% to 2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2% to 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-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425600" y="357120"/>
            <a:ext cx="72018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  <a:ea typeface="宋体"/>
              </a:rPr>
              <a:t>Special Case Results – 2: CSC Shadow Price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verage change of CSC Shadow Pric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1447920"/>
            <a:ext cx="7696440" cy="152280"/>
          </a:xfrm>
          <a:prstGeom prst="rect">
            <a:avLst/>
          </a:prstGeom>
          <a:gradFill rotWithShape="0">
            <a:gsLst>
              <a:gs pos="0">
                <a:srgbClr val="666699">
                  <a:alpha val="0"/>
                </a:srgbClr>
              </a:gs>
              <a:gs pos="100000">
                <a:srgbClr val="8080aa">
                  <a:alpha val="75294"/>
                </a:srgbClr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600200" cy="1047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609480" y="2895480"/>
          <a:ext cx="8151480" cy="2809800"/>
        </p:xfrm>
        <a:graphic>
          <a:graphicData uri="http://schemas.openxmlformats.org/drawingml/2006/table">
            <a:tbl>
              <a:tblPr/>
              <a:tblGrid>
                <a:gridCol w="1273680"/>
                <a:gridCol w="1054800"/>
                <a:gridCol w="1166040"/>
                <a:gridCol w="1162440"/>
                <a:gridCol w="1166040"/>
                <a:gridCol w="1162440"/>
                <a:gridCol w="1166040"/>
              </a:tblGrid>
              <a:tr h="406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# Interv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iginal CSC SP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$/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c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oup S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($/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($/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ff.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olation &amp; CSC cong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 &gt; $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8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et Operations Suppor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,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8T13:28:59Z</dcterms:created>
  <dc:creator>Yongjun</dc:creator>
  <dc:description/>
  <dc:language>en-US</dc:language>
  <cp:lastModifiedBy>yren</cp:lastModifiedBy>
  <dcterms:modified xsi:type="dcterms:W3CDTF">2005-03-01T23:06:08Z</dcterms:modified>
  <cp:revision>62</cp:revision>
  <dc:subject/>
  <dc:title>Slide 1</dc:title>
</cp:coreProperties>
</file>