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22D-830A-442B-A11F-23C8ABD7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6E4-1657-4B2E-9C68-F346919C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4D1-073E-4B6F-A7B5-01679F1D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009-239A-4946-A4CA-ACAE9C1A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7C2-8D79-48B5-98EF-D72F7235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9EA-8742-492C-97B4-8AD9877B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571-E406-4F6A-ADB4-D2E57453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005-DC6E-41D3-81E8-C8181CC0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3AA-2D65-4007-9BCD-87F078D3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125-E1F8-4C51-97E6-3266EEA4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7A3-AAA1-45AA-B53E-8BAADAA6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9F0-D28D-456A-B80C-953B9DB7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881F-F534-4015-A25E-98BD6FE50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nd implement a website layout that enables users to find key information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process to ensure the sustainability of the investment in the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 engine functionality (including metadata strate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navigation - create a new information architecture for the site (task driven foc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owners can post updates easily – content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or maximizing the use of key real estate for critical and timel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nformation and processes are maintained after the re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e at this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Sept ‘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goal mid March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Jul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delivered ‘Solution Definition’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plan w/resourc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to update Directors on Planning phas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to enter next phase (Exec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9360" y="71136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– will have firm dates after project plan i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rch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ly - August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ph. 512-248-3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L Phase II Mid-Term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the Market Survey strongly encouraged the implementation of a search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 website comparisons between the other 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5-02-15T17:05:49Z</dcterms:modified>
  <cp:revision>145</cp:revision>
  <dc:subject/>
  <dc:title>TX SET V1.5 RFP Evaluation Recommendation</dc:title>
</cp:coreProperties>
</file>