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24C-0DA5-42B4-92F7-03F10279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4AA-C76D-4968-8E7A-832D55B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1E5-DCB9-42F8-9872-3B68E6A4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3AF-5B19-445D-B9C2-2889BA3F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057-D1ED-4986-84A2-56DBE5F2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1DC-5CE1-498F-92AD-706634BE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78B-DAE3-4F16-B046-CE04C6A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C22-41A6-48D8-A5D9-1F5B9D79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E6D-F7A7-46C9-B785-7D6FAFC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2CD-044E-4BF2-8A75-9E68553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30C-5906-4ED3-858A-E9747F6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6E3-F732-4598-83A1-3B13286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67D-EA73-461A-A198-32A3A5F4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106992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080" y="7621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bjectives /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05320"/>
            <a:ext cx="34275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429000"/>
            <a:ext cx="429552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200" y="3809880"/>
            <a:ext cx="4229280" cy="221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– in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ion – goal mid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– goal July ‘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dor delivered ‘Solution Definition’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plan w/resource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to update Directors on Planning phas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to enter next phase (Execu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42900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0666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early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mid March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ate April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May ’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June - July ‘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0280" y="7621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3809880"/>
            <a:ext cx="4191120" cy="2206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 Lead: Scott Egger ph. 512-248-31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68040" y="342900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kbergman</cp:lastModifiedBy>
  <dcterms:modified xsi:type="dcterms:W3CDTF">2005-01-27T13:58:14Z</dcterms:modified>
  <cp:revision>137</cp:revision>
  <dc:subject/>
  <dc:title>TX SET V1.5 RFP Evaluation Recommendation</dc:title>
</cp:coreProperties>
</file>