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854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767760"/>
            <a:ext cx="854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13940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13940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76776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76776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76776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6BE10-9512-4581-9CA4-657920D4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1680" y="113940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CBF73-25E7-4E5D-A113-8BE3868F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57621-F5C8-4E14-8410-37BFE1F2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B9754-3CC4-4040-8B26-4DDA52D3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6E4B7-59DF-4863-BBC8-C0A6A709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0" y="380520"/>
            <a:ext cx="6327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1DB8F-E729-497D-99A2-C7B2DD58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168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5ED7B-4B9E-4905-8B49-1C82CBCE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13940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20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6E210-2473-497A-AAE4-A3174E41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1680" y="3767760"/>
            <a:ext cx="854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F5C3E-0975-462E-80AF-46AFF3FD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854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1680" y="3767760"/>
            <a:ext cx="854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BD4AA-B321-4123-82E4-334A8A01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168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20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D618E-FA72-4EA7-8ABC-545046EF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9240" y="113940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6800" y="113940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1680" y="376776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9240" y="376776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6800" y="3767760"/>
            <a:ext cx="274968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6DB42-5624-495C-8071-4FF51B5F2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0" y="380520"/>
            <a:ext cx="6327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76776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139400"/>
            <a:ext cx="41677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767760"/>
            <a:ext cx="854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dfd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301680" y="113940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601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425600" indent="-338040"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830240" indent="-290520">
              <a:spcBef>
                <a:spcPts val="601"/>
              </a:spcBef>
              <a:buClr>
                <a:srgbClr val="00808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68640" indent="-223920">
              <a:spcBef>
                <a:spcPts val="601"/>
              </a:spcBef>
              <a:buClr>
                <a:srgbClr val="00808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68640" indent="-223920">
              <a:spcBef>
                <a:spcPts val="601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68640" indent="-223920">
              <a:spcBef>
                <a:spcPts val="601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2057400" y="990720"/>
            <a:ext cx="6781680" cy="0"/>
          </a:xfrm>
          <a:prstGeom prst="line">
            <a:avLst/>
          </a:prstGeom>
          <a:ln w="1015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957680" cy="94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0C78-97E8-47D9-967F-6882579331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1015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362320" y="152280"/>
            <a:ext cx="4114800" cy="1978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173160" algn="ctr">
              <a:spcBef>
                <a:spcPts val="451"/>
              </a:spcBef>
              <a:buClr>
                <a:srgbClr val="00808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168120" algn="ctr">
              <a:spcBef>
                <a:spcPts val="400"/>
              </a:spcBef>
              <a:buClr>
                <a:srgbClr val="008080"/>
              </a:buClr>
              <a:buFont typeface="Wingdings 3" charset="2"/>
              <a:buChar char="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115920" algn="ctr">
              <a:spcBef>
                <a:spcPts val="400"/>
              </a:spcBef>
              <a:buClr>
                <a:srgbClr val="008080"/>
              </a:buClr>
              <a:buSzPct val="80000"/>
              <a:buFont typeface="Wingdings 3" charset="2"/>
              <a:buChar char="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115920">
              <a:spcBef>
                <a:spcPts val="400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115920">
              <a:spcBef>
                <a:spcPts val="400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13012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PS – ERCOT PROJECTS UPDAT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OLESALE MARKET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ula Feuerba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nuary 27, 20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5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5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dfd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JECTS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9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40075 – PRR-488 – Weather Responsive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imated Deployment:  March, 20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40066_01 – Lodestar Upgr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imated Deployment:  March,  20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30026 – EPS Meter Data Extr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imated Deployment:  April, 20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40104 – Zero Charge Eli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imated Deployment: 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Quarter of 20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dfd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0" y="380520"/>
            <a:ext cx="632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JECTS:  EMMS R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9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601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imated Deployment:  mid May, 200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30093 – Replacement Reser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30131_02 – Resource Plan Improv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40050 – Resource Specific Bid Limi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-407880"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30163 – OOM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3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5T03:41:46Z</dcterms:created>
  <dc:creator>Steve Wallace</dc:creator>
  <dc:description/>
  <dc:language>en-US</dc:language>
  <cp:lastModifiedBy>pfeuerbacher</cp:lastModifiedBy>
  <cp:lastPrinted>2009-04-22T19:24:48Z</cp:lastPrinted>
  <dcterms:modified xsi:type="dcterms:W3CDTF">2005-01-27T16:54:25Z</dcterms:modified>
  <cp:revision>86</cp:revision>
  <dc:subject/>
  <dc:title>ERCOT POS MOS V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