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FD6-3441-494E-A6A7-74F4BC46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2510-0250-4102-82F6-2A1E6401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E244-0DB7-466A-8459-CC20D064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A4F-85ED-49C4-A0C6-5CF2F294B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88B4-3A8A-41EB-AC65-E162AFCD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551B-A8EF-42A4-AE1F-635CF2DB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9C22-BCBE-443B-B8E2-2480929B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CB4-83D8-4065-AE06-944FAFF5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D85B-76CF-48F2-B952-D4C7087E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A87D-9713-4B25-A040-C3684A4C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AAAB-C931-4D75-BC1B-FE1F111D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0A6A-66CD-47C0-A55B-7ED70B1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BCCB-94A6-4016-8343-08A35251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B205-FE06-4409-B3E0-47653224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FA5C-B226-44DA-9800-F3F0CEA3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C406-BB44-48B0-82E3-2F8E256C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9F71-FC1D-4337-B2BA-14CC2FD1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B4E1-A889-4B6C-B99C-CABC310E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C9D-290D-4FB9-9148-6C5946E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7C5A-922F-4E26-9536-EF90CD85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51E-EB8A-4D5A-9913-90FD335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BD1-3342-49B4-A0E7-009993F7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CCCC-79B1-4071-8408-5EED89F2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08AC-3421-4E37-B294-08809C26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78D5-BA19-4469-9149-7066E3B288E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F05B-B4F7-4551-829D-376A9AB925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1142640"/>
            <a:ext cx="7924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RCOT Enterprise Data Warehouse </a:t>
            </a:r>
            <a:br>
              <a:rPr sz="3600"/>
            </a:b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Web Services Introduction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5257800"/>
            <a:ext cx="3809880" cy="6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Jackie Ashbaugh </a:t>
            </a: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(jashbaugh@ercot.c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Geoff Gallant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(ggallant@ercot.com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pen Discuss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ank you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Question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mments?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Overview - Web Service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What are Web Servic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efiniti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al World Analog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urrent Sta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DW Business Services (Web Services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What are Web Services?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b Services” is a industry term for a set of emerging standards that are changing the way software applications are being develop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Web services are designed to standardize the way applications exchange information</a:t>
            </a:r>
            <a:br>
              <a:rPr sz="16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pplications can be linked together without worrying about the underlying hardware or programming languag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62040" y="4556160"/>
          <a:ext cx="529596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4556160"/>
                    <a:ext cx="529596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Web Services - Definition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 complete web service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available over the Internet or private (intranet) networks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es a standardized XML messaging syste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not tied to any one operating system or programming languag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self-describing via a common XML gramma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 discoverable via a simple find mechanis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et’s try to draw an analogy to something more familiar…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Web Services – Telephone Analogy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eb Services are like “Automated Menu Telephone Systems” that answer informational phone calls  </a:t>
            </a:r>
            <a:br>
              <a:rPr sz="9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E.g. “Press 1 for English, Press 2 to check your account” etc.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y both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vide a simple and automated interface for a caller to get the information  need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Expose all the options a caller may choose in order to find the information they are looking fo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move the worry of the call being answered in the wrong language, transferred to the wrong place, or not being answered at al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re secure, configurable, and expandable to user needs; including password protection, confirmation numbers, and delivery mechanism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76212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362320"/>
            <a:ext cx="8001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You making a phone call and your computer system calling a web service have analogous steps…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Web Services – Telephone Analogy (continued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14400" y="3006720"/>
          <a:ext cx="8077320" cy="3774960"/>
        </p:xfrm>
        <a:graphic>
          <a:graphicData uri="http://schemas.openxmlformats.org/drawingml/2006/table">
            <a:tbl>
              <a:tblPr/>
              <a:tblGrid>
                <a:gridCol w="2057400"/>
                <a:gridCol w="3657600"/>
                <a:gridCol w="2362320"/>
              </a:tblGrid>
              <a:tr h="28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hone Call World…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eb Services World…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ll 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ype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and Line, Cell Phone, Satellite Phon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OAP,XML-RPC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essage-styl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mber 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okup</a:t>
                      </a: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Yellow Pages, Private Number, 411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UDD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hysical 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livery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hone Line, Cell Towers, Satellite Signal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TTP, SMTP, FTP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all 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ceived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ive Person, Automated system, Voice mail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ynchronous Communication,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JMS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tual</a:t>
                      </a:r>
                      <a:r>
                        <a:rPr b="1" i="1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Interaction: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utomated Menu, Password, Confirmation Number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SDL, Digital Certificate, Password,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firmation Value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Current-State Architecture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143000" y="1905120"/>
            <a:ext cx="5843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5292720"/>
            <a:ext cx="7696440" cy="12254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535120"/>
            <a:ext cx="7696440" cy="1225800"/>
          </a:xfrm>
          <a:prstGeom prst="rect">
            <a:avLst/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esentati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3882960"/>
            <a:ext cx="7696440" cy="1225440"/>
          </a:xfrm>
          <a:prstGeom prst="rect">
            <a:avLst/>
          </a:prstGeom>
          <a:solidFill>
            <a:srgbClr val="33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pplic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49520" y="5599080"/>
            <a:ext cx="957240" cy="674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D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29880" y="22860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ERCO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1440" y="2286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arket Participa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81120" y="4680000"/>
            <a:ext cx="1094040" cy="2444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Informatic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1120" y="4373640"/>
            <a:ext cx="1094040" cy="2444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Per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9520" y="2841480"/>
            <a:ext cx="957240" cy="673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29040" y="4924440"/>
            <a:ext cx="0" cy="67464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048120" y="3514320"/>
            <a:ext cx="0" cy="55260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970600" y="2779560"/>
            <a:ext cx="958680" cy="675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Brows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970600" y="4189320"/>
            <a:ext cx="958680" cy="674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Cust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Progra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70600" y="5537160"/>
            <a:ext cx="958680" cy="6746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Inter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Datasto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0120" y="3454560"/>
            <a:ext cx="0" cy="73476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450120" y="4863960"/>
            <a:ext cx="0" cy="67320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06760" y="3147840"/>
            <a:ext cx="2463840" cy="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45000" y="3024360"/>
            <a:ext cx="341280" cy="368280"/>
          </a:xfrm>
          <a:prstGeom prst="rect">
            <a:avLst/>
          </a:prstGeom>
          <a:solidFill>
            <a:srgbClr val="00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ZI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FIL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1120" y="4067280"/>
            <a:ext cx="1094040" cy="2444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62320" y="3622680"/>
            <a:ext cx="341280" cy="368280"/>
          </a:xfrm>
          <a:prstGeom prst="rect">
            <a:avLst/>
          </a:prstGeom>
          <a:solidFill>
            <a:srgbClr val="00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ZI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FIL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70280" y="2535120"/>
            <a:ext cx="0" cy="398304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86800" y="289548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Verdana"/>
              </a:rPr>
              <a:t>secure connec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EDW Business Services (Web Services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43000" y="1905120"/>
            <a:ext cx="58435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2541600"/>
            <a:ext cx="7620120" cy="1257120"/>
          </a:xfrm>
          <a:prstGeom prst="rect">
            <a:avLst/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esentatio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372280"/>
            <a:ext cx="7620120" cy="1257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924360"/>
            <a:ext cx="7620120" cy="1258920"/>
          </a:xfrm>
          <a:prstGeom prst="rect">
            <a:avLst/>
          </a:prstGeom>
          <a:solidFill>
            <a:srgbClr val="33996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pplic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ay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95440" y="5686560"/>
            <a:ext cx="776520" cy="69192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OD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0800" y="2286000"/>
            <a:ext cx="75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ERCO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74960" y="2286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Market Participa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14520" y="4592520"/>
            <a:ext cx="1693800" cy="3780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BI Lay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855880"/>
            <a:ext cx="1295280" cy="6922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TM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9560" y="5686560"/>
            <a:ext cx="987480" cy="69192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Intern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Datastor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13080" y="5686560"/>
            <a:ext cx="776160" cy="69192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CDW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14520" y="4176720"/>
            <a:ext cx="1693800" cy="33804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Web Service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4038480"/>
            <a:ext cx="804600" cy="484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R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4572000"/>
            <a:ext cx="806400" cy="4888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Cust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pp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81640" y="4038480"/>
            <a:ext cx="804960" cy="484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Ap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Server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81640" y="4572000"/>
            <a:ext cx="804960" cy="48420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AI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3240" y="3556080"/>
            <a:ext cx="0" cy="55728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7634160" y="4208040"/>
            <a:ext cx="128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ervice Consume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35840" y="3987720"/>
            <a:ext cx="1941480" cy="1131840"/>
          </a:xfrm>
          <a:prstGeom prst="rect">
            <a:avLst/>
          </a:prstGeom>
          <a:noFill/>
          <a:ln w="158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30720" y="4930920"/>
            <a:ext cx="1905120" cy="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53120" y="5119560"/>
            <a:ext cx="0" cy="56700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629400" y="3547800"/>
            <a:ext cx="0" cy="43956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67440" y="2590920"/>
            <a:ext cx="246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Verdana"/>
              </a:rPr>
              <a:t>Customized Presenta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05680" y="2855880"/>
            <a:ext cx="847440" cy="6922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Deskto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Clien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53200" y="2855880"/>
            <a:ext cx="916200" cy="692280"/>
          </a:xfrm>
          <a:prstGeom prst="rect">
            <a:avLst/>
          </a:prstGeom>
          <a:solidFill>
            <a:srgbClr val="99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Porta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7616880" y="3547800"/>
            <a:ext cx="0" cy="43956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06880" y="2541600"/>
            <a:ext cx="0" cy="4087800"/>
          </a:xfrm>
          <a:prstGeom prst="line">
            <a:avLst/>
          </a:prstGeom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75040" y="4495680"/>
            <a:ext cx="150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Verdana"/>
              </a:rPr>
              <a:t>secure connec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110440" y="3359160"/>
            <a:ext cx="354240" cy="377640"/>
          </a:xfrm>
          <a:prstGeom prst="rect">
            <a:avLst/>
          </a:prstGeom>
          <a:solidFill>
            <a:srgbClr val="00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CSV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FIL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05080" y="4113360"/>
            <a:ext cx="1944720" cy="944280"/>
          </a:xfrm>
          <a:prstGeom prst="rect">
            <a:avLst/>
          </a:prstGeom>
          <a:noFill/>
          <a:ln w="15840">
            <a:solidFill>
              <a:srgbClr val="0033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92436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Enterprise Service Bu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92520" y="5057640"/>
            <a:ext cx="0" cy="62100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01880" y="5057640"/>
            <a:ext cx="0" cy="62100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971800"/>
            <a:ext cx="2319480" cy="936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230720" y="3547800"/>
            <a:ext cx="2116080" cy="879480"/>
          </a:xfrm>
          <a:prstGeom prst="line">
            <a:avLst/>
          </a:prstGeom>
          <a:ln w="15840">
            <a:solidFill>
              <a:srgbClr val="003366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2743200"/>
            <a:ext cx="149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Verdana"/>
              </a:rPr>
              <a:t>secure connec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924360"/>
            <a:ext cx="1498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Verdana"/>
              </a:rPr>
              <a:t>secure connect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2400" y="4743360"/>
            <a:ext cx="352440" cy="376200"/>
          </a:xfrm>
          <a:prstGeom prst="rect">
            <a:avLst/>
          </a:prstGeom>
          <a:solidFill>
            <a:srgbClr val="00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X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32400" y="4051440"/>
            <a:ext cx="352440" cy="376200"/>
          </a:xfrm>
          <a:prstGeom prst="rect">
            <a:avLst/>
          </a:prstGeom>
          <a:solidFill>
            <a:srgbClr val="00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XML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89480" y="2792520"/>
            <a:ext cx="352440" cy="377640"/>
          </a:xfrm>
          <a:prstGeom prst="rect">
            <a:avLst/>
          </a:prstGeom>
          <a:solidFill>
            <a:srgbClr val="00c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ZIP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d4d4d"/>
                </a:solidFill>
                <a:latin typeface="Verdana"/>
              </a:rPr>
              <a:t>FILE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  <a:ea typeface="Times New Roman"/>
              </a:rPr>
              <a:t>Next Steps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30T20:23:20Z</dcterms:created>
  <dc:creator>syedavalli</dc:creator>
  <dc:description/>
  <dc:language>en-US</dc:language>
  <cp:lastModifiedBy>jashbaugh</cp:lastModifiedBy>
  <dcterms:modified xsi:type="dcterms:W3CDTF">2005-01-25T20:54:23Z</dcterms:modified>
  <cp:revision>90</cp:revision>
  <dc:subject/>
  <dc:title>ODS Source Schema Standards</dc:title>
</cp:coreProperties>
</file>