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AE1-733B-46FB-ABDD-95C6F3C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90D-54C9-454C-A74A-2B61C248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60E-35C7-4A52-84F0-E2B8ACA9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347-7568-4771-9380-C6933AF4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1D2-F90E-4921-BE59-F33ADA33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7CD-AFDD-47B6-9A6D-2DB3791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105-429B-432C-9D07-8881189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F89-EE30-47EA-9911-9B7D0B7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4D7-DC40-4298-8F29-19CCD2E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AC1-6C6A-473B-B50D-9312E7B9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8E3-D969-49BF-92A9-FE91833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E08-3B39-4AE5-809B-F12FC79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C471-FA28-459C-9C8A-6C67FB0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E26-B3D2-4E6C-AD83-B64690E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1DCD-B270-4CD7-A001-357F3B7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B256-BFE2-45DB-B3EF-666AB88B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E59C-24F4-47D4-AF83-DF871D91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3F5-01DA-4C54-AC73-8A69F8BD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E9F-73D5-42AA-9FB9-D7C58C80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3FA-052A-4055-B9F2-B969124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2E3-D340-45B5-8E39-3D39B77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029-36F6-4346-80E2-C328D68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3A8-28BA-4767-9BF5-12FE6DD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E7C-65D5-4F0D-9B01-F1AA590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1320" y="63813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28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6E1-21B8-4565-A0C7-23DC3475B0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31A-BCF3-4F20-A675-E8783D76C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ianc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b. 10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R. Henry, ERCOT Compli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pics to Cov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RC Blackout Recommend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gust 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DCS Event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gust 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CS ev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RCOT Operations addressing procedures and drafting a PR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3 QSE’s have been asked for further information to confirm or undertake additional actions based on earlier respon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RC has indicated that ERCOT will not be given an exemption from the DCS violation, but no additional RRS must be purchased.   Needs final confi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RC Recommendation 8b - UV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COT provided locations that benefit from UV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WG is/will develop relay information and requirements (OGRR’s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ICAL PATH: Individual detailed study by TDSP’s is needed 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firm the benef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oritize the ef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tail the locations and equipment sett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emention plans and installation dates follow further TDSP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C Recommendation 12a – Time Synchronization of Disturbance Monito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WG issued requirement (draft OGRR) for time synchronization via GPS-based sign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 TDSP’s are not affected, time synchronization already in p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companies will need to undertake efforts to add equipment.  SPWG members believed most installation can be complete by EO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RC Recommendation 12b – Dynamic  Disturbance Mon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s equipment is meant to monitor for transient stability concerns.  Region has no installations today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WG issued plan to conduct annual review (reported to ROS in September 200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DWG review will occur this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nual review will be incorporated into  DWG procedures later in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WG identified certain technical specifications for monitoring (also reported to ROS in Sept 2004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RC Recommendation 14 – Model Valid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SWG commented on model validation efforts related to load flow/steady state condition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WG plans annual event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event simulation in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d simulation to annual DWG procedures in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rther work on models ident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 model work in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ad model work in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bined cycle gen models – deleted from ERCOT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overnor and AVR testing to support model validation needs – 2006 targ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08:04Z</dcterms:created>
  <dc:creator>mhenry</dc:creator>
  <dc:description/>
  <dc:language>en-US</dc:language>
  <cp:lastModifiedBy>mhenry</cp:lastModifiedBy>
  <dcterms:modified xsi:type="dcterms:W3CDTF">2005-02-11T17:27:43Z</dcterms:modified>
  <cp:revision>15</cp:revision>
  <dc:subject/>
  <dc:title>Protocol Compliance </dc:title>
</cp:coreProperties>
</file>