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077-D57C-4D19-ACE0-8323D873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C1A-8DCA-47A2-A86E-43AAF98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DB6-D232-4AB5-A4EB-F4489C62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F3A-ADD5-44E5-B475-45F28BC4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FA61-EAFC-4F2C-8828-2DE068C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752-EAF2-47C5-815B-F22CB06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2D3-3F45-4EF6-A3C7-864986C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A95-3A5E-40A5-9018-03BBA12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ED65-1704-4442-8064-9AC1FA2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98F-3840-41C8-8C28-CE33D8CA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C60-A1DA-4439-8D40-122DE95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7D3-0F48-408A-9C56-A45332D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6BD5-FE06-402F-8387-9B7E20C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F35-2924-45C0-8378-1FF8B33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4E25-B4D6-466C-B12E-AEDE0F3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3F74-833C-4892-AD22-B6EC0080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BB16-E5EC-4CED-B927-0B09F518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EFD-95C5-4197-84F5-B87B701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899-23BA-428D-9282-3E200FD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D82-AD87-4931-B2FD-92B2BA9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8ED-8BA6-4CAD-80FE-9D74B5EE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62B-972C-4226-8EB3-AE85DD4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961-0AA2-4882-99A8-BD15D5B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300-A9CD-4BEC-8F26-5D798B6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23E-5723-456B-B6FD-BAFC4EAE8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D05-6C10-4249-A2E4-04C79944D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al Time Balancing (RTB) &amp; Resource Plan Statuses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o the QSE practice of showing offline units as online an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Presentation to ROS 2/10/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lementation Pl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change to the ROS &amp; W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Not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monitoring adherence to the change on  Thursday March 10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RTB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the Resourc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of the 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changing the RTB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Imp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RTB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s14 minutes before the start of the inter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s MCPE and amount of zonal deployment per QSE based on the aggregated Zonal Bid Stacks of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es volume of MWs bid by QSEs against their latest Resource Plan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 out QSE deployments 5-7 minutes before the start of the interval r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tilization of the Resource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TB verifies that the bid capacity is available by checking the resourc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s unit online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s unit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calculated output of units derived from QSE base power schedule and compares output to 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TB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B execution time moved from approximately 30 minutes before the start of the interval ramp to 5 -7 minutes before the start of the r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r to real time execution benefited load forecasting accuracy to reduce the amount of procured/deployed regulatio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response time to local congestion through unit specific deployment instructions – meets NERC 30 minute requir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line combustion turbine units were allowed to be shown as on-line and available because of the 30 minute lea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asons for changing the practice of allowing offline units to be shown onlin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C rules state that a market participant’s bids of energy and ancillary services shall be from resources that are available and capable of performing… 25.503(f)(2)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C Rules state a market entity has an obligation to provide accurate and factual information and shall not submit false or misleading information. 25.503(f)(2)(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asons for changing the practice of allowing offline units to be shown onlin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s risk of failing NERC DCS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loyment of balancing energy from resources that are physically offline and unable to respond in 5 minutes could cause low frequency or depletion of RRS which could result in an ERCOT exposure if  a large unit were to trip during this time period.  Currently ERCOT observes this risk numerous times each day placing ERCOT at risk for these interv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for proper performance of the Replacement Market in Release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ment utilizes the status in the Resource plan to order units on as needed and incorrect statuses will prevent proper commitment of resources necessary for reliable oper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asons for changing the practice of allowing offline units to be shown onlin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ance with Protocols and Operating Gu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section 4.10.3 states:  “The hourly Resource Plan status for a particular Generation Resource is compared to the corresponding real power telemetry values delivered to ERCOT’s SCADA by the QSE for the same Resource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Guide section 3.1.3.2 references Protocol Section 4.4.15  which states: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SEs shall use best efforts, consistent with Good Utility Practice, to continually update their Resource Plans to reflect the current and anticipated operating conditions of the Resource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Imp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offline GT capacity from the bid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analysis indicates approximately 2900 MW of capacity in December that wasn’t bid into the balancing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deployed UBES per interval for the month of December was approximately 1090 M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deployed DBES per interval for the month of December was approximately 645 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scheduled RMR per interval equaled 280 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average short load schedule per interval was 725 MW  for the month of Dec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5:34:32Z</dcterms:created>
  <dc:creator>jdumas</dc:creator>
  <dc:description/>
  <dc:language>en-US</dc:language>
  <cp:lastModifiedBy>jadams</cp:lastModifiedBy>
  <dcterms:modified xsi:type="dcterms:W3CDTF">2005-02-10T18:14:04Z</dcterms:modified>
  <cp:revision>26</cp:revision>
  <dc:subject/>
  <dc:title>Slide 1</dc:title>
</cp:coreProperties>
</file>