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07DC9-0B7A-44F6-94D0-1D99C18EB0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EA829-F6F7-4FE2-93F9-9B407B32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B325D-41B7-412B-84A0-ECF1E87F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F9809-1FFA-4449-BD98-226CEE9AA2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062CD-39B3-4D59-ACA5-B9891485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92B8E-AF5A-41BC-B7E4-EF179EBC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3EFA5-85C9-48B3-BCB5-48713770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45364-F21D-4A08-9967-9A74B9C54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446F7-8B02-418A-86AA-D2DC9617F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F2FB7-4E4B-4050-957E-DB55489F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31900-D63E-4F46-B2A8-9DAD3202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4F4A5-619D-4C28-A8E0-E4B2C906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7D43-B6AA-4F59-AF96-3A72F98AB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57200" y="272880"/>
            <a:ext cx="1603440" cy="8589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5" name=""/>
          <p:cNvSpPr/>
          <p:nvPr/>
        </p:nvSpPr>
        <p:spPr>
          <a:xfrm>
            <a:off x="419040" y="1152360"/>
            <a:ext cx="8255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rcot.com/tmaps/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46120" y="95256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cccc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Transmission Services Updat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outh and West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gion Planning Group Meetings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O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ebruary 10, 2004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01360" y="1288800"/>
            <a:ext cx="7467480" cy="394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5,000 MW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Renewable Generation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in West Region</a:t>
            </a: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ough Order of Magnitude Study for TEPC</a:t>
            </a:r>
            <a:br>
              <a:rPr sz="36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0" y="900000"/>
            <a:ext cx="9144000" cy="6176880"/>
            <a:chOff x="0" y="900000"/>
            <a:chExt cx="9144000" cy="617688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0" y="900000"/>
              <a:ext cx="9144000" cy="617688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126" name=""/>
            <p:cNvSpPr/>
            <p:nvPr/>
          </p:nvSpPr>
          <p:spPr>
            <a:xfrm flipV="1">
              <a:off x="5133960" y="5023800"/>
              <a:ext cx="405000" cy="46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43640" y="5028840"/>
              <a:ext cx="114120" cy="18576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662440" y="5214600"/>
              <a:ext cx="281160" cy="50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5952960" y="5066640"/>
              <a:ext cx="181080" cy="1429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6153120" y="5042880"/>
              <a:ext cx="538200" cy="190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6696000" y="4895280"/>
              <a:ext cx="147600" cy="1285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6853320" y="4728600"/>
              <a:ext cx="71280" cy="1522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6924600" y="4571280"/>
              <a:ext cx="390600" cy="14796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373560" cy="131112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COT West Texa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mary of Additions,   345kV Altern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433920" y="231840"/>
            <a:ext cx="19454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tal 5,000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f Wind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635200" y="4535640"/>
            <a:ext cx="415800" cy="561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86040" y="5396040"/>
            <a:ext cx="85680" cy="47520"/>
          </a:xfrm>
          <a:custGeom>
            <a:avLst/>
            <a:gdLst/>
            <a:ahLst/>
            <a:rect l="l" t="t" r="r" b="b"/>
            <a:pathLst>
              <a:path w="54" h="30">
                <a:moveTo>
                  <a:pt x="0" y="0"/>
                </a:moveTo>
                <a:cubicBezTo>
                  <a:pt x="22" y="12"/>
                  <a:pt x="45" y="25"/>
                  <a:pt x="54" y="30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371840" y="3833640"/>
            <a:ext cx="257400" cy="1167120"/>
            <a:chOff x="4371840" y="3833640"/>
            <a:chExt cx="257400" cy="1167120"/>
          </a:xfrm>
        </p:grpSpPr>
        <p:sp>
          <p:nvSpPr>
            <p:cNvPr id="139" name=""/>
            <p:cNvSpPr/>
            <p:nvPr/>
          </p:nvSpPr>
          <p:spPr>
            <a:xfrm>
              <a:off x="4371840" y="3833640"/>
              <a:ext cx="204840" cy="238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86400" y="4095720"/>
              <a:ext cx="42840" cy="90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281560" y="3857400"/>
            <a:ext cx="2857320" cy="666720"/>
            <a:chOff x="5281560" y="3857400"/>
            <a:chExt cx="2857320" cy="666720"/>
          </a:xfrm>
        </p:grpSpPr>
        <p:sp>
          <p:nvSpPr>
            <p:cNvPr id="142" name=""/>
            <p:cNvSpPr/>
            <p:nvPr/>
          </p:nvSpPr>
          <p:spPr>
            <a:xfrm flipH="1" flipV="1">
              <a:off x="5815080" y="3957480"/>
              <a:ext cx="218880" cy="144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5281560" y="3857400"/>
              <a:ext cx="2857320" cy="666720"/>
              <a:chOff x="5281560" y="3857400"/>
              <a:chExt cx="2857320" cy="666720"/>
            </a:xfrm>
          </p:grpSpPr>
          <p:sp>
            <p:nvSpPr>
              <p:cNvPr id="144" name=""/>
              <p:cNvSpPr/>
              <p:nvPr/>
            </p:nvSpPr>
            <p:spPr>
              <a:xfrm flipV="1">
                <a:off x="7301160" y="4051800"/>
                <a:ext cx="212040" cy="47232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7512120" y="3857400"/>
                <a:ext cx="62676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 flipV="1">
                <a:off x="7092000" y="3978000"/>
                <a:ext cx="400680" cy="2304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 flipV="1">
                <a:off x="6030720" y="3968640"/>
                <a:ext cx="1027800" cy="9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281560" y="4116960"/>
                <a:ext cx="74880" cy="644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488360" y="3982680"/>
                <a:ext cx="75240" cy="6912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5347080" y="3959280"/>
                <a:ext cx="466920" cy="18504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"/>
          <p:cNvSpPr/>
          <p:nvPr/>
        </p:nvSpPr>
        <p:spPr>
          <a:xfrm>
            <a:off x="2624040" y="4815000"/>
            <a:ext cx="119160" cy="71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47880" y="4900680"/>
            <a:ext cx="19080" cy="6285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62280" y="5533920"/>
            <a:ext cx="109440" cy="954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2878200" y="5565600"/>
            <a:ext cx="866880" cy="66960"/>
          </a:xfrm>
          <a:prstGeom prst="line">
            <a:avLst/>
          </a:prstGeom>
          <a:ln w="284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747960" y="5181480"/>
            <a:ext cx="919440" cy="385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381560" y="4029120"/>
            <a:ext cx="233280" cy="1152360"/>
            <a:chOff x="4381560" y="4029120"/>
            <a:chExt cx="233280" cy="1152360"/>
          </a:xfrm>
        </p:grpSpPr>
        <p:sp>
          <p:nvSpPr>
            <p:cNvPr id="157" name=""/>
            <p:cNvSpPr/>
            <p:nvPr/>
          </p:nvSpPr>
          <p:spPr>
            <a:xfrm>
              <a:off x="4381560" y="4029120"/>
              <a:ext cx="185760" cy="2142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76680" y="4248000"/>
              <a:ext cx="38160" cy="9334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386240" y="4010040"/>
            <a:ext cx="914400" cy="152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4657680" y="4919760"/>
            <a:ext cx="85680" cy="2188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4748040" y="4914720"/>
            <a:ext cx="285840" cy="46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48280" y="4919760"/>
            <a:ext cx="52200" cy="61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4586400"/>
            <a:ext cx="76320" cy="712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4629240" y="4633560"/>
            <a:ext cx="466560" cy="3286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829480" y="2967120"/>
            <a:ext cx="80640" cy="759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58080" y="3424320"/>
            <a:ext cx="80640" cy="759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862240" y="3500280"/>
            <a:ext cx="219240" cy="457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6124680" y="2809800"/>
            <a:ext cx="1023840" cy="6717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33960" y="5019840"/>
            <a:ext cx="1581120" cy="2043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0520" y="4562640"/>
            <a:ext cx="581040" cy="5284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896240" y="5100480"/>
            <a:ext cx="152280" cy="5907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58240" y="5695920"/>
            <a:ext cx="371520" cy="47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8096400" y="3633840"/>
            <a:ext cx="199800" cy="218880"/>
            <a:chOff x="8096400" y="3633840"/>
            <a:chExt cx="199800" cy="218880"/>
          </a:xfrm>
        </p:grpSpPr>
        <p:sp>
          <p:nvSpPr>
            <p:cNvPr id="174" name=""/>
            <p:cNvSpPr/>
            <p:nvPr/>
          </p:nvSpPr>
          <p:spPr>
            <a:xfrm flipH="1" flipV="1">
              <a:off x="8096400" y="3733920"/>
              <a:ext cx="33120" cy="1188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8101080" y="3633840"/>
              <a:ext cx="147600" cy="1000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63080" y="3638520"/>
              <a:ext cx="33120" cy="428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 flipV="1">
            <a:off x="8477280" y="3405240"/>
            <a:ext cx="42840" cy="381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8348760" y="3338280"/>
            <a:ext cx="509400" cy="404640"/>
            <a:chOff x="8348760" y="3338280"/>
            <a:chExt cx="509400" cy="404640"/>
          </a:xfrm>
        </p:grpSpPr>
        <p:sp>
          <p:nvSpPr>
            <p:cNvPr id="179" name=""/>
            <p:cNvSpPr/>
            <p:nvPr/>
          </p:nvSpPr>
          <p:spPr>
            <a:xfrm flipV="1">
              <a:off x="8348760" y="3443040"/>
              <a:ext cx="123840" cy="2998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524800" y="3414600"/>
              <a:ext cx="27648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8810640" y="3338280"/>
              <a:ext cx="47520" cy="810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8010360" y="2790720"/>
            <a:ext cx="562320" cy="1382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97520" y="3108240"/>
            <a:ext cx="1235160" cy="119556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78360" y="3862440"/>
            <a:ext cx="914400" cy="91440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308320" y="5288040"/>
            <a:ext cx="914400" cy="91440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3560000">
            <a:off x="4472280" y="4542480"/>
            <a:ext cx="825840" cy="639720"/>
          </a:xfrm>
          <a:prstGeom prst="ellipse">
            <a:avLst/>
          </a:prstGeom>
          <a:solidFill>
            <a:srgbClr val="bbe0e3">
              <a:alpha val="6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9980000">
            <a:off x="5719320" y="2813040"/>
            <a:ext cx="2178000" cy="433440"/>
          </a:xfrm>
          <a:prstGeom prst="ellipse">
            <a:avLst/>
          </a:prstGeom>
          <a:solidFill>
            <a:srgbClr val="bbe0e3">
              <a:alpha val="6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20760000">
            <a:off x="5119560" y="4473360"/>
            <a:ext cx="2643480" cy="699840"/>
          </a:xfrm>
          <a:prstGeom prst="ellipse">
            <a:avLst/>
          </a:prstGeom>
          <a:solidFill>
            <a:srgbClr val="bbe0e3">
              <a:alpha val="6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20760000">
            <a:off x="2671560" y="5268600"/>
            <a:ext cx="2114280" cy="485640"/>
          </a:xfrm>
          <a:prstGeom prst="ellipse">
            <a:avLst/>
          </a:prstGeom>
          <a:solidFill>
            <a:srgbClr val="bbe0e3">
              <a:alpha val="6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3000000">
            <a:off x="2330640" y="4764960"/>
            <a:ext cx="892080" cy="538200"/>
          </a:xfrm>
          <a:prstGeom prst="ellipse">
            <a:avLst/>
          </a:prstGeom>
          <a:solidFill>
            <a:srgbClr val="bbe0e3">
              <a:alpha val="6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3822200">
            <a:off x="4700880" y="5731560"/>
            <a:ext cx="2632320" cy="640080"/>
          </a:xfrm>
          <a:prstGeom prst="ellipse">
            <a:avLst/>
          </a:prstGeom>
          <a:solidFill>
            <a:srgbClr val="bbe0e3">
              <a:alpha val="6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20760000">
            <a:off x="4071960" y="3666960"/>
            <a:ext cx="2643120" cy="700200"/>
          </a:xfrm>
          <a:prstGeom prst="ellipse">
            <a:avLst/>
          </a:prstGeom>
          <a:solidFill>
            <a:srgbClr val="bbe0e3">
              <a:alpha val="6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20760000">
            <a:off x="6377040" y="3494160"/>
            <a:ext cx="2643120" cy="699840"/>
          </a:xfrm>
          <a:prstGeom prst="ellipse">
            <a:avLst/>
          </a:prstGeom>
          <a:solidFill>
            <a:srgbClr val="bbe0e3">
              <a:alpha val="6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3500000">
            <a:off x="7131600" y="5045760"/>
            <a:ext cx="1641600" cy="639720"/>
          </a:xfrm>
          <a:prstGeom prst="ellipse">
            <a:avLst/>
          </a:prstGeom>
          <a:solidFill>
            <a:srgbClr val="bbe0e3">
              <a:alpha val="6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12840000">
            <a:off x="7848720" y="2565000"/>
            <a:ext cx="979200" cy="639720"/>
          </a:xfrm>
          <a:prstGeom prst="ellipse">
            <a:avLst/>
          </a:prstGeom>
          <a:solidFill>
            <a:srgbClr val="bbe0e3">
              <a:alpha val="6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96960" y="6537240"/>
            <a:ext cx="1162080" cy="296280"/>
          </a:xfrm>
          <a:prstGeom prst="wedgeRoundRectCallout">
            <a:avLst>
              <a:gd name="adj1" fmla="val 37828"/>
              <a:gd name="adj2" fmla="val -165893"/>
              <a:gd name="adj3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1900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74880" y="2616120"/>
            <a:ext cx="1128960" cy="366840"/>
          </a:xfrm>
          <a:prstGeom prst="wedgeRectCallout">
            <a:avLst>
              <a:gd name="adj1" fmla="val 65328"/>
              <a:gd name="adj2" fmla="val 313634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1500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59080" y="1922400"/>
            <a:ext cx="1050840" cy="366840"/>
          </a:xfrm>
          <a:prstGeom prst="wedgeRectCallout">
            <a:avLst>
              <a:gd name="adj1" fmla="val 125680"/>
              <a:gd name="adj2" fmla="val 313634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1600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62200" y="5581800"/>
            <a:ext cx="0" cy="0"/>
          </a:xfrm>
          <a:prstGeom prst="line">
            <a:avLst/>
          </a:prstGeom>
          <a:ln w="284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55680" y="147240"/>
            <a:ext cx="685800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000 MW 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312920" y="1538280"/>
          <a:ext cx="6997680" cy="2436840"/>
        </p:xfrm>
        <a:graphic>
          <a:graphicData uri="http://schemas.openxmlformats.org/drawingml/2006/table">
            <a:tbl>
              <a:tblPr/>
              <a:tblGrid>
                <a:gridCol w="1324080"/>
                <a:gridCol w="1458720"/>
                <a:gridCol w="1390680"/>
                <a:gridCol w="1333440"/>
                <a:gridCol w="1490760"/>
              </a:tblGrid>
              <a:tr h="517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d006c"/>
                      </a:solidFill>
                    </a:lnL>
                    <a:lnR w="5760">
                      <a:solidFill>
                        <a:srgbClr val="0d006c"/>
                      </a:solidFill>
                    </a:lnR>
                    <a:lnT w="5760">
                      <a:solidFill>
                        <a:srgbClr val="0d006c"/>
                      </a:solidFill>
                    </a:lnT>
                    <a:lnB w="5760">
                      <a:solidFill>
                        <a:srgbClr val="0d006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cCam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d006c"/>
                      </a:solidFill>
                    </a:lnL>
                    <a:lnR w="5760">
                      <a:solidFill>
                        <a:srgbClr val="0d006c"/>
                      </a:solidFill>
                    </a:lnR>
                    <a:lnT w="5760">
                      <a:solidFill>
                        <a:srgbClr val="0d006c"/>
                      </a:solidFill>
                    </a:lnT>
                    <a:lnB w="5760">
                      <a:solidFill>
                        <a:srgbClr val="0d006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org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d006c"/>
                      </a:solidFill>
                    </a:lnL>
                    <a:lnR w="5760">
                      <a:solidFill>
                        <a:srgbClr val="0d006c"/>
                      </a:solidFill>
                    </a:lnR>
                    <a:lnT w="5760">
                      <a:solidFill>
                        <a:srgbClr val="0d006c"/>
                      </a:solidFill>
                    </a:lnT>
                    <a:lnB w="5760">
                      <a:solidFill>
                        <a:srgbClr val="0d006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bile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d006c"/>
                      </a:solidFill>
                    </a:lnL>
                    <a:lnR w="5760">
                      <a:solidFill>
                        <a:srgbClr val="0d006c"/>
                      </a:solidFill>
                    </a:lnR>
                    <a:lnT w="5760">
                      <a:solidFill>
                        <a:srgbClr val="0d006c"/>
                      </a:solidFill>
                    </a:lnT>
                    <a:lnB w="5760">
                      <a:solidFill>
                        <a:srgbClr val="0d006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d006c"/>
                      </a:solidFill>
                    </a:lnL>
                    <a:lnR w="5760">
                      <a:solidFill>
                        <a:srgbClr val="0d006c"/>
                      </a:solidFill>
                    </a:lnR>
                    <a:lnT w="5760">
                      <a:solidFill>
                        <a:srgbClr val="0d006c"/>
                      </a:solidFill>
                    </a:lnT>
                    <a:lnB w="5760">
                      <a:solidFill>
                        <a:srgbClr val="0d006c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xisting 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d006c"/>
                      </a:solidFill>
                    </a:lnL>
                    <a:lnR w="5760">
                      <a:solidFill>
                        <a:srgbClr val="0d006c"/>
                      </a:solidFill>
                    </a:lnR>
                    <a:lnT w="5760">
                      <a:solidFill>
                        <a:srgbClr val="0d006c"/>
                      </a:solidFill>
                    </a:lnT>
                    <a:lnB w="5760">
                      <a:solidFill>
                        <a:srgbClr val="0d006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50 M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d006c"/>
                      </a:solidFill>
                    </a:lnL>
                    <a:lnR w="5760">
                      <a:solidFill>
                        <a:srgbClr val="0d006c"/>
                      </a:solidFill>
                    </a:lnR>
                    <a:lnT w="5760">
                      <a:solidFill>
                        <a:srgbClr val="0d006c"/>
                      </a:solidFill>
                    </a:lnT>
                    <a:lnB w="5760">
                      <a:solidFill>
                        <a:srgbClr val="0d006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d006c"/>
                      </a:solidFill>
                    </a:lnL>
                    <a:lnR w="5760">
                      <a:solidFill>
                        <a:srgbClr val="0d006c"/>
                      </a:solidFill>
                    </a:lnR>
                    <a:lnT w="5760">
                      <a:solidFill>
                        <a:srgbClr val="0d006c"/>
                      </a:solidFill>
                    </a:lnT>
                    <a:lnB w="5760">
                      <a:solidFill>
                        <a:srgbClr val="0d006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d006c"/>
                      </a:solidFill>
                    </a:lnL>
                    <a:lnR w="5760">
                      <a:solidFill>
                        <a:srgbClr val="0d006c"/>
                      </a:solidFill>
                    </a:lnR>
                    <a:lnT w="5760">
                      <a:solidFill>
                        <a:srgbClr val="0d006c"/>
                      </a:solidFill>
                    </a:lnT>
                    <a:lnB w="5760">
                      <a:solidFill>
                        <a:srgbClr val="0d006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,200 M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d006c"/>
                      </a:solidFill>
                    </a:lnL>
                    <a:lnR w="5760">
                      <a:solidFill>
                        <a:srgbClr val="0d006c"/>
                      </a:solidFill>
                    </a:lnR>
                    <a:lnT w="5760">
                      <a:solidFill>
                        <a:srgbClr val="0d006c"/>
                      </a:solidFill>
                    </a:lnT>
                    <a:lnB w="5760">
                      <a:solidFill>
                        <a:srgbClr val="0d006c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ew 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d006c"/>
                      </a:solidFill>
                    </a:lnL>
                    <a:lnR w="5760">
                      <a:solidFill>
                        <a:srgbClr val="0d006c"/>
                      </a:solidFill>
                    </a:lnR>
                    <a:lnT w="5760">
                      <a:solidFill>
                        <a:srgbClr val="0d006c"/>
                      </a:solidFill>
                    </a:lnT>
                    <a:lnB w="5760">
                      <a:solidFill>
                        <a:srgbClr val="0d006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,150 M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d006c"/>
                      </a:solidFill>
                    </a:lnL>
                    <a:lnR w="5760">
                      <a:solidFill>
                        <a:srgbClr val="0d006c"/>
                      </a:solidFill>
                    </a:lnR>
                    <a:lnT w="5760">
                      <a:solidFill>
                        <a:srgbClr val="0d006c"/>
                      </a:solidFill>
                    </a:lnT>
                    <a:lnB w="5760">
                      <a:solidFill>
                        <a:srgbClr val="0d006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,250 M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d006c"/>
                      </a:solidFill>
                    </a:lnL>
                    <a:lnR w="5760">
                      <a:solidFill>
                        <a:srgbClr val="0d006c"/>
                      </a:solidFill>
                    </a:lnR>
                    <a:lnT w="5760">
                      <a:solidFill>
                        <a:srgbClr val="0d006c"/>
                      </a:solidFill>
                    </a:lnT>
                    <a:lnB w="5760">
                      <a:solidFill>
                        <a:srgbClr val="0d006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,400 M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d006c"/>
                      </a:solidFill>
                    </a:lnL>
                    <a:lnR w="5760">
                      <a:solidFill>
                        <a:srgbClr val="0d006c"/>
                      </a:solidFill>
                    </a:lnR>
                    <a:lnT w="5760">
                      <a:solidFill>
                        <a:srgbClr val="0d006c"/>
                      </a:solidFill>
                    </a:lnT>
                    <a:lnB w="5760">
                      <a:solidFill>
                        <a:srgbClr val="0d006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,800 M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d006c"/>
                      </a:solidFill>
                    </a:lnL>
                    <a:lnR w="5760">
                      <a:solidFill>
                        <a:srgbClr val="0d006c"/>
                      </a:solidFill>
                    </a:lnR>
                    <a:lnT w="5760">
                      <a:solidFill>
                        <a:srgbClr val="0d006c"/>
                      </a:solidFill>
                    </a:lnT>
                    <a:lnB w="5760">
                      <a:solidFill>
                        <a:srgbClr val="0d006c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d006c"/>
                      </a:solidFill>
                    </a:lnL>
                    <a:lnR w="5760">
                      <a:solidFill>
                        <a:srgbClr val="0d006c"/>
                      </a:solidFill>
                    </a:lnR>
                    <a:lnT w="5760">
                      <a:solidFill>
                        <a:srgbClr val="0d006c"/>
                      </a:solidFill>
                    </a:lnT>
                    <a:lnB w="5760">
                      <a:solidFill>
                        <a:srgbClr val="0d006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,900 M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d006c"/>
                      </a:solidFill>
                    </a:lnL>
                    <a:lnR w="5760">
                      <a:solidFill>
                        <a:srgbClr val="0d006c"/>
                      </a:solidFill>
                    </a:lnR>
                    <a:lnT w="5760">
                      <a:solidFill>
                        <a:srgbClr val="0d006c"/>
                      </a:solidFill>
                    </a:lnT>
                    <a:lnB w="5760">
                      <a:solidFill>
                        <a:srgbClr val="0d006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,500 M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d006c"/>
                      </a:solidFill>
                    </a:lnL>
                    <a:lnR w="5760">
                      <a:solidFill>
                        <a:srgbClr val="0d006c"/>
                      </a:solidFill>
                    </a:lnR>
                    <a:lnT w="5760">
                      <a:solidFill>
                        <a:srgbClr val="0d006c"/>
                      </a:solidFill>
                    </a:lnT>
                    <a:lnB w="5760">
                      <a:solidFill>
                        <a:srgbClr val="0d006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,600 M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d006c"/>
                      </a:solidFill>
                    </a:lnL>
                    <a:lnR w="5760">
                      <a:solidFill>
                        <a:srgbClr val="0d006c"/>
                      </a:solidFill>
                    </a:lnR>
                    <a:lnT w="5760">
                      <a:solidFill>
                        <a:srgbClr val="0d006c"/>
                      </a:solidFill>
                    </a:lnT>
                    <a:lnB w="5760">
                      <a:solidFill>
                        <a:srgbClr val="0d006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,000 M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d006c"/>
                      </a:solidFill>
                    </a:lnL>
                    <a:lnR w="5760">
                      <a:solidFill>
                        <a:srgbClr val="0d006c"/>
                      </a:solidFill>
                    </a:lnR>
                    <a:lnT w="5760">
                      <a:solidFill>
                        <a:srgbClr val="0d006c"/>
                      </a:solidFill>
                    </a:lnT>
                    <a:lnB w="5760">
                      <a:solidFill>
                        <a:srgbClr val="0d006c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d006c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d006c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d006c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d006c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d006c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"/>
          <p:cNvSpPr/>
          <p:nvPr/>
        </p:nvSpPr>
        <p:spPr>
          <a:xfrm>
            <a:off x="598320" y="4224240"/>
            <a:ext cx="8320320" cy="22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06c"/>
                </a:solidFill>
                <a:latin typeface="Tahoma"/>
              </a:rPr>
              <a:t>Total estimated cost of transmission upgrades is approximately $1 B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Based on 345kV development 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765kV option appeared higher in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06c"/>
                </a:solidFill>
                <a:latin typeface="Tahoma"/>
              </a:rPr>
              <a:t>TAC should consider an impact analysis of the integration of 5,000 MW of renewable generation in the ERCOT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01360" y="1288800"/>
            <a:ext cx="7467480" cy="394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outh Region Planning Group Meeting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 Region Planning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Must Run Alternatives (MRAs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0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eview of the process for procuring MRAs and obtaining input from Stakeholders on the technical characteristics of MRAs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0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RCOT will issue RFPs for MRAs in most instanc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901"/>
              </a:spcAft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gional Planning Group (RPG)  will have opportunity to comment to ERCOT on technical requirement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901"/>
              </a:spcAft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PG and TAC will have opportunity to comment to ERCOT on technical characteristics of short-listed proposal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0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RCOT will be issuing a RFP for MRAs to the Laredo RMR contract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901"/>
              </a:spcAft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raft technical requirements to be included in the RFP presented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901"/>
              </a:spcAft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mments on technical requirements due 02/10/2005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 Region Planning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Houston Import Projec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results of ERCOT’s independent economic analysis of the Houston Area Import Project was presented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001"/>
              </a:spcAft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wo similar options were found to result in the most production cost savings relative to their cost 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oth options include the upgrade of the Jewett to Tomball / THWharton 345kV double circuit and a new 345kV circuit between STP and Parish 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capital cost difference between the two options is about $20M 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001"/>
              </a:spcAft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mments due to ERCOT by 02/04/2005 on qualitative factors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001"/>
              </a:spcAft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RCOT’s recommendation will be presented to TAC and the Board in March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 Region Planning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49120" y="1311120"/>
            <a:ext cx="8640720" cy="52419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210" name=""/>
          <p:cNvSpPr/>
          <p:nvPr/>
        </p:nvSpPr>
        <p:spPr>
          <a:xfrm>
            <a:off x="1997280" y="1317600"/>
            <a:ext cx="4825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Houston Import Project – 2 Preferred Op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 Region Planning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RMR Exit Statu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0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EP presented a status report on the transmission projects that must be completed in order for the Sempra RMR contracts to be exited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or more information, the presentations from the WRPG and SRPG meeting are posted at: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tmaps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sal to ROS for West Texa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namics WG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est Texas is dynamically limited for transfers out of the area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dditional detailed study with TO’s is needed to operating within limit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quest support from TAC ROS DWG to perform study using latest available models and data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velop scope to be ready to implemen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ERC Review of ERCOT Planning Criteria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urvey questions received 2/8/05 from NERC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ill be forwarded to TO’s on Friday for return by 2/23/05 (short time frame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esentation to NERC PC TIS March 1 (afternoon) in Houston (Sheraton IAH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eting Agend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9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est RPG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(January 26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cCamey Construction Status Report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2004 McCamey Study by ERCOT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eactive Plan for McCamey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ynamic Ratings for McCamey Lin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tential use of SPS for McCamey Wind Generatio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pgrading Terminal Equipment to Meet or Exceed Conductor Rating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5,000 MW and 10,000 MW Renewable Studies for TEPC and TREIA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52520" y="1600200"/>
            <a:ext cx="4000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outh RPG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(January 27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RA Implementation Proces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ates MRA RFP Updat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aredo MRA Technical Requirement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tential MRA for Laredo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ouston Import Project Review Updat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3840" y="6095880"/>
            <a:ext cx="797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Both meetings held in Taylor with large turn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14240" y="-360"/>
            <a:ext cx="6413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cCamey 2004 Top of Hour P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8760" y="1168560"/>
            <a:ext cx="8858160" cy="5524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68560" y="1712880"/>
            <a:ext cx="1311120" cy="658440"/>
          </a:xfrm>
          <a:prstGeom prst="wedgeRoundRectCallout">
            <a:avLst>
              <a:gd name="adj1" fmla="val 79287"/>
              <a:gd name="adj2" fmla="val 88412"/>
              <a:gd name="adj3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Exceeds 500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29480" y="1417680"/>
            <a:ext cx="1311120" cy="658440"/>
          </a:xfrm>
          <a:prstGeom prst="wedgeRoundRectCallout">
            <a:avLst>
              <a:gd name="adj1" fmla="val 75416"/>
              <a:gd name="adj2" fmla="val 56115"/>
              <a:gd name="adj3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Exceeds 600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682560"/>
            <a:ext cx="9144000" cy="61754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646360" cy="108252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RCO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ST TEX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20904000">
            <a:off x="4430520" y="3819600"/>
            <a:ext cx="245880" cy="1162080"/>
          </a:xfrm>
          <a:prstGeom prst="ellipse">
            <a:avLst/>
          </a:prstGeom>
          <a:solidFill>
            <a:srgbClr val="80008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4699400">
            <a:off x="6456240" y="3965400"/>
            <a:ext cx="365040" cy="1593720"/>
          </a:xfrm>
          <a:prstGeom prst="ellipse">
            <a:avLst/>
          </a:prstGeom>
          <a:solidFill>
            <a:srgbClr val="80008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4835000">
            <a:off x="4766040" y="4633200"/>
            <a:ext cx="208080" cy="504720"/>
          </a:xfrm>
          <a:prstGeom prst="ellipse">
            <a:avLst/>
          </a:prstGeom>
          <a:solidFill>
            <a:srgbClr val="80008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5499200">
            <a:off x="1992960" y="4649040"/>
            <a:ext cx="1857600" cy="1782720"/>
          </a:xfrm>
          <a:prstGeom prst="ellipse">
            <a:avLst/>
          </a:prstGeom>
          <a:solidFill>
            <a:srgbClr val="99cc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7133600">
            <a:off x="5392440" y="4487400"/>
            <a:ext cx="236520" cy="890640"/>
          </a:xfrm>
          <a:prstGeom prst="ellipse">
            <a:avLst/>
          </a:prstGeom>
          <a:solidFill>
            <a:srgbClr val="80008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4326800">
            <a:off x="7340400" y="2058480"/>
            <a:ext cx="203400" cy="752400"/>
          </a:xfrm>
          <a:prstGeom prst="ellipse">
            <a:avLst/>
          </a:prstGeom>
          <a:solidFill>
            <a:srgbClr val="80008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6747200">
            <a:off x="8118360" y="1795320"/>
            <a:ext cx="203040" cy="1098360"/>
          </a:xfrm>
          <a:prstGeom prst="ellipse">
            <a:avLst/>
          </a:prstGeom>
          <a:solidFill>
            <a:srgbClr val="80008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85920" y="6415200"/>
            <a:ext cx="1307880" cy="296280"/>
          </a:xfrm>
          <a:prstGeom prst="wedgeRoundRectCallout">
            <a:avLst>
              <a:gd name="adj1" fmla="val 37726"/>
              <a:gd name="adj2" fmla="val -18980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2003 -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183440" y="5769000"/>
            <a:ext cx="1803240" cy="592200"/>
          </a:xfrm>
          <a:prstGeom prst="wedgeRoundRectCallout">
            <a:avLst>
              <a:gd name="adj1" fmla="val -81773"/>
              <a:gd name="adj2" fmla="val -20066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Completed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84920" y="182520"/>
            <a:ext cx="1839600" cy="592200"/>
          </a:xfrm>
          <a:prstGeom prst="wedgeRoundRectCallout">
            <a:avLst>
              <a:gd name="adj1" fmla="val 76648"/>
              <a:gd name="adj2" fmla="val 32035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Completed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21600" y="155520"/>
            <a:ext cx="1765080" cy="296280"/>
          </a:xfrm>
          <a:prstGeom prst="wedgeRoundRectCallout">
            <a:avLst>
              <a:gd name="adj1" fmla="val -5222"/>
              <a:gd name="adj2" fmla="val 64902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Projected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5307200">
            <a:off x="3690720" y="4333680"/>
            <a:ext cx="184320" cy="1768680"/>
          </a:xfrm>
          <a:prstGeom prst="ellipse">
            <a:avLst/>
          </a:prstGeom>
          <a:solidFill>
            <a:srgbClr val="ff66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9670200">
            <a:off x="2644200" y="4581000"/>
            <a:ext cx="144360" cy="908280"/>
          </a:xfrm>
          <a:prstGeom prst="ellipse">
            <a:avLst/>
          </a:prstGeom>
          <a:solidFill>
            <a:srgbClr val="ff66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4040" y="1263600"/>
            <a:ext cx="1425600" cy="19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345 kV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345 kV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ith GIA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38 k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68400" y="1959120"/>
            <a:ext cx="577800" cy="601560"/>
          </a:xfrm>
          <a:prstGeom prst="ellipse">
            <a:avLst/>
          </a:prstGeom>
          <a:solidFill>
            <a:srgbClr val="ff66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51120" y="1200240"/>
            <a:ext cx="612720" cy="614160"/>
          </a:xfrm>
          <a:prstGeom prst="ellipse">
            <a:avLst/>
          </a:prstGeom>
          <a:solidFill>
            <a:srgbClr val="80008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68400" y="2705040"/>
            <a:ext cx="577800" cy="601560"/>
          </a:xfrm>
          <a:prstGeom prst="ellipse">
            <a:avLst/>
          </a:prstGeom>
          <a:solidFill>
            <a:srgbClr val="99cc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33640" y="5927760"/>
            <a:ext cx="1803600" cy="592200"/>
          </a:xfrm>
          <a:prstGeom prst="wedgeRoundRectCallout">
            <a:avLst>
              <a:gd name="adj1" fmla="val -7754"/>
              <a:gd name="adj2" fmla="val -27041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Completed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78640" y="6216480"/>
            <a:ext cx="1803240" cy="592200"/>
          </a:xfrm>
          <a:prstGeom prst="wedgeRoundRectCallout">
            <a:avLst>
              <a:gd name="adj1" fmla="val -91634"/>
              <a:gd name="adj2" fmla="val -27788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Completed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744480"/>
            <a:ext cx="9144000" cy="61135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798720" cy="127944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RCOT West Texas</a:t>
            </a:r>
            <a:br>
              <a:rPr sz="2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nd In-Service &amp; Public Under Develop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5751200">
            <a:off x="2058120" y="4885200"/>
            <a:ext cx="1001520" cy="1489320"/>
          </a:xfrm>
          <a:prstGeom prst="ellipse">
            <a:avLst/>
          </a:prstGeom>
          <a:solidFill>
            <a:srgbClr val="00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79440" y="6396120"/>
            <a:ext cx="955800" cy="296280"/>
          </a:xfrm>
          <a:prstGeom prst="wedgeRoundRectCallout">
            <a:avLst>
              <a:gd name="adj1" fmla="val 63439"/>
              <a:gd name="adj2" fmla="val -23798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755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5751200">
            <a:off x="5076360" y="3420720"/>
            <a:ext cx="219240" cy="222120"/>
          </a:xfrm>
          <a:prstGeom prst="ellipse">
            <a:avLst/>
          </a:prstGeom>
          <a:solidFill>
            <a:srgbClr val="00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5751200">
            <a:off x="5022720" y="3716280"/>
            <a:ext cx="218880" cy="222120"/>
          </a:xfrm>
          <a:prstGeom prst="ellipse">
            <a:avLst/>
          </a:prstGeom>
          <a:solidFill>
            <a:srgbClr val="00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751200">
            <a:off x="3677760" y="2804760"/>
            <a:ext cx="219240" cy="222120"/>
          </a:xfrm>
          <a:prstGeom prst="ellipse">
            <a:avLst/>
          </a:prstGeom>
          <a:solidFill>
            <a:srgbClr val="00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5751200">
            <a:off x="1440" y="4565520"/>
            <a:ext cx="218880" cy="222120"/>
          </a:xfrm>
          <a:prstGeom prst="ellipse">
            <a:avLst/>
          </a:prstGeom>
          <a:solidFill>
            <a:srgbClr val="00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5751200">
            <a:off x="3675600" y="3813840"/>
            <a:ext cx="223920" cy="250920"/>
          </a:xfrm>
          <a:prstGeom prst="ellipse">
            <a:avLst/>
          </a:prstGeom>
          <a:solidFill>
            <a:srgbClr val="00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1440" y="3600360"/>
            <a:ext cx="831960" cy="296280"/>
          </a:xfrm>
          <a:prstGeom prst="wedgeRoundRectCallout">
            <a:avLst>
              <a:gd name="adj1" fmla="val -67513"/>
              <a:gd name="adj2" fmla="val 29283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75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47920" y="2341440"/>
            <a:ext cx="993600" cy="296280"/>
          </a:xfrm>
          <a:prstGeom prst="wedgeRoundRectCallout">
            <a:avLst>
              <a:gd name="adj1" fmla="val 88462"/>
              <a:gd name="adj2" fmla="val 1315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160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20920" y="2805120"/>
            <a:ext cx="831600" cy="296280"/>
          </a:xfrm>
          <a:prstGeom prst="wedgeRoundRectCallout">
            <a:avLst>
              <a:gd name="adj1" fmla="val 227625"/>
              <a:gd name="adj2" fmla="val 35315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41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56160" y="6361200"/>
            <a:ext cx="831960" cy="296280"/>
          </a:xfrm>
          <a:prstGeom prst="wedgeRoundRectCallout">
            <a:avLst>
              <a:gd name="adj1" fmla="val -87194"/>
              <a:gd name="adj2" fmla="val -88628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38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92440" y="1571760"/>
            <a:ext cx="1098360" cy="296280"/>
          </a:xfrm>
          <a:prstGeom prst="wedgeRoundRectCallout">
            <a:avLst>
              <a:gd name="adj1" fmla="val 169921"/>
              <a:gd name="adj2" fmla="val 58956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150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399360" y="6056280"/>
            <a:ext cx="1028520" cy="296280"/>
          </a:xfrm>
          <a:prstGeom prst="wedgeRoundRectCallout">
            <a:avLst>
              <a:gd name="adj1" fmla="val -140268"/>
              <a:gd name="adj2" fmla="val -75982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114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88040" y="5251320"/>
            <a:ext cx="1078200" cy="296280"/>
          </a:xfrm>
          <a:prstGeom prst="wedgeRoundRectCallout">
            <a:avLst>
              <a:gd name="adj1" fmla="val -27638"/>
              <a:gd name="adj2" fmla="val -55946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225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5751200">
            <a:off x="7203960" y="3576600"/>
            <a:ext cx="218880" cy="222120"/>
          </a:xfrm>
          <a:prstGeom prst="ellipse">
            <a:avLst/>
          </a:prstGeom>
          <a:solidFill>
            <a:srgbClr val="00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5751200">
            <a:off x="5340240" y="3813120"/>
            <a:ext cx="218880" cy="222120"/>
          </a:xfrm>
          <a:prstGeom prst="ellipse">
            <a:avLst/>
          </a:prstGeom>
          <a:solidFill>
            <a:srgbClr val="00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43280" y="6391440"/>
            <a:ext cx="831960" cy="296280"/>
          </a:xfrm>
          <a:prstGeom prst="wedgeRoundRectCallout">
            <a:avLst>
              <a:gd name="adj1" fmla="val 100000"/>
              <a:gd name="adj2" fmla="val -88676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89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5751200">
            <a:off x="4928760" y="3757320"/>
            <a:ext cx="219240" cy="222120"/>
          </a:xfrm>
          <a:prstGeom prst="ellipse">
            <a:avLst/>
          </a:prstGeom>
          <a:solidFill>
            <a:srgbClr val="00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1120" y="5715000"/>
            <a:ext cx="968400" cy="296280"/>
          </a:xfrm>
          <a:prstGeom prst="wedgeRoundRectCallout">
            <a:avLst>
              <a:gd name="adj1" fmla="val -52449"/>
              <a:gd name="adj2" fmla="val -35266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175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5751200">
            <a:off x="1080" y="4668480"/>
            <a:ext cx="219240" cy="222120"/>
          </a:xfrm>
          <a:prstGeom prst="ellipse">
            <a:avLst/>
          </a:prstGeom>
          <a:solidFill>
            <a:srgbClr val="00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55520" y="133200"/>
            <a:ext cx="2605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tal 1842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4352 MW with gas gener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66920" y="2295360"/>
            <a:ext cx="939600" cy="296280"/>
          </a:xfrm>
          <a:prstGeom prst="wedgeRoundRectCallout">
            <a:avLst>
              <a:gd name="adj1" fmla="val 204384"/>
              <a:gd name="adj2" fmla="val 39259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20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5751200">
            <a:off x="3667680" y="3521520"/>
            <a:ext cx="223920" cy="250920"/>
          </a:xfrm>
          <a:prstGeom prst="ellipse">
            <a:avLst/>
          </a:prstGeom>
          <a:solidFill>
            <a:srgbClr val="00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681120"/>
            <a:ext cx="9144000" cy="6176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rot="15751200">
            <a:off x="726480" y="144000"/>
            <a:ext cx="6162840" cy="8146800"/>
          </a:xfrm>
          <a:prstGeom prst="ellipse">
            <a:avLst/>
          </a:prstGeom>
          <a:solidFill>
            <a:srgbClr val="ffcc00">
              <a:alpha val="30000"/>
            </a:srgbClr>
          </a:solidFill>
          <a:ln w="38160">
            <a:solidFill>
              <a:srgbClr val="ffcc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681360" cy="108252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COT West Texa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ional Constra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5751200">
            <a:off x="1984320" y="4261680"/>
            <a:ext cx="1665000" cy="2576520"/>
          </a:xfrm>
          <a:prstGeom prst="ellipse">
            <a:avLst/>
          </a:prstGeom>
          <a:solidFill>
            <a:srgbClr val="ffff00">
              <a:alpha val="50000"/>
            </a:srgbClr>
          </a:solidFill>
          <a:ln w="324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8080" y="1517760"/>
            <a:ext cx="2867040" cy="888840"/>
          </a:xfrm>
          <a:prstGeom prst="wedgeRoundRectCallout">
            <a:avLst>
              <a:gd name="adj1" fmla="val 105805"/>
              <a:gd name="adj2" fmla="val 110402"/>
              <a:gd name="adj3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REGIONAL CONSTRA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STABILITY LIMITED TRANSIENT &amp; 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94120" y="6027840"/>
            <a:ext cx="8740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600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93200" y="2176560"/>
            <a:ext cx="186912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1400 to 2000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08320" y="6083280"/>
            <a:ext cx="2610000" cy="592560"/>
          </a:xfrm>
          <a:prstGeom prst="wedgeRoundRectCallout">
            <a:avLst>
              <a:gd name="adj1" fmla="val -79250"/>
              <a:gd name="adj2" fmla="val -61472"/>
              <a:gd name="adj3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LOCAL CONSTRAINTS THERMAL &amp; 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681120"/>
            <a:ext cx="9144000" cy="61768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720960" cy="94716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COT West Texas Constraint Proj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5751200">
            <a:off x="726480" y="144000"/>
            <a:ext cx="6162840" cy="8146800"/>
          </a:xfrm>
          <a:prstGeom prst="ellipse">
            <a:avLst/>
          </a:prstGeom>
          <a:noFill/>
          <a:ln w="38160">
            <a:solidFill>
              <a:srgbClr val="ffcc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5751200">
            <a:off x="1984320" y="4261680"/>
            <a:ext cx="1665000" cy="2576520"/>
          </a:xfrm>
          <a:prstGeom prst="ellipse">
            <a:avLst/>
          </a:prstGeom>
          <a:solidFill>
            <a:srgbClr val="ffff00">
              <a:alpha val="50000"/>
            </a:srgbClr>
          </a:solidFill>
          <a:ln w="324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8080" y="1517760"/>
            <a:ext cx="2867040" cy="888840"/>
          </a:xfrm>
          <a:prstGeom prst="wedgeRoundRectCallout">
            <a:avLst>
              <a:gd name="adj1" fmla="val 85314"/>
              <a:gd name="adj2" fmla="val 46273"/>
              <a:gd name="adj3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REGIONAL CONSTRA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STABILITY LIMITED TRANSIENT &amp; 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94120" y="6027840"/>
            <a:ext cx="8740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600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40920" y="1614600"/>
            <a:ext cx="186912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1400 to 2000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08320" y="6083280"/>
            <a:ext cx="2610000" cy="592560"/>
          </a:xfrm>
          <a:prstGeom prst="wedgeRoundRectCallout">
            <a:avLst>
              <a:gd name="adj1" fmla="val -79250"/>
              <a:gd name="adj2" fmla="val -61472"/>
              <a:gd name="adj3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LOCAL CONSTRAINTS THERMAL &amp; 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5751200">
            <a:off x="4499640" y="3020040"/>
            <a:ext cx="1326960" cy="1716120"/>
          </a:xfrm>
          <a:prstGeom prst="ellipse">
            <a:avLst/>
          </a:prstGeom>
          <a:solidFill>
            <a:srgbClr val="ffff00">
              <a:alpha val="50000"/>
            </a:srgbClr>
          </a:solidFill>
          <a:ln w="324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5751200">
            <a:off x="3578760" y="2818440"/>
            <a:ext cx="1333440" cy="979560"/>
          </a:xfrm>
          <a:prstGeom prst="ellipse">
            <a:avLst/>
          </a:prstGeom>
          <a:solidFill>
            <a:srgbClr val="ffff00">
              <a:alpha val="50000"/>
            </a:srgbClr>
          </a:solidFill>
          <a:ln w="324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5265200">
            <a:off x="6023520" y="2089800"/>
            <a:ext cx="2043360" cy="2514600"/>
          </a:xfrm>
          <a:prstGeom prst="ellipse">
            <a:avLst/>
          </a:prstGeom>
          <a:solidFill>
            <a:srgbClr val="ffff00">
              <a:alpha val="50000"/>
            </a:srgbClr>
          </a:solidFill>
          <a:ln w="324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5751200">
            <a:off x="7979400" y="2854800"/>
            <a:ext cx="954000" cy="1374840"/>
          </a:xfrm>
          <a:prstGeom prst="ellipse">
            <a:avLst/>
          </a:prstGeom>
          <a:solidFill>
            <a:srgbClr val="ffff00">
              <a:alpha val="50000"/>
            </a:srgbClr>
          </a:solidFill>
          <a:ln w="324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61040" y="5338800"/>
            <a:ext cx="1713240" cy="592560"/>
          </a:xfrm>
          <a:prstGeom prst="wedgeRoundRectCallout">
            <a:avLst>
              <a:gd name="adj1" fmla="val -59537"/>
              <a:gd name="adj2" fmla="val -303671"/>
              <a:gd name="adj3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NEW LOCAL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4 McCamey Study Conc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64800" y="1545840"/>
            <a:ext cx="771228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arge improvement with the 138 kV McCamey project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ransfer capability varies with fossil dispatch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500-700 MW export capability when complet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Voltage control problems observed above        600 MW generation expor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345 kV lines were approved to be built when McCamey generation commits to 1,500 MW to 2,000 MW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With additional improvements, projects increase the transfer capability from 760 MW to more than 2000 MW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EP Presentation on McCame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fer Lim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ension monitors on limiting lines were installed by AEP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io Pecos to Crane 138 kV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orth McCamey to Big Lake 138 kV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posal is to adjust line ratings dynamically in the McCamey area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ind drives both production and line rating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pected to provide significant increase in capacit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ssible enough to meet all 755MW of installed wind resourc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y remaining line overload exposures may be handled  with Special Protection Scheme(s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corporation with operations is needed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4:05:47Z</dcterms:created>
  <dc:creator/>
  <dc:description/>
  <dc:language>en-US</dc:language>
  <cp:lastModifiedBy/>
  <dcterms:modified xsi:type="dcterms:W3CDTF">2005-02-10T15:00:48Z</dcterms:modified>
  <cp:revision>36</cp:revision>
  <dc:subject/>
  <dc:title>Slide 1</dc:title>
</cp:coreProperties>
</file>