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075-1DCA-4AC0-877F-ACACB27C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23E-3F43-4523-B1B8-D9D317D3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EDB-F938-42A8-8DDD-9E8CF08C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0C1-F7DB-4F84-9F06-11C1B203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82F5-7E60-4460-9DC5-DBE7108F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9C8B-0A2C-41A4-A4DF-2373CE6C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3F1B-F10A-402C-A46A-6D2CBE39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CB8F-97C5-4EC5-9920-F5488D7F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3F68-BEA1-437D-8011-2385DFE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2B44-68BC-43D1-A138-73CCA5A1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4663-5885-4884-A497-DC2531F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6A5-C708-4AF3-9C51-E450628A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66F7-B47E-47E3-A811-E468EB6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7648-6BB8-4B8E-BCDE-59E4FD5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E1A0-D810-43D1-B387-7088C718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D31E-695B-446C-83B1-B26F353C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51B5-2F68-455D-AEC0-AAF38594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393-989C-498D-A3D6-5993A61F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A3D-2C17-4F9A-9102-82E8A277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EAD-BCF7-497C-B6F9-3B618A17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12F-8F8D-407B-A69C-284911E3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40F-8B7B-4504-A957-4BE18361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BA8-0FE1-4B88-9DAA-24C236D5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36B-7EE4-4884-9F4A-565EB61C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F1C4-FE46-489B-B09C-B5E29A9CE9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EED2-CF03-4844-B428-C2B274A366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5146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RCOT Market Meeting Suppor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Improved Meeting Support for</a:t>
            </a:r>
            <a:br>
              <a:rPr sz="3200"/>
            </a:b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More Efficient Resource Utilizatio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D14-188D-4F53-A002-1E14BCAC72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2514600"/>
            <a:ext cx="37339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“</a:t>
            </a: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Core Tea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gned responsi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ing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ountable to both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dy and ERCO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ernates na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cus:  coordination, communication, continuity of support for both committee and staff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4840" y="2825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2565360"/>
            <a:ext cx="35816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ERCOT Expe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requested by body via 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ctated via agenda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assigned by a Manag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 or Offi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a standing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cus:  expertise, analysis, facts to aid market decision making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6720" y="609480"/>
            <a:ext cx="53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rket Meeting/Committe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ey ERCOT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706-AE9D-44E9-A32A-F5396B309A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7440" y="177624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oard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360" y="2843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RS, 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800" y="383364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WMS, 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ROS, C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9240" y="5205240"/>
            <a:ext cx="17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Task Forc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Working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5586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1385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20811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31478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30080" y="5257800"/>
            <a:ext cx="14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ME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30800" y="373392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.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les, 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720" y="279576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ul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S,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30440" y="180504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rp Sec’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r Team,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07840" y="10144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56624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0622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20048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071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03920" y="5357880"/>
            <a:ext cx="208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Func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usiness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61160" y="185256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82040" y="1014480"/>
            <a:ext cx="220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ERCOT Coord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Key Cl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809880"/>
            <a:ext cx="201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mpacted 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&amp; Offic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CS, Rules and 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80240" y="28954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1040" y="1014480"/>
            <a:ext cx="248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Market Meeting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Key Cl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3800" y="620856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lined position = performs ERCOT Staff Meeting Management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6D5-C983-458C-BE80-83F9ADD733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452680" y="4604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Committee Assig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1680" y="1447920"/>
            <a:ext cx="792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AC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M - Cheryl Moseley,  SS - Ann Boren,  Legal - Mark Wal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Cheryl Moseley,  SS – Market Rules Team,  Legal – Andy Ga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Steve Myers,  SS - Ann Boren,  Rules – Nieves Lop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M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Ted Hailu,  SS - Ann Boren,  Rules – Nieves Lop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P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Ted Hailu,  SS - Ann Boren,  Rules -  Diana Z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M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Dale Goodman,  SS - Ann Boren,  Rules - Sonja Mi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Brittney Albracht performs facilities and meeting services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4E2-4AE3-48CA-B8BD-7B625F2A90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51880" y="46044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Committee Assignments – ERCOT Staff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4920" y="1447920"/>
            <a:ext cx="7675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M to coordinate/establish assignments to TF and WG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stablish back up for minutes taking at TAC and Subcommitte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solve TF and WG documentation need, responsibility and resource re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2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P feedback checkpoint at TAC and Subcommitte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rther improve coordination across ERCOT Staff supporting MP’s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ross functional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P feedback checkpoint at TF and WG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FF5-D7B4-42FE-9686-FBF3A0B478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598480" y="46044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Facilities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44792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AC, Subcommittees and T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ally little change to existing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 as far forward a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k best match of facilities with needs (size, AV,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to minimize outside facilities utilization via scheduling co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orking groups and task fo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 up to two months for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facilities to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ERCOT facilities at preferred location first (Austin), use low-cost adjacent hotel space second if preferred location not available, use ERCOT alternate locations (Taylor) thi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perator training in April creates the need for flexibility from committee Chairs that month.  Thanks in advance for your assist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0E6-B85C-4DE4-834A-F83FC80801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47280" y="45720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ssible Continuous Improvement Id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828800"/>
            <a:ext cx="7483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F &amp; WG meetings, ERCOT Staff introductions and identification of your reason for being at the meeting (contributor/observer and area of intere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end of all meetings, quick check point survey (verbal w/ input documented and retained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at worked well tod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at did not work as well as you would have expec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w could the next meeting be improved?  (need actionable inpu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each agenda call with the feedback from last meeting and discuss how to improve the next meeting to address conce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9FE-A7E1-4864-837E-9ECD43CF6A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547280" y="45720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ssible Continuous Improvement Id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295280"/>
            <a:ext cx="7483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 a tracking mechanism regarding committee, TF and WG agenda items, workflow, assignments, next step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 cost/benefits criteria and analysis for non-administrative protocol and guid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and standardize format and detail regarding committee, TF and WG “key document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sh key docs on web site including: procedures, mission and scope, voting members, chair and vice chair (as appropriate for body type), ERCOT Staff assign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C2D-ABED-4A66-BD0B-54FDF5494C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5800" y="2590920"/>
            <a:ext cx="37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Questions and Sugges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AEC-677F-47D8-AFFF-C94304962A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iver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’s governance model (GM) is a key cornerstone to its overall market su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M requires a large commitment of key resources from ERCOT, PUCT, and Market Participant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e all stakeholders, ERCOT Staff is being asked to do more with less, be more efficient and effective, control staff ad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Staff is expected to deliver a range of GM services at a high level and consist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ssues cross multiple functional areas, requiring significant cross impact analysis and coord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092-F945-44A9-B54F-7ED13B09F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RCOT Staff Goal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fessional support of the MP market meeting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onsisten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fficien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the needs of the participants and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Right resour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given the body type and age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Sound prepar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ERCOT presentations and pos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Timely and precise communic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arly identification of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oordination across 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, coordinate, analysis/impact, position development,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Maximize utilization of ERCOT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86D-A360-49E4-B1FA-BB317EA9F3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 Significant Commitment Indeed…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 2004 - Over 600 ERCOT MP meeting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$700,000 in outside facilities and meals for meetings coordinated through ERC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ll more than 100 skilled or highly skilled ERCOT Staff called on to contribute to GM process.  25 - 30 FTE’s demanded by meeting volume and ERCOT service responsibil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costs to support GM estimated at $4-5mm/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(loaded), plus facilities (depr., util., taxes, insu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 &amp; PUCT costs to support GM (if 3x) = $12 - 15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(loaded), T&amp;E, consultants/counsel,…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430-A3D3-4584-8142-FD11FDE6AE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t, the Return is Great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r and open forum – democratic decision ma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keholder driven agenda and accoun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iberative, advance notice, no surp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arent via published agendas, minutes and v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portunity to ensure no issues are avo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business outcome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improvement to the Texas electric 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of market benefits in excess of cost to chang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1320" y="556272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RCOT rated the #1 competitive electric market in N. America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EEF-1799-4FF1-9178-2141F97791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eedback from MP’s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ff support performing well in many areas, could improve in other are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ate and publish to each committee’s website a lead and alternate Staff person to attend and be responsible to each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ere is a cross functional “internal ERCOT review” before staff present views in MP foru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“part of the problem may be a lack of consistency in who attends, which can lead to internal communication problems”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e meeting locations in advance of the posted start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e and distribute minutes of each TAC, Subcommittees, Task Forces and Work Group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“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t is not fair to ask someone who is representing their company to be saddled with note taking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 the number of employees that attend various meetings – only those that have a direct responsibility to the meeting or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CEC-0175-4B03-AFB1-53FD12AA58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incipal Change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, named ERCOT Staff member for each standing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ible to serve the needs of the committee in pursuit of its mission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oordinate internally, the broader ERCOT Staff in support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d role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of individual performance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regular check points with body leadership and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070-EFD8-45C1-A35C-A40859AEC9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920" y="579132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nctional Expert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560" y="431964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, Market 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&amp;R 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176640"/>
            <a:ext cx="29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Managemen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s and 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t. Rule Doc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0800" y="2286000"/>
            <a:ext cx="153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icy Ma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120" y="165276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Key Contribution to 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99616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45482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24908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3557520"/>
            <a:ext cx="68580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45482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599616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24908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3557520"/>
            <a:ext cx="68580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9080" y="228600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Board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7640" y="33526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PRS, 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9080" y="434340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WMS, 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ROS, C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90520" y="5715000"/>
            <a:ext cx="17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Task Forc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Working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84920" y="5691240"/>
            <a:ext cx="208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ropri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2160" y="228600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2200" y="172872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Key Coordination w/in ERC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87080" y="4243320"/>
            <a:ext cx="214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nctional 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amp; Offic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S, Rules and 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61240" y="340524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4440" y="330120"/>
            <a:ext cx="77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Right Type of Contribution to the Governance Mo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Right Level of Coordination within 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286000" y="4929120"/>
            <a:ext cx="419112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895120" y="3709800"/>
            <a:ext cx="350532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590560" y="2642760"/>
            <a:ext cx="380988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E6EF-A54E-44AD-82BC-D37D49AF1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971800" y="3159000"/>
            <a:ext cx="1752480" cy="15004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09480"/>
            <a:ext cx="11430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058760"/>
            <a:ext cx="121932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eeting Infrastructu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4359240"/>
            <a:ext cx="12193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509840"/>
            <a:ext cx="137160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chedule Meeting Spaces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anage Acquisition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V Requiremen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ater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ost on Web Calendar – SS (BA/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cilitate Scheduling/Coordinate Conflicts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659480"/>
            <a:ext cx="2286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ce for Call (market and internal)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 Draft Agenda –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view action items from prior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-facilitation of Agenda Call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nalize Agenda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fy Specific ERCOT Staff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ternal Communication (internal clients/requested participants)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 Agenda and post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1058760"/>
            <a:ext cx="13716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ERCOT Meeting Prep (internal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1509840"/>
            <a:ext cx="18288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rdinate presentation materials from internal autho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chedule Preparation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ticipate, Discuss, Establish ERCOT answe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fy/Discuss Emerging Issue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/Post ERCOT Presentation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1058760"/>
            <a:ext cx="13716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ERCOT Meeting Prep (external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1509840"/>
            <a:ext cx="137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llow up with external presente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ceive/Distribute Presentation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ost presentations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3309840"/>
            <a:ext cx="13716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cc00"/>
                </a:solidFill>
                <a:latin typeface="Arial"/>
              </a:rPr>
              <a:t>Final Brief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353520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Schedule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Facilitate Conference Bridge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Internal Coordination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Meeting Notice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Co-Facilitate Meeting -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058760"/>
            <a:ext cx="16002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eeting Day Coordin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1584360"/>
            <a:ext cx="190512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gn in Sheets/Record Attendance into Minute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nt Cards/Set-up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ceive and Manage Proxies/Alt. Rep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esentation Setup/Preparation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eting Minute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rdinate Tech Support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ternal Summary/Action item development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Presentations – SME/MP/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sponse to Market Inquiries – S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Voting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cilitate lunch focus group/intrameeting group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Charge Approval (offsite)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Input coordination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Quality/Feedback process, compilation, tracking -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91520" y="1058760"/>
            <a:ext cx="16002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Post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1520" y="1434960"/>
            <a:ext cx="152388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inutes – Draft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corporate Comment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ublish/Distribute for Comment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ublish Internal Summary/Action Items –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ntact key ERCOT Staff on assignments and emerging issue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pdate and publish final presentations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mail Vote Facilitation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ce/deadlin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piling vot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sult noti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view/Approve costs meeting costs (room, catering, AV)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Offsite service/quality assessment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9144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1920" y="128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1284120"/>
            <a:ext cx="0" cy="307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52480" y="1434960"/>
            <a:ext cx="0" cy="307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45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1209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1209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86600" y="1209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38354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4120" y="1209600"/>
            <a:ext cx="0" cy="262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522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 Requirements for TAC/Subcommittee Meeting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6FA-7606-4F4B-83BC-8ED2AF71AF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8:36:53Z</dcterms:created>
  <dc:creator>Richard Gruber</dc:creator>
  <dc:description/>
  <dc:language>en-US</dc:language>
  <cp:lastModifiedBy>rgruber</cp:lastModifiedBy>
  <dcterms:modified xsi:type="dcterms:W3CDTF">2005-02-02T22:46:51Z</dcterms:modified>
  <cp:revision>27</cp:revision>
  <dc:subject/>
  <dc:title>Slide 1</dc:title>
</cp:coreProperties>
</file>