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B2A-5F09-461B-BEB6-A3F2AB04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B82F-C53C-4E25-A51D-57293A54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6E4-7810-4848-BFC7-F32662C2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C35-4AD1-44E2-B3D3-F6EA01B0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C38-6FE9-4892-A9FA-8C448EA2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6718-7239-4136-9D29-BA1CA46E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E3A7-1B08-4B4C-8C20-5E5DCE57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AE3-002A-4A82-8D2C-2832772F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A37-4B6C-477F-8A35-4217D950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52A-21C3-486F-A4AE-1611D16E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CCAB-187C-4532-AEB2-80541C6A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42B-FF0D-4945-A117-4613C10F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8B6C-3100-4BB8-B296-9659F85E7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228600"/>
          <a:ext cx="11353680" cy="853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228600"/>
                    <a:ext cx="11353680" cy="853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4:40:22Z</dcterms:created>
  <dc:creator>jadams</dc:creator>
  <dc:description/>
  <dc:language>en-US</dc:language>
  <cp:lastModifiedBy>jadams</cp:lastModifiedBy>
  <dcterms:modified xsi:type="dcterms:W3CDTF">2005-02-10T14:57:32Z</dcterms:modified>
  <cp:revision>2</cp:revision>
  <dc:subject/>
  <dc:title>Slide 1</dc:title>
</cp:coreProperties>
</file>