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DA06-5986-4CD4-A510-F8617982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A8B8-51D0-4462-8295-A664FD0F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D82C-5B72-465E-9537-58BA03C1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CA6E-3D66-42FE-AC1E-A7EACCC5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426-C672-43D2-A9B9-61F3648E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1ACF-FC91-4939-9F1F-BEE2AFE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4353-BD55-4919-9C3A-ACD14DE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41C-1F64-47D8-9EA3-AA4DBD6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90EC-5C7C-4275-BB4E-A2913681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163E-9477-4850-8F00-F2958886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B80A-622A-4BD0-86FB-B3FB770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0EA3-F4F6-4F8F-8AFD-FD8F7464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A6FB-5DCC-45C2-82AD-8278DC5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7A4E-6FA6-4303-968B-ED32E9F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B319-8F81-4BA2-B024-532357A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39A9-A2E4-479F-9932-7E9E50DE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AA4-63D8-475E-9CC9-1ED14D5B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F9D2-5FBE-47B2-BD2B-EC8F7EB5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616E-8B05-46DA-8077-A6998CE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5634-0F91-4C02-B45F-91BEAD28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4474-2B2F-4A75-A7F7-E1419E9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5C97-6E86-477F-B1F1-45D4BDA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2217-5CF6-4EDA-85AE-2EF5301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1778-8C0B-42EC-8D5D-46F966A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16D-6ADF-41FD-9159-05C56CBF6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19C4-4B44-4CE0-A1A9-DD6D8C181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hadow Price Cap Stu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rket Operations Supp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 deployment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81080"/>
          <a:ext cx="8229600" cy="415152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Cap (+Orig c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SF (+Orig c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2,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$107,8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3,0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-$64,5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$294,2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2,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-$202,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$206,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4,3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8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9,4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8,0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,3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 MW deployment (up + d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8229600" cy="415152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1905120"/>
                <a:gridCol w="220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case M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Cap MW (+Orig c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SF MW (+Orig c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9.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132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-422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886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-132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133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2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+62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8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+70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4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+75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d CSC violati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81080"/>
          <a:ext cx="8381520" cy="4508640"/>
        </p:xfrm>
        <a:graphic>
          <a:graphicData uri="http://schemas.openxmlformats.org/drawingml/2006/table">
            <a:tbl>
              <a:tblPr/>
              <a:tblGrid>
                <a:gridCol w="2328120"/>
                <a:gridCol w="1396800"/>
                <a:gridCol w="1397160"/>
                <a:gridCol w="1629720"/>
                <a:gridCol w="162972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 C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case violation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Cap Violation MW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Orig c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SF violation MW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Orig c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5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1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1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12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14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1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study and prepar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results in detail at next 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results at March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results, which metho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 Pric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shift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price administ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Goal:  Reduce inefficient balancing energy deployments when resolving zonal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posed 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of similar shif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 Price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 preferred Shadow Pric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study Shadow Price Cap and provide methodology to 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Shadow Price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value of shadow price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penalty factor of constraint violation = shadow price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SC, the cap acts as system’s stopping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enalty Factor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Ramp Rate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7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3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g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2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1 (CS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7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3 (Base cas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Bal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8001000" cy="4327560"/>
        </p:xfrm>
        <a:graphic>
          <a:graphicData uri="http://schemas.openxmlformats.org/drawingml/2006/table">
            <a:tbl>
              <a:tblPr/>
              <a:tblGrid>
                <a:gridCol w="3530520"/>
                <a:gridCol w="2038320"/>
                <a:gridCol w="2432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w price cap (penalty fa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(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(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Ramp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3 (contin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1 (CS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3 (base ca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price cap - C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 balancing energy in zones connected by CSC (most effective z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∆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S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CSC is arou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ed on ERCOT monthly posted information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ximum bid price differenc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/M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09680" y="4876920"/>
                <a:ext cx="403884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5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production cases (a) using proposed penalty factors (b) using grouped shif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tervals with price administration and CSC Congestion since Jun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tervals with CSC shadow price &gt; $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tervals of one month (Sept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study results with produc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SC shadow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ecember 2nd 05:00, 05:15, and 05: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ecember 4th 07:00, 07:15, and 07: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 Shadow price cap = 4500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shift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Find the zones where the Shift Factor difference for a CSC is less than or equal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0.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Reset the Shift Factor to the average value for each applicable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C Shadow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600200"/>
          <a:ext cx="8763120" cy="453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143000"/>
                <a:gridCol w="1295640"/>
                <a:gridCol w="1066680"/>
                <a:gridCol w="1143000"/>
                <a:gridCol w="1219320"/>
              </a:tblGrid>
              <a:tr h="5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oup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oup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1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1,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924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2-04 0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835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939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929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1,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,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1,0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1,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04-04 0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8402"/>
                          </a:solidFill>
                          <a:latin typeface="Arial"/>
                        </a:rPr>
                        <a:t>$1,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$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0948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Pric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07:17Z</dcterms:created>
  <dc:creator>yren</dc:creator>
  <dc:description/>
  <dc:language>en-US</dc:language>
  <cp:lastModifiedBy>ljohnson</cp:lastModifiedBy>
  <dcterms:modified xsi:type="dcterms:W3CDTF">2005-01-13T14:50:42Z</dcterms:modified>
  <cp:revision>37</cp:revision>
  <dc:subject/>
  <dc:title>Slide 1</dc:title>
</cp:coreProperties>
</file>