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EF4-DA0D-45A5-B670-5418A4BA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284-2700-4B1E-A371-4C05B43D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261-14D1-4AAC-A89F-7BDD751F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FC5-7573-475B-8299-C2258B48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7D7-5244-4437-B976-DF9A0B65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985B-1B6B-43E3-977E-A4F4AD61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477-58EB-4DD1-B295-464AF9BD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6B12-8BDD-4926-B6BF-264F67C4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AF9-FA06-4640-B945-7F9CF48D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736-88B9-4490-B7F1-48C92343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DFB-F4B7-4BA5-AE66-68496333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8AED-26E8-41AC-BDFE-58F31EE9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0E89-68AF-4601-9280-615D64D60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lancing Energy Neutrality Adjustment (BEN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o Gonzal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uary 14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MS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14520" y="1143000"/>
          <a:ext cx="791496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1143000"/>
                    <a:ext cx="79149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514600" y="3429000"/>
            <a:ext cx="1066680" cy="83808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672" y="528"/>
                </a:moveTo>
                <a:cubicBezTo>
                  <a:pt x="580" y="404"/>
                  <a:pt x="488" y="280"/>
                  <a:pt x="432" y="240"/>
                </a:cubicBezTo>
                <a:cubicBezTo>
                  <a:pt x="376" y="200"/>
                  <a:pt x="408" y="328"/>
                  <a:pt x="336" y="288"/>
                </a:cubicBezTo>
                <a:cubicBezTo>
                  <a:pt x="264" y="248"/>
                  <a:pt x="56" y="48"/>
                  <a:pt x="0" y="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6880" y="3078000"/>
            <a:ext cx="30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ff"/>
                </a:solidFill>
                <a:latin typeface="Arial"/>
              </a:rPr>
              <a:t>On July 15</a:t>
            </a:r>
            <a:r>
              <a:rPr b="1" i="1" lang="en-US" sz="1200" spc="-1" strike="noStrike" baseline="30000">
                <a:solidFill>
                  <a:srgbClr val="0066ff"/>
                </a:solidFill>
                <a:latin typeface="Arial"/>
              </a:rPr>
              <a:t>th</a:t>
            </a:r>
            <a:r>
              <a:rPr b="1" i="1" lang="en-US" sz="1200" spc="-1" strike="noStrike">
                <a:solidFill>
                  <a:srgbClr val="0066ff"/>
                </a:solidFill>
                <a:latin typeface="Arial"/>
              </a:rPr>
              <a:t>, PRR 404 became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14520" y="1262160"/>
          <a:ext cx="791496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1262160"/>
                    <a:ext cx="791496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23880" y="1447920"/>
          <a:ext cx="5983560" cy="3262320"/>
        </p:xfrm>
        <a:graphic>
          <a:graphicData uri="http://schemas.openxmlformats.org/drawingml/2006/table">
            <a:tbl>
              <a:tblPr/>
              <a:tblGrid>
                <a:gridCol w="1133640"/>
                <a:gridCol w="1528560"/>
                <a:gridCol w="1828800"/>
                <a:gridCol w="1492560"/>
              </a:tblGrid>
              <a:tr h="320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24,680,8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        12,382,97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15,608,0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 (4,660,44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           (822,68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(13,036,65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20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     575,0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            505,4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    452,05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  4,030,11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         1,865,36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 1,658,14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 (4,541,47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        (2,674,09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(2,324,98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     943,72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        13,389,2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24,373,37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    (847,95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           (767,00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(1,959,40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(20,179,78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       (23,879,2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(24,770,57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               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                    2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            1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 flipV="1">
            <a:off x="1523880" y="4572000"/>
            <a:ext cx="304920" cy="457200"/>
          </a:xfrm>
          <a:prstGeom prst="line">
            <a:avLst/>
          </a:prstGeom>
          <a:ln w="3168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55760" y="5218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9144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DOLLARS ALLOCATED TO B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9:42:15Z</dcterms:created>
  <dc:creator>swang</dc:creator>
  <dc:description/>
  <dc:language>en-US</dc:language>
  <cp:lastModifiedBy>igonzalez</cp:lastModifiedBy>
  <dcterms:modified xsi:type="dcterms:W3CDTF">2005-01-12T23:24:26Z</dcterms:modified>
  <cp:revision>13</cp:revision>
  <dc:subject/>
  <dc:title>Slide 1</dc:title>
</cp:coreProperties>
</file>