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294813"/>
  <p:custShowLst>
    <p:custShow name="Custom Show 1" id="0">
      <p:sldLst>
        <p:sld r:id="rId8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E21531-77A7-4226-A86B-0D8941CBC7E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057400" y="228240"/>
            <a:ext cx="6780240" cy="57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61976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762120" y="3912120"/>
            <a:ext cx="761976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5E81ED-3BA9-4696-BBFB-362E9EE61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057400" y="228240"/>
            <a:ext cx="6780240" cy="57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371808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6320" y="1523880"/>
            <a:ext cx="371808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762120" y="3912120"/>
            <a:ext cx="371808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6320" y="3912120"/>
            <a:ext cx="371808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B9136D-5CF4-4E0C-B69E-8FC6D11E3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057400" y="228240"/>
            <a:ext cx="6780240" cy="57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245340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38640" y="1523880"/>
            <a:ext cx="245340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15160" y="1523880"/>
            <a:ext cx="245340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762120" y="3912120"/>
            <a:ext cx="245340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38640" y="3912120"/>
            <a:ext cx="245340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15160" y="3912120"/>
            <a:ext cx="245340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64C8B6-BD7F-4D5C-BAA4-CFBCB8D947F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4EE8D4-E3FD-47F0-BEC6-E39062D13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057400" y="228240"/>
            <a:ext cx="6780240" cy="57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762120" y="1523880"/>
            <a:ext cx="76197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31E29B-99B3-47AE-B40F-3B731736B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057400" y="228240"/>
            <a:ext cx="6780240" cy="57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61976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B58982-313C-4F07-9411-1A60D56E4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057400" y="228240"/>
            <a:ext cx="6780240" cy="57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371808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6320" y="1523880"/>
            <a:ext cx="371808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956795-F92E-4F9E-9F31-7F6DC5554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057400" y="228240"/>
            <a:ext cx="6780240" cy="57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26B869-8A09-42AE-A970-43E77F37B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2057400" y="228240"/>
            <a:ext cx="6780240" cy="26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F4FCAF-CA8E-43FD-9427-5A2132124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057400" y="228240"/>
            <a:ext cx="6780240" cy="57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371808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6320" y="1523880"/>
            <a:ext cx="371808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62120" y="3912120"/>
            <a:ext cx="371808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189A27-0FBC-4C8D-8FD5-33AE2572C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057400" y="228240"/>
            <a:ext cx="6780240" cy="57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762120" y="1523880"/>
            <a:ext cx="76197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6B5070-C1C4-441A-A742-912285CB3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057400" y="228240"/>
            <a:ext cx="6780240" cy="57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371808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6320" y="1523880"/>
            <a:ext cx="371808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66320" y="3912120"/>
            <a:ext cx="371808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3D3C65-AE44-4278-A892-6EFABC4EB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057400" y="228240"/>
            <a:ext cx="6780240" cy="57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371808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6320" y="1523880"/>
            <a:ext cx="371808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62120" y="3912120"/>
            <a:ext cx="761976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40BA55-B4F9-499E-B378-295AEBEC5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057400" y="228240"/>
            <a:ext cx="6780240" cy="57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61976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762120" y="3912120"/>
            <a:ext cx="761976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9DA04F-94C8-4205-8EC6-EC8BCD8D2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057400" y="228240"/>
            <a:ext cx="6780240" cy="57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371808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6320" y="1523880"/>
            <a:ext cx="371808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762120" y="3912120"/>
            <a:ext cx="371808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66320" y="3912120"/>
            <a:ext cx="371808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42BBFC-807C-4B38-B807-E8A4E3015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057400" y="228240"/>
            <a:ext cx="6780240" cy="57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245340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338640" y="1523880"/>
            <a:ext cx="245340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5915160" y="1523880"/>
            <a:ext cx="245340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762120" y="3912120"/>
            <a:ext cx="245340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338640" y="3912120"/>
            <a:ext cx="245340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5915160" y="3912120"/>
            <a:ext cx="245340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28CF64-F0EF-45FE-927C-43F9C3444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057400" y="228240"/>
            <a:ext cx="6780240" cy="57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61976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4475E9-CA78-4B6F-A61A-B252B1CFD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057400" y="228240"/>
            <a:ext cx="6780240" cy="57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371808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6320" y="1523880"/>
            <a:ext cx="371808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530332-CFFD-4322-A271-7751307C2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057400" y="228240"/>
            <a:ext cx="6780240" cy="57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F2366B-C6D9-404C-9739-356779C96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2057400" y="228240"/>
            <a:ext cx="6780240" cy="26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CE7C6E-281B-40ED-A389-7C50238CE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057400" y="228240"/>
            <a:ext cx="6780240" cy="57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371808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6320" y="1523880"/>
            <a:ext cx="371808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762120" y="3912120"/>
            <a:ext cx="371808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F2B39E-A318-4AA3-958B-E4ED68FFF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057400" y="228240"/>
            <a:ext cx="6780240" cy="57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371808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6320" y="1523880"/>
            <a:ext cx="371808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6320" y="3912120"/>
            <a:ext cx="371808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78A740-FBA2-44F1-8513-C3F2FA968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057400" y="228240"/>
            <a:ext cx="6780240" cy="57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371808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6320" y="1523880"/>
            <a:ext cx="371808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62120" y="3912120"/>
            <a:ext cx="761976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AB025E-1167-4290-9134-F49CBA678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057400" y="228240"/>
            <a:ext cx="6780240" cy="57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523880"/>
            <a:ext cx="761976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SzPct val="13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G Omeg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G Omeg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G Omeg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G Omeg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G Omeg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G Omeg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G Omeg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G Omeg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2" name=""/>
          <p:cNvSpPr/>
          <p:nvPr/>
        </p:nvSpPr>
        <p:spPr>
          <a:xfrm>
            <a:off x="0" y="1066680"/>
            <a:ext cx="914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71467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23864-691B-4BD2-B102-324A55739B60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361944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F586C-7B80-4EC9-AACB-4BC9EABDD98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76320"/>
            <a:ext cx="1676520" cy="90144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-720" y="6477120"/>
            <a:ext cx="17258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Property of ERCOT 20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0" y="76320"/>
            <a:ext cx="1676520" cy="901440"/>
          </a:xfrm>
          <a:prstGeom prst="rect">
            <a:avLst/>
          </a:prstGeom>
          <a:ln w="0">
            <a:noFill/>
          </a:ln>
        </p:spPr>
      </p:pic>
      <p:sp>
        <p:nvSpPr>
          <p:cNvPr id="8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560" y="2286000"/>
            <a:ext cx="8305560" cy="102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1600200"/>
            <a:ext cx="9144000" cy="0"/>
          </a:xfrm>
          <a:prstGeom prst="line">
            <a:avLst/>
          </a:prstGeom>
          <a:ln w="1260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C Half Banner"/>
          <p:cNvSpPr/>
          <p:nvPr/>
        </p:nvSpPr>
        <p:spPr>
          <a:xfrm>
            <a:off x="0" y="0"/>
            <a:ext cx="9144000" cy="1981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3"/>
          </p:nvPr>
        </p:nvSpPr>
        <p:spPr>
          <a:xfrm>
            <a:off x="71467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36B09-7089-4569-9CEA-2F7D8AC03003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4"/>
          </p:nvPr>
        </p:nvSpPr>
        <p:spPr>
          <a:xfrm>
            <a:off x="-3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361944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C72B1-2D79-4EBD-B4FA-B5C2312A171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828800"/>
            <a:ext cx="9144000" cy="0"/>
          </a:xfrm>
          <a:prstGeom prst="line">
            <a:avLst/>
          </a:prstGeom>
          <a:ln w="7632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5600" y="6553080"/>
            <a:ext cx="17258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Property of ERCOT 20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200400" cy="17226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0" y="1905120"/>
            <a:ext cx="9144000" cy="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3200400" cy="17226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0" y="1905120"/>
            <a:ext cx="9144000" cy="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G Ome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G Omeg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G Omeg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4560" y="2286000"/>
            <a:ext cx="8305560" cy="102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MMS - SMP/EMP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CADA Management Platform 3.3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nergy Management Platform 2.2</a:t>
            </a:r>
            <a:br>
              <a:rPr sz="4000"/>
            </a:b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294920" y="4648320"/>
            <a:ext cx="632628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G Omega"/>
              </a:rPr>
              <a:t>Jim Burke, Project Manager</a:t>
            </a:r>
            <a:endParaRPr b="0" lang="en-US" sz="3200" spc="-1" strike="noStrike">
              <a:solidFill>
                <a:srgbClr val="000000"/>
              </a:solidFill>
              <a:latin typeface="CG Omeg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G Omega"/>
              </a:rPr>
              <a:t>January 10, 2005</a:t>
            </a:r>
            <a:endParaRPr b="0" lang="en-US" sz="32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866CB1-7633-43EF-B570-BFFBEA66BCDA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4602462-3D6D-4663-A3A8-28F7A5A83AEC}" type="datetime1">
              <a:rPr lang="en-US"/>
              <a:t>07/29/26</a:t>
            </a:fld>
          </a:p>
        </p:txBody>
      </p:sp>
    </p:spTree>
  </p:cSld>
  <p:transition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057400" y="228240"/>
            <a:ext cx="6780240" cy="57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MP/EMP Scope and Objectiv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61760" y="1523880"/>
            <a:ext cx="373356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  <a:p>
            <a:pPr marL="34308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  <a:p>
            <a:pPr marL="34308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0948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318960" indent="-3189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G Omega"/>
              </a:rPr>
              <a:t>SCADA Management Platform / Energy Management Platform</a:t>
            </a:r>
            <a:endParaRPr b="0" lang="en-US" sz="1800" spc="-1" strike="noStrike">
              <a:solidFill>
                <a:srgbClr val="000000"/>
              </a:solidFill>
              <a:latin typeface="CG Omega"/>
            </a:endParaRPr>
          </a:p>
          <a:p>
            <a:pPr marL="318960" indent="-3189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G Omega"/>
            </a:endParaRPr>
          </a:p>
          <a:p>
            <a:pPr marL="318960" indent="-3189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G Omega"/>
              </a:rPr>
              <a:t>The Telemetry Front End (TFE) is outdated and needs replacement.  The SMP</a:t>
            </a:r>
            <a:endParaRPr b="0" lang="en-US" sz="1800" spc="-1" strike="noStrike">
              <a:solidFill>
                <a:srgbClr val="000000"/>
              </a:solidFill>
              <a:latin typeface="CG Omega"/>
            </a:endParaRPr>
          </a:p>
          <a:p>
            <a:pPr marL="318960" indent="-3189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G Omega"/>
              </a:rPr>
              <a:t>will replace this old technology. Other changes in the migration include:</a:t>
            </a:r>
            <a:endParaRPr b="0" lang="en-US" sz="1800" spc="-1" strike="noStrike">
              <a:solidFill>
                <a:srgbClr val="000000"/>
              </a:solidFill>
              <a:latin typeface="CG Omega"/>
            </a:endParaRPr>
          </a:p>
          <a:p>
            <a:pPr marL="318960" indent="-3189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G Omega"/>
            </a:endParaRPr>
          </a:p>
          <a:p>
            <a:pPr marL="318960" indent="-318960">
              <a:spcBef>
                <a:spcPts val="451"/>
              </a:spcBef>
              <a:buClr>
                <a:srgbClr val="000066"/>
              </a:buClr>
              <a:buSzPct val="13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G Omega"/>
              </a:rPr>
              <a:t>PR20159</a:t>
            </a:r>
            <a:r>
              <a:rPr b="0" lang="en-US" sz="1800" spc="-1" strike="noStrike">
                <a:solidFill>
                  <a:srgbClr val="000000"/>
                </a:solidFill>
                <a:latin typeface="CG Omeg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G Omega"/>
              </a:rPr>
              <a:t>Load Rollover</a:t>
            </a:r>
            <a:endParaRPr b="0" lang="en-US" sz="1800" spc="-1" strike="noStrike">
              <a:solidFill>
                <a:srgbClr val="000000"/>
              </a:solidFill>
              <a:latin typeface="CG Omega"/>
            </a:endParaRPr>
          </a:p>
          <a:p>
            <a:pPr marL="318960" indent="-318960">
              <a:spcBef>
                <a:spcPts val="451"/>
              </a:spcBef>
              <a:buClr>
                <a:srgbClr val="000066"/>
              </a:buClr>
              <a:buSzPct val="13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G Omega"/>
              </a:rPr>
              <a:t>PR30050</a:t>
            </a:r>
            <a:r>
              <a:rPr b="0" lang="en-US" sz="1800" spc="-1" strike="noStrike">
                <a:solidFill>
                  <a:srgbClr val="000000"/>
                </a:solidFill>
                <a:latin typeface="CG Omeg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G Omega"/>
              </a:rPr>
              <a:t>EMS Front-End Replacement</a:t>
            </a:r>
            <a:endParaRPr b="0" lang="en-US" sz="1800" spc="-1" strike="noStrike">
              <a:solidFill>
                <a:srgbClr val="000000"/>
              </a:solidFill>
              <a:latin typeface="CG Omega"/>
            </a:endParaRPr>
          </a:p>
          <a:p>
            <a:pPr marL="318960" indent="-318960">
              <a:spcBef>
                <a:spcPts val="451"/>
              </a:spcBef>
              <a:buClr>
                <a:srgbClr val="000066"/>
              </a:buClr>
              <a:buSzPct val="13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G Omega"/>
              </a:rPr>
              <a:t>PR30074</a:t>
            </a:r>
            <a:r>
              <a:rPr b="0" lang="en-US" sz="1800" spc="-1" strike="noStrike">
                <a:solidFill>
                  <a:srgbClr val="000000"/>
                </a:solidFill>
                <a:latin typeface="CG Omeg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G Omega"/>
              </a:rPr>
              <a:t>Enhance STNET Multiple Selected Time Ranges</a:t>
            </a:r>
            <a:endParaRPr b="0" lang="en-US" sz="1800" spc="-1" strike="noStrike">
              <a:solidFill>
                <a:srgbClr val="000000"/>
              </a:solidFill>
              <a:latin typeface="CG Omega"/>
            </a:endParaRPr>
          </a:p>
          <a:p>
            <a:pPr marL="318960" indent="-318960">
              <a:spcBef>
                <a:spcPts val="451"/>
              </a:spcBef>
              <a:buClr>
                <a:srgbClr val="000066"/>
              </a:buClr>
              <a:buSzPct val="13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G Omega"/>
              </a:rPr>
              <a:t>PR30094</a:t>
            </a:r>
            <a:r>
              <a:rPr b="0" lang="en-US" sz="1800" spc="-1" strike="noStrike">
                <a:solidFill>
                  <a:srgbClr val="000000"/>
                </a:solidFill>
                <a:latin typeface="CG Omeg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G Omega"/>
              </a:rPr>
              <a:t>DCP Enhancement (VSAT/TSAT Enhancement)</a:t>
            </a:r>
            <a:endParaRPr b="0" lang="en-US" sz="1800" spc="-1" strike="noStrike">
              <a:solidFill>
                <a:srgbClr val="000000"/>
              </a:solidFill>
              <a:latin typeface="CG Omega"/>
            </a:endParaRPr>
          </a:p>
          <a:p>
            <a:pPr marL="318960" indent="-318960">
              <a:spcBef>
                <a:spcPts val="451"/>
              </a:spcBef>
              <a:buClr>
                <a:srgbClr val="000066"/>
              </a:buClr>
              <a:buSzPct val="13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G Omega"/>
              </a:rPr>
              <a:t>PR30096</a:t>
            </a:r>
            <a:r>
              <a:rPr b="0" lang="en-US" sz="1800" spc="-1" strike="noStrike">
                <a:solidFill>
                  <a:srgbClr val="000000"/>
                </a:solidFill>
                <a:latin typeface="CG Omeg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G Omega"/>
              </a:rPr>
              <a:t>Move PTI Bus Translation to Genesys</a:t>
            </a:r>
            <a:endParaRPr b="0" lang="en-US" sz="1800" spc="-1" strike="noStrike">
              <a:solidFill>
                <a:srgbClr val="000000"/>
              </a:solidFill>
              <a:latin typeface="CG Omega"/>
            </a:endParaRPr>
          </a:p>
          <a:p>
            <a:pPr marL="318960" indent="-318960">
              <a:spcBef>
                <a:spcPts val="451"/>
              </a:spcBef>
              <a:buClr>
                <a:srgbClr val="000066"/>
              </a:buClr>
              <a:buSzPct val="13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G Omega"/>
              </a:rPr>
              <a:t>PR30144</a:t>
            </a:r>
            <a:r>
              <a:rPr b="0" lang="en-US" sz="1800" spc="-1" strike="noStrike">
                <a:solidFill>
                  <a:srgbClr val="000000"/>
                </a:solidFill>
                <a:latin typeface="CG Omeg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G Omega"/>
              </a:rPr>
              <a:t>EMP 2.2 Upgrade</a:t>
            </a:r>
            <a:endParaRPr b="0" lang="en-US" sz="1800" spc="-1" strike="noStrike">
              <a:solidFill>
                <a:srgbClr val="000000"/>
              </a:solidFill>
              <a:latin typeface="CG Omega"/>
            </a:endParaRPr>
          </a:p>
          <a:p>
            <a:pPr marL="318960" indent="-318960">
              <a:spcBef>
                <a:spcPts val="451"/>
              </a:spcBef>
              <a:buClr>
                <a:srgbClr val="000066"/>
              </a:buClr>
              <a:buSzPct val="13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G Omega"/>
              </a:rPr>
              <a:t>PR30170</a:t>
            </a:r>
            <a:r>
              <a:rPr b="0" lang="en-US" sz="1800" spc="-1" strike="noStrike">
                <a:solidFill>
                  <a:srgbClr val="000000"/>
                </a:solidFill>
                <a:latin typeface="CG Omeg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G Omega"/>
              </a:rPr>
              <a:t>Implement A Selected Contingency Into Power Flow</a:t>
            </a:r>
            <a:endParaRPr b="0" lang="en-US" sz="1800" spc="-1" strike="noStrike">
              <a:solidFill>
                <a:srgbClr val="000000"/>
              </a:solidFill>
              <a:latin typeface="CG Omega"/>
            </a:endParaRPr>
          </a:p>
          <a:p>
            <a:pPr marL="318960" indent="-318960">
              <a:spcBef>
                <a:spcPts val="451"/>
              </a:spcBef>
              <a:buClr>
                <a:srgbClr val="000066"/>
              </a:buClr>
              <a:buSzPct val="13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G Omega"/>
              </a:rPr>
              <a:t>PR40099</a:t>
            </a:r>
            <a:r>
              <a:rPr b="0" lang="en-US" sz="1800" spc="-1" strike="noStrike">
                <a:solidFill>
                  <a:srgbClr val="000000"/>
                </a:solidFill>
                <a:latin typeface="CG Omeg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G Omega"/>
              </a:rPr>
              <a:t>CTGS Import/Export Dump Utility</a:t>
            </a:r>
            <a:endParaRPr b="0" lang="en-US" sz="1800" spc="-1" strike="noStrike">
              <a:solidFill>
                <a:srgbClr val="000000"/>
              </a:solidFill>
              <a:latin typeface="CG Omega"/>
            </a:endParaRPr>
          </a:p>
          <a:p>
            <a:pPr marL="318960" indent="-318960">
              <a:spcBef>
                <a:spcPts val="451"/>
              </a:spcBef>
              <a:buClr>
                <a:srgbClr val="000066"/>
              </a:buClr>
              <a:buSzPct val="13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G Omega"/>
              </a:rPr>
              <a:t>PR40094</a:t>
            </a:r>
            <a:r>
              <a:rPr b="0" lang="en-US" sz="1800" spc="-1" strike="noStrike">
                <a:solidFill>
                  <a:srgbClr val="000000"/>
                </a:solidFill>
                <a:latin typeface="CG Omeg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G Omega"/>
              </a:rPr>
              <a:t>Constraint Activity Manager (CAM) 2.2 Version</a:t>
            </a:r>
            <a:endParaRPr b="0" lang="en-US" sz="1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DE2200-C83D-4088-ACF7-465F5669F95C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DB3B2E-AF26-4825-8DF4-55C8200C559F}" type="datetime1">
              <a:rPr lang="en-US"/>
              <a:t>07/29/26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057400" y="228240"/>
            <a:ext cx="6780240" cy="57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MP/EMP Progres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61976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SzPct val="13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G Omega"/>
              </a:rPr>
              <a:t>Hands On Operator Readiness -  In Progress</a:t>
            </a: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SzPct val="13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G Omega"/>
              </a:rPr>
              <a:t>Initial Operator Training -  Complete</a:t>
            </a: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SzPct val="13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G Omega"/>
              </a:rPr>
              <a:t>Second Operator Training -  In Progress </a:t>
            </a: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SzPct val="13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G Omega"/>
              </a:rPr>
              <a:t>Third SMP “500 Hr” Stability Test - Complete</a:t>
            </a: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SzPct val="13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G Omega"/>
              </a:rPr>
              <a:t>Migration Planning -  In Progress</a:t>
            </a: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SzPct val="13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G Omega"/>
              </a:rPr>
              <a:t>Market Notice Development -  In Progress</a:t>
            </a: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SzPct val="13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G Omega"/>
              </a:rPr>
              <a:t>Migration Rehearsal Meeting -  Scheduled</a:t>
            </a: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  <a:p>
            <a:pPr marL="3290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G Omeg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  <a:p>
            <a:pPr marL="3290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  <a:p>
            <a:pPr marL="3290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A25DDB-6C2E-4563-9C22-641ED179951D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E069AC-60B6-4E6B-B64C-28A4F55E197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057400" y="228240"/>
            <a:ext cx="6780240" cy="57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MP/EMP Schedu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61976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SzPct val="13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G Omega"/>
              </a:rPr>
              <a:t>Site Fail Over To TCC On - 1/24/05</a:t>
            </a: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G Omeg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G Omega"/>
              </a:rPr>
              <a:t>POS Fail Over On The Morning Of 1/2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G Omeg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G Omeg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G Omega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G Omega"/>
              </a:rPr>
              <a:t>Hot Line Call” From ERCOT Operations</a:t>
            </a: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G Omeg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G Omega"/>
              </a:rPr>
              <a:t>MOS Fail Over During The Afternoon</a:t>
            </a: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G Omeg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G Omega"/>
              </a:rPr>
              <a:t>No MOS Impact</a:t>
            </a: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G Omeg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G Omega"/>
              </a:rPr>
              <a:t>ERCOT Operations Will Be Fully Staffed</a:t>
            </a: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G Omeg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G Omega"/>
              </a:rPr>
              <a:t>Contingency,  Fail Back To Previous Site</a:t>
            </a: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SzPct val="13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G Omega"/>
              </a:rPr>
              <a:t>Site Fail Over To ACC On - 2/7/05</a:t>
            </a: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G Omeg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G Omega"/>
              </a:rPr>
              <a:t>Same Sequence As 1/24 Fail Over</a:t>
            </a: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009BD8-50F0-4F54-903A-D3F31EE30DF3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399595-77CE-4566-B2C2-A21CA17BEF8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057400" y="228240"/>
            <a:ext cx="6780240" cy="57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200400" y="2286000"/>
            <a:ext cx="2639880" cy="2585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1F58E6-2D16-45CC-9A4E-9D3E6E117D3B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5ED9E9-BF16-4FA7-B163-398EA6D5354F}" type="datetime1">
              <a:rPr lang="en-US"/>
              <a:t>07/29/26</a:t>
            </a:fld>
          </a:p>
        </p:txBody>
      </p:sp>
    </p:spTree>
  </p:cSld>
  <p:transition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5T20:24:45Z</dcterms:created>
  <dc:creator>Manuel Atanacio</dc:creator>
  <dc:description>Presented at the Load Profiling, Forecasting &amp; Settlements Conference;</dc:description>
  <cp:keywords>ERCOT Retail Pros Cons Commercial Operations</cp:keywords>
  <dc:language>en-US</dc:language>
  <cp:lastModifiedBy>jaburke</cp:lastModifiedBy>
  <cp:lastPrinted>2000-04-06T20:17:02Z</cp:lastPrinted>
  <dcterms:modified xsi:type="dcterms:W3CDTF">2005-01-07T17:01:53Z</dcterms:modified>
  <cp:revision>165</cp:revision>
  <dc:subject>Texas Commercial Operations</dc:subject>
  <dc:title>PR-30148 EMMS Release 3.0 Monthly Repor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129067179</vt:r8>
  </property>
  <property fmtid="{D5CDD505-2E9C-101B-9397-08002B2CF9AE}" pid="3" name="_AuthorEmail">
    <vt:lpwstr>gabad@ercot.com</vt:lpwstr>
  </property>
  <property fmtid="{D5CDD505-2E9C-101B-9397-08002B2CF9AE}" pid="4" name="_AuthorEmailDisplayName">
    <vt:lpwstr>Abad, Gerry</vt:lpwstr>
  </property>
  <property fmtid="{D5CDD505-2E9C-101B-9397-08002B2CF9AE}" pid="5" name="_EmailSubject">
    <vt:lpwstr>Advance Copy of Slides for System Ops Meeting</vt:lpwstr>
  </property>
  <property fmtid="{D5CDD505-2E9C-101B-9397-08002B2CF9AE}" pid="6" name="_PreviousAdHocReviewCycleID">
    <vt:r8>-1571120072</vt:r8>
  </property>
  <property fmtid="{D5CDD505-2E9C-101B-9397-08002B2CF9AE}" pid="7" name="_ReviewingToolsShownOnce">
    <vt:lpwstr/>
  </property>
</Properties>
</file>