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6800" y="104760"/>
            <a:ext cx="7020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877160" y="6586560"/>
            <a:ext cx="126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ge </a:t>
            </a:r>
            <a:fld id="{4496B275-68C2-4A4C-AB3D-00124F5C3922}" type="slidenum"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0628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46440" indent="-204840">
              <a:spcBef>
                <a:spcPts val="451"/>
              </a:spcBef>
              <a:buClr>
                <a:srgbClr val="009999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46440" indent="-204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46440" indent="-204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258840" y="162000"/>
          <a:ext cx="1133280" cy="5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840" y="162000"/>
                    <a:ext cx="11332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258840" y="790560"/>
            <a:ext cx="8682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3200" y="6594480"/>
            <a:ext cx="324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5360" y="1038240"/>
            <a:ext cx="4191120" cy="2590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 plans and cases are in prog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EVA build and unit testing nearing compl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-FAT started (RP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-FAT schedule 12/6/04 – 1/28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0920" y="1017720"/>
            <a:ext cx="4343400" cy="1487520"/>
          </a:xfrm>
          <a:prstGeom prst="roundRect">
            <a:avLst>
              <a:gd name="adj" fmla="val 16667"/>
            </a:avLst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ITIATION TO PLANNING WITH NO CAPITAL BUDG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YET APPRO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3200" y="789120"/>
            <a:ext cx="247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Scope/Deliver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8640" y="37274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5080" y="258300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sues / 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09080" y="4500720"/>
            <a:ext cx="313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Milestones as of 11/30/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75320" y="812880"/>
            <a:ext cx="34272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ecutive Summary of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604960"/>
            <a:ext cx="429588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540320"/>
            <a:ext cx="429588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914400"/>
            <a:ext cx="0" cy="56563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79600" y="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30183 EMMS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88960" y="338040"/>
            <a:ext cx="197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M:  Jeffrey Rob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 Mgr: Oba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28680" y="4046400"/>
          <a:ext cx="3922560" cy="2395800"/>
        </p:xfrm>
        <a:graphic>
          <a:graphicData uri="http://schemas.openxmlformats.org/drawingml/2006/table">
            <a:tbl>
              <a:tblPr/>
              <a:tblGrid>
                <a:gridCol w="1566720"/>
                <a:gridCol w="752400"/>
                <a:gridCol w="790560"/>
                <a:gridCol w="812880"/>
              </a:tblGrid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cstd. Comple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 Loc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8/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 Desig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9/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9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rogre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 and Unit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/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98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rogre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F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4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1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rogre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y Acceptance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Acceptance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9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Acceptance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6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Participant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17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Migr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7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3287880" y="338040"/>
            <a:ext cx="19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onsor: Saath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 Lead: Patt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027760" y="71280"/>
            <a:ext cx="3857400" cy="638280"/>
            <a:chOff x="5027760" y="71280"/>
            <a:chExt cx="3857400" cy="638280"/>
          </a:xfrm>
        </p:grpSpPr>
        <p:sp>
          <p:nvSpPr>
            <p:cNvPr id="59" name=""/>
            <p:cNvSpPr/>
            <p:nvPr/>
          </p:nvSpPr>
          <p:spPr>
            <a:xfrm>
              <a:off x="833508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783560" y="49680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3384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78720" y="496800"/>
              <a:ext cx="55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2900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77480" y="49680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2776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ast Upd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3508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83560" y="28404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3384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78720" y="284040"/>
              <a:ext cx="55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2900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77480" y="28404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776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is Upd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35080" y="7128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us Align/ Scope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83560" y="7128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chnical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233840" y="7128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chedule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78720" y="71280"/>
              <a:ext cx="55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affing   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29000" y="7128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inancial  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77480" y="7128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vera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77480" y="71280"/>
              <a:ext cx="3307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27760" y="284040"/>
              <a:ext cx="38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27760" y="496800"/>
              <a:ext cx="38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27760" y="709560"/>
              <a:ext cx="38574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7760" y="284040"/>
              <a:ext cx="0" cy="4255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7748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2900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7872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3384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8356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3508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885160" y="71280"/>
              <a:ext cx="0" cy="638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570560" y="71280"/>
            <a:ext cx="187200" cy="1778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75400" y="309600"/>
            <a:ext cx="18288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80160" y="509760"/>
            <a:ext cx="187200" cy="177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13440" y="299880"/>
            <a:ext cx="18252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13440" y="509760"/>
            <a:ext cx="182520" cy="1728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75440" y="71280"/>
            <a:ext cx="182520" cy="17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18640" y="299880"/>
            <a:ext cx="18252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018640" y="509760"/>
            <a:ext cx="182520" cy="1728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561520" y="299880"/>
            <a:ext cx="18252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561520" y="500040"/>
            <a:ext cx="18252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2600" y="3719520"/>
            <a:ext cx="4295880" cy="144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48320" y="4746600"/>
          <a:ext cx="4419360" cy="1854360"/>
        </p:xfrm>
        <a:graphic>
          <a:graphicData uri="http://schemas.openxmlformats.org/drawingml/2006/table">
            <a:tbl>
              <a:tblPr/>
              <a:tblGrid>
                <a:gridCol w="504720"/>
                <a:gridCol w="638280"/>
                <a:gridCol w="628560"/>
                <a:gridCol w="638280"/>
                <a:gridCol w="657000"/>
                <a:gridCol w="704880"/>
                <a:gridCol w="64764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Budg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/ Actu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n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oreca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ted to D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to D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4572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57,63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3443400" y="838080"/>
            <a:ext cx="231840" cy="17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61200" y="79200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80160" y="299880"/>
            <a:ext cx="187200" cy="1778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56520" y="509760"/>
            <a:ext cx="187200" cy="177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80440" y="509760"/>
            <a:ext cx="187200" cy="177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60920" y="1038240"/>
            <a:ext cx="4343400" cy="1487520"/>
          </a:xfrm>
          <a:prstGeom prst="roundRect">
            <a:avLst>
              <a:gd name="adj" fmla="val 16667"/>
            </a:avLst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0 major deliverables from AREVA (MOS–5, POS-4, PUCT-1) + 7 internal sub projects (4 Billing &amp; Settlements, 3 DA/DW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illing &amp; Settlements planning nearing completion on 3 of the 4 (OOM Tool Enhancements still outstanding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A/EDW planning under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XML Specifications scheduled to be released 1/28/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2835360"/>
            <a:ext cx="4343400" cy="1654200"/>
          </a:xfrm>
          <a:prstGeom prst="roundRect">
            <a:avLst>
              <a:gd name="adj" fmla="val 16667"/>
            </a:avLst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mitment to SMP/EMP 2.2 plat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71720">
              <a:lnSpc>
                <a:spcPct val="100000"/>
              </a:lnSpc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 (Cannot Start Before) dependency has been added to the R4 project plan that is tied to FAT testing.  FAT testing will not begin until SMP/EMP 2.2 has been migrated to production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71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51480" y="299880"/>
            <a:ext cx="187560" cy="1778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51440" y="71280"/>
            <a:ext cx="18252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liverabl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901800"/>
          <a:ext cx="7772400" cy="5851440"/>
        </p:xfrm>
        <a:graphic>
          <a:graphicData uri="http://schemas.openxmlformats.org/drawingml/2006/table">
            <a:tbl>
              <a:tblPr/>
              <a:tblGrid>
                <a:gridCol w="1046160"/>
                <a:gridCol w="1025640"/>
                <a:gridCol w="5700600"/>
              </a:tblGrid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07800" indent="-307800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 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07800" indent="-307800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07800" indent="-307800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P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20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P137/PRR211 Association of BE Bids with R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301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13 - Optimization for the Whole Operating Day in RPRS Procurement Pro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300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cial Protection Sche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30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ource Plan Improvement (Phase I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3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30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Simultaneous Selec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2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30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23 - Dispatch of Generation Resources Below Minimum Operating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30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22 - OOM Zonal Dispatch Instru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49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Data Elements for Local Constraints &amp; OO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hancement to OOM tools for congestion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MS Parameters Capture for MMS Reclear Fide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 Specific Bid Limits based on Generic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OM Participation in Providing Ancillary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CT Upgrade S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CT Add Corrected MCPEs to the MOS dbase and pass to M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Power System Model Maintenance via Database Archive Compari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 algn="ctr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-400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7800" indent="-307800">
                        <a:lnSpc>
                          <a:spcPct val="100000"/>
                        </a:lnSpc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ments to VSA/D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07800" indent="-307800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07800" indent="-307800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  A Business Process will be put in place to address standardization of Constraint Name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4:28:49Z</dcterms:created>
  <dc:creator>Mitch Seagraves</dc:creator>
  <dc:description/>
  <dc:language>en-US</dc:language>
  <cp:lastModifiedBy>jrobinson</cp:lastModifiedBy>
  <cp:lastPrinted>1999-12-01T22:56:09Z</cp:lastPrinted>
  <dcterms:modified xsi:type="dcterms:W3CDTF">2005-01-10T15:25:15Z</dcterms:modified>
  <cp:revision>690</cp:revision>
  <dc:subject/>
  <dc:title>No Slide Title</dc:title>
</cp:coreProperties>
</file>