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733920" y="456840"/>
            <a:ext cx="48765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93600"/>
            <a:ext cx="2438280" cy="9939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304920" y="106668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072280" y="64008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34340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EC65-664F-46BC-BC66-0D1EA9A9F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4038840" cy="1647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2438280"/>
            <a:ext cx="76201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89548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cember 2004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ource Plan Performance Metrics Repor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QSE Project Managers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ores Calculated in accordance with the ERCOT Protocols Section 4.10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se scores are unadjusted and do not reflect any changes that may be made after discussions with individual QS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586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ource Plan Performance Metrics: Resource Stat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9200" y="1066680"/>
            <a:ext cx="81853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14600" y="22860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ource Plan Performance Metrics: Resource LSL as a % of HS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1536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586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ource Plan Performance Metrics: Day Ahead Zonal Schedule (2.0%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1536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90920" y="22860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ource Plan Performance Metrics: AP Zonal Schedule (2.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1536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14600" y="22860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ource Plan Performance Metrics: Down Bid &amp; Obli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1536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586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ource Plan Performance Metrics: Total Up AS Scheduled Obli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57120" y="1066680"/>
            <a:ext cx="8177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8T21:02:47Z</dcterms:created>
  <dc:creator>Young Li</dc:creator>
  <dc:description/>
  <dc:language>en-US</dc:language>
  <cp:lastModifiedBy> Robert Staples</cp:lastModifiedBy>
  <cp:lastPrinted>2000-09-19T10:42:49Z</cp:lastPrinted>
  <dcterms:modified xsi:type="dcterms:W3CDTF">2005-01-10T15:01:59Z</dcterms:modified>
  <cp:revision>56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51519769</vt:r8>
  </property>
  <property fmtid="{D5CDD505-2E9C-101B-9397-08002B2CF9AE}" pid="3" name="_AuthorEmail">
    <vt:lpwstr>rstaples@ercot.com</vt:lpwstr>
  </property>
  <property fmtid="{D5CDD505-2E9C-101B-9397-08002B2CF9AE}" pid="4" name="_AuthorEmailDisplayName">
    <vt:lpwstr>Staples, Robert</vt:lpwstr>
  </property>
  <property fmtid="{D5CDD505-2E9C-101B-9397-08002B2CF9AE}" pid="5" name="_EmailEntryID">
    <vt:lpwstr>000000006123B85853C04644BEA7919CD67EC24007008E4547FAEC455D46933745A0D608FFE60000002D94C30000B34440AE2CEDA742A9477F5F480CA4C4000001B45D5B0000</vt:lpwstr>
  </property>
  <property fmtid="{D5CDD505-2E9C-101B-9397-08002B2CF9AE}" pid="6" name="_EmailSubject">
    <vt:lpwstr>January 10, 2005 QSE PMWG Meeting Agenda</vt:lpwstr>
  </property>
  <property fmtid="{D5CDD505-2E9C-101B-9397-08002B2CF9AE}" pid="7" name="_PreviousAdHocReviewCycleID">
    <vt:r8>-1689707899</vt:r8>
  </property>
  <property fmtid="{D5CDD505-2E9C-101B-9397-08002B2CF9AE}" pid="8" name="_ReviewCycleID">
    <vt:r8>-1734134100</vt:r8>
  </property>
</Properties>
</file>