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A3E5-B7BA-4FBD-9269-D3B995A7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1CC-F7CB-40E1-82A4-EEF4ADC2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1496-06F9-4455-A252-228423B6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E19-3887-4672-9E2D-3E577BB5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C8F-E6B5-4A1A-B2AE-DAE50344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A26-66BB-4210-A582-C7411242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7D0-2B4F-40C0-87B1-AAC9CBB9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D6A-970A-496A-93F1-00BC9400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D90-76F2-4AF8-B320-E6937026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CF4-CA29-4913-AB05-2B7CA93A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CB5-5AE0-45B9-9C98-C17BA4F1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9E1-ACE4-4E1F-A964-8258EEF3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2B32-91F2-4946-845A-1F5B8D25E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Reliability and Operations Subcommittee Report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January 6,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Voting Ite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GRR 157 – Delete Test Form for Non-Spin 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ove unit specific non-spin test form from Operating Guides. No comments recei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GRR 158 – Consistent UF Relay Trip Time Language - Revise Operating Guide 2.9.1 (Automatic Firm Load Shedding) to be consistent with approved OGRR150 (Clarification of UF Relay Trip Time for Load Shedding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ther ROS Activities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Double Circuit Outage Contingency Ad Hoc group was formed to review Operating Guide 4.3 Operation to Maintain Transmission and draft a recommendation to the ROS in February/Marc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irst meeting January 18,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liable Fuel Operations in ERCOT Upd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ask Force has had two conference calls since the last TAC meeting to discuss perspectives on the Alternative Fuel Surve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 better determine system reserves, the Task Force has asked ERCOT to provide “raw data” behind survey results. All units will be listed by fuel type, not n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 Task Force is also trying to determine the current status of gas availability in ERC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rvey has not been fully vetted at 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liable Fuel Operations in ERCOT Upda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ariab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eneration – no obligation to ser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aintenance Schedules – no coordination of planned Resource mainte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ads – Relaxed Balanced Sched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RCOT Emergency Procedures – no notification in advance of need for 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as curtailments of generation can also curtail some loa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liable Fuel Operations in ERCOT Upda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ariables continu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ile there are known gas capability or supply problems during periods of high demand, there are market incentives to continue to build efficient gas uni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market incentive to “mothball” older units with poor heat rates may also reduce those units with dual fuel capabil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liable Fuel Operations in ERCOT Upda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scussion Topics for Possible Recommended Solu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-examine ERCOT Emergency Procedu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as transmission system status – improvements, pre-determined priorities for user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vide incentives for Alternate Fuel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3:13:47Z</dcterms:created>
  <dc:creator>i013996</dc:creator>
  <dc:description/>
  <dc:language>en-US</dc:language>
  <cp:lastModifiedBy>Rick Keetch</cp:lastModifiedBy>
  <dcterms:modified xsi:type="dcterms:W3CDTF">2005-01-05T17:06:03Z</dcterms:modified>
  <cp:revision>41</cp:revision>
  <dc:subject/>
  <dc:title>Protocol Revision  Subcommittee</dc:title>
</cp:coreProperties>
</file>