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840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95568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74320" y="69516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805600"/>
            <a:ext cx="302724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955680" y="8805600"/>
            <a:ext cx="302724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AD80C346-A237-4DCE-AB95-58691EAFB2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67_03 monthly usage is transmitted via NAES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LS files supporting the load research project are transmitted using HTTP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9884-5A31-4CFB-B64B-615816518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3000" y="1219320"/>
            <a:ext cx="69343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828800" y="3581280"/>
            <a:ext cx="556272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828800" y="4298040"/>
            <a:ext cx="556272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E7B3-0C51-492E-953C-2773218F0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3000" y="1219320"/>
            <a:ext cx="69343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828800" y="3581280"/>
            <a:ext cx="27144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9280" y="3581280"/>
            <a:ext cx="27144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828800" y="4298040"/>
            <a:ext cx="27144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9280" y="4298040"/>
            <a:ext cx="27144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1E82-5457-41CE-9AD8-9D8E81A6F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3000" y="1219320"/>
            <a:ext cx="69343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828800" y="3581280"/>
            <a:ext cx="17910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709800" y="3581280"/>
            <a:ext cx="17910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590800" y="3581280"/>
            <a:ext cx="17910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828800" y="4298040"/>
            <a:ext cx="17910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709800" y="4298040"/>
            <a:ext cx="17910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590800" y="4298040"/>
            <a:ext cx="17910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1D87-BE2D-4B5E-8B5E-5B07B4A1F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704AD-2632-43E3-A380-E57BD2AD1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1219320"/>
            <a:ext cx="69343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828800" y="3581280"/>
            <a:ext cx="5562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8B3FA-9179-4291-BCD0-4FFDEE34D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3000" y="1219320"/>
            <a:ext cx="69343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828800" y="3581280"/>
            <a:ext cx="556272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28F35-055B-4892-809E-9851789A8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219320"/>
            <a:ext cx="69343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828800" y="3581280"/>
            <a:ext cx="2714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9280" y="3581280"/>
            <a:ext cx="2714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3B67B-8498-4441-A4A0-911DCCF37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3000" y="1219320"/>
            <a:ext cx="69343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EF8F0-D495-41A1-849F-A76958D80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43000" y="1219320"/>
            <a:ext cx="693432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D64D6-C2CB-4FB1-9817-3E3BCE8EC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1219320"/>
            <a:ext cx="69343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828800" y="3581280"/>
            <a:ext cx="27144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9280" y="3581280"/>
            <a:ext cx="2714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828800" y="4298040"/>
            <a:ext cx="27144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4B942-DAB3-4E7D-BA94-180BEB7AF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3000" y="1219320"/>
            <a:ext cx="69343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828800" y="3581280"/>
            <a:ext cx="5562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901C-72DC-4D2B-905F-835F8AEDA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3000" y="1219320"/>
            <a:ext cx="69343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828800" y="3581280"/>
            <a:ext cx="2714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9280" y="3581280"/>
            <a:ext cx="27144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9280" y="4298040"/>
            <a:ext cx="27144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DB2B6-0088-4556-9533-1346B9E57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1219320"/>
            <a:ext cx="69343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828800" y="3581280"/>
            <a:ext cx="27144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9280" y="3581280"/>
            <a:ext cx="27144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828800" y="4298040"/>
            <a:ext cx="556272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F1189-2DBF-44A3-A398-BDECA3CD1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219320"/>
            <a:ext cx="69343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828800" y="3581280"/>
            <a:ext cx="556272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828800" y="4298040"/>
            <a:ext cx="556272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6D21B-90A1-4DAF-99EF-D2363C640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3000" y="1219320"/>
            <a:ext cx="69343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828800" y="3581280"/>
            <a:ext cx="27144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9280" y="3581280"/>
            <a:ext cx="27144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828800" y="4298040"/>
            <a:ext cx="27144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9280" y="4298040"/>
            <a:ext cx="27144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5A2DD-FBF3-409E-955B-E72EA776D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3000" y="1219320"/>
            <a:ext cx="69343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828800" y="3581280"/>
            <a:ext cx="17910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09800" y="3581280"/>
            <a:ext cx="17910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590800" y="3581280"/>
            <a:ext cx="17910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828800" y="4298040"/>
            <a:ext cx="17910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09800" y="4298040"/>
            <a:ext cx="17910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590800" y="4298040"/>
            <a:ext cx="17910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83F5D-F75D-4E60-B3E7-75A07DE4E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3000" y="1219320"/>
            <a:ext cx="69343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828800" y="3581280"/>
            <a:ext cx="556272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2025-B2FD-4D6B-A79B-B3386B22F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3000" y="1219320"/>
            <a:ext cx="69343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828800" y="3581280"/>
            <a:ext cx="2714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9280" y="3581280"/>
            <a:ext cx="2714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AECE-A649-4E44-9C5C-910E6B56F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3000" y="1219320"/>
            <a:ext cx="69343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D2F9-BEE5-4282-ABA7-B9450D3F9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3000" y="1219320"/>
            <a:ext cx="693432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BAF4-F46E-4522-9303-9326E5F44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3000" y="1219320"/>
            <a:ext cx="69343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828800" y="3581280"/>
            <a:ext cx="27144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9280" y="3581280"/>
            <a:ext cx="2714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828800" y="4298040"/>
            <a:ext cx="27144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FEEF-BDF3-4C66-A255-6BE490B1E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3000" y="1219320"/>
            <a:ext cx="69343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828800" y="3581280"/>
            <a:ext cx="2714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9280" y="3581280"/>
            <a:ext cx="27144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9280" y="4298040"/>
            <a:ext cx="27144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4795-F28A-49A0-9082-0B62ABA5F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1219320"/>
            <a:ext cx="69343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828800" y="3581280"/>
            <a:ext cx="27144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9280" y="3581280"/>
            <a:ext cx="27144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828800" y="4298040"/>
            <a:ext cx="556272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F67C-B183-4CF1-AEE2-8B9FE04DB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33160" y="1523520"/>
            <a:ext cx="7391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331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162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92A72-8B5B-44FC-8494-5F9F9073AE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28600" y="0"/>
            <a:ext cx="2133720" cy="1295280"/>
          </a:xfrm>
          <a:prstGeom prst="ellipse">
            <a:avLst/>
          </a:prstGeom>
          <a:noFill/>
          <a:ln w="0">
            <a:noFill/>
          </a:ln>
          <a:effectLst>
            <a:outerShdw dist="153753" dir="2700000" blurRad="0" rotWithShape="0">
              <a:srgbClr val="79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MS</a:t>
            </a:r>
            <a:r>
              <a:rPr b="1" lang="en-US" sz="4000" spc="-1" strike="noStrike">
                <a:solidFill>
                  <a:srgbClr val="ccc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04920" y="1219320"/>
            <a:ext cx="8686800" cy="0"/>
          </a:xfrm>
          <a:prstGeom prst="line">
            <a:avLst/>
          </a:prstGeom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3000" y="1219320"/>
            <a:ext cx="69343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5960" y="6405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405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0"/>
            <a:ext cx="2133720" cy="1295280"/>
          </a:xfrm>
          <a:prstGeom prst="ellipse">
            <a:avLst/>
          </a:prstGeom>
          <a:noFill/>
          <a:ln w="0">
            <a:noFill/>
          </a:ln>
          <a:effectLst>
            <a:outerShdw dist="153753" dir="2700000" blurRad="0" rotWithShape="0">
              <a:srgbClr val="79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M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1219320"/>
            <a:ext cx="8686800" cy="0"/>
          </a:xfrm>
          <a:prstGeom prst="line">
            <a:avLst/>
          </a:prstGeom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162560" y="6405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3D7F5-5476-43E1-9993-105E02C7B5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371600" y="1905120"/>
            <a:ext cx="640080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2438280" y="5486040"/>
            <a:ext cx="556272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January 6, 20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etail Market Subcommittee</a:t>
            </a: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pdate to TAC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666520" y="75960"/>
            <a:ext cx="63248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oting Items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WG Action Pla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371600" y="1905120"/>
            <a:ext cx="640080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8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 not replace a prior year non-default assignment with a default assig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201"/>
              </a:spcBef>
              <a:buClr>
                <a:srgbClr val="008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1112760" indent="-533160">
              <a:lnSpc>
                <a:spcPct val="150000"/>
              </a:lnSpc>
              <a:spcBef>
                <a:spcPts val="45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ew calculation for each ESI ID is made each y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12760" indent="-533160">
              <a:lnSpc>
                <a:spcPct val="150000"/>
              </a:lnSpc>
              <a:spcBef>
                <a:spcPts val="45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urrentl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sufficient data requires assignment to defa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86080" indent="-457200">
              <a:lnSpc>
                <a:spcPct val="150000"/>
              </a:lnSpc>
              <a:spcBef>
                <a:spcPts val="4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idential defaults to Residential Low Winter Ratio (RESLOW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486080" indent="-457200">
              <a:lnSpc>
                <a:spcPct val="150000"/>
              </a:lnSpc>
              <a:spcBef>
                <a:spcPts val="4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ercial defaults to Business Medium Load Factor (BUSMEDLF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112760" indent="-533160">
              <a:lnSpc>
                <a:spcPct val="150000"/>
              </a:lnSpc>
              <a:spcBef>
                <a:spcPts val="45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ropos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f sufficient data was available in a previous year an assignment to default would not be m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666520" y="75960"/>
            <a:ext cx="63248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oting Items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WG Action Pla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371600" y="1905120"/>
            <a:ext cx="640080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533160" y="137160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008000"/>
              </a:buClr>
              <a:buSzPct val="75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lying dead-bands around the specified Residential Segment trigger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4272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42720">
              <a:lnSpc>
                <a:spcPct val="150000"/>
              </a:lnSpc>
              <a:spcBef>
                <a:spcPts val="3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42720">
              <a:lnSpc>
                <a:spcPct val="150000"/>
              </a:lnSpc>
              <a:spcBef>
                <a:spcPts val="3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42720">
              <a:lnSpc>
                <a:spcPct val="150000"/>
              </a:lnSpc>
              <a:spcBef>
                <a:spcPts val="4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42720">
              <a:lnSpc>
                <a:spcPct val="150000"/>
              </a:lnSpc>
              <a:spcBef>
                <a:spcPts val="4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urrentl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f WR &gt; 1.5 it is assigned to High Winter Ratio (HiW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42720">
              <a:lnSpc>
                <a:spcPct val="150000"/>
              </a:lnSpc>
              <a:spcBef>
                <a:spcPts val="4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roposed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reate a dead-band around the 1.5 trigger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42720">
              <a:lnSpc>
                <a:spcPct val="150000"/>
              </a:lnSpc>
              <a:spcBef>
                <a:spcPts val="3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–  Assume dead-band (1.0 to 2.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2664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current assignment is RESLOWR and new WR = 1.7, would remain RESLOW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2664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current assignment is RESLOWR and new WR = 2.1, would change to RESHIW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42720">
              <a:lnSpc>
                <a:spcPct val="150000"/>
              </a:lnSpc>
              <a:spcBef>
                <a:spcPts val="4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Resul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gnificant reduction in mig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1882800" y="2757600"/>
                <a:ext cx="4618080" cy="74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WR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ADUse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ec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ADUse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an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ADUse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feb</m:t>
                                    </m:r>
                                  </m:sub>
                                </m:sSub>
                              </m:e>
                            </m:d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Average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FallBase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pringBase</m:t>
                                </m:r>
                              </m:e>
                            </m:d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666520" y="75960"/>
            <a:ext cx="63248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oting Items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WG Action Pla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371600" y="1905120"/>
            <a:ext cx="640080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3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e more than 1 month for the Residential Winter Ratio form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12760" indent="-533160">
              <a:lnSpc>
                <a:spcPct val="150000"/>
              </a:lnSpc>
              <a:spcBef>
                <a:spcPts val="4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12760" indent="-533160">
              <a:lnSpc>
                <a:spcPct val="150000"/>
              </a:lnSpc>
              <a:spcBef>
                <a:spcPts val="4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xamp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nge numerator to average the ADU for highest 2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12760" indent="-533160">
              <a:lnSpc>
                <a:spcPct val="150000"/>
              </a:lnSpc>
              <a:spcBef>
                <a:spcPts val="4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Resul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significant reduction in mig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913040" y="3403440"/>
                <a:ext cx="455616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WR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ADUse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ec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ADUse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an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ADUse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feb</m:t>
                                    </m:r>
                                  </m:sub>
                                </m:sSub>
                              </m:e>
                            </m:d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Average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FallBase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pringBase</m:t>
                                </m:r>
                              </m:e>
                            </m:d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666520" y="75960"/>
            <a:ext cx="63248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oting Items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WG Action Pla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371600" y="1905120"/>
            <a:ext cx="640080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4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Apply a kWh minimum for Residential High Winter Ratio profile assig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12760" indent="-533160">
              <a:lnSpc>
                <a:spcPct val="150000"/>
              </a:lnSpc>
              <a:spcBef>
                <a:spcPts val="4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urrentl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N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12760" indent="-533160">
              <a:lnSpc>
                <a:spcPct val="150000"/>
              </a:lnSpc>
              <a:spcBef>
                <a:spcPts val="4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ropos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Identify a reasonable minimum usage for High Winter Ratio assig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86080" indent="-457200">
              <a:lnSpc>
                <a:spcPct val="150000"/>
              </a:lnSpc>
              <a:spcBef>
                <a:spcPts val="4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 – RESHIWR minimum = 10 kWh/day (300kWH/mont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866960" indent="-3808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WR = 3.0 and 5 kWh/day then assign RESLOW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866960" indent="-3808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WR = 3.0 and 15 kWh/day then assign RESHIW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486080" indent="-457200">
              <a:lnSpc>
                <a:spcPct val="150000"/>
              </a:lnSpc>
              <a:spcBef>
                <a:spcPts val="4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666520" y="75960"/>
            <a:ext cx="63248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oting Items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WG Action Pla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1905120"/>
            <a:ext cx="640080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8000"/>
              </a:buClr>
              <a:buSzPct val="75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an ERCOT administered residential survey to determine heating system type for a sample of custo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12760" indent="-533160">
              <a:lnSpc>
                <a:spcPct val="150000"/>
              </a:lnSpc>
              <a:spcBef>
                <a:spcPts val="45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urvey will empirically support data used to define dead-bands, minimum thresholds and revised WR calc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12760" indent="-533160">
              <a:lnSpc>
                <a:spcPct val="150000"/>
              </a:lnSpc>
              <a:spcBef>
                <a:spcPts val="45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,000 surveys will be mailed to end use custom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86080" indent="-457200">
              <a:lnSpc>
                <a:spcPct val="150000"/>
              </a:lnSpc>
              <a:spcBef>
                <a:spcPts val="4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,000 to each weather z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486080" indent="-457200">
              <a:lnSpc>
                <a:spcPct val="150000"/>
              </a:lnSpc>
              <a:spcBef>
                <a:spcPts val="4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,500 to each existing profile type current assign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371600" y="1905120"/>
            <a:ext cx="640080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7200" indent="-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oting I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nual Validation Report to the ERCOT Board (Revise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MGRR 017 – Transaction Timing Matri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MGRR 016 – Oncor Name Change to TXU Electric Delive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n-Voting I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ad Research Sampling (LRS) Project Upd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008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655560"/>
            <a:ext cx="60199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371600" y="1905120"/>
            <a:ext cx="640080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7200" indent="-457200">
              <a:lnSpc>
                <a:spcPct val="150000"/>
              </a:lnSpc>
              <a:spcBef>
                <a:spcPts val="451"/>
              </a:spcBef>
              <a:buClr>
                <a:srgbClr val="3366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nual Validation Report to the ERCOT Board (Revis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34800">
              <a:lnSpc>
                <a:spcPct val="80000"/>
              </a:lnSpc>
              <a:spcBef>
                <a:spcPts val="400"/>
              </a:spcBef>
              <a:buClr>
                <a:srgbClr val="33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 not replace a prior year non-default assignment with a default assign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34800">
              <a:lnSpc>
                <a:spcPct val="80000"/>
              </a:lnSpc>
              <a:spcBef>
                <a:spcPts val="400"/>
              </a:spcBef>
              <a:buClr>
                <a:srgbClr val="33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ead-bands around the specified Residential Segment trigger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34800">
              <a:lnSpc>
                <a:spcPct val="80000"/>
              </a:lnSpc>
              <a:spcBef>
                <a:spcPts val="400"/>
              </a:spcBef>
              <a:buClr>
                <a:srgbClr val="33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a kWh minimum for Residential High Winter Ratio profile assign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34800">
              <a:lnSpc>
                <a:spcPct val="80000"/>
              </a:lnSpc>
              <a:spcBef>
                <a:spcPts val="400"/>
              </a:spcBef>
              <a:buClr>
                <a:srgbClr val="33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use of more stable Residential Winter Ratio formul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spcBef>
                <a:spcPts val="451"/>
              </a:spcBef>
              <a:buClr>
                <a:srgbClr val="3366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MGRR 017 – Transaction Timing Matr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34800">
              <a:lnSpc>
                <a:spcPct val="80000"/>
              </a:lnSpc>
              <a:spcBef>
                <a:spcPts val="400"/>
              </a:spcBef>
              <a:buClr>
                <a:srgbClr val="33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TF initia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34800">
              <a:lnSpc>
                <a:spcPct val="80000"/>
              </a:lnSpc>
              <a:spcBef>
                <a:spcPts val="400"/>
              </a:spcBef>
              <a:buClr>
                <a:srgbClr val="33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pture the modifications to Chapter 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34800">
              <a:lnSpc>
                <a:spcPct val="80000"/>
              </a:lnSpc>
              <a:spcBef>
                <a:spcPts val="400"/>
              </a:spcBef>
              <a:buClr>
                <a:srgbClr val="33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nor editorial ch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spcBef>
                <a:spcPts val="451"/>
              </a:spcBef>
              <a:buClr>
                <a:srgbClr val="3366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MGRR 016 – Oncor Name Change to TXU Electric Deliv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34800">
              <a:lnSpc>
                <a:spcPct val="100000"/>
              </a:lnSpc>
              <a:spcBef>
                <a:spcPts val="400"/>
              </a:spcBef>
              <a:buClr>
                <a:srgbClr val="33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ame change on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34800">
              <a:lnSpc>
                <a:spcPct val="100000"/>
              </a:lnSpc>
              <a:spcBef>
                <a:spcPts val="400"/>
              </a:spcBef>
              <a:buClr>
                <a:srgbClr val="33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sections affec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438280" y="655560"/>
            <a:ext cx="60199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oting I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057400"/>
            <a:ext cx="69343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ad Research Sampling (LRS)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ject Summar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828800" y="4419720"/>
            <a:ext cx="5562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presented by ERCOT for RMS Meeting – 12/16/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371600" y="1905120"/>
            <a:ext cx="640080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438280" y="655560"/>
            <a:ext cx="60199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RS Project Summary --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" y="1219320"/>
            <a:ext cx="777240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Backgrou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Purpose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: To collect load research data to support ERCOT’s load profiling efforts. The LRS data will be used to improve profiles and increase the accuracy of settlements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ERCOT’s responsibility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– to select the load research samples and  make the Load Profile data available to market participants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ample locations were selected to distributed among each of 6 profile types and 8 weather zones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Profile Types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= Residential Low Winter Ratio, Residential High Winter Ratio, Business No Demand, Business Low Load Factor, Business Medium Load Factor, Business High Load Factor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Weather Zones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= Coast, East, West, Far West, North, North Central, South, South Centra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TDSPs responsibility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– to install IDR meters for data collection; performing VEE on collected data; and transferring data to ERCO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609480" y="2017800"/>
            <a:ext cx="8153640" cy="4002120"/>
            <a:chOff x="609480" y="2017800"/>
            <a:chExt cx="8153640" cy="4002120"/>
          </a:xfrm>
        </p:grpSpPr>
        <p:sp>
          <p:nvSpPr>
            <p:cNvPr id="107" name=""/>
            <p:cNvSpPr/>
            <p:nvPr/>
          </p:nvSpPr>
          <p:spPr>
            <a:xfrm>
              <a:off x="1600200" y="2743200"/>
              <a:ext cx="6400800" cy="304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34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34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34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34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34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34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34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219320" y="3581640"/>
              <a:ext cx="1143000" cy="914400"/>
            </a:xfrm>
            <a:prstGeom prst="ellipse">
              <a:avLst/>
            </a:prstGeom>
            <a:gradFill rotWithShape="0">
              <a:gsLst>
                <a:gs pos="0">
                  <a:srgbClr val="3399ff"/>
                </a:gs>
                <a:gs pos="100000">
                  <a:srgbClr val="17467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 TDSP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V9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095880" y="5105520"/>
              <a:ext cx="533520" cy="457200"/>
            </a:xfrm>
            <a:prstGeom prst="ellipse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465e7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105520" y="4876920"/>
              <a:ext cx="533160" cy="457200"/>
            </a:xfrm>
            <a:prstGeom prst="ellipse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465e7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010280" y="5105520"/>
              <a:ext cx="533520" cy="457200"/>
            </a:xfrm>
            <a:prstGeom prst="ellipse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465e7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772400" y="4876920"/>
              <a:ext cx="533520" cy="457200"/>
            </a:xfrm>
            <a:prstGeom prst="ellipse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465e7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095880" y="3733920"/>
              <a:ext cx="1295640" cy="914400"/>
            </a:xfrm>
            <a:prstGeom prst="rect">
              <a:avLst/>
            </a:prstGeom>
            <a:gradFill rotWithShape="0">
              <a:gsLst>
                <a:gs pos="0">
                  <a:srgbClr val="3399ff"/>
                </a:gs>
                <a:gs pos="100000">
                  <a:srgbClr val="17467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RCO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590920" y="487692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465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ID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143000" y="495324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465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ID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981080" y="495324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465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ID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09480" y="487692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465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ID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8" name=""/>
            <p:cNvCxnSpPr>
              <a:stCxn id="117" idx="1"/>
              <a:endCxn id="108" idx="2"/>
            </p:cNvCxnSpPr>
            <p:nvPr/>
          </p:nvCxnSpPr>
          <p:spPr>
            <a:xfrm flipV="1">
              <a:off x="654120" y="4038120"/>
              <a:ext cx="565920" cy="883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19" name=""/>
            <p:cNvCxnSpPr>
              <a:stCxn id="115" idx="0"/>
              <a:endCxn id="108" idx="3"/>
            </p:cNvCxnSpPr>
            <p:nvPr/>
          </p:nvCxnSpPr>
          <p:spPr>
            <a:xfrm flipV="1">
              <a:off x="1295280" y="4362120"/>
              <a:ext cx="91440" cy="591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20" name=""/>
            <p:cNvCxnSpPr>
              <a:stCxn id="114" idx="0"/>
              <a:endCxn id="108" idx="6"/>
            </p:cNvCxnSpPr>
            <p:nvPr/>
          </p:nvCxnSpPr>
          <p:spPr>
            <a:xfrm flipH="1" flipV="1">
              <a:off x="2361960" y="4038480"/>
              <a:ext cx="381600" cy="838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21" name=""/>
            <p:cNvCxnSpPr>
              <a:stCxn id="116" idx="0"/>
              <a:endCxn id="108" idx="5"/>
            </p:cNvCxnSpPr>
            <p:nvPr/>
          </p:nvCxnSpPr>
          <p:spPr>
            <a:xfrm flipV="1">
              <a:off x="2133720" y="4362120"/>
              <a:ext cx="62640" cy="591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22" name=""/>
            <p:cNvCxnSpPr>
              <a:stCxn id="110" idx="4"/>
              <a:endCxn id="110" idx="3"/>
            </p:cNvCxnSpPr>
            <p:nvPr/>
          </p:nvCxnSpPr>
          <p:spPr>
            <a:xfrm flipH="1" flipV="1">
              <a:off x="5182560" y="5266800"/>
              <a:ext cx="189720" cy="67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23" name=""/>
            <p:cNvCxnSpPr>
              <a:stCxn id="110" idx="7"/>
              <a:endCxn id="113" idx="1"/>
            </p:cNvCxnSpPr>
            <p:nvPr/>
          </p:nvCxnSpPr>
          <p:spPr>
            <a:xfrm flipV="1">
              <a:off x="5560920" y="4190760"/>
              <a:ext cx="535680" cy="753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24" name=""/>
            <p:cNvCxnSpPr>
              <a:stCxn id="112" idx="1"/>
              <a:endCxn id="112" idx="1"/>
            </p:cNvCxnSpPr>
            <p:nvPr/>
          </p:nvCxnSpPr>
          <p:spPr>
            <a:xfrm>
              <a:off x="7849800" y="4943160"/>
              <a:ext cx="10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25" name=""/>
            <p:cNvCxnSpPr>
              <a:stCxn id="112" idx="1"/>
              <a:endCxn id="113" idx="3"/>
            </p:cNvCxnSpPr>
            <p:nvPr/>
          </p:nvCxnSpPr>
          <p:spPr>
            <a:xfrm flipH="1" flipV="1">
              <a:off x="7391160" y="4190760"/>
              <a:ext cx="459360" cy="753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26" name=""/>
            <p:cNvCxnSpPr>
              <a:stCxn id="108" idx="0"/>
              <a:endCxn id="113" idx="0"/>
            </p:cNvCxnSpPr>
            <p:nvPr/>
          </p:nvCxnSpPr>
          <p:spPr>
            <a:xfrm flipH="1" rot="16200000">
              <a:off x="4190760" y="1180080"/>
              <a:ext cx="153000" cy="4953960"/>
            </a:xfrm>
            <a:prstGeom prst="curvedConnector5">
              <a:avLst>
                <a:gd name="adj1" fmla="val -733254"/>
                <a:gd name="adj2" fmla="val 50000"/>
                <a:gd name="adj3" fmla="val -733254"/>
              </a:avLst>
            </a:prstGeom>
            <a:ln w="254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27" name=""/>
            <p:cNvSpPr/>
            <p:nvPr/>
          </p:nvSpPr>
          <p:spPr>
            <a:xfrm flipV="1">
              <a:off x="6324480" y="46483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 flipV="1">
              <a:off x="7162560" y="4648320"/>
              <a:ext cx="759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310200" y="2017800"/>
              <a:ext cx="202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AESB EDM v1.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362320" y="4038840"/>
              <a:ext cx="373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802600" y="3733920"/>
              <a:ext cx="2986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TTPS (FTP Replacement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248520" y="5257800"/>
              <a:ext cx="533160" cy="457200"/>
            </a:xfrm>
            <a:prstGeom prst="ellipse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465e7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257800" y="5029200"/>
              <a:ext cx="533520" cy="457200"/>
            </a:xfrm>
            <a:prstGeom prst="ellipse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465e7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162920" y="5257800"/>
              <a:ext cx="533160" cy="457200"/>
            </a:xfrm>
            <a:prstGeom prst="ellipse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465e7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924680" y="5029200"/>
              <a:ext cx="533520" cy="457200"/>
            </a:xfrm>
            <a:prstGeom prst="ellipse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465e7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400800" y="5410440"/>
              <a:ext cx="533520" cy="457200"/>
            </a:xfrm>
            <a:prstGeom prst="ellipse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465e7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410080" y="5181840"/>
              <a:ext cx="533520" cy="457200"/>
            </a:xfrm>
            <a:prstGeom prst="ellipse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465e7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15200" y="5410440"/>
              <a:ext cx="533520" cy="457200"/>
            </a:xfrm>
            <a:prstGeom prst="ellipse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465e7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077320" y="5181840"/>
              <a:ext cx="533160" cy="457200"/>
            </a:xfrm>
            <a:prstGeom prst="ellipse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465e7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553080" y="5562720"/>
              <a:ext cx="533520" cy="457200"/>
            </a:xfrm>
            <a:prstGeom prst="ellipse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465e7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562720" y="5334120"/>
              <a:ext cx="533160" cy="457200"/>
            </a:xfrm>
            <a:prstGeom prst="ellipse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465e7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467480" y="5562720"/>
              <a:ext cx="533520" cy="457200"/>
            </a:xfrm>
            <a:prstGeom prst="ellipse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465e7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229600" y="5334120"/>
              <a:ext cx="533520" cy="457200"/>
            </a:xfrm>
            <a:prstGeom prst="ellipse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465e7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743200" y="502920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465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ID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295280" y="510552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465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ID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133720" y="510552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465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ID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62120" y="502920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465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ID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95480" y="518184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465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ID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447920" y="525780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465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ID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286000" y="525780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465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ID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914400" y="518184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465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ID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2438280" y="655560"/>
            <a:ext cx="60199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RS Data F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515320" y="1538280"/>
            <a:ext cx="375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USING EDI TRANS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2438280" y="655560"/>
            <a:ext cx="60199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RS Project Summary --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" y="1219320"/>
            <a:ext cx="777240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Project Measurement and Metr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ject start date – May 20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ject Deployment date – November 20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 Bu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iginal Project Budget -- $1.5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tual charges to date -- $700k (Not including TDSP expens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5) TDSPs Commi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TDSPs completed Pilot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stalled over 4200 IDR sample poi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ample point readings have been transmitted to ERCOT starting in August 20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3) CRs Commi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CRs have completed Pilot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COT is in the process of building systems to transmit data to C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371600" y="1905120"/>
            <a:ext cx="640080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438280" y="655560"/>
            <a:ext cx="60199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RS Project Summa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85800" y="1219320"/>
            <a:ext cx="79246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550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Market Summa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DSP Installation update as of 12/1/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going ERCOT Responsi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ify sample point installation and transaction confirmation underw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 with TDSPs on remaining installations and replacements (on-goi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ition to O&amp;M role for sample point management and track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vide data to Market Participants as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362320" y="1981080"/>
          <a:ext cx="4267080" cy="2743200"/>
        </p:xfrm>
        <a:graphic>
          <a:graphicData uri="http://schemas.openxmlformats.org/drawingml/2006/table">
            <a:tbl>
              <a:tblPr/>
              <a:tblGrid>
                <a:gridCol w="2133360"/>
                <a:gridCol w="2133720"/>
              </a:tblGrid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an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all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>
                        <a:alpha val="50000"/>
                      </a:srgbClr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EP Nor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EP Centr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nterpoi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XU Electric Delive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NM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arylan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 u="sng">
                          <a:solidFill>
                            <a:srgbClr val="ff3300"/>
                          </a:solidFill>
                          <a:uFillTx/>
                          <a:latin typeface="Arial"/>
                        </a:rPr>
                        <a:t>Complete to D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96.5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71600" y="1905120"/>
            <a:ext cx="640080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33520" y="1523880"/>
            <a:ext cx="739116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??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??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4T14:01:50Z</dcterms:created>
  <dc:creator>CF48</dc:creator>
  <dc:description/>
  <dc:language>en-US</dc:language>
  <cp:lastModifiedBy>fkz5</cp:lastModifiedBy>
  <dcterms:modified xsi:type="dcterms:W3CDTF">2005-01-06T18:09:46Z</dcterms:modified>
  <cp:revision>61</cp:revision>
  <dc:subject/>
  <dc:title>RMS Report to TAC 6/3/04</dc:title>
</cp:coreProperties>
</file>