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5B2-3626-4126-B1AE-CE147920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7E2-2570-4366-A443-16540F95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F2C-FA2C-4B64-8BCC-0D49494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FD0-2CB6-49BE-906D-59AE9A27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56E-714C-431C-B3C4-73692132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89F-C7B4-4DED-A382-7A313B4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922-A243-45F8-87BE-9A6BFA61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E3F-EDD4-413E-B269-263093D1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8BE-F103-44A3-A662-DB3347D4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038-880B-4E1F-B276-A191711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23B-8754-4D38-8EEA-661156C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917-26D4-4BD2-B78D-859DFA4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836-8B00-4B2F-8F6A-0138E0952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huja@erco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cahuja@erco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er M Ah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of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huja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751-4327 (Security de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75-7511 (Aus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25-4214 (Tay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items from the public ERCOT.com website (Nov 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Security position filled (Dec 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ecurity planning to-date (par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t Classification : Will guide how we handle information within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Policy Revisions : Will provide the security standards that ERCOT will conform to from here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Information initiative : Will provide standards to be met whenever information leaves / enters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act on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RCOT Security standards will ensure that industry information is maintained to the same degree through out our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revisions will ensure that the exchange of data with industry meet the same security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&amp; Market participants will need to alter some of the mechanisms of how the exchange of data with ERCOT 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.com website project (1H05) will include processes to “tag” data with its classification at source and handling of data will be in accordance with the procedures prescribed for the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ion of asset classification policy &amp; procedures -1/17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.com review &amp; “put” back of non-sensitive information – 2/15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protocol revisions necessary and work with industry to get these ap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ecurity controls for aiding “put’ back of sensistive / confidential information to align with the new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 th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working with your ERCOT contacts as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approving essential / urgent items on as needed basis. In a few cases you may see changes in how information exchange is being handled. Each case is a one-of-kind ev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er M Ahu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of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huja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751-4327 (Security de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75-7511 (Aus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25-4214 (Tay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5:11:22Z</dcterms:created>
  <dc:creator>cahuha</dc:creator>
  <dc:description/>
  <dc:language>en-US</dc:language>
  <cp:lastModifiedBy>cahuha</cp:lastModifiedBy>
  <dcterms:modified xsi:type="dcterms:W3CDTF">2005-01-06T15:29:08Z</dcterms:modified>
  <cp:revision>2</cp:revision>
  <dc:subject/>
  <dc:title>ERCOT Security</dc:title>
</cp:coreProperties>
</file>