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FC76-D032-406F-899B-A26B6786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6692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A115-AA2A-40B5-9539-5C87BCC4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6692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27D4-9D88-4884-964B-4E956E54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6692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C6DD-40C5-4CC5-8398-2B41F0D1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6692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3E3E-9963-4186-B755-331BF91F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6692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2518-01E1-42CD-92A8-5C4AD421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6692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C6EB-19BC-4F3C-8126-473CD3E4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6692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D79A-5B5E-4F11-9718-88C7A215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685440"/>
            <a:ext cx="723888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A854-2432-4998-86B5-94F27EF9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6692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4EE6-5596-4126-93F0-AD3F6225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6692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78E0-A0C9-4103-AA3C-174EB649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6692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69DA-A808-4E80-BE61-A882542E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68544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AC6E-766F-404A-BB50-DF4343036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74320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68544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gust 18, 2004 DCS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1,115 MW of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very time: 17:37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C DCS requirement – Recovery within 15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 QSEs asked to explain SC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 QSEs selected – Negative SCE 15 minutes following event (less than 95% of oblig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QSE selected – Negative SCE 10 minutes following RRS deployment (less than 95% of oblig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68544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gust 18, 2004 DCS Event   Contributing Factors (Prior to Ev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in process of ramping between interv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schedule change i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SEs’ scheduled more generation than the 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amount of down balancing was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68544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gust 18, 2004 DCS Event   Contributing Factors (During the Ev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ulty SCADA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initially unaware of some unit tr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generating unit tr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governo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SEs’ failure to understand &amp; meet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mp rates not met – as stated in QSE Resource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did not declare an emergency &amp; initiate the EE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 Areas for Follow-Up Tracking and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-up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e requirements for declaring EE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procedures to deploy additional RRS if condition pers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frequency control procedures including bias and RRS deployment / rec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SE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s with 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ightened sensitivity to SCE and Controls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DA failures and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understanding of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scheduling practices by interval vs. h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 Areas for Follow-Up Tracking and Repor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-up items (co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Operator / TD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ability to isolate breaker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accuracy of field 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e Protocol 6.10.5.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QSEs not providing R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urbance Control Performance Adju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C Decision 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C Resources Subcommittee (RS) scheduled to meet on January 2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in Responsive Reserve Obligation proportional to the non-compliance with the D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RRS carried for one calendar qu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alty” calculated to be 109 M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5:53:46Z</dcterms:created>
  <dc:creator>lrobinson</dc:creator>
  <dc:description/>
  <dc:language>en-US</dc:language>
  <cp:lastModifiedBy>lgrimm</cp:lastModifiedBy>
  <dcterms:modified xsi:type="dcterms:W3CDTF">2005-01-06T17:25:13Z</dcterms:modified>
  <cp:revision>15</cp:revision>
  <dc:subject/>
  <dc:title>Aug 18 Event Update</dc:title>
</cp:coreProperties>
</file>