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6AD-2629-43FC-B72F-9EEBF51D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BFF-C537-42C0-A312-10293C47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D64-F13D-4DD9-BB69-21457D81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2C3-1513-4744-8164-EE3443B4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E8F1-5E6F-4E15-848C-CF48FB68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2880-06A3-4A73-ABF1-C27806B4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388E-F695-41CC-B740-E48C90AE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A33E-CC1B-41F7-A79D-49EFF271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D131-C7BF-4966-ADF6-4B265F39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EAA2-5843-4252-B19D-5D64F578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BCDA-65E0-4313-9634-9541659D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CE15-2C0A-471A-B5AC-20F16294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F96E-7331-4BB3-BB10-FECE31AA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4A44-1FC0-4852-9AAE-604E96D1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A5F1-F21B-4BAC-A77E-3A54B89F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1E5A-9FF3-48A9-BF1B-1AAC3800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66C4-159A-47FB-BE93-BA819C62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F3A-F058-4C30-928C-5EB417E5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FC3-6900-4E11-97F8-83F57705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5B4C-05A5-47E6-B03C-EA9C8455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1E8-4001-4E14-BAB7-6C7DDE33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9FC-6176-4B66-AD05-1E073CA1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45A-CE0A-4E0C-9A31-439AF38E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BB53-E4E4-4B26-BA72-6E1E9FFD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784C-E07A-48F7-B860-F901B62E61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1425-2611-445E-9514-DCC3F0695D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R 525 Method Comparis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PRR 525 Method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Gives extra  SCE allowance  to QSEs  with a large amount of generation  online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Easy to understand, tied to share of total ERCOT obligation in real time – regardless of AS obligations or BES deployments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ERCOT must send participation factor signal that continually varies for QSEs to shadow measurement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AEN Proposed Generation Change Method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Gives extra SCE allowance to QSEs with large schedule changes and provides extra allowance for regulation providers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ERCOT must send participation factor signal that varies every 15 minutes for QSEs to shadow measurement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Percent Obligation Method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Gives extra  SCE allowance to QSEs with a large obligation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Simple, similar to BES performance criteria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Easiest for QSEs to shadow – no participation factors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EN Proposed Method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10 Minute Measur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articipation Factor (PF) is the QSE’s generation scheduled change divided by ERCOT’s total generation scheduled change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ation scheduled changes are calculated in 15-minute intervals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These are averaged appropriately into 10-minute intervals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ation Scheduled Change is defined as: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Absolute Value [ (ResourceSchedule – ResourceSchedulePreviousInterval) + (BalancingDeployment – BalancingDeploymentPreviousInterval) ] + RegulationUpSchedule + RegulationDownSchedule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F is limited to between 1% and 100%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10-Minute Measure Statistic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ctober 2004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30 QSEs evaluated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10 QSEs failed all three measur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4 QSEs failed the 525 but passed AEN &amp; % OB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2 QSEs failed the 525 &amp; AEN but passed % OB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1 QSE failed the 525 &amp; % OBL but passed AEN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13 QSEs passed all three measur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Of these 13, 12 provided Regulation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17 QSEs failed the 525 Method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12 QSEs failed the AEN Method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11 QSEs failed the % Obligation Method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1-Minute Measure Statistic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October 2004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30 QSEs Evaluated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3 QSEs failed 525 &amp; AE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3 QSEs failed 525 but passed AE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2 QSEs failed AEN but passed 525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22 QSEs passed 525 &amp; AE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6 QSEs failed 525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5 QSEs failed AE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RR 527 A/S Performanc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OD Issu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Regulation and Responsive obligations in relation to OOME instruction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Market Bulletin being issued to reinforce ERCOT notification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Settlement is not affected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Non-Spin obligations in relation to OOMC instruction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PRR is being issued to address the double payment issue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Self-serve obligations will be problematic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01:57:05Z</dcterms:created>
  <dc:creator>BHELTON</dc:creator>
  <dc:description/>
  <dc:language>en-US</dc:language>
  <cp:lastModifiedBy>Ann S. Boren</cp:lastModifiedBy>
  <dcterms:modified xsi:type="dcterms:W3CDTF">2005-01-04T19:15:09Z</dcterms:modified>
  <cp:revision>13</cp:revision>
  <dc:subject/>
  <dc:title>WMS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56279616</vt:r8>
  </property>
  <property fmtid="{D5CDD505-2E9C-101B-9397-08002B2CF9AE}" pid="3" name="_AuthorEmail">
    <vt:lpwstr>BHELTON@anpower.com</vt:lpwstr>
  </property>
  <property fmtid="{D5CDD505-2E9C-101B-9397-08002B2CF9AE}" pid="4" name="_AuthorEmailDisplayName">
    <vt:lpwstr>Helton, Bob</vt:lpwstr>
  </property>
  <property fmtid="{D5CDD505-2E9C-101B-9397-08002B2CF9AE}" pid="5" name="_EmailSubject">
    <vt:lpwstr>January 6, 2005 TAC Meeting Agenda and Materials</vt:lpwstr>
  </property>
  <property fmtid="{D5CDD505-2E9C-101B-9397-08002B2CF9AE}" pid="6" name="_ReviewingToolsShownOnce">
    <vt:lpwstr/>
  </property>
</Properties>
</file>