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AC3-A96A-4516-BC1C-94F9B84B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814-68A6-4A91-A47C-D53CE32B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93C-EB75-40D6-A739-798A6397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514-65A2-402E-98E3-43B54093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D68B-2AF7-4FB2-94BB-DED0B403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03BF-C035-4F7D-B35F-84B0813E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C0C-5E8A-4E8E-BF6F-F2FE6E4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2503-9539-4E8D-8572-BE51B9E4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D247-D356-48FA-83E3-1D928308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80920" y="533160"/>
            <a:ext cx="441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6D9C-1E26-48A7-ADBF-35F3F6CC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0E4-B222-4F6A-98FD-9A803DC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5F5-E0DA-473D-A3AA-A4353CB4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B6E3-8DE9-4973-97F4-E93273F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4B91-8012-4A7A-8F35-0F0951E8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E353-7A33-4F11-979B-762886F1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ADF6-A530-431A-9B8E-1BB71A1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75212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782160"/>
            <a:ext cx="260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A14F-88B9-464F-B001-7A53180A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428-CAD3-4E94-A945-D268610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3D3-8BE2-4ACD-91D0-EF20679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AB9-BA50-4B9C-B520-81B60E8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0920" y="533160"/>
            <a:ext cx="441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E25-7F05-4E56-811E-9BB7C90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4DD-9358-4AD7-B57F-943674D9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78216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F66-A996-4C38-9EBD-9384838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752120"/>
            <a:ext cx="3941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82160"/>
            <a:ext cx="8076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C23-3636-494D-BF09-5A42A07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0920" y="5331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B01D-FD14-4837-BA56-B3DEAD24F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D4A-788E-4EC5-8586-6703374F2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COT 2005 Budget Updat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3428640"/>
            <a:ext cx="8610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echnical Advisory Com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anuary 06,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justment of Fee from $ .44 to $ .4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98108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$ .02 reduction is approx. $6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udit adds are approx. $2,000,000  (includes new financial staff, Director of Security plus staff, Chief Risk Officer and VP of Human Resources plus their new staff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otal reduction needs to be $8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will we reduce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981080"/>
            <a:ext cx="5486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rating Expenses:                $ 4,35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jects (equity portion):           3,08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ill To Be Identified    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    561,00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otal:                                        $ 8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will we reduce in operations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523880"/>
            <a:ext cx="5486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Q1 Salary Freeze                               $    6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dcount: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System Operations   9 FTEs           6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Market Operations  5 FTEs           36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P Education Department  3 FTEs      4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tside Services: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Combined Cycle Modeling             36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Project Management                       2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IT Flex Staffing                                90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Project Mgmt  Flex Staffing           19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 Sys Ops Flex Staffing                      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W/SW Lic &amp; Maint  Exp    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   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otal:                                                  $ 4,35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76560" y="4572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is the reduction in project expenditures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828800"/>
            <a:ext cx="73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jects (equity portion):                      $ 3,08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quity portion included in fee:  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duction in project expenditures:     $ 7,72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riginal 2005 Projects Budget:          $35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duction in project expenditures: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$ 7,72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posed 2005 Projects Budget:          $27,28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ere will reductions come from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371600"/>
            <a:ext cx="685800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ojects sourced by PRS were unaffected – NONE were de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24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rojects deferred to 200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ADAM Integration                            $ 1,5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Operator Training Simulator              1,042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System Improvement Requests              924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Lodestar Upgrade 4.0                              556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DC Tie Automation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(#50018, #50020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853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Enhancements to 727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(#50024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   611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 Lodestar Archive Decommission            18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duced contingencies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(35/10 to 25/10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974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celerated facilities spend in 2004               1,62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Facilities &amp; New IT storage (net)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  (40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ew project resulting from audit           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    (500,000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otal reductions:                                       $ 7,72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*  Includes $2,500,000 addition for new IT storag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0" y="4572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can TAC work with us to make this happen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828800"/>
            <a:ext cx="7925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pport revised project budget fo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ocus on detailed cost/benefit justification for new PRRs &amp; S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view your digital certificates – we pay for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iminate off-site meetings that incur charges for meeting ro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k with our Market Rules group to streamline ERCOT staff support and attendance at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inue to give us open and honest feedback – this dialogue was pretty good in 2004 - let’s keep it go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40:19Z</dcterms:created>
  <dc:creator>Kerry Kirkpatrick</dc:creator>
  <dc:description/>
  <dc:language>en-US</dc:language>
  <cp:lastModifiedBy>Ann S. Boren</cp:lastModifiedBy>
  <dcterms:modified xsi:type="dcterms:W3CDTF">2005-01-07T20:21:18Z</dcterms:modified>
  <cp:revision>284</cp:revision>
  <dc:subject>Powerpoint Presentation</dc:subject>
  <dc:title>PowerPoint Presentation</dc:title>
</cp:coreProperties>
</file>