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5825-0998-49A5-A5DE-01A37BC94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9186-AC98-4857-805F-7FF69AE9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3767-5C4F-4B5E-83CB-38B8761B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1698-ED74-491B-990E-A43A3876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475E-9089-453E-A3EF-83044880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FEE8-BB01-445E-BDBE-4739C181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A1AF-AC99-48BF-8CEB-8C90B133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C4D1-75F0-4D37-B9D1-92D33A75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6185-1B6A-49A6-96C7-5BC438C8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A0A0-B777-46F9-9852-0934F635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014F-E833-47A0-86F5-858AC392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1DDD-97A1-485E-92AC-9535104E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085E-05B6-41AB-A840-A3AE3296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9C49-A86D-47C6-B948-F575C7AA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1636-45BD-4B23-A83E-4C44AD02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4C76-7FDF-4721-A90F-EE3886D72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1F17-A349-44D4-B6D5-38A48805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0395-C318-4E77-B2A4-DE72FA68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70B7-FE92-4990-A0C7-1F95841D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641A-2A0F-49F4-A3CF-7EF3CA9C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83EC-AC9A-4DFC-8378-7F224EDC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50F8-681B-4503-85A2-7F9A3A00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7D40-6DFA-4B5E-B243-29A90B88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1908-E570-4B9D-B99F-53583606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D7E8-0B89-4220-A1F7-3F586BF48A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3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0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CE26-FA3B-4B8D-B529-DA0FAAD1EC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Protocol Revision Subcommitte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28600" y="38862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esentation to th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ERCOT Technical Advisory Committ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January 6, 200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FBC9-AAAC-484C-8260-B339B3119B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R 552 – Clarification of Relaxed Balanced Schedu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04760" y="16444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243828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578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3048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35812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41148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46483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51814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57150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97480" y="25290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02280" y="25146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430800" y="24670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5520" y="579132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2320" y="31240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3240" y="36576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4680" y="419112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1600" y="47242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62520" y="5257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45200" y="24670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6576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57600" y="36576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657600" y="41911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576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576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57600" y="57913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3D14-64EB-4BDC-BAE1-42D292D8D5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R 553 – Scheduling Trading Hub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difies ERCOT scheduling requirements to accommodate transactions to trading hu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S recommended approval with one abst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 market segments were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fective upon system implementation -- Priority 2.1; no ran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EE23-0DCB-457C-A14B-3B2B18742F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R 553 – Scheduling Trading Hub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04760" y="16444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243828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434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2578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3048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35812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41148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46483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0880" y="51814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57150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97480" y="25290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02280" y="25146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430800" y="24670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35520" y="579132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2320" y="31240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63240" y="36576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64680" y="419112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1600" y="47242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62520" y="5257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5200" y="24670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657600" y="36576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6576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657600" y="57913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0" y="3124080"/>
            <a:ext cx="380880" cy="38124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0" y="419112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292720" y="4167360"/>
            <a:ext cx="28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mpacts ERCOT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4EE7-BD73-48A9-9D93-4EA710CE14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R 562 – Permanent Elimination of Market Solution for Local Conges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86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rrent market solution payment suspension expires February 1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R would eliminate payment for market solution for local cong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S declared “Urgent” due to dead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S recommended approval with 6 no votes and 2 absten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 market segments were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fective February 1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6D1C-342D-4324-88F5-B418D32083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R 562 – Permanent Elimination of Market Solution for Local Conges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804760" y="16444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43828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5268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3434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2578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880" y="3048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880" y="35812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880" y="41148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46483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0880" y="51814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0880" y="57150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97480" y="25290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02280" y="25146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430800" y="24670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35520" y="579132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2320" y="31240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63240" y="36576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64680" y="419112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1600" y="47242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62520" y="5257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45200" y="24670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657600" y="36576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6576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6576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657600" y="57913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657600" y="41911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576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BF50-B42B-4738-9583-F340712895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Recommended TAC Ac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ppro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R 547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Trading Hu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R 548 – Settlement for Mismatched Inter-QSE Energy Sched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R 55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Security Inte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R 55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Clarification of Relaxed Balanced Sched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R 55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Scheduling Trading Hu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C EMAIL V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R 562 – Permanent Elimination of Market Solution for Local Cong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9400-87CF-4D3C-AEBC-BB6380E6BD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0549-9575-4C03-B316-3253B693BD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PRS 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 PRRs for Appro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R 562 for TAC Email V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0FB3-CD3B-4C45-88A6-94173FEDA0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R 547 – Trading Hub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blishes definitions of trading hubs (specific buses) and process for establishing future trading hu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S recommended approval by 70%; with 2 no votes and 3 abst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market segments were 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ed ERCOT study and considered MOD comments – no resulting change (not unanimou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C received comments from MOD/ERC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ffective March 1,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5F78-5707-46DD-8962-C6BD7477CE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R 547 – Trading Hub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04760" y="16444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243828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3048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35812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41148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46483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51814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57150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97480" y="25290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02280" y="25146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30800" y="24670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5520" y="579132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2320" y="31240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63240" y="36576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4680" y="419112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1600" y="47242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2520" y="5257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5200" y="24670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57600" y="36576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57600" y="41911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576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57600" y="57913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3358-4091-476F-B9A7-7E9C60E40F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R 548 – Settlement for Mismatched Inter-QSE Energy Schedu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86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duces ERCOT BES usage when Inter-QSE trades don’t m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ws ERCOT to settle disputed portion of mismatch at MC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S recommended approval; with 2 no votes and one abst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 market segments were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fective upon system implementation -- Priority 1.1; Rank 34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A6DD-95BF-458A-A727-974CFD2603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R 548 – Settlement for Mismatched Inter-QSE Energy Schedu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04760" y="16444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43828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5268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434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578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3048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35812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41148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46483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51814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57150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97480" y="25290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02280" y="25146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30800" y="24670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5520" y="579132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2320" y="31240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3240" y="36576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64680" y="419112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1600" y="47242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2520" y="5257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45200" y="24670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57600" y="36576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0" y="4191120"/>
            <a:ext cx="38088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576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0" y="57913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91640" y="4167360"/>
            <a:ext cx="31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equires Lodestar chan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3124080"/>
            <a:ext cx="380880" cy="38124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90200" y="3138480"/>
            <a:ext cx="24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inor amount impa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90920" y="5805360"/>
            <a:ext cx="34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upports – reduced credit ris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63DE-C7BB-45C1-8AAD-B8724C04CD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R 551 – Security Inter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ds provisions to increase Market Participant protection in event of bankrupt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S recommended approval with one no vote and one abst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 market segments were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fective March 1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85A6-FFBE-42EE-8CD2-F4127A2EDC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R 551 – Security Inter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04760" y="16444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mpact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2438280"/>
            <a:ext cx="8458200" cy="3886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35268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434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257800" y="2438280"/>
            <a:ext cx="0" cy="38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30481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35812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41148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464832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18148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5715000"/>
            <a:ext cx="845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97480" y="25290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em Review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02280" y="25146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30800" y="246708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520" y="579132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dit Monitoring/Li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2320" y="31240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3240" y="36576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4680" y="419112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uter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1600" y="47242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2520" y="5257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id 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45200" y="24670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57600" y="31240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57600" y="36576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57600" y="41911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4724280"/>
            <a:ext cx="380880" cy="38124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57600" y="525780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57600" y="5791320"/>
            <a:ext cx="380880" cy="380880"/>
          </a:xfrm>
          <a:prstGeom prst="star5">
            <a:avLst/>
          </a:prstGeom>
          <a:solidFill>
            <a:srgbClr val="33ef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744C-91C4-4F40-8B63-D53AABAFE2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PRR 552 – Clarification of Relaxed Balanced Schedu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rifies that QSEs may schedule load or generation even though they do not represent load or gen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S recommended approval with two absten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 market segments were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iewed in December and amended per ERCOT com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fective March 1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D6EA-BEFB-44D4-854B-C02F4988DD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14:41:47Z</dcterms:created>
  <dc:creator>Michael Oldak</dc:creator>
  <dc:description/>
  <dc:language>en-US</dc:language>
  <cp:lastModifiedBy>i013996</cp:lastModifiedBy>
  <dcterms:modified xsi:type="dcterms:W3CDTF">2005-01-06T17:57:41Z</dcterms:modified>
  <cp:revision>19</cp:revision>
  <dc:subject/>
  <dc:title>Electricity Committ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E85B5003D51B714A8A6436DB6BD21B1D0700F69D146182963C4BBADCC8C900482FB200000012F8A40000F69D146182963C4BBADCC8C900482FB2000000A7E3370000</vt:lpwstr>
  </property>
  <property fmtid="{D5CDD505-2E9C-101B-9397-08002B2CF9AE}" pid="3" name="_NewReviewCycle">
    <vt:lpwstr/>
  </property>
  <property fmtid="{D5CDD505-2E9C-101B-9397-08002B2CF9AE}" pid="4" name="_ReviewCycleID">
    <vt:r8>1576423983</vt:r8>
  </property>
  <property fmtid="{D5CDD505-2E9C-101B-9397-08002B2CF9AE}" pid="5" name="_ReviewingToolsShownOnce">
    <vt:lpwstr/>
  </property>
  <property fmtid="{D5CDD505-2E9C-101B-9397-08002B2CF9AE}" pid="6" name="_TentativeReviewCycleID">
    <vt:r8>1576423983</vt:r8>
  </property>
</Properties>
</file>