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8E2-1810-4988-A5EA-72870C56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CDD-7BB2-4C5E-8D9D-C6926910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D69-112E-4C9B-84A1-E47B53D1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74E-6550-493F-9B59-895BD8D1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98B-9BF5-4E9C-B313-E9E0FAF5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8DE-9AFD-4CE0-A3B7-93013158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5E8-27C3-4046-A953-A4966BA3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AF7-833C-4215-8434-1466ADDC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C12-F943-46E5-ACA5-EF3E1A0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A66-B0B2-4222-A2B5-BE01B345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34E-D275-4EEF-BC61-226FE62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E46-6712-4778-8438-AC54F60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D6E-C7C4-4E1C-B2F4-78B57401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71468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erPoint Pro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ton Area Constraint Mitig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Presentation to T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uary 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714680"/>
            <a:ext cx="8686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is for informational purposes on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determination or support is requested at this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17640" y="1724040"/>
            <a:ext cx="5540400" cy="35568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22320" y="1065240"/>
            <a:ext cx="7311960" cy="5321160"/>
            <a:chOff x="922320" y="1065240"/>
            <a:chExt cx="7311960" cy="532116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938160" y="1082520"/>
              <a:ext cx="7296120" cy="53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22320" y="1065240"/>
              <a:ext cx="7311960" cy="532116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344600" y="3075120"/>
            <a:ext cx="4121280" cy="1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9760" y="3143160"/>
            <a:ext cx="380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ss of STP to Dow double circuit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02800" y="3463920"/>
            <a:ext cx="328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k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79080" y="3463920"/>
            <a:ext cx="3126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9 STP to WAP becomes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4800" y="3784680"/>
            <a:ext cx="3219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imit with a 1413 MVA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460000">
            <a:off x="5899320" y="4607280"/>
            <a:ext cx="21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248000" y="4122720"/>
            <a:ext cx="1217520" cy="371520"/>
            <a:chOff x="4248000" y="4122720"/>
            <a:chExt cx="1217520" cy="371520"/>
          </a:xfrm>
        </p:grpSpPr>
        <p:sp>
          <p:nvSpPr>
            <p:cNvPr id="55" name=""/>
            <p:cNvSpPr/>
            <p:nvPr/>
          </p:nvSpPr>
          <p:spPr>
            <a:xfrm>
              <a:off x="4248000" y="4122720"/>
              <a:ext cx="1166760" cy="320760"/>
            </a:xfrm>
            <a:prstGeom prst="line">
              <a:avLst/>
            </a:prstGeom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81640" y="441000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53" y="32"/>
                  </a:lnTo>
                  <a:lnTo>
                    <a:pt x="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88600" y="304920"/>
            <a:ext cx="625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outh to Houston Thermal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173000">
            <a:off x="5105520" y="44956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100160"/>
            <a:ext cx="6781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-contingency interface limit of approximately 2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81360" y="1768320"/>
            <a:ext cx="5486400" cy="3524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995400" y="1116000"/>
            <a:ext cx="7242120" cy="5272200"/>
            <a:chOff x="995400" y="1116000"/>
            <a:chExt cx="7242120" cy="52722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012680" y="1133640"/>
              <a:ext cx="72244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95400" y="1116000"/>
              <a:ext cx="7242120" cy="527220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428840" y="3122640"/>
            <a:ext cx="388152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96280" y="3189240"/>
            <a:ext cx="287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ss of double circuit lin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6640" y="3508200"/>
            <a:ext cx="683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ewet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01800" y="3508200"/>
            <a:ext cx="76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T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77600" y="3508200"/>
            <a:ext cx="93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art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96680" y="3508200"/>
            <a:ext cx="522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49120" y="3825720"/>
            <a:ext cx="2972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ibbons Creek to O’Brien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82200" y="4143240"/>
            <a:ext cx="328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k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20960" y="4143240"/>
            <a:ext cx="402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7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24160" y="4143240"/>
            <a:ext cx="683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ewet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9080" y="4143240"/>
            <a:ext cx="343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8440" y="4143240"/>
            <a:ext cx="974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mbal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29720" y="4143240"/>
            <a:ext cx="1003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ecom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0680" y="4464000"/>
            <a:ext cx="3547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limit with a 956 MVA rat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5430600" y="2714040"/>
            <a:ext cx="21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92560" y="2940120"/>
            <a:ext cx="804600" cy="1205280"/>
            <a:chOff x="5092560" y="2940120"/>
            <a:chExt cx="804600" cy="1205280"/>
          </a:xfrm>
        </p:grpSpPr>
        <p:sp>
          <p:nvSpPr>
            <p:cNvPr id="81" name=""/>
            <p:cNvSpPr/>
            <p:nvPr/>
          </p:nvSpPr>
          <p:spPr>
            <a:xfrm flipV="1">
              <a:off x="5092560" y="2967840"/>
              <a:ext cx="771120" cy="1177560"/>
            </a:xfrm>
            <a:prstGeom prst="line">
              <a:avLst/>
            </a:prstGeom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2920" y="2940120"/>
              <a:ext cx="84240" cy="137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32" y="53"/>
                  </a:moveTo>
                  <a:lnTo>
                    <a:pt x="53" y="0"/>
                  </a:lnTo>
                  <a:lnTo>
                    <a:pt x="0" y="11"/>
                  </a:lnTo>
                  <a:lnTo>
                    <a:pt x="3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557720" y="380880"/>
            <a:ext cx="6253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rth to Houston Thermal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4293600">
            <a:off x="5607360" y="254520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28840" y="1439640"/>
            <a:ext cx="3313080" cy="15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-conting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face lim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pproxim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4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Point Study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system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outh to Houston transfer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orth to Houston transfer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1295280"/>
            <a:ext cx="746784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971800"/>
            <a:ext cx="6858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47920"/>
            <a:ext cx="228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2971800"/>
            <a:ext cx="304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562720"/>
            <a:ext cx="3049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8120" y="3200400"/>
            <a:ext cx="2209680" cy="1676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5094360"/>
            <a:ext cx="914400" cy="9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04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934320" y="3200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086600" y="3200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16256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967440" y="4952880"/>
            <a:ext cx="145800" cy="233280"/>
            <a:chOff x="6967440" y="4952880"/>
            <a:chExt cx="145800" cy="233280"/>
          </a:xfrm>
        </p:grpSpPr>
        <p:sp>
          <p:nvSpPr>
            <p:cNvPr id="106" name=""/>
            <p:cNvSpPr/>
            <p:nvPr/>
          </p:nvSpPr>
          <p:spPr>
            <a:xfrm>
              <a:off x="7040520" y="495288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040520" y="509256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77600" y="498600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7440" y="50950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080480" y="50925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967440" y="49881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178760" y="4952880"/>
            <a:ext cx="147240" cy="233280"/>
            <a:chOff x="7178760" y="4952880"/>
            <a:chExt cx="147240" cy="233280"/>
          </a:xfrm>
        </p:grpSpPr>
        <p:sp>
          <p:nvSpPr>
            <p:cNvPr id="113" name=""/>
            <p:cNvSpPr/>
            <p:nvPr/>
          </p:nvSpPr>
          <p:spPr>
            <a:xfrm>
              <a:off x="7252560" y="495288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252560" y="509256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90000" y="498600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8760" y="509508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292880" y="509256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178760" y="498816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391520" y="4952880"/>
            <a:ext cx="145440" cy="233280"/>
            <a:chOff x="7391520" y="4952880"/>
            <a:chExt cx="145440" cy="233280"/>
          </a:xfrm>
        </p:grpSpPr>
        <p:sp>
          <p:nvSpPr>
            <p:cNvPr id="120" name=""/>
            <p:cNvSpPr/>
            <p:nvPr/>
          </p:nvSpPr>
          <p:spPr>
            <a:xfrm>
              <a:off x="7464240" y="495288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464240" y="509256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01320" y="498600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509508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504560" y="509256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391520" y="498816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250040" y="4952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4952880"/>
            <a:ext cx="2514600" cy="1067040"/>
          </a:xfrm>
          <a:custGeom>
            <a:avLst/>
            <a:gdLst/>
            <a:ahLst/>
            <a:rect l="l" t="t" r="r" b="b"/>
            <a:pathLst>
              <a:path w="1584" h="672">
                <a:moveTo>
                  <a:pt x="0" y="672"/>
                </a:moveTo>
                <a:lnTo>
                  <a:pt x="144" y="672"/>
                </a:lnTo>
                <a:lnTo>
                  <a:pt x="1584" y="96"/>
                </a:lnTo>
                <a:lnTo>
                  <a:pt x="1584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952880"/>
            <a:ext cx="2666880" cy="1219320"/>
          </a:xfrm>
          <a:custGeom>
            <a:avLst/>
            <a:gdLst/>
            <a:ahLst/>
            <a:rect l="l" t="t" r="r" b="b"/>
            <a:pathLst>
              <a:path w="1680" h="768">
                <a:moveTo>
                  <a:pt x="0" y="768"/>
                </a:moveTo>
                <a:lnTo>
                  <a:pt x="192" y="768"/>
                </a:lnTo>
                <a:lnTo>
                  <a:pt x="1680" y="144"/>
                </a:lnTo>
                <a:lnTo>
                  <a:pt x="168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9600" y="15238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0" y="2971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9718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5720" y="5334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22860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z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2760" y="27432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3840" y="47242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28240" y="2438280"/>
            <a:ext cx="259092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590920"/>
            <a:ext cx="228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895480" y="5257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819160" y="5333760"/>
            <a:ext cx="9903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5410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743200"/>
            <a:ext cx="152280" cy="228600"/>
          </a:xfrm>
          <a:custGeom>
            <a:avLst/>
            <a:gdLst/>
            <a:ahLst/>
            <a:rect l="l" t="t" r="r" b="b"/>
            <a:pathLst>
              <a:path w="96" h="144">
                <a:moveTo>
                  <a:pt x="0" y="1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610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1981080"/>
            <a:ext cx="685800" cy="68580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96" y="384"/>
                </a:moveTo>
                <a:lnTo>
                  <a:pt x="0" y="384"/>
                </a:lnTo>
                <a:lnTo>
                  <a:pt x="0" y="288"/>
                </a:lnTo>
                <a:lnTo>
                  <a:pt x="384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905120"/>
            <a:ext cx="685800" cy="1066680"/>
          </a:xfrm>
          <a:custGeom>
            <a:avLst/>
            <a:gdLst/>
            <a:ahLst/>
            <a:rect l="l" t="t" r="r" b="b"/>
            <a:pathLst>
              <a:path w="480" h="672">
                <a:moveTo>
                  <a:pt x="0" y="672"/>
                </a:moveTo>
                <a:lnTo>
                  <a:pt x="0" y="336"/>
                </a:lnTo>
                <a:lnTo>
                  <a:pt x="48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6324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61280" y="3200400"/>
            <a:ext cx="145800" cy="232920"/>
            <a:chOff x="8261280" y="3200400"/>
            <a:chExt cx="145800" cy="232920"/>
          </a:xfrm>
        </p:grpSpPr>
        <p:sp>
          <p:nvSpPr>
            <p:cNvPr id="151" name=""/>
            <p:cNvSpPr/>
            <p:nvPr/>
          </p:nvSpPr>
          <p:spPr>
            <a:xfrm>
              <a:off x="8334360" y="320040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34360" y="333972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71440" y="32331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61280" y="334224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374320" y="333972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261280" y="32356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474040" y="3200400"/>
            <a:ext cx="145800" cy="232920"/>
            <a:chOff x="8474040" y="3200400"/>
            <a:chExt cx="145800" cy="232920"/>
          </a:xfrm>
        </p:grpSpPr>
        <p:sp>
          <p:nvSpPr>
            <p:cNvPr id="158" name=""/>
            <p:cNvSpPr/>
            <p:nvPr/>
          </p:nvSpPr>
          <p:spPr>
            <a:xfrm>
              <a:off x="8547120" y="320040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547120" y="333972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84200" y="32331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74040" y="334224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587080" y="333972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474040" y="32356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8686800" y="3200400"/>
            <a:ext cx="145800" cy="232920"/>
            <a:chOff x="8686800" y="3200400"/>
            <a:chExt cx="145800" cy="232920"/>
          </a:xfrm>
        </p:grpSpPr>
        <p:sp>
          <p:nvSpPr>
            <p:cNvPr id="165" name=""/>
            <p:cNvSpPr/>
            <p:nvPr/>
          </p:nvSpPr>
          <p:spPr>
            <a:xfrm>
              <a:off x="8759880" y="320040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8759880" y="333972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96960" y="32331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86800" y="334224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799840" y="333972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686800" y="32356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894880" y="3209760"/>
            <a:ext cx="145440" cy="233280"/>
            <a:chOff x="8894880" y="3209760"/>
            <a:chExt cx="145440" cy="233280"/>
          </a:xfrm>
        </p:grpSpPr>
        <p:sp>
          <p:nvSpPr>
            <p:cNvPr id="172" name=""/>
            <p:cNvSpPr/>
            <p:nvPr/>
          </p:nvSpPr>
          <p:spPr>
            <a:xfrm>
              <a:off x="8967600" y="320976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967600" y="334944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004680" y="324288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94880" y="335196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007920" y="334944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8894880" y="324504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883908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1444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752480" y="54100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181480"/>
            <a:ext cx="2514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80880" y="5257800"/>
            <a:ext cx="2438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714640" y="32000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1676520"/>
            <a:ext cx="380880" cy="1295280"/>
          </a:xfrm>
          <a:custGeom>
            <a:avLst/>
            <a:gdLst/>
            <a:ahLst/>
            <a:rect l="l" t="t" r="r" b="b"/>
            <a:pathLst>
              <a:path w="240" h="816">
                <a:moveTo>
                  <a:pt x="0" y="816"/>
                </a:moveTo>
                <a:lnTo>
                  <a:pt x="0" y="432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1676520"/>
            <a:ext cx="380880" cy="1295280"/>
          </a:xfrm>
          <a:custGeom>
            <a:avLst/>
            <a:gdLst/>
            <a:ahLst/>
            <a:rect l="l" t="t" r="r" b="b"/>
            <a:pathLst>
              <a:path w="240" h="816">
                <a:moveTo>
                  <a:pt x="0" y="816"/>
                </a:moveTo>
                <a:lnTo>
                  <a:pt x="0" y="432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1752480"/>
            <a:ext cx="457200" cy="12193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768"/>
                </a:moveTo>
                <a:lnTo>
                  <a:pt x="288" y="43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1752480"/>
            <a:ext cx="457200" cy="12193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768"/>
                </a:moveTo>
                <a:lnTo>
                  <a:pt x="288" y="43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06960" y="1752480"/>
            <a:ext cx="147240" cy="233280"/>
            <a:chOff x="4206960" y="1752480"/>
            <a:chExt cx="147240" cy="233280"/>
          </a:xfrm>
        </p:grpSpPr>
        <p:sp>
          <p:nvSpPr>
            <p:cNvPr id="189" name=""/>
            <p:cNvSpPr/>
            <p:nvPr/>
          </p:nvSpPr>
          <p:spPr>
            <a:xfrm>
              <a:off x="4280760" y="175248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80760" y="189216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18200" y="178560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6960" y="189468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321080" y="189216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206960" y="1787760"/>
              <a:ext cx="3312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419720" y="1752480"/>
            <a:ext cx="145440" cy="233280"/>
            <a:chOff x="4419720" y="1752480"/>
            <a:chExt cx="145440" cy="233280"/>
          </a:xfrm>
        </p:grpSpPr>
        <p:sp>
          <p:nvSpPr>
            <p:cNvPr id="196" name=""/>
            <p:cNvSpPr/>
            <p:nvPr/>
          </p:nvSpPr>
          <p:spPr>
            <a:xfrm>
              <a:off x="4492440" y="1752480"/>
              <a:ext cx="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492440" y="1892160"/>
              <a:ext cx="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29520" y="178560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19720" y="189468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532760" y="189216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19720" y="178776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67200" y="1752480"/>
            <a:ext cx="145800" cy="233280"/>
            <a:chOff x="3967200" y="1752480"/>
            <a:chExt cx="145800" cy="233280"/>
          </a:xfrm>
        </p:grpSpPr>
        <p:sp>
          <p:nvSpPr>
            <p:cNvPr id="203" name=""/>
            <p:cNvSpPr/>
            <p:nvPr/>
          </p:nvSpPr>
          <p:spPr>
            <a:xfrm>
              <a:off x="4040280" y="175248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040280" y="189216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77360" y="178560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7200" y="18946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080240" y="18921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967200" y="17877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043520" y="1752480"/>
            <a:ext cx="21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267080" y="-3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419720" y="380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83808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32"/>
                </a:moveTo>
                <a:lnTo>
                  <a:pt x="0" y="144"/>
                </a:lnTo>
                <a:lnTo>
                  <a:pt x="6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8600" y="1752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60020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lnTo>
                  <a:pt x="96" y="288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76320"/>
            <a:ext cx="228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380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762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457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838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80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76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714640" y="152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533520"/>
            <a:ext cx="228600" cy="990360"/>
          </a:xfrm>
          <a:custGeom>
            <a:avLst/>
            <a:gdLst/>
            <a:ahLst/>
            <a:rect l="l" t="t" r="r" b="b"/>
            <a:pathLst>
              <a:path w="144" h="624">
                <a:moveTo>
                  <a:pt x="0" y="624"/>
                </a:moveTo>
                <a:lnTo>
                  <a:pt x="96" y="624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1143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3716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lnTo>
                  <a:pt x="144" y="192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71600" y="1371600"/>
            <a:ext cx="145800" cy="232920"/>
            <a:chOff x="1371600" y="1371600"/>
            <a:chExt cx="145800" cy="232920"/>
          </a:xfrm>
        </p:grpSpPr>
        <p:sp>
          <p:nvSpPr>
            <p:cNvPr id="227" name=""/>
            <p:cNvSpPr/>
            <p:nvPr/>
          </p:nvSpPr>
          <p:spPr>
            <a:xfrm>
              <a:off x="1444680" y="1371600"/>
              <a:ext cx="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44680" y="1510920"/>
              <a:ext cx="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81760" y="14043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151344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84640" y="151092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371600" y="14068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14400" y="533520"/>
            <a:ext cx="145800" cy="232920"/>
            <a:chOff x="914400" y="533520"/>
            <a:chExt cx="145800" cy="232920"/>
          </a:xfrm>
        </p:grpSpPr>
        <p:sp>
          <p:nvSpPr>
            <p:cNvPr id="234" name=""/>
            <p:cNvSpPr/>
            <p:nvPr/>
          </p:nvSpPr>
          <p:spPr>
            <a:xfrm>
              <a:off x="987480" y="53352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987480" y="672840"/>
              <a:ext cx="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4560" y="56628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67536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027440" y="67284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914400" y="568800"/>
              <a:ext cx="3276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791320" y="914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i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3808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9144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336"/>
                </a:moveTo>
                <a:lnTo>
                  <a:pt x="384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838080"/>
            <a:ext cx="685800" cy="6098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432" y="384"/>
                </a:moveTo>
                <a:lnTo>
                  <a:pt x="432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763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1219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yette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362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914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yette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9600">
            <a:off x="-257760" y="49802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San Anton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9600">
            <a:off x="1066680" y="64771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Whit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57840" y="345960"/>
            <a:ext cx="24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27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345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3200400"/>
            <a:ext cx="23623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419360" y="228600"/>
            <a:ext cx="10666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19720" y="-360"/>
            <a:ext cx="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50292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124080" y="3200400"/>
            <a:ext cx="2286000" cy="1752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4876920"/>
            <a:ext cx="30456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48308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ill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5092560"/>
            <a:ext cx="761760" cy="77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562720" y="990720"/>
            <a:ext cx="145440" cy="232920"/>
            <a:chOff x="5562720" y="990720"/>
            <a:chExt cx="145440" cy="232920"/>
          </a:xfrm>
        </p:grpSpPr>
        <p:sp>
          <p:nvSpPr>
            <p:cNvPr id="262" name=""/>
            <p:cNvSpPr/>
            <p:nvPr/>
          </p:nvSpPr>
          <p:spPr>
            <a:xfrm>
              <a:off x="5635440" y="990720"/>
              <a:ext cx="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635440" y="1130040"/>
              <a:ext cx="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72520" y="102348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113256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675760" y="113004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562720" y="1026000"/>
              <a:ext cx="32400" cy="5832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0" y="0"/>
                  </a:moveTo>
                  <a:lnTo>
                    <a:pt x="28" y="6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7086600" y="5715000"/>
            <a:ext cx="1905120" cy="99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5943600"/>
            <a:ext cx="457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4008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560" y="57150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2640" y="617220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3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Point Cost Est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9400" y="2190600"/>
            <a:ext cx="640368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tion 27 Estimate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mal Upgrades Estimate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ynamic Reactive Addi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imate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46240" y="4952160"/>
            <a:ext cx="40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tal = $186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96640" y="2173680"/>
            <a:ext cx="2305080" cy="20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$11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$4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$3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9400" y="4724280"/>
            <a:ext cx="8796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y Calculated Transfer Capability G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885680"/>
            <a:ext cx="8737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27 increases transfer capability from the South zone to the Houston zone by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800 M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rresponds to a S-H interface flow of approximatel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850 MW (1050 MW in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27 increases transfer capability from the North zone to the Houston zone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0 M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rresponds to a N-H interface flow of approximatel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900 MW (1900 MW in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ompleted South Regional Planning Group (stakeholder) presentation and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widely supported and no dissenting comments were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taff independent analysis is currently underway (includes economic impac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ptions are included as part of the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to bring to TAC and BOD by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21:45:43Z</dcterms:created>
  <dc:creator>reliant energy</dc:creator>
  <dc:description/>
  <dc:language>en-US</dc:language>
  <cp:lastModifiedBy>KDonohoo</cp:lastModifiedBy>
  <cp:lastPrinted>2004-09-10T15:17:52Z</cp:lastPrinted>
  <dcterms:modified xsi:type="dcterms:W3CDTF">2005-01-06T16:27:23Z</dcterms:modified>
  <cp:revision>167</cp:revision>
  <dc:subject/>
  <dc:title>South - Houston CSC</dc:title>
</cp:coreProperties>
</file>