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CCA-34E2-4039-A73D-F8E7CD2E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BF9-F60A-48CE-AD29-5EC1185D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A20-F47B-43A9-B814-3452D82F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38D-5D1D-4532-A74E-F532CA4B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716-9D3C-49E7-8101-A71B65AC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DC9-2E5C-45E2-91A7-DC7C999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BF4-0AFC-436C-8655-1035501E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59C-A1A0-4B6B-B439-89BFADF2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500-107E-4EB8-B9A9-4142115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F8F-57CB-430F-92E7-56AE15F3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72C-602C-4AED-AE24-2601AF3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19B-D1F1-4084-983F-18AEFDC5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148-633C-4D76-A770-11DA8D330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" y="228600"/>
            <a:ext cx="91058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CPS1 by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60" y="0"/>
            <a:ext cx="90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05520" y="6858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CPS1 December 2004 133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1447920"/>
            <a:ext cx="7617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CPS1 by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sniemeyer</cp:lastModifiedBy>
  <dcterms:modified xsi:type="dcterms:W3CDTF">2005-01-10T19:20:27Z</dcterms:modified>
  <cp:revision>2</cp:revision>
  <dc:subject/>
  <dc:title>PowerPoint Presentation</dc:title>
</cp:coreProperties>
</file>