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134640"/>
            <a:ext cx="304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963600" y="134640"/>
            <a:ext cx="304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74320" y="685440"/>
            <a:ext cx="4675320" cy="35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5480" y="5949720"/>
            <a:ext cx="51850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9116280"/>
            <a:ext cx="304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963600" y="9116280"/>
            <a:ext cx="304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D8F2447-1692-490D-B2F4-44779CC91F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5480" y="3908880"/>
            <a:ext cx="5185080" cy="52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FINITIONS AND NOT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ed Budge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f capital budget has NOT been approved: $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f capital budget has been approved: $$ of capital budget approval, in as much detail as is 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Forecas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tal forecast numbers to date, based on current understanding of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 includes change requests to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 if this presentation is to execute a Change Request, the Total Forecast should differ from the Approved Budget by the amount of the C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d to Dat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tal of dollars that have been committed to be sp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 including amounts from POs already issued for HW, SW and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 including labor costs for labor/contract already wor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 excluding labor costs for labor/contract that is expected, but not yet wor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 to Dat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ollar amounts that have hit the books with Finance &amp;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1096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6800" y="104760"/>
            <a:ext cx="70200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877160" y="6586560"/>
            <a:ext cx="126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ge </a:t>
            </a:r>
            <a:fld id="{423E59A7-F333-478C-883D-781C08278E6B}" type="slidenum">
              <a:rPr b="1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-30780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-20484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06280"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46440" indent="-204840">
              <a:spcBef>
                <a:spcPts val="451"/>
              </a:spcBef>
              <a:buClr>
                <a:srgbClr val="009999"/>
              </a:buClr>
              <a:buFont typeface="Arial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46440" indent="-2048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46440" indent="-2048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119160" y="162000"/>
          <a:ext cx="1133280" cy="51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9160" y="162000"/>
                    <a:ext cx="113328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258840" y="790560"/>
            <a:ext cx="8682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3200" y="6594480"/>
            <a:ext cx="324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ERCOT Project Stat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5360" y="1038240"/>
            <a:ext cx="4191120" cy="2590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ransmissions Providers (TSP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gram Are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 Descrip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249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olution will allow Transmission Providers (TSPs) to remotely and securely access STNET network study cases in the EMS component of the Market Operations Testing Environment (MOTE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249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SPs will thus be able to work in conjunction with ERCOT modeling engineers to tune the network model, enhancing its efficienc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249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itial phase of the project involves prototyping for technical feasibility and security assurance, hardware sizing validation, and definition of rollout scop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249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60920" y="1038240"/>
            <a:ext cx="4343400" cy="1487520"/>
          </a:xfrm>
          <a:prstGeom prst="roundRect">
            <a:avLst>
              <a:gd name="adj" fmla="val 16667"/>
            </a:avLst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spcBef>
                <a:spcPts val="2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rastructure buid out in prog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2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ftware license –NetOp Host license being procur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2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isting hardware used except for memory upgr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2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ployment to Production postponed to 02/24 due to redefined EMMS pipe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2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estigation of the requirement of specific 3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party licenses (Citrix, Veritas, Measureware) revealed that no new procurement was needed for prototyping (next tas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3200" y="789120"/>
            <a:ext cx="247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 Scope/Deliver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8640" y="372744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45080" y="2583000"/>
            <a:ext cx="15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sues / 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75320" y="812880"/>
            <a:ext cx="34272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ecutive Summary of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2604960"/>
            <a:ext cx="429588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4540320"/>
            <a:ext cx="429588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914400"/>
            <a:ext cx="0" cy="56563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14000" y="44280"/>
            <a:ext cx="319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-30129 Remote Access to Study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2835360"/>
            <a:ext cx="4343400" cy="1654200"/>
          </a:xfrm>
          <a:prstGeom prst="roundRect">
            <a:avLst>
              <a:gd name="adj" fmla="val 16667"/>
            </a:avLst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license – NetOpHost license being followed up by purchasing for delivery in time for prototyping (next ta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14360" y="338040"/>
            <a:ext cx="197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M: Shoulders/Ra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l Mgr: Gonzalez-Pere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28680" y="4046400"/>
          <a:ext cx="3922560" cy="2122560"/>
        </p:xfrm>
        <a:graphic>
          <a:graphicData uri="http://schemas.openxmlformats.org/drawingml/2006/table">
            <a:tbl>
              <a:tblPr/>
              <a:tblGrid>
                <a:gridCol w="1566720"/>
                <a:gridCol w="812880"/>
                <a:gridCol w="730080"/>
                <a:gridCol w="812880"/>
              </a:tblGrid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itted D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st / Actual D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dware/Software Procurem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0/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3/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rogres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astructure Build 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7/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4/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rogres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astructure Prototyp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28/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8/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E Environment Build-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11/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25/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n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11/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25/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l 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24/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25/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2981160" y="331920"/>
            <a:ext cx="177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onsor: Saatho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s Lead: Cay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027760" y="71280"/>
            <a:ext cx="3857400" cy="638280"/>
            <a:chOff x="5027760" y="71280"/>
            <a:chExt cx="3857400" cy="638280"/>
          </a:xfrm>
        </p:grpSpPr>
        <p:sp>
          <p:nvSpPr>
            <p:cNvPr id="66" name=""/>
            <p:cNvSpPr/>
            <p:nvPr/>
          </p:nvSpPr>
          <p:spPr>
            <a:xfrm>
              <a:off x="8335080" y="49680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783560" y="49680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33840" y="49680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78720" y="496800"/>
              <a:ext cx="554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129000" y="49680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77480" y="49680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27760" y="49680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ast Updat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335080" y="28404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83560" y="28404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233840" y="28404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678720" y="284040"/>
              <a:ext cx="554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129000" y="28404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77480" y="28404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027760" y="28404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is Updat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335080" y="7128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us Align/ Scope Ris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83560" y="7128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chnical Ris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233840" y="7128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chedule Ris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78720" y="71280"/>
              <a:ext cx="554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affing    Ris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129000" y="7128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inancial   Ris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77480" y="7128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veral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77480" y="71280"/>
              <a:ext cx="3307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27760" y="284040"/>
              <a:ext cx="38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027760" y="496800"/>
              <a:ext cx="38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27760" y="709560"/>
              <a:ext cx="38574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27760" y="284040"/>
              <a:ext cx="0" cy="4255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7748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2900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7872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3384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78356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3508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885160" y="71280"/>
              <a:ext cx="0" cy="638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4570560" y="71280"/>
            <a:ext cx="187200" cy="1778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23000" y="71280"/>
            <a:ext cx="18252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80160" y="509760"/>
            <a:ext cx="187200" cy="177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913440" y="299880"/>
            <a:ext cx="18252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13440" y="509760"/>
            <a:ext cx="182520" cy="172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75440" y="71280"/>
            <a:ext cx="182520" cy="17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018640" y="299880"/>
            <a:ext cx="182520" cy="1731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18640" y="509760"/>
            <a:ext cx="182520" cy="1728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561520" y="299880"/>
            <a:ext cx="182520" cy="1731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561520" y="500040"/>
            <a:ext cx="182520" cy="1731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2600" y="3719520"/>
            <a:ext cx="4295880" cy="144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43400" y="838080"/>
            <a:ext cx="231840" cy="17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61200" y="79200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80160" y="299880"/>
            <a:ext cx="187200" cy="177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56520" y="299880"/>
            <a:ext cx="187200" cy="177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80440" y="299880"/>
            <a:ext cx="187200" cy="177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56520" y="509760"/>
            <a:ext cx="187200" cy="177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80440" y="509760"/>
            <a:ext cx="187200" cy="177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87880" y="6570720"/>
            <a:ext cx="24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us Date: 01/07/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14:28:49Z</dcterms:created>
  <dc:creator>Mitch Seagraves</dc:creator>
  <dc:description/>
  <dc:language>en-US</dc:language>
  <cp:lastModifiedBy>graina</cp:lastModifiedBy>
  <cp:lastPrinted>1999-12-01T22:56:09Z</cp:lastPrinted>
  <dcterms:modified xsi:type="dcterms:W3CDTF">2005-01-10T15:32:55Z</dcterms:modified>
  <cp:revision>690</cp:revision>
  <dc:subject/>
  <dc:title>No Slide Title</dc:title>
</cp:coreProperties>
</file>