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473-8290-4D85-87C6-93A97480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A73-EFD0-452A-AE34-054FA942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A6B-A160-4243-9CDF-E07BBDFD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0BD-8AC6-4C79-8436-293F6E2B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04D-E4FD-4F09-A959-C539696B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210-7503-43F8-B7FC-A32F1A52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741-EE83-4B95-A5EA-F5DB511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EF7-1CEB-4AD9-B0BB-F426ECB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457-631F-4EFC-94E1-20CB07AA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3EF-4A62-4406-B17E-EE1CAF2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2CC-8514-47B1-82BA-182AC619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195-1540-43FB-A1DA-D1979E7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9EDA-B3B4-474F-8BD8-674E121E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-4003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Coordination Tea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ordination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lementation Gu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col Changes, Retail Market Guide, Testing Requir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Coordination Tea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ake decisions for you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echnical knowledge of intern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of Texas Retail Market and how Transaction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/EC Territory…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includes ERC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embership ID on all customer registration transactions (814s), usage transactions (867s), and the service order request series (650_01/650_02) for use in the MOU/EC terri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requirement to send billing type (LDC or DUAL) when establishing a CSA in an MOU/EC terri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the Customer Information series (814_PC/PD) to allow MOU/EC TDSPs to send information to the CR.  Currently this transaction set is only from the CR to the TDS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OU/EC TDSPs the ability to communicate to the CR when a customer has been permanently disconnected and final billed, or when a customer has been reconnected (650_03/04 seri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MOU/EC TDSPs to send payment adjustments to the CR when payments are adjusted on a MOU/EC customer’s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to Point…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includes MOU/E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CRs the ability to communicate whether they are willing to pay for a premium disconnect location ch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clarification to the disconnect transaction series (650_01/02) that indicates a response transaction is required for each request transaction; making it a 1 to 1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DSPs the ability to reject service order requests due to Critical Care or Critical Load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CRs ability to know when a customer has been permanently suspended, and that a move out for that customer must be 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to Point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corrected invoices to be sent for a specific time period for adjustments to an invoice not related to u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dditional transition charge codes to the invoice transaction to allow the TDSPs to accurately communicate new tariffs and/or charge off allow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new codes to allow CRs to uniquely identify billing determinants on an inv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clarification that indicates a customer information request will not be sent until after the initial meter read is receiv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dditional codes to accommodate new complete un-executable rea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RCOT Family…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includes entire Mar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dditional validations to ensure transactions are ANSI and TX SET Compli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generic reject and cancel codes with codes more specific to the V2.0 Solution to Stacking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pecific language to indicate that CRs may cancel a Drop to AREP transaction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CRs ability to communicate a second move out request and the need for TDSPs to do what is necessary to disconnect the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data elements no longer used in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RCOT Family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dditional codes to communicate new complete un-executable rea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s to the maintain ESIID transaction (814_20) that provides a new code for annual load profile validation and requires certain meter information when communicating a change from Business Non Demand to Business De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pecific reject reasons for CR use when rejecting invoices or usage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Business Process Overview sections from applicable implementation gu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6360" y="5384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44360" y="53848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2360" y="5384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7440" y="53848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8520" y="538488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25280" y="53848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4495680"/>
            <a:ext cx="7924680" cy="838440"/>
          </a:xfrm>
          <a:prstGeom prst="rightArrow">
            <a:avLst>
              <a:gd name="adj1" fmla="val 36602"/>
              <a:gd name="adj2" fmla="val 3885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1720" y="5410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10040" y="5410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9200" y="5410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64200" y="54100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6520" y="5384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657600"/>
            <a:ext cx="160020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ight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5720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69000" y="5410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3200400"/>
            <a:ext cx="190512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vity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4114800"/>
            <a:ext cx="167616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743200"/>
            <a:ext cx="129564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14640" y="2286000"/>
            <a:ext cx="175284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ed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3657600"/>
            <a:ext cx="2057400" cy="3808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ailed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2666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31240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3581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0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048120"/>
            <a:ext cx="2286000" cy="380880"/>
          </a:xfrm>
          <a:prstGeom prst="flowChartProcess">
            <a:avLst/>
          </a:prstGeom>
          <a:solidFill>
            <a:srgbClr val="ff5050"/>
          </a:solidFill>
          <a:ln w="0">
            <a:noFill/>
          </a:ln>
          <a:effectLst>
            <a:outerShdw dist="17819" dir="2700000" blurRad="0" rotWithShape="0">
              <a:srgbClr val="982f2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Schedule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jkassel</cp:lastModifiedBy>
  <dcterms:modified xsi:type="dcterms:W3CDTF">2005-01-06T16:45:18Z</dcterms:modified>
  <cp:revision>8</cp:revision>
  <dc:subject/>
  <dc:title>Slide 1</dc:title>
</cp:coreProperties>
</file>