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407-2E48-4CFE-A59E-1AA39A91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CEB-4915-43EF-9755-F0499BC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6CE-94A1-4910-90A7-98605CE6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496-BC5E-4D14-A8C5-7DBEB76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9920-CE66-45C6-9553-C6840FE1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0BF-66EF-4E85-88FA-4AEB80B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1AD-68A5-46FB-8E5A-DCE25BC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DE4-D717-4F42-8543-FAF827B3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92F-4F01-4403-BA29-1C803122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407-F89A-4BD1-A437-E7A9676F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413-0AB2-4E42-82FB-FCBE381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96A-1F41-4EF8-BFC9-CB85ED8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CC8-4326-4565-8517-86D453B3E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65A-0D29-4714-B997-A7C5FE1897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New REPs – 11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New Umbrella DUNS – 17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xisting REPs testing in new territories – 8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4000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588-6BC4-468C-8E02-469063922B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gn-up deadline was December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est Matrix was sent out December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beds were due January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Testing began Dec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over 80% complete – 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ess for January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  -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a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CBA-0D4F-4C6A-A615-A8D52F6586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kick off call Friday January 21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start to flow Monday 1/24 at 8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status calls - 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February RMS (2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1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should b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March RMS (3/8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cheduled to be on Day 32 of 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script scheduled to complete on Day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9D4-208F-498B-BAA7-D99012451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gwingerd</cp:lastModifiedBy>
  <cp:lastPrinted>2002-09-24T18:27:58Z</cp:lastPrinted>
  <dcterms:modified xsi:type="dcterms:W3CDTF">2005-01-04T15:56:07Z</dcterms:modified>
  <cp:revision>356</cp:revision>
  <dc:subject/>
  <dc:title>PowerPoint Presentation</dc:title>
</cp:coreProperties>
</file>