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9EF4-DCCD-4965-90DC-A154AF70E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42A7-B615-49CF-8A0E-1EF1D3C75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545A2-6B4F-4782-B5A1-F146604FB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CD08-2C3D-4776-BA17-3DF882A1B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31C8-F8CF-4A32-BB43-2D56DB6FF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6F58-B3E2-4F4C-8BFD-8731C738F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80FD-641C-4279-8647-539EFE01B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821B-5C21-4D39-8C70-6EED4A1F1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F95B-69FD-4CA4-AE24-A08794D83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0251-FFAD-473D-8877-804541AA4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F57B-20AC-4BEF-89D0-0E137A832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6470-70C0-4E6D-BDF7-787AC0354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03BA-3A88-42BF-9E06-CB7770D97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 Update to 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uary 11, 200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y List (PP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ent Ev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capital project budget appro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 to exceed $35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y be reduced to contribute savings due to fee red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3080" indent="-177840"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actively reviewing reduction options to address all items above the cutline for a lower pr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4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D8C6-D0A3-42C7-848A-97E5D22D8F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ces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1523880"/>
            <a:ext cx="8839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PL posted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ercot.com/ProtocolRevisions/SCRRevfilesystem.cfm?action=viewfolder&amp;path=../ercotpublicweb/market/ftp/SystemChangeRequests/Project_Priority_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…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www.ercot.c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/ Protocols / System Change Requests / Project Priority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C68C-4355-4A70-B82A-FADCD4D4E7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y List (PP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176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7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CD61-FDFB-4413-B49A-1FBC81AE6F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 </cp:lastModifiedBy>
  <dcterms:modified xsi:type="dcterms:W3CDTF">2005-01-03T19:10:39Z</dcterms:modified>
  <cp:revision>6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21982606</vt:r8>
  </property>
  <property fmtid="{D5CDD505-2E9C-101B-9397-08002B2CF9AE}" pid="3" name="_AuthorEmail">
    <vt:lpwstr>tanderson@ercot.com</vt:lpwstr>
  </property>
  <property fmtid="{D5CDD505-2E9C-101B-9397-08002B2CF9AE}" pid="4" name="_AuthorEmailDisplayName">
    <vt:lpwstr>Anderson, Troy</vt:lpwstr>
  </property>
  <property fmtid="{D5CDD505-2E9C-101B-9397-08002B2CF9AE}" pid="5" name="_EmailSubject">
    <vt:lpwstr>RMS Agenda planning Conference Call - 01-04-05</vt:lpwstr>
  </property>
</Properties>
</file>