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2F5-3A14-4083-B2D1-D7292821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E8A-F723-48FC-8502-4B719E6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286-0132-46C3-B30E-E40B643A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D72-EB5A-4447-84E2-1CDECE2B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2F9-C834-4A62-8EA1-ADBD458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83E-4708-4B6A-A791-9105A22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7A8-1B47-468B-9F75-4C44FCE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7B8-A77B-4B44-BEA9-CE7C8CA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735-26DD-4B22-85E3-934FB74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541-8BD3-48C4-B6E9-95969E6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3C1-C859-49DD-8A7D-240EB20D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0C1-3A14-43F9-BA79-6A3FD49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3F97-855B-4654-B80D-226AECF90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33720" y="144792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to 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11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30636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RMS Voting Item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Flight Schedule for Flight 0405, 0605 and 1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Market” primary driver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from 100 days to 62 or 76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31%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testing added to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S approved current schedul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changes are in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" y="152280"/>
            <a:ext cx="89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s for V2.0A Test Flights in 2005 (12/30/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0840" y="689040"/>
          <a:ext cx="8416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689040"/>
                    <a:ext cx="8416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" y="152280"/>
            <a:ext cx="89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Schedules for V2.0A Test Flights in 2005 (12/30/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7320" y="692280"/>
          <a:ext cx="831996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692280"/>
                    <a:ext cx="831996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620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07000" y="258840"/>
            <a:ext cx="85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5 Market Test Time Line – Modified 12/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303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03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2720" y="5638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638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73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686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40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26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8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02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3604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2133720"/>
            <a:ext cx="24382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68560" y="59436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41600" y="59436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30760" y="59436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02000" y="59436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23040" y="594360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9640" y="5943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5604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87800" y="59436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12040" y="5943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98200" y="59436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07320" y="594360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41920" y="59436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0400" y="5867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6280" y="5562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520" y="16002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8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14600" y="18284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163400">
            <a:off x="1864080" y="1483200"/>
            <a:ext cx="157320" cy="1143000"/>
          </a:xfrm>
          <a:custGeom>
            <a:avLst/>
            <a:gdLst>
              <a:gd name="textAreaLeft" fmla="*/ 0 w 157320"/>
              <a:gd name="textAreaRight" fmla="*/ 56880 w 157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3200" y="17524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13200">
            <a:off x="5979240" y="3391200"/>
            <a:ext cx="152280" cy="12938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4956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05 Fligh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/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362320" y="42670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3080" y="37339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410080"/>
            <a:ext cx="30481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ight V2.0-1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&amp; V2.1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13200">
            <a:off x="7998480" y="4726440"/>
            <a:ext cx="81000" cy="1143000"/>
          </a:xfrm>
          <a:custGeom>
            <a:avLst/>
            <a:gdLst>
              <a:gd name="textAreaLeft" fmla="*/ 0 w 81000"/>
              <a:gd name="textAreaRight" fmla="*/ 29160 w 810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0640" y="5359320"/>
            <a:ext cx="13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5 Flight No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/17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1720" y="4952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36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03800" y="31748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9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3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4114800"/>
            <a:ext cx="31244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ight V2.0A -07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ew C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124080"/>
            <a:ext cx="2971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 V2.0A -0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w C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03600" y="2489040"/>
            <a:ext cx="206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24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0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ingency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54800" y="26668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Wk.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9400" y="3232080"/>
            <a:ext cx="105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05 F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2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38080" y="34286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686800" y="4648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3886200"/>
            <a:ext cx="8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6/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light 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163400">
            <a:off x="3998160" y="2473920"/>
            <a:ext cx="156960" cy="1143000"/>
          </a:xfrm>
          <a:custGeom>
            <a:avLst/>
            <a:gdLst>
              <a:gd name="textAreaLeft" fmla="*/ 0 w 156960"/>
              <a:gd name="textAreaRight" fmla="*/ 56520 w 156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5909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5943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5812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45720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733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7242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6324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334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6641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out Period for Existing C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2255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9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1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2004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66720" y="37180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495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-up Dead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21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502920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6600" y="30636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RMS Voting Item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Flight Schedule for Flight 0405, 0605 and 1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Market” primary driver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from 100 days to 62 or 76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31%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testing added to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600" y="30636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RMS Voting Item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TP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cess for Specified AD- Hoc testing Out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 Changing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 adding DUN number or d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Testing Requirements Matrix to Appendix (appendix 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information on Contingency Provid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atted with section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d reference to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ll TMTP provided in RMS mater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95480" y="2506680"/>
            <a:ext cx="3353040" cy="3284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39760" y="1295280"/>
            <a:ext cx="6784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/>
  <dc:description/>
  <dc:language>en-US</dc:language>
  <cp:lastModifiedBy>Jennifer Teel</cp:lastModifiedBy>
  <dcterms:modified xsi:type="dcterms:W3CDTF">2005-01-05T01:49:29Z</dcterms:modified>
  <cp:revision>22</cp:revision>
  <dc:subject/>
  <dc:title>TTPT RMS Report</dc:title>
</cp:coreProperties>
</file>