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13B-44A3-459B-93D6-717295C9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F99-25B2-4208-AF82-F559DE2B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83D-0CA7-4235-9716-5519A172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B89-585F-4A7B-B4AA-78230BEE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6AB-EEE9-41A1-8385-5DE4F810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435-ABDC-4735-AF6A-CC6D5480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0BE-EF8C-4504-82BC-02E7D19C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486-B0AC-451A-A671-046C9FC2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749-1BAA-4048-9C2B-3775A9D3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ED3-1BDD-4498-823C-DBA32EE5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897-A2BD-4124-AFE7-9B732B63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FF3-4ED9-4CFD-8BAF-D5953B6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A8C6-B0BD-4757-AB9D-F8DF1B3B4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2514600"/>
            <a:ext cx="81532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anuary 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Data Extract Variance Rep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CDA-E7EF-4348-A1BF-92B6E4EB42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CR DEV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of 92 Competitive Retailers Reported Numbers by the due date for December (01/04/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for February RMS (January Reports) are due by February 2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 for next mon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Rs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933-8C3D-411A-9557-8BC0548A0D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523880"/>
          <a:ext cx="8001000" cy="4572000"/>
        </p:xfrm>
        <a:graphic>
          <a:graphicData uri="http://schemas.openxmlformats.org/drawingml/2006/table">
            <a:tbl>
              <a:tblPr/>
              <a:tblGrid>
                <a:gridCol w="2238480"/>
                <a:gridCol w="1514520"/>
                <a:gridCol w="1539720"/>
                <a:gridCol w="1355760"/>
                <a:gridCol w="1352520"/>
              </a:tblGrid>
              <a:tr h="109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,7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,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8,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,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,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3,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89,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,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8,9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,8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8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,5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EE4-A478-45FB-9AFF-B6B32FF9E9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7924680" cy="4488120"/>
        </p:xfrm>
        <a:graphic>
          <a:graphicData uri="http://schemas.openxmlformats.org/drawingml/2006/table">
            <a:tbl>
              <a:tblPr/>
              <a:tblGrid>
                <a:gridCol w="2217600"/>
                <a:gridCol w="1498680"/>
                <a:gridCol w="1527120"/>
                <a:gridCol w="1339920"/>
                <a:gridCol w="1341360"/>
              </a:tblGrid>
              <a:tr h="1055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7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3,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,8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E22-A298-4C71-BEAD-4639C2B118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er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1447920"/>
          <a:ext cx="8077320" cy="4647960"/>
        </p:xfrm>
        <a:graphic>
          <a:graphicData uri="http://schemas.openxmlformats.org/drawingml/2006/table">
            <a:tbl>
              <a:tblPr/>
              <a:tblGrid>
                <a:gridCol w="2260800"/>
                <a:gridCol w="1527120"/>
                <a:gridCol w="1555560"/>
                <a:gridCol w="1368720"/>
                <a:gridCol w="136512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4,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55,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,6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,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,8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0D1-5B77-48F0-9DB5-99BA707F3B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XU Electric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523880"/>
          <a:ext cx="8001000" cy="4572000"/>
        </p:xfrm>
        <a:graphic>
          <a:graphicData uri="http://schemas.openxmlformats.org/drawingml/2006/table">
            <a:tbl>
              <a:tblPr/>
              <a:tblGrid>
                <a:gridCol w="2238480"/>
                <a:gridCol w="1514520"/>
                <a:gridCol w="1539720"/>
                <a:gridCol w="1355760"/>
                <a:gridCol w="1352520"/>
              </a:tblGrid>
              <a:tr h="109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,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5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,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,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30,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4,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,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8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,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7E4-1AAF-4770-971E-D225677866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y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1447920"/>
          <a:ext cx="8457840" cy="4647600"/>
        </p:xfrm>
        <a:graphic>
          <a:graphicData uri="http://schemas.openxmlformats.org/drawingml/2006/table">
            <a:tbl>
              <a:tblPr/>
              <a:tblGrid>
                <a:gridCol w="2366640"/>
                <a:gridCol w="1599840"/>
                <a:gridCol w="1629000"/>
                <a:gridCol w="1432080"/>
                <a:gridCol w="1430280"/>
              </a:tblGrid>
              <a:tr h="111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7DC-EA23-45DA-8806-B396EB941B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523880"/>
          <a:ext cx="8077320" cy="4572000"/>
        </p:xfrm>
        <a:graphic>
          <a:graphicData uri="http://schemas.openxmlformats.org/drawingml/2006/table">
            <a:tbl>
              <a:tblPr/>
              <a:tblGrid>
                <a:gridCol w="2260800"/>
                <a:gridCol w="1527120"/>
                <a:gridCol w="1555560"/>
                <a:gridCol w="1368720"/>
                <a:gridCol w="1365120"/>
              </a:tblGrid>
              <a:tr h="109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Service History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Non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ERCOT Usage IDR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LSE Relationship ESI IDs submit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l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Progress &gt; 75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l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6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resulting in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olved &gt; 75 days no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77F-1026-491C-8566-4EF8DC81DF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frederick</cp:lastModifiedBy>
  <cp:lastPrinted>2002-09-24T18:27:58Z</cp:lastPrinted>
  <dcterms:modified xsi:type="dcterms:W3CDTF">2005-01-10T22:46:07Z</dcterms:modified>
  <cp:revision>282</cp:revision>
  <dc:subject/>
  <dc:title>PowerPoint Presentation</dc:title>
</cp:coreProperties>
</file>