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99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016-F5CC-4138-B800-7CA09D33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R525 SCE Method Comparis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COT Compli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cember 3, 200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bligation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ed L10 is  3% of the QSE’s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 of 1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of 6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ligation is a QSE’s generation plus their Load Resource Response minus their S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veraged in 10-minute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bligation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Comparison - Octo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1068480"/>
            <a:ext cx="8153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s are the same as what is currently done with Regulation Providers except for the participation fac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525 Participation Factor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SE’s actual generation divided by ERCOT’s total generation. Generation values are averaged in 1-minute inter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N Proposed Generation Change Participation Factor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SE’s generation scheduled change divided by ERCOT’s total generation scheduled change. Generation scheduled changes are calculated in 15-minute intervals. These are used for the 15 1-minute intervals in each 15-minute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earlier slide for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PS1 Method Descrip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525 SCPS1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N Proposed SCPS1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PS1 Method Comparis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952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525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xtra  SCE allowance  to QSEs  with a large amount of generation  on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nderstand, tied to share of total ERCOT obligation in real time – regardless of AS obligations or BES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must send participation factor signal that continually varies for QSEs to shadow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N Proposed Generation Chang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xtra SCE allowance to QSEs with large schedule changes and provides extra allowance for regulation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must send participation factor signal that varies every 15 minutes for QSEs to shadow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Obliga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xtra  SCE allowance to QSEs with a large oblig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, similar to BES performance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st for QSEs to shadow – no participation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-Minute Measure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QSE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QSEs failed all thre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QSEs failed the 525 but passed AEN &amp; % O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QSEs failed the 525 &amp; AEN but passed % O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QSE failed the 525 &amp; % OBL but passed 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QSEs passed all thre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se 13, 12 provided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QSEs failed the 525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QSEs failed the AE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QSEs failed the % Oblig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Minute Measure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QSE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QSEs failed 525 &amp; 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QSEs failed 525 but passed 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QSEs failed AEN but passed 5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QSEs passed 525 &amp; 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QSEs failed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QSEs failed A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Meet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control continues to be a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regulating QSEs have no performance expectations that are meas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C Charges do not appear to be addressing frequency contro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pinning Ramp Periods (PRR 5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ve Reserve Ramp Periods (PRR 5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minutes after Unit Trip (Section 6.10.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DIs issued to individual QSEs (Section 6.10.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R 525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measurement to non-regulating Q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exists that these QSEs don’t have anything to assess their relative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olidate regulation, balancing, and base schedule measures of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ize frequency swings during 0600 and 2200 ramp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 adherence to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 adherence to Protocol-defined 10 minute ramp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19520" y="2286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&amp; 10-minute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 intervals where a QSE’s generation is less than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rticipation Factor &lt; 1%, then 1% substit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-minute measur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solute average SCE is compared to adjusted L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SCE| &gt; adjusted L10 = Failed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QSE must pass 90% of the intervals per mon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are adjusted to ex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Is issued to all Q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&amp; Resource Ramp Rate Vio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525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on Factor (PF) is the QSE’s actual generation divided by ERCOT’s total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values are averaged in 10-minute interv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 is included in the formula below to calculate adjusted L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5 * 0.01315 * 6040 * 0.81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86400" y="5257800"/>
                <a:ext cx="533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525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N Propo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ion Factor (PF) is the QSE’s generation scheduled change divided by ERCOT’s total generation scheduled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scheduled changes are calculated in 15-minute interv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averaged appropriately into 10-minute interv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Scheduled Change is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lute Value [ (ResourceSchedule – ResourceSchedulePreviousInterval) + (BalancingDeployment – BalancingDeploymentPreviousInterval) ] + RegulationUpSchedule + RegulationDown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 is limited to between 1% and 10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 is included in the formula below to calculate adjusted L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5 * 0.01315 * 6040 * 0.81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267080" y="5105520"/>
                <a:ext cx="533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N Proposed Detailed PF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076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72880" y="4419720"/>
            <a:ext cx="107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0800" y="4419720"/>
            <a:ext cx="107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0360" y="4419720"/>
            <a:ext cx="107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06880" y="4419720"/>
            <a:ext cx="107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72000" y="4419720"/>
            <a:ext cx="107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1143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f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or I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 IE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2666880"/>
            <a:ext cx="1143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f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or IE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 I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1143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f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or IE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 IE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666880"/>
            <a:ext cx="1143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f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or IE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 IE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904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 -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9976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-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6500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-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716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-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384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 -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080" y="5334120"/>
            <a:ext cx="137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-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N Propo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4-12-03T15:11:55Z</dcterms:modified>
  <cp:revision>58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16771400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E85B5003D51B714A8A6436DB6BD21B1D0700F69D146182963C4BBADCC8C900482FB200000012F8A40000F69D146182963C4BBADCC8C900482FB2000000660F880000</vt:lpwstr>
  </property>
  <property fmtid="{D5CDD505-2E9C-101B-9397-08002B2CF9AE}" pid="6" name="_EmailSubject">
    <vt:lpwstr>PRR525 SCE Monitoring Presentation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