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D713-B63C-4E01-A839-C9772CAB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7345-A775-450E-B55D-BEAB794B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A44E-5468-4F23-BBA3-30701CBF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5822-2028-41B7-8AB9-7F081DB3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9235-60A8-4433-895D-EB8149BA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495-3DF3-49F4-9055-8FE4D99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36A-4BEB-48DE-975A-2B44490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FAA-E0EC-46F8-8BF5-AFDAF737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A64F-D74A-4BD0-A0A0-1D4CAA8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7E0-A021-4F45-B3C1-97432A36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2BB9-CF67-490B-96BC-C095A8A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EF17-30B1-4EC2-BDEC-386C9376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507-8FC1-48F1-8758-279475D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ED19-5D2A-4964-A707-4C1AA647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A94A-D908-4509-AE71-2A2347C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7833-C8CE-455F-938B-5E2F9D52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33F0-7166-4EDE-9989-C9806845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AD0E-2B50-4E9F-956F-CF064052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8844-4C2F-4770-8D20-C271E1C3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4321-A31A-4AD5-B4E6-D3E1D7AA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5F33-77B1-4499-A222-7FB85EA0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DCF4-789E-485C-AF9B-36706A4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AB7A-E150-4639-B280-F6C9862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A523-404E-4BF0-8B5E-C71A1E92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AE05-1C70-4193-AED9-F124D3F9B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0E3-A339-4180-9043-0FE9FF8AF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Special WMS Meeting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PRR 525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cember 3, 200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ustin Energy Propos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onard Stanfiel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QSE 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149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SE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Gen 500 M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00 MW  GAS/STEA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 MW Controllable Uni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041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SE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Gen 1000 M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00 MW  NUCLEA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00 MW  GAS/STEA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 MW Controllable units identical to QSE 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952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able units of QSE A and B are identic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ing QSE B twice the bandwidth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justif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52280" y="152280"/>
          <a:ext cx="899172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152280"/>
          <a:ext cx="9144000" cy="67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Control depends on RGS. RGS providers need to be held responsible based on the amount of RGS they provid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GS service is free up to per Generation/Schedule ratio share and is prohibitive beyond it. This is OK only if we have no ERCOT mark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needs a metric to measure all resource perform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ment of 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COT is challenged by NERC frequency control stand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quency problems during ON PEAK / OFF PEAK transitions (0600 and 220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COT monitors SCE performance of RGS providers on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rly all RGS providers are meeting existing performance metr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ing a Performance Metric for all participants will help ERCOT  identify the cause of the probl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sible Sol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uble RGS procurement (ERCO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R 525 – Establish SCE Performance Criteria for all Market Particip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Proposals (TXU, ERCOT, Austin Energ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3 Proposals assign a performance metric to ALL participants representing resour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3 proposals affect the ENE and AS markets different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rrent Performance Measure:  RGS Ratio Sh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s performance bandwidth on ratio of QSE’s RGS service to the total ERCOT RGS serv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GS service is the amount of change on SCE. It has nothing to do with the absolute value of the schedule or gen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XU PROPOSAL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ration Ratio Sh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s a performance metric to all participants representing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r bandwidth for larger generators could require more RGS ser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s Performance bandwidth for RGS providers with smaller generation ratio shares who are active in the regulation mark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 RGS providers = Higher RGS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RCOT Proposal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ration Obligation Ratio Sh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s a performance metric to all participants representing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s Performance bandwidth on Ratio Shares of % of Scheduled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s performance bandwidth for current RGS Provid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ourages participation of smaller RGS provi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 RGS providers = Higher RGS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stin Energy Proposal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neration Change Ratio Sh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s performance bandwidth on QSE’s ratio share of both RGS &amp; scheduled ENE changes to the total ERCOT  RGS &amp; scheduled ENE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s positive impact of RGS, BES and Bilateral ENE provi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GC Response to Schedule Chang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305320"/>
            <a:ext cx="759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for change can happen stepwise. Respon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not. It is SCE that drives AG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instructions ON SCHEDULE incurs some SC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010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E is about ‘Change’… </a:t>
            </a:r>
            <a:br>
              <a:rPr sz="4400"/>
            </a:b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Controlling to Changes from one interval to another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221120" y="2438280"/>
            <a:ext cx="1628280" cy="2210040"/>
            <a:chOff x="1221120" y="2438280"/>
            <a:chExt cx="1628280" cy="2210040"/>
          </a:xfrm>
        </p:grpSpPr>
        <p:sp>
          <p:nvSpPr>
            <p:cNvPr id="118" name=""/>
            <p:cNvSpPr/>
            <p:nvPr/>
          </p:nvSpPr>
          <p:spPr>
            <a:xfrm>
              <a:off x="1295280" y="3581280"/>
              <a:ext cx="762120" cy="10670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2895480"/>
              <a:ext cx="762120" cy="1752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21120" y="3200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9200" y="2438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581280"/>
              <a:ext cx="838440" cy="0"/>
            </a:xfrm>
            <a:prstGeom prst="line">
              <a:avLst/>
            </a:prstGeom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8280" y="2895480"/>
              <a:ext cx="0" cy="68580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828800"/>
            <a:ext cx="1833480" cy="2743200"/>
            <a:chOff x="5257800" y="1828800"/>
            <a:chExt cx="1833480" cy="2743200"/>
          </a:xfrm>
        </p:grpSpPr>
        <p:sp>
          <p:nvSpPr>
            <p:cNvPr id="125" name=""/>
            <p:cNvSpPr/>
            <p:nvPr/>
          </p:nvSpPr>
          <p:spPr>
            <a:xfrm>
              <a:off x="5257800" y="2895840"/>
              <a:ext cx="919080" cy="16761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2200" y="2210040"/>
              <a:ext cx="919080" cy="23619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560" y="2438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9960" y="18288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2895840"/>
              <a:ext cx="914400" cy="0"/>
            </a:xfrm>
            <a:prstGeom prst="line">
              <a:avLst/>
            </a:prstGeom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9400" y="2210040"/>
              <a:ext cx="0" cy="68580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49568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100 MW, not 5100 M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100 MW, not 1100 M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2578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th QSE’s are identical from AGC point of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SE B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5X more difficult to increase than QSE 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CE is about schedule change, not tot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8800" y="152388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S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00720" y="144792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SE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6:49:43Z</dcterms:created>
  <dc:creator>ji</dc:creator>
  <dc:description/>
  <dc:language>en-US</dc:language>
  <cp:lastModifiedBy>woodards</cp:lastModifiedBy>
  <dcterms:modified xsi:type="dcterms:W3CDTF">2004-12-02T21:39:57Z</dcterms:modified>
  <cp:revision>36</cp:revision>
  <dc:subject/>
  <dc:title>AGC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4788361</vt:r8>
  </property>
  <property fmtid="{D5CDD505-2E9C-101B-9397-08002B2CF9AE}" pid="3" name="_AuthorEmail">
    <vt:lpwstr>Stacey.Woodard@austinenergy.com</vt:lpwstr>
  </property>
  <property fmtid="{D5CDD505-2E9C-101B-9397-08002B2CF9AE}" pid="4" name="_AuthorEmailDisplayName">
    <vt:lpwstr>Woodard, Stacey</vt:lpwstr>
  </property>
  <property fmtid="{D5CDD505-2E9C-101B-9397-08002B2CF9AE}" pid="5" name="_EmailSubject">
    <vt:lpwstr>Austin Energy's Presentation for Special WMS Meeting 12.3.04</vt:lpwstr>
  </property>
</Properties>
</file>