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15E-5AF1-4A23-92D7-3CFAE7F3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881-911E-4AD3-ADB3-AAE6239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3A0-6757-40A6-BB5D-6C6AF4CF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06A-A001-4E1F-AABA-4C161869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E56-D322-4BAE-834B-B163323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52E-2E99-439E-A6EF-66B8E38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F53-D823-4BB9-AB60-97383C6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9B5-897F-4879-A5EC-89201401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154-2F3D-4F8F-8F57-AE8A8AF4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295-D48B-4DE3-AB85-728DF9A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B9A-3F6C-4D06-8EB4-853B3D3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850-B605-4077-96A1-92AB1DA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2DC6-00C3-4CAE-A52B-8B44C6E75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mmercial Operation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orking Group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648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ovember 4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47920"/>
            <a:ext cx="83818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tocols Section 9: Settlement and Billing.  Review of this Section continues.  Preliminary discussions include a 10 day Initial Settlement, 52 day Interim Settlement, 130 day Final Settlement, and 180 day True-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munications: Currently reviewing Market notices both Retail and Wholesale.  Conference call Nov 15 9:00 – 11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: Focused on improvements to the Settlement Dispute tool, including upgrades and changes to 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PS Upd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FE: Taskforce reviewed known issu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dentified areas where improvements can be made including: Left In Hot, Disconnects, Smoothing of missed Meter Reads and other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mprovements that are currently being worked via other ERCOT committees will be documented and tracked to measure level of succes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mprovements not currently being worked will be prioritized and plans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Ann S. Boren</cp:lastModifiedBy>
  <dcterms:modified xsi:type="dcterms:W3CDTF">2004-11-03T14:54:18Z</dcterms:modified>
  <cp:revision>104</cp:revision>
  <dc:subject/>
  <dc:title>Point-to-Point</dc:title>
</cp:coreProperties>
</file>