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AC58F-CEA5-474A-B242-7118C80C1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8E631-6478-424F-9054-72E18EDED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1254C-C666-4FE1-BACE-BC964A8EB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8B260-F105-4271-9A2E-99396C727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65A32-CC0F-48A8-8C22-FDE55BEC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748D7-F1C5-4011-9587-4387E4F7E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C772-1E69-4905-87DE-2E177F001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D5261-DE56-41AF-811B-DB16833F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86B7-D586-46F9-BD6E-F11DC9AF0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5B62-CBE6-4C22-80CA-2C9DC9DBE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683E-CB73-474E-8609-9EFFA5EE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7BFE-9DCC-49B0-B120-6C8889331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221E-242E-4F23-81B2-C4E0CB4D6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828800" cy="982800"/>
          </a:xfrm>
          <a:prstGeom prst="rect">
            <a:avLst/>
          </a:prstGeom>
          <a:ln w="0">
            <a:noFill/>
          </a:ln>
        </p:spPr>
      </p:pic>
      <p:sp>
        <p:nvSpPr>
          <p:cNvPr id="6"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mailto:CRaish@ercot.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Research Sampling (LRS)</a:t>
            </a:r>
            <a:br>
              <a:rPr sz="3200"/>
            </a:br>
            <a:r>
              <a:rPr b="0" lang="en-US" sz="3200" spc="-1" strike="noStrike">
                <a:solidFill>
                  <a:srgbClr val="000000"/>
                </a:solidFill>
                <a:latin typeface="Times New Roman"/>
              </a:rPr>
              <a:t>Project Update</a:t>
            </a:r>
            <a:endParaRPr b="0" lang="en-US" sz="32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2004</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52FE62-006B-426E-917F-E70473CD993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RS PROJECT UPDATE</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arket Update – Production Deployment</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RS production deployment at ERCOT was completed on 11/1/2004</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loyment was successful and ahead of schedul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major issue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DSPs have been converted over to production successfully</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s still on Pilot testing files, but plan to convert to Production in 2-3 weeks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DSPs are successfully transmitting information to Production, without any major issu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or TDSPs issues outstanding/working:</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DSP having some issues with Sample Management Files (CSV). Correction in progress at TDSP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or meter read (LS) file issue specifically with unit of measure. Correction in progress at TDSP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e to have Tuesday morning LRS status conference call to address any production or pilot issue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arket Updates – Pilot and CR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s are starting to download test files in Pilot. ERCOT is contacting ALL signed up CRs with the LRS program to confirm commitment. If there are any CRs that want to sign up or discontinue service with the LRS program, please contact Carl Raish at </a:t>
            </a:r>
            <a:r>
              <a:rPr b="0" lang="en-US" sz="1600" spc="-1" strike="noStrike" u="sng">
                <a:solidFill>
                  <a:srgbClr val="ccccff"/>
                </a:solidFill>
                <a:uFillTx/>
                <a:latin typeface="Times New Roman"/>
                <a:hlinkClick r:id="rId1"/>
              </a:rPr>
              <a:t>CRaish@ercot.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5EFCF85-7FBE-40DF-BA3E-FBCD01D44C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RS PROJECT UPDATE</a:t>
            </a:r>
            <a:endParaRPr b="0" lang="en-US" sz="3200" spc="-1" strike="noStrike">
              <a:solidFill>
                <a:srgbClr val="000000"/>
              </a:solidFill>
              <a:latin typeface="Times New Roman"/>
            </a:endParaRPr>
          </a:p>
        </p:txBody>
      </p:sp>
      <p:sp>
        <p:nvSpPr>
          <p:cNvPr id="49" name="PlaceHolder 2"/>
          <p:cNvSpPr>
            <a:spLocks noGrp="1"/>
          </p:cNvSpPr>
          <p:nvPr>
            <p:ph/>
          </p:nvPr>
        </p:nvSpPr>
        <p:spPr>
          <a:xfrm>
            <a:off x="228240" y="1371600"/>
            <a:ext cx="83818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rket Updat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DSP Installation update as of 11/1/2004</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TDSPs have exceeded 90% installation threshold, few remaining outliers are currently being work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P-Central (54% installation) has stated they will meet installation threshold by end of November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0" name="" descr=""/>
          <p:cNvPicPr/>
          <p:nvPr/>
        </p:nvPicPr>
        <p:blipFill>
          <a:blip r:embed="rId1"/>
          <a:stretch/>
        </p:blipFill>
        <p:spPr>
          <a:xfrm>
            <a:off x="49320" y="2224080"/>
            <a:ext cx="9043920" cy="2195640"/>
          </a:xfrm>
          <a:prstGeom prst="rect">
            <a:avLst/>
          </a:prstGeom>
          <a:ln w="0">
            <a:noFill/>
          </a:ln>
        </p:spPr>
      </p:pic>
      <p:sp>
        <p:nvSpPr>
          <p:cNvPr id="4" name="PlaceHolder 3"/>
          <p:cNvSpPr>
            <a:spLocks noGrp="1"/>
          </p:cNvSpPr>
          <p:nvPr>
            <p:ph type="sldNum" idx="3"/>
          </p:nvPr>
        </p:nvSpPr>
        <p:spPr/>
        <p:txBody>
          <a:bodyPr/>
          <a:p>
            <a:fld id="{F9B89254-BF44-4368-B9EE-F4484E2F52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RS PROJECT UPDATE</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RCOT Upda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ion Deployment was successfu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will continue to support Pilot until CRs have been rolled into Produc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COT has an additional migration (non-market facing) that it plans to do to enhance internal database usability. This should be in production by the end of Novemb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7BEC7D-80D8-4470-BDE4-432B2D7CF655}"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wariner</dc:creator>
  <dc:description/>
  <dc:language>en-US</dc:language>
  <cp:lastModifiedBy>kbergman</cp:lastModifiedBy>
  <cp:lastPrinted>2002-09-24T18:27:58Z</cp:lastPrinted>
  <dcterms:modified xsi:type="dcterms:W3CDTF">2004-11-04T15:38:37Z</dcterms:modified>
  <cp:revision>285</cp:revision>
  <dc:subject>RMS</dc:subject>
  <dc:title>ERCOT RMS Update 10-16-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35515971</vt:r8>
  </property>
  <property fmtid="{D5CDD505-2E9C-101B-9397-08002B2CF9AE}" pid="3" name="_AuthorEmail">
    <vt:lpwstr>amarquez@ercot.com</vt:lpwstr>
  </property>
  <property fmtid="{D5CDD505-2E9C-101B-9397-08002B2CF9AE}" pid="4" name="_AuthorEmailDisplayName">
    <vt:lpwstr>Marquez, Adrian</vt:lpwstr>
  </property>
  <property fmtid="{D5CDD505-2E9C-101B-9397-08002B2CF9AE}" pid="5" name="_EmailSubject">
    <vt:lpwstr>RMS Meeting Update</vt:lpwstr>
  </property>
  <property fmtid="{D5CDD505-2E9C-101B-9397-08002B2CF9AE}" pid="6" name="_PreviousAdHocReviewCycleID">
    <vt:r8>1348640867</vt:r8>
  </property>
  <property fmtid="{D5CDD505-2E9C-101B-9397-08002B2CF9AE}" pid="7" name="_ReviewingToolsShownOnce">
    <vt:lpwstr/>
  </property>
</Properties>
</file>