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741-5557-4423-A451-ABCFD0C2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A91-6B1C-4D1B-97BA-B2629F9C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8AB-10B7-494D-A6B6-DF2AA6F0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23F-E4A2-4529-90DD-0551D9D4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EC3-B832-4913-9870-27F47C2F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2FE-BC96-4B78-8A71-ABFD4AFC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6DC-4F2C-4A47-BCED-8F13105C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2C8-42BB-4D6F-86AC-21875914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C95-0DC5-4CF2-8302-FA0E69B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0B8-88C5-4CE7-BCC9-C9FEB1C5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6CC-C964-480A-80F5-4EE99018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181-F2EF-4209-956D-FE2D8F6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3788-50A8-4B19-99E0-93D809E9E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Metr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connect/Disconnect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n-Pay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UCT Project 297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276720" y="304920"/>
          <a:ext cx="274320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920"/>
                    <a:ext cx="27432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connect Processing Success R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upon the number of Reconnect orders received from each CR what is the success rate of completion reported by percen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uld also include only the Reconnects received by TDSP for the calendar month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DSP should have alread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cluded all Duplicates and Rejected transactions in the Reconnect Orders Received numbers to report this percen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059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nexecutable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connects for Non-pa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the total number of Disconnects for non-payment that may have been unexecutable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0_01 Reconnect was received before 650_01 Disconnect for Non-Payment was dispatched and/or performed by the TDSP canceling 650_01 disconnec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 and/or Weather Moratorium – This should be added as a separate line item to provide a clearer picture of why large numbers of 650_02 Transactions may be returned unexecutabl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ectation is that all CR’s given Disconnect for Non-Payment/Reconnect Authority by the PUCT and TDSPs should be compliant with these reporting requirements in approximately 1 to 2 months from October 15, 2004 Disconnect-Reconnect Repor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dditional time is needed or required by any market participant they should contact Lauren Damen directly to discuss their issue and reason for an extension to this PUCT requ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imeline for Imple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495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urpose o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5909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i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 this Report is intended to provide the Texas State Legislature and Public Utility Commission of Texas with statistics on how the Reconnect and Disconnect for Non-Payment process is perform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mpetitive Retailer’s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por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nnect for Non-Payment Notices Sent/Mai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nnect for Non-Payment Transaction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nect Transaction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-Out Transaction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isconnect for Non-Payment Notices Sent/Mail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the total number of Disconnect Notices sent to Retail Customers for the calendar month, this would also include duplicates because a CR could have mailed a notice on the 1st and the customer didn’t take care of the debit, so a second notice was mailed before the end of the mon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connect for Non-Payment Transactions Submit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connect Transactions Submitt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51460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the total number of Disconnect for Non-Payment or Reconnect  Transactions (650_01) submitted by the CR that were accepted by the TDSP for the calendar month.  The CR should alway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clude all Duplicates and Rejected transactions from this tota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ove-Out Transactions Submit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direct result of a successfully completed 650_01 Disconnect for Non-Payment transaction a CR may issue an 814_24 Move-Out transaction to remove their financial liability and/or responsibility from an ESI 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the total number of Move-Out Transactions (814_24) submitted by the CR that resulted from a successfully completed Disconnect for Non-Payment transaction and the 814_24 Move-out Transactions that were accepted by the TDSP for the calendar month.  The CR should alway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lude all Duplicates and Rejected transactions from this tot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DSP’s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onnect for Non-Payment Transactions comple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nect Transaction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nect Processing Success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xecutable Disconn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05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isconnect for Non-Payment Transactions Complete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the total number of Disconnect for Non-Payment Response Transactions (650_02) completed by the TDSP for the calendar month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these were completed by the TDSP th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otal would not include duplicates and/or rejected transactions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connect Order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ceiv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the total number of Reconnect Transactions (650_01) received by the TDSP for the calendar month.  The TDSP should alway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clude all Duplicates and Rejected transactions from this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3:06:07Z</dcterms:created>
  <dc:creator>00015621</dc:creator>
  <dc:description/>
  <dc:language>en-US</dc:language>
  <cp:lastModifiedBy>00015621</cp:lastModifiedBy>
  <dcterms:modified xsi:type="dcterms:W3CDTF">2004-11-03T21:43:47Z</dcterms:modified>
  <cp:revision>13</cp:revision>
  <dc:subject/>
  <dc:title>Market Metrics  Working Group</dc:title>
</cp:coreProperties>
</file>