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FEB-CCF0-4D6D-977C-DF096B60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352-5E71-4124-8D87-17123240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884-018D-442B-8889-E53F1661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B96-62E0-46E1-ABFF-3DB314F9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488-4805-4598-97FF-B1B9DBBE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EFE2-2A50-4E07-9F8C-70E234A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E252-7897-4488-A628-2D5F69E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6CA0-EBC4-47F6-B9A5-7FE3460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1E1E-284E-4DF5-A58F-48C50B43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C425-10AF-4126-8C07-0DC1236B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ED6-DDD1-42AF-88C2-CBD4C9A3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CA7-7796-48F5-BA7D-CA040D1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2EB7-2617-4788-B720-497751A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63D-CA06-47E4-A826-0BAE900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7DE-D9C1-4F24-91A2-52851981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E860-D075-4542-B621-49D32E72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5D21-C39D-4B44-BE94-2CC1E40B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0B3-AE40-4B7F-8D02-94566F0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81F-D570-48B3-8407-0B533D36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E6E-61AF-4F55-ADCB-580E714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6E6-4B34-4B00-9E4A-ED77067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00C-0846-4D91-8EF1-8CEB312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CDC-8E15-4597-A77B-7844C6A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CED-423A-4CC2-88D8-7B640E8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840B-2C80-4470-9765-A1A719E3B4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EDB2-D7DC-493F-9BE7-955B9052D6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 Task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 Update 11/11/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V Upd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Leap Frog Inadvertent with IAG TF.  Rita to report and IAGTF to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with ERCOT to resolve issue when DEVs become another “Type” in the middle of proce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Ps did not want to have to re-file DEV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Ps agreed to review all DEVs for programming flaw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DSPs agreed to notify CRs when a “Modify Type” occurs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RCOT specifically suggested MPs review “Type 4 – LSE Relationship” DEVs for cha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pdate on Voting It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GRR to modify Section 7.2 documenting the process for submitting Data Extract Variances – will be reviewed by TAC 1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to modify Section 11 requiring ERCOT to provide data to market participants for synchronization.  PRR also  creates the process for submitting the corrected data. – Approved at PRS 10/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d original scope by creating a process for contesting DEV resolution and updated DEV Spread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as needed to support DEV issues, including proposed changes to the ERCOT Settlement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5:04:58Z</dcterms:created>
  <dc:creator>RMA4</dc:creator>
  <dc:description/>
  <dc:language>en-US</dc:language>
  <cp:lastModifiedBy>Ann S. Boren</cp:lastModifiedBy>
  <dcterms:modified xsi:type="dcterms:W3CDTF">2004-11-03T14:54:44Z</dcterms:modified>
  <cp:revision>4</cp:revision>
  <dc:subject/>
  <dc:title>DEV Task Force</dc:title>
</cp:coreProperties>
</file>