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702-D428-4E7F-AD2A-2B021016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421A-8B3A-48CD-8552-57F0919D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5F3-9B30-4C93-B2EE-FC887BBD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D3E-3EF1-438B-8338-3FBC2B87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537-EBF1-4DFF-A5BB-DC2A22F0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01C-EA54-4E92-89BE-16F9DA07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7E2A-368B-4C92-8222-3B2148AD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D32B-55F6-41F0-BEDF-309863E5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6C8-A83A-47CD-B1F9-E1F1FC06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727E-F099-4357-B3C2-4A6933AA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63F-784E-4F2D-B37E-E0B361E0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FC36-FD57-48A4-9D8A-ED3E13E1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2AC0-49A6-4CAF-9764-4DC9AD0FA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240"/>
            <a:ext cx="792468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R479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DR Optional Removal Threshold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ERCOT Project PR4005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5F89-97BC-4183-BAD1-1BEDBC7340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R479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R 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R479- IDR Optional Removal 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for removal of IDR meters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mise Load is less than 150kW for 12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ed by New Customer Move-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requirements for implementation of PR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changes required to align IDR Requirement Report (estimated at less than $50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process changes required in Data Aggregation group to receive/update Lodestar system with the meters removed by the CRs for applicable Move-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AFD-213F-4595-9B48-36FC6A90AA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R479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R/Project 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ly 20, 2004- BOD approved PR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ly 23, 2004- PRS assigned 2.1 Project 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created project PR40055, but did not initiate in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will be moved onto the 2005 Project Priority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s with a Priority of less than 1.2 will likely fall below the budgeted cut-line for projects and not be worked in 200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S is the sub-committee that sets project pri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 could consider a motion to recommend that PRS reprioritize PRR479 as a Priority of _.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dividual Market Participant can directly approach PRS with a recommended change in project pri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F9D2-295B-48B0-969E-8CC812F92C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11-04T15:41:22Z</dcterms:modified>
  <cp:revision>2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38505069</vt:r8>
  </property>
  <property fmtid="{D5CDD505-2E9C-101B-9397-08002B2CF9AE}" pid="3" name="_AuthorEmail">
    <vt:lpwstr>kwariner@ercot.com</vt:lpwstr>
  </property>
  <property fmtid="{D5CDD505-2E9C-101B-9397-08002B2CF9AE}" pid="4" name="_AuthorEmailDisplayName">
    <vt:lpwstr>Wariner, Kerry</vt:lpwstr>
  </property>
  <property fmtid="{D5CDD505-2E9C-101B-9397-08002B2CF9AE}" pid="5" name="_EmailSubject">
    <vt:lpwstr>RMS - November 13 2003 - 2nd draft.ppt</vt:lpwstr>
  </property>
  <property fmtid="{D5CDD505-2E9C-101B-9397-08002B2CF9AE}" pid="6" name="_PreviousAdHocReviewCycleID">
    <vt:r8>-165021420</vt:r8>
  </property>
  <property fmtid="{D5CDD505-2E9C-101B-9397-08002B2CF9AE}" pid="7" name="_ReviewingToolsShownOnce">
    <vt:lpwstr/>
  </property>
</Properties>
</file>