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7F33-3707-488A-ADEA-D8082B9C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874-607F-4C42-A6E7-FB5660E6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2EA7-15B4-4D3F-B9E0-4BD9198F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28C-9EC2-45CC-82B9-03FCC486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A3B-7B8D-4BFD-9414-BCAF77E1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B9F-84D4-4E1F-9EE1-7A46C6E8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86D3-7E85-42DB-9110-D4DF8E6E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FD9-4C1A-4B6C-9EDA-351D2603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C21-22EB-44C1-BA89-4A99371E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9FF-1909-41DC-8BC8-8F05CDEC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558-6E17-4D82-AFEC-6C4556DD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D01-E69D-482E-A85D-99B91B4E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46A3-55E7-48FC-91D3-74889657D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COT Supporting Reports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MS – 11/11/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E0F-1F32-4427-856B-56485E26CE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11-01-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34080" y="1733400"/>
            <a:ext cx="3105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on 2003 issues = 324,4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8600" y="1733400"/>
          <a:ext cx="5400720" cy="26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33400"/>
                    <a:ext cx="540072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C62A-120C-4A8E-B43E-AF89673237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ERCOT 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11-02-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8600" y="1066680"/>
          <a:ext cx="532440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532440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5791320" y="1295280"/>
            <a:ext cx="30477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310 New and In Progress Non-ERCOT issues, 25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are for the year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133720" y="3505320"/>
          <a:ext cx="5486400" cy="313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505320"/>
                    <a:ext cx="548640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78B-E582-44AF-95CE-F4A2391C5E8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00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Day to Day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11-01-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1447920"/>
            <a:ext cx="327636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240 New &amp; In Progress, 126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ESI IDs worked to date since January 1, 2004 = 214,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24640" y="4343400"/>
            <a:ext cx="321444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2,838 New &amp; In Progress, 602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ESI IDs not track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8600" y="1447920"/>
          <a:ext cx="518148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518148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F66-0267-4215-9C4C-AE1B5DE47C9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Data Extract Vari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11-01-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43040" y="1523880"/>
          <a:ext cx="77058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523880"/>
                    <a:ext cx="77058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133720" y="6095880"/>
            <a:ext cx="6019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Of the 329 New &amp; In Progress ERCOT Issues, 92 are resolved and awaiting other party resolution check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D3D-1E04-41FA-9510-811EC7ABFEE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rak ERCOT Initiated Issue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sue Sta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of 11-01-04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1981080"/>
            <a:ext cx="312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4800600"/>
            <a:ext cx="69339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issue initiated by ERCOT to the TDSP or CR as a result of one of the following proje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 Protection Period and 814.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67 Received on Canceled Servic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new issue types to support Energy Aggregation Management Department issu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14400" y="1447920"/>
          <a:ext cx="7419960" cy="28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41996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9DF-ABF9-4D6C-8B3C-AD00E244CE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2514600"/>
            <a:ext cx="81532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2.0 Solution to Stac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t Implementation Success Cri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thly Report – RMS 11/11/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ides to be sent early next w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A6D-7445-472D-AC9A-ABAC02F469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514600"/>
            <a:ext cx="81532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COT Retail Outages and Transaction Processing Not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 of 11/4/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DEA-052F-4B20-BEA9-384C01253C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Retail Ou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39152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441-ECAA-4B2D-B8CC-AA699E61DC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Retail Outages - D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19760" cy="523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488-02AF-4014-B0FD-BCF5F71E8A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153280" cy="3498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 –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105160" y="23623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57960" y="217008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F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236232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05640" y="2133720"/>
            <a:ext cx="17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ned outage - week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461-FF27-441E-A172-BD6F69F647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4F3-DDD1-4522-AC5B-CA7E3A6051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1907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 –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2514600"/>
            <a:ext cx="759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61000" y="205740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ned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495320" y="4952520"/>
            <a:ext cx="304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23320" y="624852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ned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ek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105520" y="4876560"/>
            <a:ext cx="7596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228600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8960" y="182880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ned TML out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ML ph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410080" y="495288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7543800" y="251460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48480" y="1905120"/>
            <a:ext cx="117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rans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257800" y="48769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36232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48240" y="190512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ned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ek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971440" y="2630520"/>
            <a:ext cx="56340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11200" y="24382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H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200040" y="2666880"/>
            <a:ext cx="1523880" cy="14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74200" y="236232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ESB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7314840" y="48769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9640" y="579132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ESB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063-B150-459B-9521-F708929D1D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1048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 –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514600" y="24382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9560" y="1981080"/>
            <a:ext cx="92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X SET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03520" y="2666880"/>
            <a:ext cx="1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5040" y="2057400"/>
            <a:ext cx="117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rans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048120" y="472392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3800" y="54864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H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809880" y="472392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12040" y="601992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ESB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7391520" y="472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8800" y="541008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ned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ek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2AA-313E-41EF-A150-300B65E5F7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 –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796284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D8E-03A5-4FEA-93DE-E6403163B0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to present updates quarterly to RMS along with the Performance Metrics upd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to add monthly reports to the supporting materials sent to 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2F8A-021B-4414-9A8E-984F1CEFD6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3006720"/>
            <a:ext cx="8442360" cy="263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F843-99DB-4ABE-81E7-F57C66F9E5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8520" y="1309680"/>
            <a:ext cx="8886960" cy="42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F68C-4BBA-494D-BFB8-63CA6E0286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82240" cy="480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DBF-CB5D-4EB7-A0ED-8E9CC0B2A0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2CBD-7AEB-4AA9-9CC0-B6AF2F74D7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ed in ERCOT systems.  The Service Order Statuses that are considered Canceled are:  Cancele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anually or concurrent processing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celed by Customer Request, Canceled by Customer Objection, Canceled Permit Not Received, Canceled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FasTrak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FasTrak issue and work with ERCOT to get ERCOT systems changed to complete.  Completion of cance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724-F955-4109-83A3-CCC889C9A8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51055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 above includes only data since TX SET 2.0 Implementation – due to changes in cancellation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/20/04 date with high totals represents a fix to the reporting and “catching up” of the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C0F1-E71B-4787-B78C-01DB3D3B0D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rak Issue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342900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4 Day-to-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Extract Variances (D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Initiate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6E8-F940-40E0-8394-5D5AAC8646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11-04T16:41:18Z</dcterms:modified>
  <cp:revision>295</cp:revision>
  <dc:subject/>
  <dc:title>PowerPoint Presentation</dc:title>
</cp:coreProperties>
</file>