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561-2956-4862-A56D-717A7B6E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1FC-3618-4FBA-97F1-089230C0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BA4-5A61-4453-83D8-4962B355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7BF-B0C5-4EE5-B28E-0A31AB25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436-F022-4227-895D-4C06B0E9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9A8-CAB1-4931-A283-5DE3F289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4BD-84A1-4B30-B36E-4C6BA98D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CAA-8A46-4836-8ED8-C8F59F8E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B49-14C2-4D4F-84D1-86F8FE59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449-6D9C-4E53-8972-5692C93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9F9-D28A-4E96-93A7-5F00A422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020-FFF8-4096-88F2-774DD0A4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Bookman Old Styl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5BD4-6697-453F-9BDC-E4122D7B1243}" type="slidenum">
              <a:rPr b="0" lang="en-US" sz="1400" spc="-1" strike="noStrike">
                <a:solidFill>
                  <a:srgbClr val="000066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9121400">
            <a:off x="4761000" y="4443480"/>
            <a:ext cx="1295280" cy="11430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2" name=""/>
          <p:cNvSpPr/>
          <p:nvPr/>
        </p:nvSpPr>
        <p:spPr>
          <a:xfrm rot="20391600">
            <a:off x="2819160" y="3123720"/>
            <a:ext cx="152388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685800"/>
            <a:ext cx="1524240" cy="152388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Austin, TX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November 1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Bookman Old Style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, 2004</a:t>
            </a:r>
            <a:endParaRPr b="0" lang="en-US" sz="32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143000"/>
            <a:ext cx="7467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X SET</a:t>
            </a:r>
            <a:endParaRPr b="0" lang="en-US" sz="4800" spc="-1" strike="noStrike">
              <a:solidFill>
                <a:srgbClr val="000066"/>
              </a:solidFill>
              <a:latin typeface="Bookman Old Style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Update</a:t>
            </a:r>
            <a:endParaRPr b="0" lang="en-US" sz="48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6" name=""/>
          <p:cNvSpPr/>
          <p:nvPr/>
        </p:nvSpPr>
        <p:spPr>
          <a:xfrm rot="19818000">
            <a:off x="6095520" y="2361960"/>
            <a:ext cx="990720" cy="11430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7" name=""/>
          <p:cNvSpPr/>
          <p:nvPr/>
        </p:nvSpPr>
        <p:spPr>
          <a:xfrm rot="4621200">
            <a:off x="4990320" y="31622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8" name=""/>
          <p:cNvSpPr/>
          <p:nvPr/>
        </p:nvSpPr>
        <p:spPr>
          <a:xfrm rot="4621200">
            <a:off x="4685760" y="1943280"/>
            <a:ext cx="38088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49" name=""/>
          <p:cNvSpPr/>
          <p:nvPr/>
        </p:nvSpPr>
        <p:spPr>
          <a:xfrm rot="4621200">
            <a:off x="2095200" y="2629080"/>
            <a:ext cx="380880" cy="3045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0" name=""/>
          <p:cNvSpPr/>
          <p:nvPr/>
        </p:nvSpPr>
        <p:spPr>
          <a:xfrm rot="4621200">
            <a:off x="3634920" y="415800"/>
            <a:ext cx="53352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1" name=""/>
          <p:cNvSpPr/>
          <p:nvPr/>
        </p:nvSpPr>
        <p:spPr>
          <a:xfrm rot="4621200">
            <a:off x="6000480" y="476280"/>
            <a:ext cx="761760" cy="876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078-93C0-4C13-B5DB-422C9627468D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X SET Version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2.0A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2.1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5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6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7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8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59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0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1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Discussion Topic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973-FEFA-4EFD-B642-A5D0BEDC2320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t was decided at the July meeting of TX SET that TX SET will release two new versions of the TX SET Implementation Guides.  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RMS approved the implementation timeline for TX SET Versions 2.0A and 2.1 at its August meeting.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6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7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8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69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0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1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2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TX SET Version Release Schedule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28D-D509-4FC4-915D-A66F6DB01C59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Published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: Early November 2004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.D.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: November 29, 2004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est Flight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: TX SET does not recommend that 2.0A be associated with a Test Flight.  The Change Controls associated with this release will not be impacting MPs systems, and therefore do not require testing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arket Benefit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: TX SET wants to keep I.G.s clean and updated for market benefit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7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8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79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0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1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2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3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ersion: TX SET 2.0A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BEC-C708-4B01-B490-867DEAD09995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Contains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9 TX SET Change Controls </a:t>
            </a:r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Gray Box Changes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IMO Clean-Up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X SET Clean-Up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Example Changes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X SET Clean-Up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lean-Up of Spelling &amp; Punctuation Errors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Re-Alphabetizing Codes in I.G.s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8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89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0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1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2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3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4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ersion: TX SET 2.0A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8B0-01FC-4B05-8A3B-F47AC9A960B0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Key Dates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hange Controls to be considered must be sent in by November 2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Bookman Old Style"/>
              </a:rPr>
              <a:t>rd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hange Control Conference Call December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Bookman Old Style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, 2004 @ TX SET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Published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: March 2005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mplementation Date (I.D.)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: Early December 2005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est Flight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: 0905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99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0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1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2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3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4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5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ersion: TX SET 2.1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A78-0F5E-41A5-986F-53DC90D91696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ontains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ill apply the decisions from the 810/867/824 Taskforce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824 Reject codes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Will provide CRs with “Billing Determinants” on the 810_02 Invoice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ill apply decision from the Transaction Improvement Task Force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814_24 will have indicator code for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Bookman Old Style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MVO request</a:t>
            </a:r>
            <a:endParaRPr b="0" lang="en-US" sz="18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650_04 will have indicator requesting MVO for permanent meter removal</a:t>
            </a: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380880"/>
            <a:ext cx="1524240" cy="152424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0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1" name=""/>
          <p:cNvSpPr/>
          <p:nvPr/>
        </p:nvSpPr>
        <p:spPr>
          <a:xfrm rot="1912200">
            <a:off x="1904760" y="685440"/>
            <a:ext cx="83808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2" name=""/>
          <p:cNvSpPr/>
          <p:nvPr/>
        </p:nvSpPr>
        <p:spPr>
          <a:xfrm rot="4621200">
            <a:off x="4266360" y="419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3" name=""/>
          <p:cNvSpPr/>
          <p:nvPr/>
        </p:nvSpPr>
        <p:spPr>
          <a:xfrm rot="7609200">
            <a:off x="7924320" y="456840"/>
            <a:ext cx="838440" cy="68580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4" name=""/>
          <p:cNvSpPr/>
          <p:nvPr/>
        </p:nvSpPr>
        <p:spPr>
          <a:xfrm rot="20325600">
            <a:off x="6248520" y="533520"/>
            <a:ext cx="1218960" cy="9903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5" name=""/>
          <p:cNvSpPr/>
          <p:nvPr/>
        </p:nvSpPr>
        <p:spPr>
          <a:xfrm rot="1993800">
            <a:off x="3352320" y="762120"/>
            <a:ext cx="838440" cy="76176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6" name=""/>
          <p:cNvSpPr/>
          <p:nvPr/>
        </p:nvSpPr>
        <p:spPr>
          <a:xfrm rot="1896600">
            <a:off x="5638320" y="914040"/>
            <a:ext cx="381240" cy="304920"/>
          </a:xfrm>
          <a:prstGeom prst="star5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Version: TX SET 2.1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B22-6D1B-40D3-96EF-ED05436B0864}" type="slidenum">
              <a:t>7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03:35:39Z</dcterms:created>
  <dc:creator>kpatrick</dc:creator>
  <dc:description/>
  <dc:language>en-US</dc:language>
  <cp:lastModifiedBy>kpatrick</cp:lastModifiedBy>
  <dcterms:modified xsi:type="dcterms:W3CDTF">2004-11-03T20:18:28Z</dcterms:modified>
  <cp:revision>68</cp:revision>
  <dc:subject/>
  <dc:title>Muni / Electric Coop Meeting</dc:title>
</cp:coreProperties>
</file>