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ACB-CF41-4C87-A72A-B2BD3516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20B-6D7C-428E-970E-925585A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429-D6A2-48D7-8FF4-B3B9E054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2C2-E9BD-44DD-B5C2-B44FEA98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0E6-B87E-4A04-860E-356F11A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70E-2AFC-4750-A90E-DB0257F5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69A-12D5-47E4-A873-BEB80A3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D89-CB79-4029-831B-DCDC2C13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889-2E4A-4143-8505-04D869E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8AD-0699-49F1-8582-7742880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013-6F70-477F-9549-B35E27E2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CAB-6F19-4BA2-9FCC-11846BA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586C-EA5C-401A-B648-469B21E6CE80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9680"/>
            <a:ext cx="9144000" cy="198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952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ancel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Drop to ARE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nouncemen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t was brought to TX SET’s attention that there was a discrepancy between a RMS decision and TX SET Implementation Guid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July ’03 RMS approved a market request to comply with the customer protection rule that allowed CRs to cancel a “Drop to AREP”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ough the decision was made, the guides were not updated to reflect this decision.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he guides have since had a Change Control written and approved by TX SET to add "Drop to AREP" to the list of valid cancellation reason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n the interim a process was needed, TX SET made an announcement to the market on 11/5/04 detailing that interim proces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Background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371600"/>
            <a:ext cx="8534160" cy="5105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Effectively immediately, ERCOT is instructed by Texas SET to accept FasTrak issues submitted by CRs to cancel Drop to AREPs for a time period not to exceed the implementation of V2.1, scheduled for the 1005 Market Flight Test, where Change Control 2004-642 will be implemented to update the 814_08 guide to indicate an 814_08 will be used by the CR for canceling a drop to AREP.   Any CR already utilizing the 814_08 EDI transaction for this process, or the Disconnect for Non Pay functionality are strongly encouraged to continue doing s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nouncemen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ERCOT will complete the FasTrak issue only upon TDSP approval of the cancel, per the FasTrak guide Section 3.10a that state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3.10a CR Initiated Manual Cancella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44560" indent="-3808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Rs can only request cancellation of their own service orders.  ERCOT will reject a CR request for cancellation of another CR’s service order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44560" indent="-3808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ll CR initiated manual cancellations of service orders require TDSP approval.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44560" indent="-3808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he CR must obtain this approval either by having TDSP update the issue or providing a copy of the email approval uploaded to the FasTrak issue from the TDSP authorizing cancellatio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44560" indent="-38088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DSP must be made the monitoring party of FasTrak issue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44560" indent="-3808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ERCOT will reject CR requested cancellation requests on completed orders.  ERCOT will not reject CR requested cancellation requests for pending orders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nouncemen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DSPs will receive an 814_08 cancel from ERCOT with an MAN code that, according to the Solution to Stacking Rule 26, cannot be rejected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For those Drop to AREP orders that have already completed, CRs will follow the process for submitting an Inadvertent FasTrak issu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Announcemen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5228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21:16:58Z</dcterms:created>
  <dc:creator>kpatrick</dc:creator>
  <dc:description/>
  <dc:language>en-US</dc:language>
  <cp:lastModifiedBy>kpatrick</cp:lastModifiedBy>
  <dcterms:modified xsi:type="dcterms:W3CDTF">2004-11-05T17:50:37Z</dcterms:modified>
  <cp:revision>17</cp:revision>
  <dc:subject/>
  <dc:title>Consecutive Monthly Estimations</dc:title>
</cp:coreProperties>
</file>