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51B-33A6-44F4-B849-8B6E8C2E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4F68-EF2A-4D21-9152-1D68CF28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792B-97D1-433B-873A-2AF4056A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79DF-CA78-42A2-9BDB-64B0693A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7C24-0159-47C9-8EEE-67F0A1F0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2632-AC66-46B9-A4EC-7BD27C0D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31A6-F66F-4CD7-B4D7-35309BB5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8B81-4F6C-49D3-A8AF-5F6797CA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56AC-A605-4241-87CB-6EC869FE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11E0-3B08-4F1E-A64A-41681D2A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F90F-83B1-481B-B21A-AAA5B7D4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824A-6751-45BE-93B2-8D3B2093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3BE4-221E-4EDF-BFAB-5A83C5B65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1905120"/>
            <a:ext cx="815328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tlement Calend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Extract Vari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AD85-6522-4378-BF0B-C7A5272006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30360" y="4648320"/>
            <a:ext cx="1295280" cy="1066680"/>
          </a:xfrm>
          <a:prstGeom prst="ellipse">
            <a:avLst/>
          </a:prstGeom>
          <a:solidFill>
            <a:srgbClr val="c0c0c0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ttlement Cale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2900520"/>
            <a:ext cx="6024600" cy="833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6026040" cy="142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72280" y="2057400"/>
            <a:ext cx="2336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egan with 1 Resettlement a nig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57880" y="2971800"/>
            <a:ext cx="258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oved to 3 Resettlements a nig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57880" y="3962520"/>
            <a:ext cx="258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Completed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Resettl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57880" y="5867280"/>
            <a:ext cx="258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Catch up to 180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True-Up 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30360" y="2895480"/>
            <a:ext cx="1295280" cy="9144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0360" y="3962520"/>
            <a:ext cx="1298520" cy="60948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58800" y="5791320"/>
            <a:ext cx="1298880" cy="9144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30360" y="2057400"/>
            <a:ext cx="129852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480060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ettling March 27-29, 200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as of November 11,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28600" y="3962520"/>
            <a:ext cx="6010200" cy="558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28600" y="5799240"/>
            <a:ext cx="6010200" cy="830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28600" y="4730760"/>
            <a:ext cx="6024600" cy="83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6554-56AE-474A-BFB2-EE80DA8C9F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6094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 Relationship Varian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d with ERCOT</a:t>
            </a:r>
            <a:br>
              <a:rPr sz="32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of 11/02/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66560" y="1676520"/>
          <a:ext cx="8266320" cy="396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676520"/>
                    <a:ext cx="826632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C70B-EA42-4A42-A489-6ADE2B5492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5335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 Relationship Varian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d with ERCO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of 11/02/200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280" y="1447920"/>
          <a:ext cx="8940960" cy="50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894096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3543-DBB5-4762-B470-A166DAAB92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bergman</cp:lastModifiedBy>
  <cp:lastPrinted>2002-09-24T18:27:58Z</cp:lastPrinted>
  <dcterms:modified xsi:type="dcterms:W3CDTF">2004-11-04T16:30:13Z</dcterms:modified>
  <cp:revision>4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98340335</vt:r8>
  </property>
  <property fmtid="{D5CDD505-2E9C-101B-9397-08002B2CF9AE}" pid="3" name="_AuthorEmail">
    <vt:lpwstr>kwariner@ercot.com</vt:lpwstr>
  </property>
  <property fmtid="{D5CDD505-2E9C-101B-9397-08002B2CF9AE}" pid="4" name="_AuthorEmailDisplayName">
    <vt:lpwstr>Wariner, Kerry</vt:lpwstr>
  </property>
  <property fmtid="{D5CDD505-2E9C-101B-9397-08002B2CF9AE}" pid="5" name="_EmailSubject">
    <vt:lpwstr>RMS March 04.ppt</vt:lpwstr>
  </property>
  <property fmtid="{D5CDD505-2E9C-101B-9397-08002B2CF9AE}" pid="6" name="_PreviousAdHocReviewCycleID">
    <vt:r8>-1263327933</vt:r8>
  </property>
  <property fmtid="{D5CDD505-2E9C-101B-9397-08002B2CF9AE}" pid="7" name="_ReviewingToolsShownOnce">
    <vt:lpwstr/>
  </property>
</Properties>
</file>