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A261-6FC2-43CC-8B31-746583C6E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5F40F-207A-47D2-BC35-8911C2CDA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6B0E5-92C0-4EE4-B939-98306A822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A721C-F9FC-4C67-AF7D-6CF432A66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BB3E-212C-4E96-B247-2DEA9990C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BE74-78FF-4BE6-9153-22C23A608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05B1-FBFC-414F-BC9D-0ABD58FC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8978-25A5-4CF6-83E4-B63E37BE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12DD-5F0B-4C82-A10C-0D1895F0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0B61-E7A6-425B-A1B9-15479FF34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4043-59A7-4C7C-8D71-A99F977E6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9A16-3C2E-4B83-9DD2-F6BE4A11B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C928-54DD-4B85-88F2-C54E99166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puc.state.tx.us/rules/subrules/electric/25.476/25.476ei.cf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tmadden@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400" cy="16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beling of Fuel Mix </a:t>
            </a:r>
            <a:br>
              <a:rPr sz="3200"/>
            </a:br>
            <a:r>
              <a:rPr b="0" lang="en-US" sz="3200" spc="-1" strike="noStrike">
                <a:solidFill>
                  <a:srgbClr val="000000"/>
                </a:solidFill>
                <a:latin typeface="Times New Roman"/>
              </a:rPr>
              <a:t>PUCT Subst. R. 25.476</a:t>
            </a: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20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8A5EB1-9391-46BF-94E3-1E6BED3D125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of Fuel Mix </a:t>
            </a:r>
            <a:br>
              <a:rPr sz="2800"/>
            </a:b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p:txBody>
      </p:sp>
      <p:sp>
        <p:nvSpPr>
          <p:cNvPr id="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History and 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endments to PUCT Subst. R. 25.476 (the “Labeling Rule”) approved April 2004 to be effective June 1, 200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ing and comments can be found on the PUCT website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u="sng">
                <a:solidFill>
                  <a:srgbClr val="ff0000"/>
                </a:solidFill>
                <a:uFillTx/>
                <a:latin typeface="Times New Roman"/>
                <a:hlinkClick r:id="rId1"/>
              </a:rPr>
              <a:t>http://www.puc.state.tx.us/rules/subrules/electric/25.476/25.476ei.cf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urpo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Labeling Rule is to establish the procedures and guidelines by which retail electric providers (REPs) calculate and disclose fuel mix and environmental impact information on electricity sold to their retail customer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E7A918-5A57-4AE3-8D84-6DD8005293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Impacts</a:t>
            </a:r>
            <a:endParaRPr b="0" lang="en-US" sz="28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1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ERCOT are significant and will take a number of resources to collect data </a:t>
            </a:r>
            <a:endParaRPr b="0" lang="en-US" sz="2400" spc="-1" strike="noStrike">
              <a:solidFill>
                <a:srgbClr val="000000"/>
              </a:solidFill>
              <a:latin typeface="Times New Roman"/>
            </a:endParaRPr>
          </a:p>
          <a:p>
            <a:pPr marL="343080" indent="-343080">
              <a:lnSpc>
                <a:spcPct val="11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REPs are significant due the potential amount of data needed for collection, calculation, and delivery to ERCOT in the specified timeline</a:t>
            </a:r>
            <a:endParaRPr b="0" lang="en-US" sz="2400" spc="-1" strike="noStrike">
              <a:solidFill>
                <a:srgbClr val="000000"/>
              </a:solidFill>
              <a:latin typeface="Times New Roman"/>
            </a:endParaRPr>
          </a:p>
          <a:p>
            <a:pPr marL="343080" indent="-343080">
              <a:lnSpc>
                <a:spcPct val="11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s to Generators are significant due the potential amount of data needed for collection, calculation, and delivery to ERCOT in the specified timeli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364B2B-2ED7-42E3-AB43-FA27F910FA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a:t>
            </a:r>
            <a:endParaRPr b="0" lang="en-US" sz="2800" spc="-1" strike="noStrike">
              <a:solidFill>
                <a:srgbClr val="000000"/>
              </a:solidFill>
              <a:latin typeface="Times New Roman"/>
            </a:endParaRPr>
          </a:p>
        </p:txBody>
      </p:sp>
      <p:sp>
        <p:nvSpPr>
          <p:cNvPr id="51" name=""/>
          <p:cNvSpPr/>
          <p:nvPr/>
        </p:nvSpPr>
        <p:spPr>
          <a:xfrm>
            <a:off x="304920" y="1600200"/>
            <a:ext cx="8458200" cy="1522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04920" y="4114800"/>
            <a:ext cx="8458200" cy="1522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8600" y="12952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69c"/>
                </a:solidFill>
                <a:latin typeface="Garamond"/>
              </a:rPr>
              <a:t>October 2004 – February 2005</a:t>
            </a:r>
            <a:endParaRPr b="0" lang="en-US" sz="1600" spc="-1" strike="noStrike">
              <a:solidFill>
                <a:srgbClr val="000000"/>
              </a:solidFill>
              <a:latin typeface="Times New Roman"/>
            </a:endParaRPr>
          </a:p>
        </p:txBody>
      </p:sp>
      <p:sp>
        <p:nvSpPr>
          <p:cNvPr id="54" name=""/>
          <p:cNvSpPr/>
          <p:nvPr/>
        </p:nvSpPr>
        <p:spPr>
          <a:xfrm>
            <a:off x="228600" y="380988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4569c"/>
                </a:solidFill>
                <a:latin typeface="Garamond"/>
              </a:rPr>
              <a:t>March 2005 – June 2005</a:t>
            </a:r>
            <a:endParaRPr b="0" lang="en-US" sz="1600" spc="-1" strike="noStrike">
              <a:solidFill>
                <a:srgbClr val="000000"/>
              </a:solidFill>
              <a:latin typeface="Times New Roman"/>
            </a:endParaRPr>
          </a:p>
        </p:txBody>
      </p:sp>
      <p:sp>
        <p:nvSpPr>
          <p:cNvPr id="55" name=""/>
          <p:cNvSpPr/>
          <p:nvPr/>
        </p:nvSpPr>
        <p:spPr>
          <a:xfrm>
            <a:off x="7315200" y="5257800"/>
            <a:ext cx="106668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05/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report fuel mix to ERCOT</a:t>
            </a:r>
            <a:endParaRPr b="0" lang="en-US" sz="900" spc="-1" strike="noStrike">
              <a:solidFill>
                <a:srgbClr val="000000"/>
              </a:solidFill>
              <a:latin typeface="Times New Roman"/>
            </a:endParaRPr>
          </a:p>
        </p:txBody>
      </p:sp>
      <p:sp>
        <p:nvSpPr>
          <p:cNvPr id="56" name=""/>
          <p:cNvSpPr/>
          <p:nvPr/>
        </p:nvSpPr>
        <p:spPr>
          <a:xfrm>
            <a:off x="7391520" y="2590920"/>
            <a:ext cx="144756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tests data repository and posting</a:t>
            </a:r>
            <a:endParaRPr b="0" lang="en-US" sz="900" spc="-1" strike="noStrike">
              <a:solidFill>
                <a:srgbClr val="000000"/>
              </a:solidFill>
              <a:latin typeface="Times New Roman"/>
            </a:endParaRPr>
          </a:p>
        </p:txBody>
      </p:sp>
      <p:sp>
        <p:nvSpPr>
          <p:cNvPr id="57" name=""/>
          <p:cNvSpPr/>
          <p:nvPr/>
        </p:nvSpPr>
        <p:spPr>
          <a:xfrm>
            <a:off x="8534520" y="17524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562720" y="441972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04/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shes aggregated and calculated data to public</a:t>
            </a:r>
            <a:endParaRPr b="0" lang="en-US" sz="900" spc="-1" strike="noStrike">
              <a:solidFill>
                <a:srgbClr val="000000"/>
              </a:solidFill>
              <a:latin typeface="Times New Roman"/>
            </a:endParaRPr>
          </a:p>
        </p:txBody>
      </p:sp>
      <p:sp>
        <p:nvSpPr>
          <p:cNvPr id="60" name=""/>
          <p:cNvSpPr/>
          <p:nvPr/>
        </p:nvSpPr>
        <p:spPr>
          <a:xfrm>
            <a:off x="533520" y="1981080"/>
            <a:ext cx="13716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1/11/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tion at RMS for REPs</a:t>
            </a:r>
            <a:endParaRPr b="0" lang="en-US" sz="900" spc="-1" strike="noStrike">
              <a:solidFill>
                <a:srgbClr val="000000"/>
              </a:solidFill>
              <a:latin typeface="Times New Roman"/>
            </a:endParaRPr>
          </a:p>
        </p:txBody>
      </p:sp>
      <p:sp>
        <p:nvSpPr>
          <p:cNvPr id="61" name=""/>
          <p:cNvSpPr/>
          <p:nvPr/>
        </p:nvSpPr>
        <p:spPr>
          <a:xfrm>
            <a:off x="1523880" y="175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57800" y="1981080"/>
            <a:ext cx="1447920" cy="77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1/2004-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client Reps (wholesale and retail) work with market to collect information</a:t>
            </a:r>
            <a:endParaRPr b="0" lang="en-US" sz="900" spc="-1" strike="noStrike">
              <a:solidFill>
                <a:srgbClr val="000000"/>
              </a:solidFill>
              <a:latin typeface="Times New Roman"/>
            </a:endParaRPr>
          </a:p>
        </p:txBody>
      </p:sp>
      <p:sp>
        <p:nvSpPr>
          <p:cNvPr id="63" name=""/>
          <p:cNvSpPr/>
          <p:nvPr/>
        </p:nvSpPr>
        <p:spPr>
          <a:xfrm>
            <a:off x="6095880" y="175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52680" y="4876920"/>
            <a:ext cx="137160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03/15/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submit data to ERCOT</a:t>
            </a:r>
            <a:endParaRPr b="0" lang="en-US" sz="900" spc="-1" strike="noStrike">
              <a:solidFill>
                <a:srgbClr val="000000"/>
              </a:solidFill>
              <a:latin typeface="Times New Roman"/>
            </a:endParaRPr>
          </a:p>
        </p:txBody>
      </p:sp>
      <p:sp>
        <p:nvSpPr>
          <p:cNvPr id="65" name=""/>
          <p:cNvSpPr/>
          <p:nvPr/>
        </p:nvSpPr>
        <p:spPr>
          <a:xfrm>
            <a:off x="3962520" y="4267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001000" y="4267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143000" y="4648320"/>
            <a:ext cx="1447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03/0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tors submit data to ERCO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s with out-of-state supply contract submit data to ERCOT</a:t>
            </a:r>
            <a:endParaRPr b="0" lang="en-US" sz="900" spc="-1" strike="noStrike">
              <a:solidFill>
                <a:srgbClr val="000000"/>
              </a:solidFill>
              <a:latin typeface="Times New Roman"/>
            </a:endParaRPr>
          </a:p>
        </p:txBody>
      </p:sp>
      <p:sp>
        <p:nvSpPr>
          <p:cNvPr id="68" name=""/>
          <p:cNvSpPr/>
          <p:nvPr/>
        </p:nvSpPr>
        <p:spPr>
          <a:xfrm>
            <a:off x="1981080" y="42670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90720" y="2590920"/>
            <a:ext cx="14475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1/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develops standard forms for information collection</a:t>
            </a:r>
            <a:endParaRPr b="0" lang="en-US" sz="900" spc="-1" strike="noStrike">
              <a:solidFill>
                <a:srgbClr val="000000"/>
              </a:solidFill>
              <a:latin typeface="Times New Roman"/>
            </a:endParaRPr>
          </a:p>
        </p:txBody>
      </p:sp>
      <p:sp>
        <p:nvSpPr>
          <p:cNvPr id="70" name=""/>
          <p:cNvSpPr/>
          <p:nvPr/>
        </p:nvSpPr>
        <p:spPr>
          <a:xfrm>
            <a:off x="2057400" y="17524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81680" y="2003400"/>
            <a:ext cx="144792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1/2004-02/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creates  solution</a:t>
            </a:r>
            <a:endParaRPr b="0" lang="en-US" sz="900" spc="-1" strike="noStrike">
              <a:solidFill>
                <a:srgbClr val="000000"/>
              </a:solidFill>
              <a:latin typeface="Times New Roman"/>
            </a:endParaRPr>
          </a:p>
        </p:txBody>
      </p:sp>
      <p:sp>
        <p:nvSpPr>
          <p:cNvPr id="72" name=""/>
          <p:cNvSpPr/>
          <p:nvPr/>
        </p:nvSpPr>
        <p:spPr>
          <a:xfrm>
            <a:off x="7407360" y="1752480"/>
            <a:ext cx="14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67080" y="2819520"/>
            <a:ext cx="1371600" cy="77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2/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client reps to issue market notice and standard Gen and REP forms</a:t>
            </a:r>
            <a:endParaRPr b="0" lang="en-US" sz="900" spc="-1" strike="noStrike">
              <a:solidFill>
                <a:srgbClr val="000000"/>
              </a:solidFill>
              <a:latin typeface="Times New Roman"/>
            </a:endParaRPr>
          </a:p>
        </p:txBody>
      </p:sp>
      <p:sp>
        <p:nvSpPr>
          <p:cNvPr id="74" name=""/>
          <p:cNvSpPr/>
          <p:nvPr/>
        </p:nvSpPr>
        <p:spPr>
          <a:xfrm>
            <a:off x="5181480" y="1752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895480" y="1752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0920" y="2666880"/>
            <a:ext cx="144756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Arial"/>
              </a:rPr>
              <a:t>11/2004</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tion at WMS for Generators/QS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455BE3AF-4680-4B28-B812-CF7819183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 of each year, a REP that intends to rely on a supply contract with an out-of-state generator to authenticate fuel mix or environmental impact data must submit a report to ERCOT for the specified generating facility. Included in the report are the follow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ies Annual Fuel Mix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ssion rates, in MWh</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trogen Oxid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lfur Dioxi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ulat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clear Wastes</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64B4F2-C58E-462B-9E86-746B43073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8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each year, REPs shall report to ERCOT the total MWh of electricity it purchased during the preceding calendar year, specifying the quantity purchased from each owner of generation assets or from other generation 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rch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of each year, REPs shall report to ERC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Wh sold under each electricity product offered by the REP during the previous calendar ye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utilizing Texas natural gas, an Attestation from power generator(s) that the natural gas used to generate the electricity supplied to the REP was produced in Texa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8EDA0C-2F07-4D1E-A689-662A08DC6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s to REP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ater than May 1 of each year, each REP shall calculate and report to ERCOT its fuel mix and environmental impact for the preceding calendar year for EACH of its electricity produ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524ED6-D2BC-4BF0-A02D-309B1D8758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acts to ERCOT</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CT Subst. R. 25.476(e) and (f) require ERCOT (as registration agent) to perform the following activities by April 1 of each ye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 on its internet website each generator's fuel mix and environmental impact data for the preceding calendar ye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 on website the state average fuel mix and emission rates for all generation authenticated by a retired REC or supply contract between a REP and an owner of generation ass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 on its internet website a default scorecard indicating the fuel mix and emission rates for all electric generation in the state that is not authenticat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3A8B24-1789-4F10-BF0B-B13444044A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 Impact to REP’s</a:t>
            </a:r>
            <a:endParaRPr b="0" lang="en-US" sz="2800" spc="-1" strike="noStrike">
              <a:solidFill>
                <a:srgbClr val="000000"/>
              </a:solidFill>
              <a:latin typeface="Times New Roman"/>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it mean to RE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ata requirements (to ERCO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is drafting a standard form to collect information associated with the Labeling Ru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plans to send out the form to REPs next mont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client reps will be contacting EACH REP in Texas in order to turn around information/forms back to ERCO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COT will aggregate all information and publish on ERCOT internet web site to the publi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information, please contact Terry Madden at (512-248-3914), </a:t>
            </a:r>
            <a:r>
              <a:rPr b="0" lang="en-US" sz="2400" spc="-1" strike="noStrike" u="sng">
                <a:solidFill>
                  <a:srgbClr val="ff0000"/>
                </a:solidFill>
                <a:uFillTx/>
                <a:latin typeface="Times New Roman"/>
                <a:hlinkClick r:id="rId1"/>
              </a:rPr>
              <a:t>tmadden@ercot.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A5468-AE4B-4EB9-9439-B83B34D89A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wariner</dc:creator>
  <dc:description/>
  <dc:language>en-US</dc:language>
  <cp:lastModifiedBy>bkettlewell</cp:lastModifiedBy>
  <cp:lastPrinted>2002-09-24T18:27:58Z</cp:lastPrinted>
  <dcterms:modified xsi:type="dcterms:W3CDTF">2004-11-11T16:24:56Z</dcterms:modified>
  <cp:revision>296</cp:revision>
  <dc:subject>RMS</dc:subject>
  <dc:title>ERCOT RMS Update 10-16-03</dc:title>
</cp:coreProperties>
</file>