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B8E-A7D2-4086-AEFB-0E94D127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C46-CF7A-405A-A9DB-EA1CE62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C27-E7C9-40EC-BD75-87BED57A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A14-A604-4A7D-ADE4-899D60F7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A85-0CFD-41BD-8D85-181C33C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EB9-68BB-4F75-8ADB-B5040A0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C8C-0305-4B24-B99E-1F5AF079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63B-EFCB-4DBA-9985-6B7CED6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BBD-5BAD-4A84-976B-8BABF183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7F9-4BA0-420A-9CA7-399407DF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758-3DDA-45DC-9650-03AD643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5CC-6F16-4183-83DA-CC83509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CD3-17FD-4ADB-836A-1042BB5A0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DF1-3213-4E09-81D9-1BA8BF0553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 New REPs are scheduled to test in 09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Existing REPs testing in new terr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Existing REPs testing for D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Bank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xisting REPs testing for change in EDI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63F-5818-4351-A9CC-3C9BD7314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904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 Flight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re-Flight activities were complete on schedule by 9/9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ight Take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kicked off on schedule Monday 9/13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uising 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643 task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ripts required re-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transactions execute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esday, November 2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ight completed on time as scheduled with all testing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D4E-E32E-4781-8938-385542321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0105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F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0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Orientation Decembe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dline for Entry December 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of Connectivity December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ing of Mandatory Conference Calls for Flight January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ransactions sent January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conclusion March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781-2560-4E6A-981A-851B35A29F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1-04T15:39:10Z</dcterms:modified>
  <cp:revision>355</cp:revision>
  <dc:subject/>
  <dc:title>PowerPoint Presentation</dc:title>
</cp:coreProperties>
</file>