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305-A4EB-4CB2-BCC2-63E2BB4D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731-F178-415A-847E-C49BE79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FA4-0653-4EEE-B9B2-44305702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750-6334-4E58-A88E-58A497EB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0AB-0385-429F-A0C2-F1DF0A6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768-B282-4461-A46F-C0282C92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F8D-B2D9-44A6-BCC4-D9C5525E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2E6-E891-43B2-8A46-79F20FBC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274680"/>
            <a:ext cx="6019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5FF-842A-42CB-8410-F0FDE5D2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410-9801-4EC0-8BC1-5BB4A6C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15B-7E6A-4733-9B7C-10FF228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749-C19E-4500-834D-B45F9C3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9B1F-5028-4FFC-B3D2-0F9FA268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November 4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520" y="2492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tail Market Subcommittee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pdate to T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articipant Concer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Confu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enter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Rele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Ado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ingual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ing service (800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taff 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enter Train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Relevanc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B7B-4E55-4F2E-947E-C43C82693D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stical Relev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 in the worst case scenario, response dat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ill be sufficient to make significant improvements in profile assignmen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ccuracy (95%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4114800"/>
          <a:ext cx="6248520" cy="228600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9AD-35FC-4CA4-B39B-D867021FAA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approved the PWG ac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 of the residential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time 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ve effort of PWG and RMS produced a simplified residential surv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conference call to discuss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email vote affirmed th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Recommendation: TAC endorse the Residential Survey and Near Term Ac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26B-1266-4CD8-B114-78DBC1E7A7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E45-3745-4ECA-99DF-DE734BEB86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6324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GRR 2004-13 – Disconnect at Premium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GRR 2004-14 – Inadvertent Ga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GRR 2004-15 – Data Extract Vari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Electric Use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Market Guide Revis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GRR 2004-13 – Disconnect at Premium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s the tariff charge variation among TDSP’s into the Retail Market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GRR 2004-14 – Inadvertent Ga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individual TDSP processes required to resolve inadvertent switch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GRR 2004-15 – Data Extract Varianc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he Data Extract Variance Process including the utilization of FasTrak to resolve agreed differences and seeking ADR resolution for contested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274320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0" y="2743200"/>
            <a:ext cx="9080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7080" y="280368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6880" y="280368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3040" y="28036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8840" y="28036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4280" y="28036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30440" y="28036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40640" y="2803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50120" y="2803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70760" y="28036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16240" y="28036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91520" y="2803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5040" y="280368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00840" y="280368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513280" y="280368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360" y="3124080"/>
            <a:ext cx="9080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5909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5909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5909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5909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590920"/>
            <a:ext cx="3045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10480" y="25909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5909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590920"/>
            <a:ext cx="3045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259092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51000" y="1447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837720" y="3809880"/>
            <a:ext cx="6248520" cy="2286000"/>
          </a:xfrm>
          <a:prstGeom prst="wedgeRoundRectCallout">
            <a:avLst>
              <a:gd name="adj1" fmla="val 54291"/>
              <a:gd name="adj2" fmla="val 90902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tember 28 - PWG Near Term Action Plan Appr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914040" y="3886200"/>
            <a:ext cx="6248520" cy="2286000"/>
          </a:xfrm>
          <a:prstGeom prst="wedgeRoundRectCallout">
            <a:avLst>
              <a:gd name="adj1" fmla="val 44537"/>
              <a:gd name="adj2" fmla="val 95347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tober 14 – Near Term Action Plan Submitted to 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1066320" y="4038480"/>
            <a:ext cx="6248520" cy="2286000"/>
          </a:xfrm>
          <a:prstGeom prst="wedgeRoundRectCallout">
            <a:avLst>
              <a:gd name="adj1" fmla="val 37013"/>
              <a:gd name="adj2" fmla="val 100347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4 – Near Term Action Plan Submitted to TAC for ERCOT Board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1142640" y="4191120"/>
            <a:ext cx="6248520" cy="2286000"/>
          </a:xfrm>
          <a:prstGeom prst="wedgeRoundRectCallout">
            <a:avLst>
              <a:gd name="adj1" fmla="val 25226"/>
              <a:gd name="adj2" fmla="val 108125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mber 31- ERCOT Staff Finalizes Recommendations to PWG. Market Participants Begin Making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1294920" y="4191120"/>
            <a:ext cx="6248520" cy="2286000"/>
          </a:xfrm>
          <a:prstGeom prst="wedgeRoundRectCallout">
            <a:avLst>
              <a:gd name="adj1" fmla="val 10796"/>
              <a:gd name="adj2" fmla="val 107569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bruary - RMS Requested February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1523520" y="4343400"/>
            <a:ext cx="6248520" cy="2286000"/>
          </a:xfrm>
          <a:prstGeom prst="wedgeRoundRectCallout">
            <a:avLst>
              <a:gd name="adj1" fmla="val 5106"/>
              <a:gd name="adj2" fmla="val 114236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ch 1 -TDSPs and ERCOT Complete System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1676520" y="4419720"/>
            <a:ext cx="6248160" cy="2286000"/>
          </a:xfrm>
          <a:prstGeom prst="wedgeRoundRectCallout">
            <a:avLst>
              <a:gd name="adj1" fmla="val -12578"/>
              <a:gd name="adj2" fmla="val 117569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1 - TDSPs and ERCOT Complete Testing System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1828440" y="4343400"/>
            <a:ext cx="6248520" cy="2286000"/>
          </a:xfrm>
          <a:prstGeom prst="wedgeRoundRectCallout">
            <a:avLst>
              <a:gd name="adj1" fmla="val -24569"/>
              <a:gd name="adj2" fmla="val 112569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e 15 - Normal Start of 2005 Annual Va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1980720" y="4419720"/>
            <a:ext cx="6248520" cy="2286000"/>
          </a:xfrm>
          <a:prstGeom prst="wedgeRoundRectCallout">
            <a:avLst>
              <a:gd name="adj1" fmla="val -55060"/>
              <a:gd name="adj2" fmla="val 118124"/>
              <a:gd name="adj3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- Normal Completion of 2005 Annual Validation Trans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70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134640" y="2040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442960" y="20718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277-CD15-4209-9FF6-B3E7E21FF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replace a prior year non-default assignment with a default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2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calculation for each ESI ID is made each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sufficient data requires assignment 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ential defaults to Residential Low Winter Ratio (RESLOW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defaults to Business Medium Load Factor (BUSMED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sufficient data was available in a previous year an assignment to default would not be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ing dead-bands around the specified Residential Segment trigg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2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2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f WR &gt; 1.5 it is assigned to High Winter Ratio (HiW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reate a dead-band around the 1.5 trigger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50000"/>
              </a:lnSpc>
              <a:spcBef>
                <a:spcPts val="2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 –  Assume dead-band (1.0 to 2.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266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current assignment is RESLOWR and new WR = 1.7, would remain RESLOW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266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current assignment is RESLOWR and new WR = 2.1, would change to RESHIW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34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reduction in 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82800" y="3062160"/>
                <a:ext cx="46180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c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b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llBase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pringBase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more than 1 month for the Residential Winter Ratio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numerator to average the ADU for highest 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ignificant reduction in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913040" y="3505320"/>
                <a:ext cx="45561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c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b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llBase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pringBase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Apply a kWh minimum for Residential High Winter Ratio profile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dentify a reasonable minimum usage for High Winter Ratio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– RESHIWR minimum = 10 kWh/day (300kWH/mon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380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R = 3.0 and 5 kWh/day then assign RESLO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380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R = 3.0 and 15 kWh/day then assign RESHI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3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nual Validation Report to the ERCOT 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ar Term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n ERCOT administered residential survey to determine heating system type for a sample of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rvey will empirically support data used to define dead-bands, minimum thresholds and revised WR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000 surveys will be mailed to end use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000 to each weather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500 to each existing profile type current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fkz5</cp:lastModifiedBy>
  <dcterms:modified xsi:type="dcterms:W3CDTF">2004-11-04T15:53:05Z</dcterms:modified>
  <cp:revision>52</cp:revision>
  <dc:subject/>
  <dc:title>RMS Report to TAC 6/3/04</dc:title>
</cp:coreProperties>
</file>