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7DE-E02E-46A4-8DF6-11DF17AA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900-C154-4440-87B6-40A6F65B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79B-4574-4FD2-86FC-693F962A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200-D1DD-4A65-845F-0ABE624C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EB3-6CAE-4F73-8897-AD837928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624-55CE-497A-9777-B7136D22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8478-5779-4047-BF10-543764A9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BB0-2DF7-4CD4-9AA6-42701E83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28F8-6499-4D63-BBB2-061565CD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11B-D2DD-4F2D-986F-7A440225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68E6-3A00-4A50-8E3A-50BB4F6E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422D-98F1-45E0-8E2B-68C74768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2011-EC5C-478E-9EAF-264328FEB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03.59 MW of generation tripped during first minute beginning at 09:59:2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930 MW of reg up deployed plus 49.47MW of down reg recalled by 10:09: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1.27 of Responsive Deployed to generators by 10:01: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2.1 MW of LaaR trip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760" y="138240"/>
            <a:ext cx="8934480" cy="6581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4760" y="128520"/>
            <a:ext cx="8934480" cy="66009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8520" y="147600"/>
            <a:ext cx="8886960" cy="6562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2920" y="181080"/>
            <a:ext cx="8858160" cy="64958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8240" y="104760"/>
            <a:ext cx="8867520" cy="66484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sponsive Reser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rovider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inutes after Responsive Deploy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SE’s that under-generated were 412.11 MWs sh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SE’s that over-generated were 306.75 MWs 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 shortage of Responsive Reserve providers was 105.36 M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nutes after Responsive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at 10 minutes 59.906 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measured Bias this event: 530 MW/0.1 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additional generation needed for 60 Hz a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98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ive providers were 105.36 MWs 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 Responsive providers were 4.53 MW over their obli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E’s net shortage was 100.83 M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et shortage was 0 MW, Hz would have been 59.925 H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Responsive Reserve provider under generated, Hz would have been 59.9837 Hz (keeping the 307 over gene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sponsive Reser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vider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nutes after beginning of Event –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CS time li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SE’s that under-generated were 283.47 MWs sh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SE’s that over-generated were 188.97 MWs 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 shortage of Responsive Reserve providers was 94.5 M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nutes after Responsive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at 15 minutes 59.955 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measured Bias this event: 530 MW/0.1 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additional generation needed for 60 Hz a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38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ive providers were 94.5 MWs 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 Responsive providers were 26.26 MW over their obli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E’s net shortage was 68.24 M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et shortage was 0 MW, Hz would have been 59.968 H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Responsive Reserve provider under generated, Hz would have been 60.000 Hz (keeping the 189 over gene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3886200" y="2743200"/>
            <a:ext cx="9144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266688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Load growth at 52.4 MW/min (avg).  Balancing Deployments and Base Schedules averaged 47.5 MW/min. This resulted in about 52 MWs short during event.  This had to be made up by Reg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572000" y="320004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19051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U failure caused load calculation to be incor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220968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5035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9160" y="28440"/>
            <a:ext cx="8905680" cy="6801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illary Deploy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1280" y="204840"/>
            <a:ext cx="9001440" cy="6448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21:14:11Z</dcterms:created>
  <dc:creator>sniemeyer</dc:creator>
  <dc:description/>
  <dc:language>en-US</dc:language>
  <cp:lastModifiedBy>sniemeyer</cp:lastModifiedBy>
  <dcterms:modified xsi:type="dcterms:W3CDTF">2004-11-08T23:47:15Z</dcterms:modified>
  <cp:revision>4</cp:revision>
  <dc:subject/>
  <dc:title>Evaluation of Responsive Reserve Providers 10 minutes after Responsive Deployed</dc:title>
</cp:coreProperties>
</file>