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6F9-F5B3-44E6-85D1-FFF236C2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037-E890-4D53-9DEC-07029F24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409-E32C-404C-9E3D-7CFBBD51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587-D1D6-49FF-8DEA-1040E9EC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012-A665-48D0-BCAB-90778246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A6F-BB7D-4F0B-9DE9-8D8E8EE2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D0C-2BC2-4FAF-8CA9-3D5DCF26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46F-24DB-4454-81C7-AB7307F4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56D-9247-499D-BBAE-D2CA5F96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123-DB00-4360-932D-1A5BC689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AF2-4DFC-43A1-BE95-20432EB7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CA74-6448-4BEA-90E8-3DBA2E9E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DD67-32D0-4D48-8FF3-475007982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CWG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CWG met Oct 21 &amp;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ed DCS Event.  Separate report att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ed ERCOT Governor Response to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OGR for turbine govern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Sydney Niemeyer for chair for 2005 and Ananth Palani for vice-chair for remainder of 2004 and 2005.  (Pending ROS approv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scheduled for Jan 20 &amp; 21, 2005 room 168 Met C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8960" y="0"/>
            <a:ext cx="8506080" cy="6934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July 22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8960" y="0"/>
            <a:ext cx="8506080" cy="6934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August 22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8515440" cy="69436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September 22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8960" y="0"/>
            <a:ext cx="8506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October 22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915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38280" y="1295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d by October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4 months 06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8680" y="0"/>
            <a:ext cx="8486640" cy="6915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14600" y="1752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d by October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4 months 22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3280" y="380880"/>
            <a:ext cx="8677440" cy="60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05840" cy="5533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CPS1 July 143.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6172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7.52 12mo rolling av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80" y="662040"/>
            <a:ext cx="9105840" cy="5533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CPS1 August 139.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6172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,90 12mo rolling av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160" y="662040"/>
            <a:ext cx="9105840" cy="6195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CPS1 September 124.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0400" y="563868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9.56 12mo rolling av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" y="838080"/>
            <a:ext cx="9105840" cy="6019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COT CPS1 October 126.41 (es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05720" cy="6924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July 06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18960" y="0"/>
            <a:ext cx="8506080" cy="6924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August 06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8515440" cy="6934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September 06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8960" y="0"/>
            <a:ext cx="8506080" cy="6924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October 06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12:17Z</dcterms:created>
  <dc:creator>sniemeyer</dc:creator>
  <dc:description/>
  <dc:language>en-US</dc:language>
  <cp:lastModifiedBy>sniemeyer</cp:lastModifiedBy>
  <dcterms:modified xsi:type="dcterms:W3CDTF">2004-11-08T23:46:17Z</dcterms:modified>
  <cp:revision>14</cp:revision>
  <dc:subject/>
  <dc:title>PowerPoint Presentation</dc:title>
</cp:coreProperties>
</file>