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EEA6-C83C-44E2-9DA5-5BF06F92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0009-69C7-4B81-9035-5E6D46C7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46E8-78DE-4E1F-A11E-CF052C41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17FA-49AD-4F1C-AB15-A620C5D3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775-53E9-472E-89AF-6A9D5579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3D2-1588-4317-929D-D943BBC8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6781-FFFC-4FE8-8CFB-8C9FAFCD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B856-D236-4854-90AD-D88D8931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D9E-78C3-4552-A06F-D30F0743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51AE-C44A-4729-A2D3-60251AC4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2F8-4666-4239-B0CE-7519DEA7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C68-F6D8-4A98-A188-AF7F81D8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8999-E40A-49BB-B76C-E0593E72B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362320"/>
            <a:ext cx="8001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ic Reliability Council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Texas, Inc.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 Fees and Short Payments in Bankruptcies / Payment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152280"/>
            <a:ext cx="300024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7920" y="274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sue (3)</a:t>
            </a:r>
            <a:br>
              <a:rPr sz="4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ow to handle TCE’s recent payment of less than the full amount required by the Pl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received only approx. 1/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mount due on 10/1/04 under the Plan on Octob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s Section 9.4.4 requires that, in the event a short-paying QSE fails to comply with the requirements of a payment plan, ERCOT must collect the short paid amount from QSEs based on Load Ratio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will uplift the short paid amount under the Plan at any given point in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tly, ERCOT will uplift approximately $440,000 to QSEs representing LSEs on a Load Ratio Share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2100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1676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210040" cy="1200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09880" y="2895480"/>
            <a:ext cx="18068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ckground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as Commercial Energy (TCE) filed for bankruptcy in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ximately $30M owed to ERCOT Market 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held approximately $16M in collat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ll approximately $14.5M outsta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cember 2003, the Bankruptcy Court approved a Plan of Reorganization (Plan) to become effective Jul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provid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terly payments of $549,000 beginning on 7/1/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 inter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pre-petition amts due between March 2003 and 7/1/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 at 3% on pre-petition amts due, beginning7/1/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E made first quarterly payment under the Plan in July, in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October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CE failed to make the full quarterly payment (ERCOT received approximately $105,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2096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ckground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 provide for “late fees” when a QSE makes a late payment (Sec. 9.4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 set per Protocols is Prime Rate + 2%  (currently 6.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il recently, ERCOT’s Lodestar system did not provide for “turning off” the Protocol-mandated late f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Aug., 2004, ERCOT can “turn off” late 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destar still cannot customize the late fee percentage rate  by 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has billed TCE for late fees (each week) at prime + 2% since March 2003 (approx. $18,000/we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has  “short-paid” Market Participants each week for the accrual of the late fe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ate, approx. $1.5M in late fees has accr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2100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ate Fee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ekly Invoices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000’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QSE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ice*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5,000        (12,00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7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 f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(13)              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invoice amt          5,018        (12,013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6,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Pay am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(18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amou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5,000      (11,99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6,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A positive number means money go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; negative means QSE receives mone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Before late fees; no other pre-petition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133720" cy="1158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14400" y="411480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42840" y="3045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re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when the defaulting Invoice Recipient does not pay late fees due to a court-ordered Reorganiz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do about late fees “accrued” (through short-pays) but not p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handle TCE’s recent payment of less than the full amount required by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2100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74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sue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. 9.4.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faulting Invoice Recipient shall pa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te fe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the default amount….” (emphasis ad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late payme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venu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ll be distributed to the Entities that were underpaid due to a default on a pro rata basis of monies owed to each Entity.” (emphasis ad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defaulting Invoice Recipient does not pay the late fees, there are no “late payme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ven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to distribute to short-paid 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2100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2320" y="2743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nalysis</a:t>
            </a:r>
            <a:br>
              <a:rPr sz="40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ssue (1) 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lan covers all of TCE’s obligations to ERCOT during the time of TCE’s defa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cludes late fe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ERCOT’s approved cla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llowed 3% “interest” on the debt, beginning 7/1/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 Plan provides for three percent (3%) interest per annum and provides that all claims not awarded in the Plan are released, the Plan supersedes or “trumps” the Protocols’ late fee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 11.L. of the standard QSE Agreement prov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event of a conflict between this Agreement and an…order of any Governmental Authority…, the applicable…order of any Governmental Authority…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ha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ev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.” (emphasis add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2100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7920" y="274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ssue (2)</a:t>
            </a:r>
            <a:br>
              <a:rPr sz="4000"/>
            </a:br>
            <a:br>
              <a:rPr sz="20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What to do about late fees “accrued” (through short-pays) but not pa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has billed late fees on TCE’s outstanding balances at Prime + 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destar program changes were completed in August 2004 to allow ERCOT to “turn off” late f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destar still cannot customize the late fee charge by 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wil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off” late fee calculation for TCE prosp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rse the charges paid to date (and reimburse short-paid ent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ly track court-approved 3% interest rate from 7/1/04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2100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74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ssue (2)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t Effect of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 short paid when TCE did not make payments for ERCOT Balancing Energy and other Ancillary Servic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2003) will receive no late fees/interest for the period March 2003 - June 2004 (pursuant to court-approved Pl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 short pai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eive revenues from interest from July 1, 2004, forward at the court-ordered rate of 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 initially short paid (in March 2003) are “guaranteed” payment for unpaid principal because ERCOT will uplift these amounts to QSEs representing LSEs if TCE does not pay in fu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2100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7:56:37Z</dcterms:created>
  <dc:creator>cyager</dc:creator>
  <dc:description/>
  <dc:language>en-US</dc:language>
  <cp:lastModifiedBy>mwalker</cp:lastModifiedBy>
  <dcterms:modified xsi:type="dcterms:W3CDTF">2004-11-02T15:08:43Z</dcterms:modified>
  <cp:revision>28</cp:revision>
  <dc:subject/>
  <dc:title>Electric Reliability Council of Texas Late Charges in Bankruptcies</dc:title>
</cp:coreProperties>
</file>