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022-B28C-4EFD-8ECC-A96A7B2C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ugust 1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DCS Ev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vember 4, 2004 TAC Mee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S Penal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recovery 15 minutes (Aug 18) 82.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recovery 15 minutes (Aug 19) 10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ly Average (2 events) 91.3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Month Contingency Reserve Increase 109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RC DCS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S measures a Control Area’s ability to utilize its Contingency Reserves following a Reportable Disturbance. (NERC Policy 1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able Disturbances are contingencies 80% - 100% of the most severe single contingency lo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most severe single contingency is defined as losing one STP Unit rated at 1250 M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ust return to 60 Hz, or the pre-disturbance value if below 60 Hz just prior to the disturbance, within 15 minu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S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2000 ERCOT has recorded 16 reportable events and 5 non-reportable ev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very time since single control area operations began has averaged 6.5 ~ 7.0 Minutes (excluding the Aug 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st 1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v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terval ending 10:15, QSEs had an overall increase of 2,746 MW of Scheduled Generation from the previous interv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load forecast indicated excess generation so 1,893 MW of Down Balancing was deplo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9:59:20, about halfway through the normal 10-minute ramp period, a transmission disruption led to a loss of 1115 MW at two generation fac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ropped to 59.77 H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very began normally, but stalled after 9 minut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 Hz frequency reached after 17.3 min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cillary Service Deplo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040" y="1066680"/>
            <a:ext cx="81694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gust 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s. August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event was 9:59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time of 17.37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5 MW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event was 11:08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time of 8.23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47 MW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st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CS Ev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4520" y="1066680"/>
            <a:ext cx="8190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r Investi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ERCOT Operator Response to DCS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QSE Non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Governor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amount of Generation RRS Deployed by the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4-11-03T19:31:56Z</dcterms:modified>
  <cp:revision>5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6597819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5AB5FBA1E2409C4E9872E8E4613A2EA207008E4547FAEC455D46933745A0D608FFE60000008A3E2300006E4E7B4F50DE5A468522B45AEB0C10320000012C9AB10000</vt:lpwstr>
  </property>
  <property fmtid="{D5CDD505-2E9C-101B-9397-08002B2CF9AE}" pid="6" name="_EmailSubject">
    <vt:lpwstr>August 18th TAC Presentation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