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7CE-9206-4B2F-AA53-01A51D02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4DC-7AE1-4B67-81C1-128A45C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EA1-7AB3-4918-8F68-A000FA35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EED-4513-4DEE-A3DE-60B6D30F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FC3-8FCB-4A47-A54D-8F9A9307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18F-BF98-4F3C-9DAE-B98E564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C69-573C-4F2F-ACD2-372634D0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602-04BA-493B-8B04-3CE1A6A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1D5-BF71-483A-A89F-0CE8DA76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23E-A0A8-4B8A-8D3E-EF0B788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F96-D320-422F-B271-3019EA7E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7C9-A76F-4D48-B14B-E3DAE36D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BE49-08D2-4712-A5B5-3FB5FC0DA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vember 4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47920"/>
            <a:ext cx="83818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tocols Section 9: Settlement and Billing.  Review of this Section continues.  Preliminary discussions include a 10 day Initial Settlement, 52 day Interim Settlement, 130 day Final Settlement, and 180 day True-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munications: Currently reviewing Market notices both Retail and Wholesale.  Conference call Nov 15 9:00 – 11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: Focused on improvements to the Settlement Dispute tool, including upgrades and changes to 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FE: Taskforce reviewed known iss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ntified areas where improvements can be made including: Left In Hot, Disconnects, Smoothing of missed Meter Reads and othe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mprovements that are currently being worked via other ERCOT committees will be documented and tracked to measure level of succes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mprovements not currently being worked will be prioritized and plans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MA4</cp:lastModifiedBy>
  <dcterms:modified xsi:type="dcterms:W3CDTF">2004-10-28T22:17:11Z</dcterms:modified>
  <cp:revision>104</cp:revision>
  <dc:subject/>
  <dc:title>Point-to-Point</dc:title>
</cp:coreProperties>
</file>