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2225-5EE8-4C5B-8184-B46724C5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90CA4-2273-4EB0-905C-38C5EE59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37C98-91B8-470F-8F18-B2B8D66A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BFB10-48D1-4739-914C-8DCB2B6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7D466-8AE9-4145-9BDC-B2BB175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C934C-FE8C-40D0-885C-4AAB2792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CE94F-5AD5-43BB-BED9-0613420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19596-F96B-4C3F-A052-8044824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3B896-7D11-49C6-B274-88EF9CC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FBF29-A72F-45BD-8752-04FFC55A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5095A-B9BC-424C-9BFE-493672FA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8F3F-898F-4D26-8C14-BA5E63FC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2362320" cy="6859080"/>
            <a:chOff x="0" y="0"/>
            <a:chExt cx="2362320" cy="6859080"/>
          </a:xfrm>
        </p:grpSpPr>
        <p:graphicFrame>
          <p:nvGraphicFramePr>
            <p:cNvPr id="3" name=""/>
            <p:cNvGraphicFramePr/>
            <p:nvPr/>
          </p:nvGraphicFramePr>
          <p:xfrm>
            <a:off x="0" y="0"/>
            <a:ext cx="2362320" cy="1271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2362320" cy="12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" name=""/>
            <p:cNvSpPr/>
            <p:nvPr/>
          </p:nvSpPr>
          <p:spPr>
            <a:xfrm>
              <a:off x="258840" y="1506600"/>
              <a:ext cx="142920" cy="13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514520"/>
              <a:ext cx="243000" cy="20160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0"/>
                  </a:moveTo>
                  <a:lnTo>
                    <a:pt x="0" y="98"/>
                  </a:lnTo>
                  <a:lnTo>
                    <a:pt x="17" y="98"/>
                  </a:lnTo>
                  <a:lnTo>
                    <a:pt x="36" y="102"/>
                  </a:lnTo>
                  <a:lnTo>
                    <a:pt x="51" y="116"/>
                  </a:lnTo>
                  <a:lnTo>
                    <a:pt x="58" y="133"/>
                  </a:lnTo>
                  <a:lnTo>
                    <a:pt x="58" y="150"/>
                  </a:lnTo>
                  <a:lnTo>
                    <a:pt x="152" y="149"/>
                  </a:lnTo>
                  <a:lnTo>
                    <a:pt x="152" y="131"/>
                  </a:lnTo>
                  <a:lnTo>
                    <a:pt x="150" y="114"/>
                  </a:lnTo>
                  <a:lnTo>
                    <a:pt x="147" y="100"/>
                  </a:lnTo>
                  <a:lnTo>
                    <a:pt x="143" y="88"/>
                  </a:lnTo>
                  <a:lnTo>
                    <a:pt x="138" y="70"/>
                  </a:lnTo>
                  <a:lnTo>
                    <a:pt x="133" y="57"/>
                  </a:lnTo>
                  <a:lnTo>
                    <a:pt x="125" y="47"/>
                  </a:lnTo>
                  <a:lnTo>
                    <a:pt x="116" y="35"/>
                  </a:lnTo>
                  <a:lnTo>
                    <a:pt x="102" y="24"/>
                  </a:lnTo>
                  <a:lnTo>
                    <a:pt x="88" y="15"/>
                  </a:lnTo>
                  <a:lnTo>
                    <a:pt x="66" y="7"/>
                  </a:lnTo>
                  <a:lnTo>
                    <a:pt x="39" y="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11880" y="1449720"/>
              <a:ext cx="249480" cy="250920"/>
            </a:xfrm>
            <a:prstGeom prst="triangle">
              <a:avLst>
                <a:gd name="adj" fmla="val 4999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9880" y="1143000"/>
              <a:ext cx="289080" cy="230040"/>
            </a:xfrm>
            <a:prstGeom prst="triangle">
              <a:avLst>
                <a:gd name="adj" fmla="val 4999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040" y="1712880"/>
              <a:ext cx="149400" cy="514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7920" y="1770120"/>
              <a:ext cx="245880" cy="198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0"/>
                  </a:moveTo>
                  <a:lnTo>
                    <a:pt x="154" y="97"/>
                  </a:lnTo>
                  <a:lnTo>
                    <a:pt x="136" y="97"/>
                  </a:lnTo>
                  <a:lnTo>
                    <a:pt x="117" y="101"/>
                  </a:lnTo>
                  <a:lnTo>
                    <a:pt x="102" y="115"/>
                  </a:lnTo>
                  <a:lnTo>
                    <a:pt x="94" y="132"/>
                  </a:lnTo>
                  <a:lnTo>
                    <a:pt x="94" y="148"/>
                  </a:lnTo>
                  <a:lnTo>
                    <a:pt x="0" y="148"/>
                  </a:lnTo>
                  <a:lnTo>
                    <a:pt x="0" y="129"/>
                  </a:lnTo>
                  <a:lnTo>
                    <a:pt x="1" y="112"/>
                  </a:lnTo>
                  <a:lnTo>
                    <a:pt x="4" y="99"/>
                  </a:lnTo>
                  <a:lnTo>
                    <a:pt x="8" y="87"/>
                  </a:lnTo>
                  <a:lnTo>
                    <a:pt x="13" y="70"/>
                  </a:lnTo>
                  <a:lnTo>
                    <a:pt x="18" y="57"/>
                  </a:lnTo>
                  <a:lnTo>
                    <a:pt x="26" y="47"/>
                  </a:lnTo>
                  <a:lnTo>
                    <a:pt x="36" y="35"/>
                  </a:lnTo>
                  <a:lnTo>
                    <a:pt x="49" y="24"/>
                  </a:lnTo>
                  <a:lnTo>
                    <a:pt x="64" y="15"/>
                  </a:lnTo>
                  <a:lnTo>
                    <a:pt x="86" y="7"/>
                  </a:lnTo>
                  <a:lnTo>
                    <a:pt x="113" y="1"/>
                  </a:lnTo>
                  <a:lnTo>
                    <a:pt x="131" y="0"/>
                  </a:lnTo>
                  <a:lnTo>
                    <a:pt x="15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662040" y="1708200"/>
              <a:ext cx="247680" cy="254160"/>
            </a:xfrm>
            <a:prstGeom prst="triangle">
              <a:avLst>
                <a:gd name="adj" fmla="val 49995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2360" y="1770120"/>
              <a:ext cx="142920" cy="12996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6120" y="1963800"/>
              <a:ext cx="142920" cy="489420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5920" y="1373040"/>
              <a:ext cx="144360" cy="54849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24320" y="6612840"/>
              <a:ext cx="95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d006c"/>
                  </a:solidFill>
                  <a:latin typeface="Tahoma"/>
                </a:rPr>
                <a:t>© ERCOT 200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8339040" y="6602400"/>
            <a:ext cx="1557360" cy="26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d006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&lt;date/time&gt;</a:t>
            </a: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3/16/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52280"/>
          <a:ext cx="3657600" cy="19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36576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dt" idx="2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88D8-CBBD-4AB1-BDCF-8339B888E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60" y="174600"/>
            <a:ext cx="168120" cy="6054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440" y="82440"/>
            <a:ext cx="179640" cy="16992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5520" y="0"/>
            <a:ext cx="407880" cy="325440"/>
          </a:xfrm>
          <a:prstGeom prst="rightArrow">
            <a:avLst>
              <a:gd name="adj1" fmla="val 50000"/>
              <a:gd name="adj2" fmla="val 62671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320" y="69840"/>
            <a:ext cx="8344080" cy="163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1000" y="71280"/>
            <a:ext cx="165240" cy="179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831160" y="169920"/>
            <a:ext cx="311400" cy="411120"/>
          </a:xfrm>
          <a:prstGeom prst="downArrow">
            <a:avLst>
              <a:gd name="adj1" fmla="val 50000"/>
              <a:gd name="adj2" fmla="val 660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400" y="6632640"/>
            <a:ext cx="8339040" cy="163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613560"/>
            <a:ext cx="164880" cy="1810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83440"/>
            <a:ext cx="309600" cy="411120"/>
          </a:xfrm>
          <a:prstGeom prst="upArrow">
            <a:avLst>
              <a:gd name="adj1" fmla="val 50000"/>
              <a:gd name="adj2" fmla="val 66389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08920" y="636480"/>
            <a:ext cx="168480" cy="60325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97760" y="6599160"/>
            <a:ext cx="179640" cy="1684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569440" y="6526080"/>
            <a:ext cx="407880" cy="324000"/>
          </a:xfrm>
          <a:prstGeom prst="leftArrow">
            <a:avLst>
              <a:gd name="adj1" fmla="val 50000"/>
              <a:gd name="adj2" fmla="val 6293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9047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South Region Transmission Project:</a:t>
            </a:r>
            <a:br>
              <a:rPr sz="3600"/>
            </a:b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Elm Creek 345 kV Switching Station</a:t>
            </a:r>
            <a:endParaRPr b="1" lang="en-US" sz="36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1640" y="3793680"/>
            <a:ext cx="6476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Presentation to TAC at their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November 4, 2004 meeting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by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ERCOT Transmission Services</a:t>
            </a:r>
            <a:br>
              <a:rPr sz="2000"/>
            </a:b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Operation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1/16/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A5D8A-F2DD-4CA0-97E0-E0C8A7A8DC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Problem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1666440"/>
            <a:ext cx="794376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Local Area Congestion Management resulted in over $14 million in additional costs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Due to reliability limits in the 138 kV infrastructure northeast and east of San Antonio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Remedial Action Plan in place for contingent loss of Marion to Hill Country/Skyline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Solution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647720"/>
            <a:ext cx="796284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Regional Planning Groups continue to examine both short and long term solutions for the Central Texas Area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hort Term solution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Reconfigure grid by building a new 345 kV Switching Station at the intersection of Marion-Hill Country/Skyline and Marion-San Miguel 345 kV line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Eight 345 kV terminal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Includes long term planning capability to add 345/138 kV autotransformer and two 138 kV circuits to support load growth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Upgrade Marion Circuit Breaker Capability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Continue examination of 345 kV Series Reactor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Location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8640" y="1177920"/>
            <a:ext cx="8685360" cy="568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ost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8280" y="1622160"/>
            <a:ext cx="796284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$4 to $11 Million Dollars Per Year Production Cost Savings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Dependent on status of generation in Central Texa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otal Estimated Capital Cost of Projec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$16.5 million ($2.72 million annual TCOS)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Net savings are $1.3 to $8 million per year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omment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81080" y="1447920"/>
          <a:ext cx="5850000" cy="4349520"/>
        </p:xfrm>
        <a:graphic>
          <a:graphicData uri="http://schemas.openxmlformats.org/drawingml/2006/table">
            <a:tbl>
              <a:tblPr/>
              <a:tblGrid>
                <a:gridCol w="1844640"/>
                <a:gridCol w="1835280"/>
                <a:gridCol w="2170080"/>
              </a:tblGrid>
              <a:tr h="482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For/Aga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om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LC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F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Replace 10 CB’s at Mario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Add future 345/138 kV Auto and 2 138 kV exit circu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TXU Ener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F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Add 0.04 pu series reactor to Marion – Skyline 345 kV lin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Questions?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4308480" cy="384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9:23:48Z</dcterms:created>
  <dc:creator>jteixeira</dc:creator>
  <dc:description/>
  <dc:language>en-US</dc:language>
  <cp:lastModifiedBy>KDonohoo</cp:lastModifiedBy>
  <dcterms:modified xsi:type="dcterms:W3CDTF">2004-10-28T17:12:49Z</dcterms:modified>
  <cp:revision>21</cp:revision>
  <dc:subject/>
  <dc:title>Elm Creek Switching Station Project</dc:title>
</cp:coreProperties>
</file>