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A65-CC3C-4115-8B47-410C13D3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1EB-1C8C-48FF-9A51-7A671AAD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0DF-23DE-4987-84E4-74B23B75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215-FF13-42B5-AC56-E432CECB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758F-1071-40B3-A9F1-4953129E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17FB-37CD-491B-9DF9-F218529F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D582-4A03-48A6-9C8E-94F56C83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E9E8-97FF-4E9D-8C1F-2C9666D0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0691-2578-4E19-A303-844C5B17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2378-6AF0-4D8B-8BF1-BD3603F1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13B9-903D-456E-B007-C0294E3A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AE7-0607-47EE-8DE7-CA2EA02F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4368-B744-4D34-BA41-2A05F920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032B-506B-4615-B304-D1C52F25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97C8-028E-49B0-8808-AB48AB9D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4646-514A-4057-B1AA-2A8F6405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CB94-F8B5-469C-B4E3-37FDECB3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EC835-9998-453D-B781-6CCA9EE4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E264-5239-4152-82C6-C39D8BD3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589E4-40C3-41A9-A42B-158D2648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87E6-2FE1-447D-9E20-5C03F9D7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F81F6-915F-45A7-8CC4-394874A8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B1E-A784-45CB-9869-08775FFC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2D232-EF1D-4BE9-A583-4F92DF52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1A0E-B3CE-43BB-B8B8-9549165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3AFE-4B03-4C0E-8311-EE6B1D1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0C16-0FBD-483C-8AC0-E4D17EC3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8A46-744E-4F26-988A-6033B57D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35245-924A-49CC-8FA5-AF6CD080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14ECC-37AE-47FF-A666-7F61122A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3B8-5D39-4F46-BE43-B63D0B22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D91-B42C-424D-9DF3-251FFF37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181-84D6-4306-B5F3-5066427A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0250-B8C0-427C-BA8A-CD7862BB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3DB-66B1-42E9-BD84-D5D4EA9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9E8-150D-4512-80FC-055154DB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7D23-C52C-43D0-A1CD-6BE9B59FA4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CEFB-3464-4684-928A-6ABB00CA50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08B-CD6A-41BD-95B3-8C3BFE9EA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RCOT Data Warehouse Review 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rvices, Scheduling, and Audit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0" y="5257800"/>
            <a:ext cx="3809880" cy="13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ay Chas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(rchase@ercot.c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RCOT Data Warehousing Man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raig Ryan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(cryan@ercot.c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ta Warehousing Specialis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Extract Interfaces – Scheduling Co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14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 help screen will provide information about the various components on the page and a link to all related screens to aide Market Participants in using the Extract Schedul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12494" t="14482" r="5046" b="14000"/>
          <a:stretch/>
        </p:blipFill>
        <p:spPr>
          <a:xfrm>
            <a:off x="3733920" y="2438280"/>
            <a:ext cx="441936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Extract Interfaces – Auditabilit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vantages of using a Business Intelligence (BI) toolset with the Data Delivery Modu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vides an interface for Customer Service around Extr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vides meta data that can be made available to the market (historical runtimes changes, tracking changes in extract size, etc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ows for ad-hoc analysis or utilizing “canned” auditing / troubleshooting repor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ows internal ERCOT users to view extract details including a “packing list” with record cou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ows Data Aggregation and Data Management teams within ERCOT to research extract-related issues with a set of audit IDs and specific file cou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Extract Interfaces – Auditability Co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676520" y="2362320"/>
            <a:ext cx="4201920" cy="3324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943440" y="3759120"/>
            <a:ext cx="3981240" cy="2870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6045120" y="2514600"/>
            <a:ext cx="17146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B.I. tool allows “drilling-thru”* to lower levels of granular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5832360"/>
            <a:ext cx="226692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 Extremely efficient for quickly </a:t>
            </a:r>
            <a:r>
              <a:rPr b="0" i="1" lang="en-US" sz="1200" spc="-1" strike="noStrike">
                <a:solidFill>
                  <a:srgbClr val="006666"/>
                </a:solidFill>
                <a:latin typeface="Arial"/>
              </a:rPr>
              <a:t>&amp; visually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going from “10,000 foot” view to “extreme close-up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505320"/>
            <a:ext cx="761760" cy="1066680"/>
          </a:xfrm>
          <a:prstGeom prst="line">
            <a:avLst/>
          </a:prstGeom>
          <a:ln w="28440">
            <a:solidFill>
              <a:srgbClr val="0033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Extract Interfaces – Auditability Co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791320" cy="39574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809880" y="3809880"/>
            <a:ext cx="2835360" cy="2187720"/>
          </a:xfrm>
          <a:prstGeom prst="rect">
            <a:avLst/>
          </a:prstGeom>
          <a:ln w="1260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5680" y="861840"/>
            <a:ext cx="7948800" cy="36766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7480" y="4749840"/>
            <a:ext cx="7956360" cy="90972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9160" y="228600"/>
            <a:ext cx="7176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W Project Overvie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5920" y="4943520"/>
            <a:ext cx="658800" cy="527040"/>
          </a:xfrm>
          <a:prstGeom prst="flowChartMultidocument">
            <a:avLst/>
          </a:prstGeom>
          <a:solidFill>
            <a:srgbClr val="996600">
              <a:alpha val="2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al-time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porting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5080" y="914400"/>
            <a:ext cx="1623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DW Application Founda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9160" y="990720"/>
            <a:ext cx="2286000" cy="838080"/>
          </a:xfrm>
          <a:prstGeom prst="flowChartMagneticDisk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8120" y="518148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Wingdings"/>
                <a:ea typeface="Wingdings"/>
              </a:rPr>
              <a:t>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0680" y="518472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18280" y="5746680"/>
            <a:ext cx="925560" cy="95580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73680" y="4876920"/>
            <a:ext cx="825480" cy="644400"/>
          </a:xfrm>
          <a:prstGeom prst="flowChartMagneticDisk">
            <a:avLst/>
          </a:prstGeom>
          <a:solidFill>
            <a:srgbClr val="83b200">
              <a:alpha val="65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 RS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5800" y="4876920"/>
            <a:ext cx="823680" cy="644400"/>
          </a:xfrm>
          <a:prstGeom prst="flowChartMagneticDisk">
            <a:avLst/>
          </a:prstGeom>
          <a:solidFill>
            <a:srgbClr val="ff9900">
              <a:alpha val="65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* RS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6880" y="4876920"/>
            <a:ext cx="825480" cy="6444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iebel RS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69040" y="4876920"/>
            <a:ext cx="825480" cy="6444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AI RS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31080" y="5781600"/>
            <a:ext cx="1336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AI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7480" y="5746680"/>
            <a:ext cx="2560320" cy="95580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4360" y="5989680"/>
            <a:ext cx="762120" cy="27468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Load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82800" y="5989680"/>
            <a:ext cx="761760" cy="27468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Genera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0880" y="5986440"/>
            <a:ext cx="762120" cy="642960"/>
          </a:xfrm>
          <a:prstGeom prst="rect">
            <a:avLst/>
          </a:prstGeom>
          <a:solidFill>
            <a:srgbClr val="819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Settlement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&amp;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Billing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360" y="6356520"/>
            <a:ext cx="76212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ESIID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82800" y="6356520"/>
            <a:ext cx="761760" cy="2743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RID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0200" y="5781600"/>
            <a:ext cx="1336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ODESTAR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9720" y="5746680"/>
            <a:ext cx="3353040" cy="95580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98920" y="6289200"/>
            <a:ext cx="7621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Ancillary Service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18080" y="5781600"/>
            <a:ext cx="1336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MMS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24320" y="6289200"/>
            <a:ext cx="7621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Balancing Energy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1800" y="6000120"/>
            <a:ext cx="761760" cy="21564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Genera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86040" y="6000120"/>
            <a:ext cx="7621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Outage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24320" y="6000120"/>
            <a:ext cx="762120" cy="215640"/>
          </a:xfrm>
          <a:prstGeom prst="rec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Conges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1800" y="6289200"/>
            <a:ext cx="7617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Resource Pla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98920" y="6000120"/>
            <a:ext cx="762120" cy="21564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Solu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86040" y="6289200"/>
            <a:ext cx="762120" cy="33732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Energy Schedule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43760" y="5746680"/>
            <a:ext cx="892080" cy="95580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5781600"/>
            <a:ext cx="13366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IEBEL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08560" y="5997600"/>
            <a:ext cx="76212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Customer Registra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88120" y="6281640"/>
            <a:ext cx="762120" cy="3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TCH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88120" y="5996880"/>
            <a:ext cx="7621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PaperFree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33" idx="0"/>
            <a:endCxn id="229" idx="3"/>
          </p:cNvCxnSpPr>
          <p:nvPr/>
        </p:nvCxnSpPr>
        <p:spPr>
          <a:xfrm flipV="1">
            <a:off x="1368000" y="5520960"/>
            <a:ext cx="1080" cy="22608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0" idx="0"/>
            <a:endCxn id="228" idx="3"/>
          </p:cNvCxnSpPr>
          <p:nvPr/>
        </p:nvCxnSpPr>
        <p:spPr>
          <a:xfrm flipV="1">
            <a:off x="4385880" y="5520960"/>
            <a:ext cx="1080" cy="22608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50" idx="0"/>
            <a:endCxn id="230" idx="3"/>
          </p:cNvCxnSpPr>
          <p:nvPr/>
        </p:nvCxnSpPr>
        <p:spPr>
          <a:xfrm flipV="1">
            <a:off x="6589440" y="5520960"/>
            <a:ext cx="1080" cy="22608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27" idx="0"/>
            <a:endCxn id="231" idx="3"/>
          </p:cNvCxnSpPr>
          <p:nvPr/>
        </p:nvCxnSpPr>
        <p:spPr>
          <a:xfrm flipV="1">
            <a:off x="7581600" y="5520960"/>
            <a:ext cx="1080" cy="22608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59" name=""/>
          <p:cNvSpPr/>
          <p:nvPr/>
        </p:nvSpPr>
        <p:spPr>
          <a:xfrm>
            <a:off x="8331120" y="4079880"/>
            <a:ext cx="635040" cy="476280"/>
          </a:xfrm>
          <a:prstGeom prst="flowChartDocument">
            <a:avLst/>
          </a:prstGeom>
          <a:solidFill>
            <a:srgbClr val="819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L* Batch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xtract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31120" y="2664000"/>
            <a:ext cx="635040" cy="475920"/>
          </a:xfrm>
          <a:prstGeom prst="flowChartDocumen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MM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xtract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8520" y="1905120"/>
            <a:ext cx="658800" cy="527040"/>
          </a:xfrm>
          <a:prstGeom prst="flowChartMultidocument">
            <a:avLst/>
          </a:prstGeom>
          <a:solidFill>
            <a:srgbClr val="80008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Detail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porting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8520" y="1146240"/>
            <a:ext cx="658800" cy="527040"/>
          </a:xfrm>
          <a:prstGeom prst="flowChartMultidocumen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Reporting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29" idx="1"/>
            <a:endCxn id="264" idx="3"/>
          </p:cNvCxnSpPr>
          <p:nvPr/>
        </p:nvCxnSpPr>
        <p:spPr>
          <a:xfrm flipH="1" flipV="1" rot="5400000">
            <a:off x="3134160" y="2610000"/>
            <a:ext cx="500760" cy="4033080"/>
          </a:xfrm>
          <a:prstGeom prst="bentConnector3">
            <a:avLst>
              <a:gd name="adj1" fmla="val 49784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28" idx="1"/>
            <a:endCxn id="264" idx="3"/>
          </p:cNvCxnSpPr>
          <p:nvPr/>
        </p:nvCxnSpPr>
        <p:spPr>
          <a:xfrm flipH="1" flipV="1" rot="5400000">
            <a:off x="4643280" y="4119120"/>
            <a:ext cx="500760" cy="1015200"/>
          </a:xfrm>
          <a:prstGeom prst="bentConnector3">
            <a:avLst>
              <a:gd name="adj1" fmla="val 49784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30" idx="1"/>
            <a:endCxn id="264" idx="3"/>
          </p:cNvCxnSpPr>
          <p:nvPr/>
        </p:nvCxnSpPr>
        <p:spPr>
          <a:xfrm flipV="1" rot="16200000">
            <a:off x="5744520" y="4031640"/>
            <a:ext cx="500760" cy="1189800"/>
          </a:xfrm>
          <a:prstGeom prst="bentConnector3">
            <a:avLst>
              <a:gd name="adj1" fmla="val 49784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31" idx="1"/>
            <a:endCxn id="264" idx="3"/>
          </p:cNvCxnSpPr>
          <p:nvPr/>
        </p:nvCxnSpPr>
        <p:spPr>
          <a:xfrm flipV="1" rot="16200000">
            <a:off x="6240600" y="3535560"/>
            <a:ext cx="500760" cy="2181960"/>
          </a:xfrm>
          <a:prstGeom prst="bentConnector3">
            <a:avLst>
              <a:gd name="adj1" fmla="val 49784"/>
            </a:avLst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9" idx="0"/>
            <a:endCxn id="224" idx="3"/>
          </p:cNvCxnSpPr>
          <p:nvPr/>
        </p:nvCxnSpPr>
        <p:spPr>
          <a:xfrm flipV="1">
            <a:off x="5400720" y="1828080"/>
            <a:ext cx="2160" cy="15300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4176720" y="1981080"/>
            <a:ext cx="2448000" cy="38124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</a:rPr>
              <a:t>Business Intelligence                     Founda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257720" y="2557080"/>
            <a:ext cx="2287080" cy="1819800"/>
            <a:chOff x="4257720" y="2557080"/>
            <a:chExt cx="2287080" cy="1819800"/>
          </a:xfrm>
        </p:grpSpPr>
        <p:sp>
          <p:nvSpPr>
            <p:cNvPr id="264" name=""/>
            <p:cNvSpPr/>
            <p:nvPr/>
          </p:nvSpPr>
          <p:spPr>
            <a:xfrm>
              <a:off x="4257720" y="3767040"/>
              <a:ext cx="2285640" cy="609840"/>
            </a:xfrm>
            <a:prstGeom prst="flowChartMagneticDisk">
              <a:avLst/>
            </a:prstGeom>
            <a:solidFill>
              <a:srgbClr val="ff9900">
                <a:alpha val="65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57720" y="3762360"/>
              <a:ext cx="2285640" cy="173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272" name=""/>
            <p:cNvCxnSpPr/>
            <p:nvPr/>
          </p:nvCxnSpPr>
          <p:spPr>
            <a:xfrm>
              <a:off x="4315680" y="2557080"/>
              <a:ext cx="1080" cy="1080"/>
            </a:xfrm>
            <a:prstGeom prst="straightConnector1">
              <a:avLst/>
            </a:prstGeom>
            <a:ln w="936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273" name=""/>
            <p:cNvSpPr/>
            <p:nvPr/>
          </p:nvSpPr>
          <p:spPr>
            <a:xfrm>
              <a:off x="4257720" y="2643120"/>
              <a:ext cx="2285640" cy="76212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30560" y="4027320"/>
              <a:ext cx="945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LODESTAR OD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38560" y="3294000"/>
              <a:ext cx="723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iebel OD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27400" y="328140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IBEL OD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59160" y="3414600"/>
              <a:ext cx="2285640" cy="540000"/>
            </a:xfrm>
            <a:prstGeom prst="flowChartMagneticDisk">
              <a:avLst/>
            </a:prstGeom>
            <a:solidFill>
              <a:srgbClr val="83b200">
                <a:alpha val="65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57720" y="3044880"/>
              <a:ext cx="2285640" cy="53964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67080" y="3002040"/>
              <a:ext cx="2264760" cy="1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10560" y="2957400"/>
              <a:ext cx="587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EAI OD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39280" y="3657600"/>
              <a:ext cx="726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EMMS OD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24160" y="3305160"/>
              <a:ext cx="758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SEIBEL OD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83" name=""/>
          <p:cNvCxnSpPr>
            <a:stCxn id="273" idx="1"/>
            <a:endCxn id="269" idx="2"/>
          </p:cNvCxnSpPr>
          <p:nvPr/>
        </p:nvCxnSpPr>
        <p:spPr>
          <a:xfrm flipV="1">
            <a:off x="5400360" y="2361960"/>
            <a:ext cx="1080" cy="28152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4532400" y="1414440"/>
            <a:ext cx="174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nformed Data Warehouse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20" idx="3"/>
            <a:endCxn id="222" idx="1"/>
          </p:cNvCxnSpPr>
          <p:nvPr/>
        </p:nvCxnSpPr>
        <p:spPr>
          <a:xfrm>
            <a:off x="8043840" y="5204880"/>
            <a:ext cx="262800" cy="2520"/>
          </a:xfrm>
          <a:prstGeom prst="straightConnector1">
            <a:avLst/>
          </a:prstGeom>
          <a:ln w="9360">
            <a:solidFill>
              <a:srgbClr val="969696"/>
            </a:solidFill>
            <a:miter/>
            <a:tailEnd len="sm" type="triangle" w="med"/>
          </a:ln>
        </p:spPr>
      </p:cxnSp>
      <p:sp>
        <p:nvSpPr>
          <p:cNvPr id="286" name=""/>
          <p:cNvSpPr/>
          <p:nvPr/>
        </p:nvSpPr>
        <p:spPr>
          <a:xfrm>
            <a:off x="6858000" y="3276720"/>
            <a:ext cx="990720" cy="38088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66"/>
                </a:solidFill>
                <a:latin typeface="Tahoma"/>
              </a:rPr>
              <a:t>Data Delivery Module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69" idx="3"/>
            <a:endCxn id="286" idx="0"/>
          </p:cNvCxnSpPr>
          <p:nvPr/>
        </p:nvCxnSpPr>
        <p:spPr>
          <a:xfrm>
            <a:off x="6624720" y="2171520"/>
            <a:ext cx="729360" cy="1105560"/>
          </a:xfrm>
          <a:prstGeom prst="bentConnector2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6" idx="3"/>
            <a:endCxn id="260" idx="1"/>
          </p:cNvCxnSpPr>
          <p:nvPr/>
        </p:nvCxnSpPr>
        <p:spPr>
          <a:xfrm flipV="1">
            <a:off x="7848720" y="2901600"/>
            <a:ext cx="483120" cy="565920"/>
          </a:xfrm>
          <a:prstGeom prst="bentConnector3">
            <a:avLst>
              <a:gd name="adj1" fmla="val 49962"/>
            </a:avLst>
          </a:prstGeom>
          <a:ln w="9360">
            <a:solidFill>
              <a:srgbClr val="969696"/>
            </a:solidFill>
            <a:miter/>
            <a:tailEnd len="sm" type="triangle" w="med"/>
          </a:ln>
        </p:spPr>
      </p:cxnSp>
      <p:cxnSp>
        <p:nvCxnSpPr>
          <p:cNvPr id="289" name=""/>
          <p:cNvCxnSpPr>
            <a:stCxn id="286" idx="3"/>
            <a:endCxn id="259" idx="1"/>
          </p:cNvCxnSpPr>
          <p:nvPr/>
        </p:nvCxnSpPr>
        <p:spPr>
          <a:xfrm>
            <a:off x="7848720" y="3466800"/>
            <a:ext cx="483120" cy="851400"/>
          </a:xfrm>
          <a:prstGeom prst="bentConnector3">
            <a:avLst>
              <a:gd name="adj1" fmla="val 49962"/>
            </a:avLst>
          </a:prstGeom>
          <a:ln w="9360">
            <a:solidFill>
              <a:srgbClr val="969696"/>
            </a:solidFill>
            <a:miter/>
            <a:tailEnd len="sm" type="triangle" w="med"/>
          </a:ln>
        </p:spPr>
      </p:cxnSp>
      <p:cxnSp>
        <p:nvCxnSpPr>
          <p:cNvPr id="290" name=""/>
          <p:cNvCxnSpPr>
            <a:stCxn id="269" idx="3"/>
            <a:endCxn id="261" idx="1"/>
          </p:cNvCxnSpPr>
          <p:nvPr/>
        </p:nvCxnSpPr>
        <p:spPr>
          <a:xfrm flipV="1">
            <a:off x="6624360" y="2167920"/>
            <a:ext cx="1694520" cy="3960"/>
          </a:xfrm>
          <a:prstGeom prst="bentConnector3">
            <a:avLst>
              <a:gd name="adj1" fmla="val 49936"/>
            </a:avLst>
          </a:prstGeom>
          <a:ln w="9360">
            <a:solidFill>
              <a:srgbClr val="969696"/>
            </a:solidFill>
            <a:miter/>
            <a:tailEnd len="sm" type="triangle" w="med"/>
          </a:ln>
        </p:spPr>
      </p:cxnSp>
      <p:sp>
        <p:nvSpPr>
          <p:cNvPr id="291" name=""/>
          <p:cNvSpPr/>
          <p:nvPr/>
        </p:nvSpPr>
        <p:spPr>
          <a:xfrm>
            <a:off x="1295280" y="2362320"/>
            <a:ext cx="1459080" cy="38088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Security Founda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95280" y="1828800"/>
            <a:ext cx="1459080" cy="38088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Pool Cleaner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1295280"/>
            <a:ext cx="1459080" cy="38124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RSS to ODS                  Data Seeding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301760" y="3809880"/>
            <a:ext cx="1447920" cy="38124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Application Administration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06440" y="2819520"/>
            <a:ext cx="677880" cy="38088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Standard View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076480" y="2819520"/>
            <a:ext cx="677880" cy="38088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Standard API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06440" y="3276720"/>
            <a:ext cx="677880" cy="38088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Custom View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76480" y="3276720"/>
            <a:ext cx="677880" cy="380880"/>
          </a:xfrm>
          <a:prstGeom prst="rect">
            <a:avLst/>
          </a:prstGeom>
          <a:solidFill>
            <a:srgbClr val="f8f8f8"/>
          </a:solidFill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66"/>
                </a:solidFill>
                <a:latin typeface="Tahoma"/>
              </a:rPr>
              <a:t>Custom APIs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312408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68400" y="961920"/>
            <a:ext cx="15264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219060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62520" y="403848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40640" y="3902040"/>
            <a:ext cx="15264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3635280"/>
            <a:ext cx="152280" cy="150840"/>
          </a:xfrm>
          <a:prstGeom prst="ellips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1384200"/>
            <a:ext cx="152280" cy="15084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06" name=""/>
          <p:cNvCxnSpPr>
            <a:stCxn id="224" idx="4"/>
            <a:endCxn id="262" idx="1"/>
          </p:cNvCxnSpPr>
          <p:nvPr/>
        </p:nvCxnSpPr>
        <p:spPr>
          <a:xfrm>
            <a:off x="6545160" y="1409400"/>
            <a:ext cx="1774080" cy="1080"/>
          </a:xfrm>
          <a:prstGeom prst="bentConnector2">
            <a:avLst/>
          </a:prstGeom>
          <a:ln w="9360">
            <a:solidFill>
              <a:srgbClr val="969696"/>
            </a:solidFill>
            <a:miter/>
            <a:tailEnd len="sm" type="triangle" w="med"/>
          </a:ln>
        </p:spPr>
      </p:cxnSp>
      <p:sp>
        <p:nvSpPr>
          <p:cNvPr id="307" name=""/>
          <p:cNvSpPr/>
          <p:nvPr/>
        </p:nvSpPr>
        <p:spPr>
          <a:xfrm>
            <a:off x="8556480" y="2506680"/>
            <a:ext cx="120960" cy="120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56480" y="3216240"/>
            <a:ext cx="120960" cy="120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43600" y="5181480"/>
            <a:ext cx="120600" cy="120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55040" y="990720"/>
            <a:ext cx="120600" cy="120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31120" y="3371760"/>
            <a:ext cx="635040" cy="476280"/>
          </a:xfrm>
          <a:prstGeom prst="flowChartDocumen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SIID (727)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xtract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556480" y="1752480"/>
            <a:ext cx="120960" cy="12060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286" idx="3"/>
            <a:endCxn id="311" idx="1"/>
          </p:cNvCxnSpPr>
          <p:nvPr/>
        </p:nvCxnSpPr>
        <p:spPr>
          <a:xfrm>
            <a:off x="7848720" y="3466800"/>
            <a:ext cx="483120" cy="143640"/>
          </a:xfrm>
          <a:prstGeom prst="bentConnector3">
            <a:avLst>
              <a:gd name="adj1" fmla="val 49962"/>
            </a:avLst>
          </a:prstGeom>
          <a:ln w="9360">
            <a:solidFill>
              <a:srgbClr val="969696"/>
            </a:solidFill>
            <a:miter/>
            <a:tailEnd len="sm" type="triangle" w="med"/>
          </a:ln>
        </p:spPr>
      </p:cxnSp>
      <p:sp>
        <p:nvSpPr>
          <p:cNvPr id="314" name=""/>
          <p:cNvSpPr/>
          <p:nvPr/>
        </p:nvSpPr>
        <p:spPr>
          <a:xfrm>
            <a:off x="2062080" y="966960"/>
            <a:ext cx="144720" cy="1443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  <a:ea typeface="Tahoma"/>
              </a:rPr>
              <a:t>′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20120" y="33480"/>
            <a:ext cx="1295280" cy="69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DW Project Timeline Updat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1 – EMMS Replicated Source System – Dec 2004 / Jan 200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2 – Data Delivery Module – Nov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3 – Application Foundation, Phase 1 – Nov 2004*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4 – Lodestar Operational Data Store – Aug 2004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Still in Stabilizatio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5 – Business Intelligence Foundation, Phase 1 – Dec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6 – Lodestar Batch Extracts – Dec 2004 / Jan 200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7 – EMMS Operational Data Store – Dec 2004 / Jan 200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*Multiple rollouts available up to 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pen Discus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ank you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men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DW Services Architec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rojected Service Scope thru 200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w Extract Interfa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usiness Intelligence Comparis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uditabil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EDW Project Timeline Upd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Warehousing Vi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reliable, innovative, centralized, and comprehensive decision support and business intelligence systems to ERCOT, the Market, and the PUC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EDW Services Architecture - Over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W is moving to more modular service based compon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es are small components that allow access to a specific data item or are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amples: Login to the application security layer, obtain ESIID inform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es utilize our Business Intelligence (BI) found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es will be secured (Portal, Database, Application Data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rvices will be expandabl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1523880" y="4267080"/>
            <a:ext cx="3886200" cy="1943280"/>
            <a:chOff x="1523880" y="4267080"/>
            <a:chExt cx="3886200" cy="1943280"/>
          </a:xfrm>
        </p:grpSpPr>
        <p:sp>
          <p:nvSpPr>
            <p:cNvPr id="148" name=""/>
            <p:cNvSpPr/>
            <p:nvPr/>
          </p:nvSpPr>
          <p:spPr>
            <a:xfrm>
              <a:off x="1523880" y="5524560"/>
              <a:ext cx="79992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Service A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23880" y="5181480"/>
              <a:ext cx="79992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ESIID Info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3880" y="4838400"/>
              <a:ext cx="799920" cy="2282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Login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3880" y="5867280"/>
              <a:ext cx="799920" cy="22860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Service B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66880" y="4267080"/>
              <a:ext cx="2743200" cy="194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Database &amp; Application Security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23800" y="495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23800" y="5295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3800" y="563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23800" y="5981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81000" y="4495320"/>
              <a:ext cx="799920" cy="1600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Business Intelligence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95400" y="4495320"/>
              <a:ext cx="160020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Replicated Source System (RSS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95400" y="5067000"/>
              <a:ext cx="1600200" cy="4572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Operational Data Store (ODS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95400" y="5638680"/>
              <a:ext cx="160020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Conformed Data Warehouse (CDW)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019920" y="4381560"/>
            <a:ext cx="1485720" cy="1714320"/>
            <a:chOff x="6019920" y="4381560"/>
            <a:chExt cx="1485720" cy="1714320"/>
          </a:xfrm>
        </p:grpSpPr>
        <p:sp>
          <p:nvSpPr>
            <p:cNvPr id="162" name=""/>
            <p:cNvSpPr/>
            <p:nvPr/>
          </p:nvSpPr>
          <p:spPr>
            <a:xfrm>
              <a:off x="6019920" y="4381560"/>
              <a:ext cx="1485720" cy="171432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Tahoma"/>
                </a:rPr>
                <a:t>Business Intelligence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19920" y="4724280"/>
              <a:ext cx="1485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1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19920" y="4952880"/>
              <a:ext cx="1485720" cy="228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2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9920" y="5181480"/>
              <a:ext cx="1485720" cy="2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3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5410080"/>
              <a:ext cx="1485720" cy="228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4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920" y="5638680"/>
              <a:ext cx="1485720" cy="2286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Tahoma"/>
                </a:rPr>
                <a:t>View 5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9920" y="5867280"/>
              <a:ext cx="14857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3366"/>
                  </a:solidFill>
                  <a:latin typeface="Tahoma"/>
                </a:rPr>
                <a:t>View 1</a:t>
              </a:r>
              <a:endParaRPr b="0" lang="en-US" sz="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9920" y="5867280"/>
              <a:ext cx="1485720" cy="22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Tahoma"/>
                </a:rPr>
                <a:t>View 6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DW Services Architecture – Projected Service Scope thru 2005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l Servi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DW’s data delivery module, portal based extr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ew extract schedule interac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any others to follow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ternal Services available to the Marke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EWG is now recommending that 727 Phase II be a web service based interaction with the ERCOT EDW database environ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727 Phase II is scheduled to be delivered by end of Q4, 200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t this time, services are “to-be-determined”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SIID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age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rvice History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terval Level Data Acces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Business Intelligen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Data Archive / Data Warehous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(DA/DW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business logic stored in 3</a:t>
            </a:r>
            <a:r>
              <a:rPr b="0" lang="en-US" sz="1400" spc="-1" strike="noStrike" baseline="30000">
                <a:solidFill>
                  <a:srgbClr val="003366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party too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anned” reports allowing very limited customization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or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hug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3-D “cubes” that allowed ‘personal’ reporting… but could lock up user’s PC!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Loaded once every 24 hours; provides information on a 1 day la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ata-load or report-building failure required manual recovery / analysi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ata integrity issues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killed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DW, and very nearly the 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ata Archive only provides for a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curren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view of the relationships in the dat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876920" y="2209680"/>
            <a:ext cx="4114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ERCOT Data Warehouse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(EDW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business logic stored in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databas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s “subject area” view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esigned for ad-hoc reporting; centralized logic guarantees query optimization / ‘single version of the truth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ear real-time data loading increases value to B.I. u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xtremely high degree of audit ability built into EDW greatly reduces risk of “human error”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ew architecture helps ensures data qual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ptimized for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Point-In-Time Selectivity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PITS)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o allow for an 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Arial"/>
              </a:rPr>
              <a:t>exact recreation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of how the data looked at any historical point in tim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4876560" y="2963520"/>
            <a:ext cx="685800" cy="74520"/>
          </a:xfrm>
          <a:prstGeom prst="leftArrow">
            <a:avLst>
              <a:gd name="adj1" fmla="val 50000"/>
              <a:gd name="adj2" fmla="val 23007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4876560" y="4333680"/>
            <a:ext cx="685800" cy="74520"/>
          </a:xfrm>
          <a:prstGeom prst="leftArrow">
            <a:avLst>
              <a:gd name="adj1" fmla="val 50000"/>
              <a:gd name="adj2" fmla="val 23007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0800000">
            <a:off x="4876560" y="4905000"/>
            <a:ext cx="685800" cy="74520"/>
          </a:xfrm>
          <a:prstGeom prst="leftArrow">
            <a:avLst>
              <a:gd name="adj1" fmla="val 50000"/>
              <a:gd name="adj2" fmla="val 23007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4876560" y="5457600"/>
            <a:ext cx="685800" cy="74520"/>
          </a:xfrm>
          <a:prstGeom prst="leftArrow">
            <a:avLst>
              <a:gd name="adj1" fmla="val 50000"/>
              <a:gd name="adj2" fmla="val 23007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6560" y="5838480"/>
            <a:ext cx="685800" cy="74520"/>
          </a:xfrm>
          <a:prstGeom prst="leftArrow">
            <a:avLst>
              <a:gd name="adj1" fmla="val 50000"/>
              <a:gd name="adj2" fmla="val 23007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4876560" y="3571560"/>
            <a:ext cx="685800" cy="74520"/>
          </a:xfrm>
          <a:prstGeom prst="leftArrow">
            <a:avLst>
              <a:gd name="adj1" fmla="val 50000"/>
              <a:gd name="adj2" fmla="val 230072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Business Intelligence – Advantages of the “Subject Area” desig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619440" y="2322360"/>
            <a:ext cx="5429160" cy="2433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838080" y="4514760"/>
            <a:ext cx="4724640" cy="22068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914400" y="2438280"/>
            <a:ext cx="2362320" cy="12193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People &amp; processes using the “subject areas” have access to cleaner, more accurate data, as well as a smoother transition to the future EDW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5029200"/>
            <a:ext cx="3048120" cy="1447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The “subject areas” use a multi-tiered “building block” approach for maximum re-usability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Allows people several choices of how they wish to access the data, while still providing a “single version of the truth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3200040" y="2819160"/>
            <a:ext cx="304920" cy="4093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5438880"/>
            <a:ext cx="266760" cy="4093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23623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e ERCOT EDW Extract Scheduler is a multi-page information center for use by Market Participants and internal ERCOT resource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s information will be available to Market Participants for monitoring and answering questions about extracts without having to contact ERC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Extract Interfaces - Scheduling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31230" t="22634" r="19080" b="39789"/>
          <a:stretch/>
        </p:blipFill>
        <p:spPr>
          <a:xfrm>
            <a:off x="1066680" y="3711600"/>
            <a:ext cx="3581640" cy="2536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31230" t="22268" r="4194" b="33308"/>
          <a:stretch/>
        </p:blipFill>
        <p:spPr>
          <a:xfrm>
            <a:off x="4686480" y="3711600"/>
            <a:ext cx="3924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Extract Interfaces – Scheduling Co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n “information block” area can be used as a place to access information about extracts and supply other information in the futu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1230" t="61691" r="2055" b="12409"/>
          <a:stretch/>
        </p:blipFill>
        <p:spPr>
          <a:xfrm>
            <a:off x="2590920" y="3200400"/>
            <a:ext cx="44956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syedavalli</dc:creator>
  <dc:description/>
  <dc:language>en-US</dc:language>
  <cp:lastModifiedBy>rchase</cp:lastModifiedBy>
  <dcterms:modified xsi:type="dcterms:W3CDTF">2004-11-05T19:33:10Z</dcterms:modified>
  <cp:revision>66</cp:revision>
  <dc:subject/>
  <dc:title>ODS Source Schema Standards</dc:title>
</cp:coreProperties>
</file>