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501-0F2E-4932-892A-CDEA32EA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773-7CA4-45AC-9380-040B7CC9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5D29-E029-45D8-A755-DF80BD5E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1DC-0C75-4191-B0B8-E946311F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F3E-E2BD-48CA-892A-0FEC4F9E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8E13-7502-4768-BBFB-6F3773EF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652-583C-4586-8F98-E1C25D5E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2D1-915F-4841-90BE-FE4887E7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0E08-1772-4B63-A9D7-E49F98BB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2F5-C4C2-443B-A80D-F520201A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6A3-0B90-47EA-9AA1-328B2340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808-1680-4C4A-90D1-45A48082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4CA7-7D79-466C-9CB2-EAEEF4906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CWG Meeting Oct 21 &amp;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tiality agreements must be sig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ng Guide Revision on Governor Settings and Tes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Bias setting recommend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etting will impact SCPS sc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rter Disturbance Events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S &amp; SCPS performance re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18960" y="0"/>
            <a:ext cx="8506080" cy="6934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August 22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8515440" cy="694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September 22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915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38280" y="1295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d by September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3 months 06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8680" y="0"/>
            <a:ext cx="8486640" cy="6915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14600" y="1752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d by September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3 months 22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9160" y="28440"/>
            <a:ext cx="8905680" cy="68011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18 DCS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05840" cy="5533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CPS1 July 143.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80" y="662040"/>
            <a:ext cx="9105840" cy="5533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CPS1 August 139.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160" y="662040"/>
            <a:ext cx="9105840" cy="6195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CPS1 September 124.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4760" y="905040"/>
            <a:ext cx="9039240" cy="5952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CPS1 by Day - Sept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05720" cy="6924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July 06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8960" y="0"/>
            <a:ext cx="8506080" cy="6924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August 06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8515440" cy="6934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September 06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8960" y="0"/>
            <a:ext cx="850608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 SCPS1 July 22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12:17Z</dcterms:created>
  <dc:creator>sniemeyer</dc:creator>
  <dc:description/>
  <dc:language>en-US</dc:language>
  <cp:lastModifiedBy>Ann S. Boren</cp:lastModifiedBy>
  <dcterms:modified xsi:type="dcterms:W3CDTF">2004-10-11T15:42:48Z</dcterms:modified>
  <cp:revision>4</cp:revision>
  <dc:subject/>
  <dc:title>PowerPoint Presentation</dc:title>
</cp:coreProperties>
</file>