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1FA-3D7B-41AD-9579-EA9C43C8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554-6540-407F-9405-B0B54BF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67D-BFFE-4F26-920C-2601C950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BA7-01EF-4B76-BE6B-F9690CEC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D697-2BB3-4A9F-9F79-DAD8C111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8A54-3AAA-47AC-86CD-B941EA89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D485-EBDA-464E-B24B-A999426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69D-5074-40D3-B480-ECEDCA42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9C86-0120-4D08-8C44-05E3F0DF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64771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F0B2-AC7C-4BAC-B14F-F2DD922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7376-3A9D-41DE-BF4D-6591367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4E3-3D13-4355-B5DB-035D041F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FB06-5513-480B-ADAD-3A8628E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A05-67A8-4664-80BE-2DBF12F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A1DC-20F6-4863-A888-9BC1458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39FB-93C6-4298-A9E6-34B10EA38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0185-3252-4584-9A2A-CABB1B70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348-8635-4B33-9476-CEB77659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3AB-1AA7-45FB-BBF3-74DB1A6B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297C-36B2-4BEE-8F14-7B380480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-360"/>
            <a:ext cx="64771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2EE-87B8-4381-AF8E-77F6A933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5487-73C7-4EB3-BA9B-02565A2D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223-B155-4D02-A00D-30DF8C0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A83-BBAF-417B-BE91-5C6E652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5B9A-0A33-4B82-A28E-46E25365E68C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500D-BE15-458D-99B0-9015FDF9199C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121932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70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3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581-EF3F-40AC-BE09-FD852DECD3B0}" type="datetime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5D7-048C-4031-875A-336486145E9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8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8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nstructed Deviation and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ortfolio Balancing Energy Bid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4BA-697F-4C09-BA00-4931F50812A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3CA85-7844-4D8E-BD0F-CF99F59CA1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1: Cat 1 violates portfolio ramp ra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90720"/>
            <a:ext cx="79246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oftware Solu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ludes instructed deviation in portfolio deployment, even if outside ramp rate limi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oes not clear BES to offset instructed deviation beyond ramp rate limi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837-9234-4A1C-8E97-8DFC042910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9F83-5504-4786-87AE-945E397437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1: Cat 1 violates portfolio ramp ra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990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BES cleared to offset instructed deviation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00200"/>
            <a:ext cx="792504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ssume MCPE = $45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A in Nor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: 100 MW @ $40 Ramp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BES bid: 100 MW  @ $20 Ramp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ategory 1 Portfolio Deployment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ategory 3 Unit-Specific Deployment to Unit A1: 11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o meet ramp rate limit, software would clear 20 MW DBES from QSE in Step 3 as “price taker”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inal Result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ategory 1 Portfolio Deployment: 5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ategory 3 Unit-Specific Deployment to Unit A1: 11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864-EEF7-440F-9E72-B8068371D99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427AA-C0DC-4D1F-A60F-BBD6036AB2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Question 2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 got struck for Balancing Energy outside of my bid curve.  Is your system working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5B7E-75C0-4837-A01B-2FEB733E78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8DD41-4CD1-4D93-875E-BBFA1A9A3E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2: I got struck for Balancing Energy outside of my bid curve.  Is your system working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90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Why It Happ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structed Deviation (I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ID calculated for Local Balancing Energy (LBE) and OOME deployment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BE and OOME deployments not based on portfolio bid ($) curv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vious deployment cannot be entirely recalle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revious deployment cannot be entirely recalled due to bid ramp rat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W amount that can’t be recalled is cleared as “price taker”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49200" indent="-13428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0920" indent="-16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824-63EF-4826-8154-A9C526FDD1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BD363-DC66-41A5-A437-BBF50390EA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2: I got struck for Balancing Energy outside of my bid curve.  Is your system working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800600" y="3276720"/>
            <a:ext cx="3809520" cy="2713680"/>
            <a:chOff x="4800600" y="3276720"/>
            <a:chExt cx="3809520" cy="2713680"/>
          </a:xfrm>
        </p:grpSpPr>
        <p:sp>
          <p:nvSpPr>
            <p:cNvPr id="199" name=""/>
            <p:cNvSpPr/>
            <p:nvPr/>
          </p:nvSpPr>
          <p:spPr>
            <a:xfrm flipV="1">
              <a:off x="5714640" y="4495320"/>
              <a:ext cx="685440" cy="380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400440" y="4038120"/>
              <a:ext cx="838080" cy="4568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4640" y="3581280"/>
              <a:ext cx="0" cy="18284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14640" y="5410080"/>
              <a:ext cx="21333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440" y="5333760"/>
              <a:ext cx="0" cy="2282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14840" y="5333760"/>
              <a:ext cx="0" cy="2282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562360" y="487656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562360" y="403848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56386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10280" y="56530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2880" y="46623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2880" y="38098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44193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62560" y="39621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72040" y="55623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00600" y="3276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38680" y="4800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52880" y="42814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562360" y="449568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2280" y="3124080"/>
            <a:ext cx="4068720" cy="3070440"/>
            <a:chOff x="152280" y="3124080"/>
            <a:chExt cx="4068720" cy="3070440"/>
          </a:xfrm>
        </p:grpSpPr>
        <p:sp>
          <p:nvSpPr>
            <p:cNvPr id="219" name=""/>
            <p:cNvSpPr/>
            <p:nvPr/>
          </p:nvSpPr>
          <p:spPr>
            <a:xfrm>
              <a:off x="633240" y="3124080"/>
              <a:ext cx="4492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MW 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1920" y="3124080"/>
              <a:ext cx="0" cy="307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31920" y="4659120"/>
              <a:ext cx="29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31920" y="414828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128680" y="3806280"/>
              <a:ext cx="44784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76520" y="38066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28680" y="4148280"/>
              <a:ext cx="44784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6520" y="448956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0516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2100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80960" y="5853240"/>
              <a:ext cx="59868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76520" y="5853240"/>
              <a:ext cx="10476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4024440"/>
              <a:ext cx="9223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70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3645000"/>
              <a:ext cx="61740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1440" y="4365720"/>
              <a:ext cx="5331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20  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9059-11A2-4D7C-86B0-E30AF90686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12B7C-9076-45CE-B791-7F8E14FC7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2: I got struck for Balancing Energy outside of my bid curve.  Is your system working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52280" y="3124080"/>
            <a:ext cx="4068720" cy="3070440"/>
            <a:chOff x="152280" y="3124080"/>
            <a:chExt cx="4068720" cy="3070440"/>
          </a:xfrm>
        </p:grpSpPr>
        <p:sp>
          <p:nvSpPr>
            <p:cNvPr id="238" name=""/>
            <p:cNvSpPr/>
            <p:nvPr/>
          </p:nvSpPr>
          <p:spPr>
            <a:xfrm>
              <a:off x="633240" y="3124080"/>
              <a:ext cx="4492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MW 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1920" y="3124080"/>
              <a:ext cx="0" cy="307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31920" y="4659120"/>
              <a:ext cx="29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31920" y="414828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128680" y="3806280"/>
              <a:ext cx="44784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76520" y="38066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8680" y="4148280"/>
              <a:ext cx="44784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76520" y="448956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516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100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80960" y="5853240"/>
              <a:ext cx="59868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76520" y="5853240"/>
              <a:ext cx="10476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2280" y="4024440"/>
              <a:ext cx="9223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70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200" y="3645000"/>
              <a:ext cx="61740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440" y="4365720"/>
              <a:ext cx="5331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20  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800600" y="3276720"/>
            <a:ext cx="3809520" cy="2713680"/>
            <a:chOff x="4800600" y="3276720"/>
            <a:chExt cx="3809520" cy="2713680"/>
          </a:xfrm>
        </p:grpSpPr>
        <p:sp>
          <p:nvSpPr>
            <p:cNvPr id="254" name=""/>
            <p:cNvSpPr/>
            <p:nvPr/>
          </p:nvSpPr>
          <p:spPr>
            <a:xfrm flipV="1">
              <a:off x="5714640" y="4495320"/>
              <a:ext cx="685440" cy="38052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6400440" y="4038120"/>
              <a:ext cx="838080" cy="4568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14640" y="3581280"/>
              <a:ext cx="0" cy="18284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14640" y="5410080"/>
              <a:ext cx="21333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00440" y="5333760"/>
              <a:ext cx="0" cy="2282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14840" y="5333760"/>
              <a:ext cx="0" cy="2282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562360" y="487656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5562360" y="403848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56386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10280" y="56530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52880" y="46623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52880" y="38098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44193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62560" y="39621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72040" y="556236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00600" y="3276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638680" y="4800600"/>
              <a:ext cx="151920" cy="15192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52880" y="42814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562360" y="449568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419720" y="2971800"/>
            <a:ext cx="4572000" cy="1828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Can recall 50 MW of previous deployment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(5 MW/min * 10 min = 50 MW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Leaves 20 MW UBES that must be deploye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443-1D14-45AB-A5A8-E28419B72C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D921B-D178-4E51-8819-7BD644EBD7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2: I got struck for Balancing Energy outside of my bid curve.  Is your system working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3124080"/>
            <a:ext cx="51818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arket Clearin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ssume MCPE = $3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20 MW UBES issued as “price taker” to QSE B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10080" y="2743200"/>
            <a:ext cx="3810240" cy="2745000"/>
            <a:chOff x="5410080" y="2743200"/>
            <a:chExt cx="3810240" cy="2745000"/>
          </a:xfrm>
        </p:grpSpPr>
        <p:sp>
          <p:nvSpPr>
            <p:cNvPr id="279" name=""/>
            <p:cNvSpPr/>
            <p:nvPr/>
          </p:nvSpPr>
          <p:spPr>
            <a:xfrm flipV="1">
              <a:off x="6324480" y="3962520"/>
              <a:ext cx="685800" cy="3808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7010280" y="3505320"/>
              <a:ext cx="83844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24480" y="3048120"/>
              <a:ext cx="0" cy="1828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24480" y="4876920"/>
              <a:ext cx="21337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10280" y="480060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24680" y="480060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171840" y="434340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171840" y="350532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05720" y="51055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0120" y="51199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62720" y="4129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62720" y="32767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34320" y="388620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72400" y="342900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81880" y="5029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0080" y="2743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426744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62720" y="37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171840" y="396252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80880" y="5029200"/>
            <a:ext cx="8153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Category 1 deployment:  2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5F0-4047-48E6-83D0-FFF573291C1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87560-38C4-4FA8-B002-BAE3E4B119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990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oftware Solu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W Amount that must be issued due to ramp rate cannot set price (“price taker”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762012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2: I got struck for Balancing Energy outside of my bid curve.  Is your system working?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C23-554B-4993-8694-7EC4AEF20E8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500B6-0821-4729-9EA8-D8E32DC1F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Question 3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 didn’t get struck for the amount of Balancing Energy I expected.  What’s wrong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F9B-85B1-4C90-A6F9-A559701BEE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E4C6B-5DC6-4B97-8E5D-A5AE13B1AD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3: “I didn’t get struck for the amount of Balancing Energy I expected.  What’s wrong?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990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Why It Happ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structed Devia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ID calculated for Local Balancing Energy (LBE) and OOME deployment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vious deployment cannot be entirely recalle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W amount that can’t be recalled is cleared as “price taker”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56400" indent="-13716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64520" indent="-164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898560" y="40068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0E55-FD76-4F10-AEB4-59E083C68F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AAA0F-1262-4A35-A2B5-BE2BFC58C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9144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ducate participants on EMMS Release 3 implementation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nswer FAQ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ddress any remaining issu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581280"/>
            <a:ext cx="7924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gend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Brief review of EMMS Release 3.0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AQ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dditional Questions?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608-1C4F-4094-970E-AA2B437156D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7546C-217F-4C66-A828-02BFFED6E8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3: “I didn’t get struck for the amount of Balancing Energy I expected.  What’s wrong?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360080" indent="-194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OOME ID: 3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3352680"/>
            <a:ext cx="3810240" cy="2745000"/>
            <a:chOff x="4724280" y="3352680"/>
            <a:chExt cx="3810240" cy="2745000"/>
          </a:xfrm>
        </p:grpSpPr>
        <p:sp>
          <p:nvSpPr>
            <p:cNvPr id="312" name=""/>
            <p:cNvSpPr/>
            <p:nvPr/>
          </p:nvSpPr>
          <p:spPr>
            <a:xfrm flipV="1">
              <a:off x="5638680" y="4572000"/>
              <a:ext cx="685800" cy="3808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324480" y="4114800"/>
              <a:ext cx="83844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38680" y="3657600"/>
              <a:ext cx="0" cy="1828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8680" y="5486400"/>
              <a:ext cx="21337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24480" y="541008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541008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486040" y="495288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486040" y="411480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19920" y="5715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34320" y="5729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4738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3886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48520" y="44956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86600" y="40384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96080" y="56386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24280" y="33526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62720" y="48769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6920" y="4357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486040" y="457200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52280" y="3124080"/>
            <a:ext cx="4068720" cy="3070440"/>
            <a:chOff x="152280" y="3124080"/>
            <a:chExt cx="4068720" cy="3070440"/>
          </a:xfrm>
        </p:grpSpPr>
        <p:sp>
          <p:nvSpPr>
            <p:cNvPr id="332" name=""/>
            <p:cNvSpPr/>
            <p:nvPr/>
          </p:nvSpPr>
          <p:spPr>
            <a:xfrm>
              <a:off x="633240" y="3124080"/>
              <a:ext cx="4492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MW 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31920" y="3124080"/>
              <a:ext cx="0" cy="307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31920" y="4659120"/>
              <a:ext cx="29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31920" y="414828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128680" y="3806280"/>
              <a:ext cx="44784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76520" y="38066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8680" y="4148280"/>
              <a:ext cx="44784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76520" y="448956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0516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100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0960" y="5853240"/>
              <a:ext cx="59868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76520" y="5853240"/>
              <a:ext cx="10476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280" y="4024440"/>
              <a:ext cx="9223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70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7200" y="3645000"/>
              <a:ext cx="61740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1440" y="4365720"/>
              <a:ext cx="5331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20  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C8A-A2B4-434B-8186-077E9AD93F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7902A-23B7-46C2-8976-4B8C4EDFD7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3: “I didn’t get struck for the amount of Balancing Energy I expected.  What’s wrong?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360080" indent="-194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OOME ID: 3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24280" y="3352680"/>
            <a:ext cx="3810240" cy="2745000"/>
            <a:chOff x="4724280" y="3352680"/>
            <a:chExt cx="3810240" cy="2745000"/>
          </a:xfrm>
        </p:grpSpPr>
        <p:sp>
          <p:nvSpPr>
            <p:cNvPr id="351" name=""/>
            <p:cNvSpPr/>
            <p:nvPr/>
          </p:nvSpPr>
          <p:spPr>
            <a:xfrm flipV="1">
              <a:off x="5638680" y="4572000"/>
              <a:ext cx="685800" cy="3808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324480" y="4114800"/>
              <a:ext cx="83844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38680" y="3657600"/>
              <a:ext cx="0" cy="1828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38680" y="5486400"/>
              <a:ext cx="21337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24480" y="541008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8880" y="541008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86040" y="495288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5486040" y="411480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9920" y="5715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34320" y="5729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76920" y="4738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76920" y="3886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48520" y="44956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6600" y="4038480"/>
              <a:ext cx="15228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96080" y="56386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24280" y="335268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62720" y="4876920"/>
              <a:ext cx="15228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6920" y="4357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486040" y="4572000"/>
              <a:ext cx="30492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419720" y="3124080"/>
            <a:ext cx="4572000" cy="13716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Can recall 50 MW of previous deploymen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(5 MW/min * 10 min = 50 MW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buClr>
                <a:srgbClr val="54547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Leaves 20 MW that must be deploye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52280" y="3124080"/>
            <a:ext cx="4068720" cy="3070440"/>
            <a:chOff x="152280" y="3124080"/>
            <a:chExt cx="4068720" cy="3070440"/>
          </a:xfrm>
        </p:grpSpPr>
        <p:sp>
          <p:nvSpPr>
            <p:cNvPr id="372" name=""/>
            <p:cNvSpPr/>
            <p:nvPr/>
          </p:nvSpPr>
          <p:spPr>
            <a:xfrm>
              <a:off x="633240" y="3124080"/>
              <a:ext cx="44928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45472"/>
                  </a:solidFill>
                  <a:latin typeface="Times New Roman"/>
                </a:rPr>
                <a:t>MW 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31920" y="3124080"/>
              <a:ext cx="0" cy="307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920" y="4659120"/>
              <a:ext cx="29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31920" y="4148280"/>
              <a:ext cx="89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2128680" y="3806280"/>
              <a:ext cx="44784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76520" y="3806640"/>
              <a:ext cx="164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28680" y="4148280"/>
              <a:ext cx="44784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76520" y="448956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40516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21000" y="3124080"/>
              <a:ext cx="0" cy="290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80960" y="5853240"/>
              <a:ext cx="59868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6520" y="5853240"/>
              <a:ext cx="104760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545472"/>
                  </a:solidFill>
                  <a:latin typeface="Times New Roman"/>
                </a:rPr>
                <a:t>T</a:t>
              </a:r>
              <a:r>
                <a:rPr b="0" i="1" lang="en-US" sz="1400" spc="-1" strike="noStrike" baseline="-25000">
                  <a:solidFill>
                    <a:srgbClr val="545472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2280" y="4024440"/>
              <a:ext cx="92232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70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200" y="3645000"/>
              <a:ext cx="617400" cy="33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1440" y="4365720"/>
              <a:ext cx="533160" cy="34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545472"/>
                  </a:solidFill>
                  <a:latin typeface="Times New Roman"/>
                </a:rPr>
                <a:t>20   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BCD-D263-48D4-8925-67B0295363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78D1E-85EC-421F-B26E-44C162BB6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3: “I didn’t get struck for the amount of Balancing Energy I expected.  What’s wrong?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99072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B in Sou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eployment in previous interval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360080" indent="-1940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100 MW     Ramp Rate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OOME ID: 3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971280" indent="-1940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3505320"/>
            <a:ext cx="4572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arket Clearin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ssume MCPE = $8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20 MW UBES issued as “price taker” to QSE B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40 MW UBES cleared based on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334120" y="2133720"/>
            <a:ext cx="3809520" cy="2745000"/>
            <a:chOff x="5334120" y="2133720"/>
            <a:chExt cx="3809520" cy="2745000"/>
          </a:xfrm>
        </p:grpSpPr>
        <p:sp>
          <p:nvSpPr>
            <p:cNvPr id="392" name=""/>
            <p:cNvSpPr/>
            <p:nvPr/>
          </p:nvSpPr>
          <p:spPr>
            <a:xfrm flipV="1">
              <a:off x="6248160" y="3353040"/>
              <a:ext cx="685440" cy="3808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933960" y="2895840"/>
              <a:ext cx="838080" cy="457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48160" y="2438640"/>
              <a:ext cx="0" cy="1828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8160" y="4267440"/>
              <a:ext cx="21333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933960" y="419112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48360" y="4191120"/>
              <a:ext cx="0" cy="2286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095880" y="373392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6095880" y="289584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449604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43800" y="451044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86400" y="35197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486400" y="266724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858000" y="32767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96080" y="2819520"/>
              <a:ext cx="151920" cy="15264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305560" y="4419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MW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4120" y="213372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545472"/>
                  </a:solidFill>
                  <a:latin typeface="Times New Roman"/>
                </a:rPr>
                <a:t>$/MWh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2200" y="3657960"/>
              <a:ext cx="151920" cy="152280"/>
            </a:xfrm>
            <a:prstGeom prst="octagon">
              <a:avLst>
                <a:gd name="adj" fmla="val 29287"/>
              </a:avLst>
            </a:prstGeom>
            <a:solidFill>
              <a:srgbClr val="cdb3c4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313884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2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095880" y="3353040"/>
              <a:ext cx="304560" cy="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04920" y="55627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lvl="2" marL="822960" indent="-164520"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Category 1 deployment: 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822960" indent="-164520"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Category 3 OOME deploymen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822960" indent="-164520"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534960" indent="-205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46960" indent="-246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5638680" y="43434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1a47"/>
                </a:solidFill>
                <a:latin typeface="Times New Roman"/>
              </a:rPr>
              <a:t>Price Taker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5334120"/>
            <a:ext cx="2590920" cy="68580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54547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30 MW of OOME I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+ 40 MW of Cleared Bid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172200" y="3581280"/>
            <a:ext cx="457200" cy="837720"/>
            <a:chOff x="6172200" y="3581280"/>
            <a:chExt cx="457200" cy="837720"/>
          </a:xfrm>
        </p:grpSpPr>
        <p:sp>
          <p:nvSpPr>
            <p:cNvPr id="415" name=""/>
            <p:cNvSpPr/>
            <p:nvPr/>
          </p:nvSpPr>
          <p:spPr>
            <a:xfrm>
              <a:off x="6553080" y="3581280"/>
              <a:ext cx="0" cy="685800"/>
            </a:xfrm>
            <a:prstGeom prst="line">
              <a:avLst/>
            </a:prstGeom>
            <a:ln w="38160">
              <a:solidFill>
                <a:srgbClr val="ea1a4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172200" y="3886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1a47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6324480" y="4190400"/>
              <a:ext cx="152280" cy="3049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920"/>
                <a:gd name="textAreaBottom" fmla="*/ 29700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a1a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553080" y="3429000"/>
            <a:ext cx="457200" cy="990000"/>
            <a:chOff x="6553080" y="3429000"/>
            <a:chExt cx="457200" cy="990000"/>
          </a:xfrm>
        </p:grpSpPr>
        <p:sp>
          <p:nvSpPr>
            <p:cNvPr id="419" name=""/>
            <p:cNvSpPr/>
            <p:nvPr/>
          </p:nvSpPr>
          <p:spPr>
            <a:xfrm>
              <a:off x="6553080" y="3886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ff"/>
                  </a:solidFill>
                  <a:latin typeface="Times New Roman"/>
                </a:rPr>
                <a:t>40</a:t>
              </a:r>
              <a:endParaRPr b="0" lang="en-US" sz="16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6553080" y="3429000"/>
              <a:ext cx="380880" cy="990000"/>
              <a:chOff x="6553080" y="3429000"/>
              <a:chExt cx="380880" cy="990000"/>
            </a:xfrm>
          </p:grpSpPr>
          <p:sp>
            <p:nvSpPr>
              <p:cNvPr id="421" name=""/>
              <p:cNvSpPr/>
              <p:nvPr/>
            </p:nvSpPr>
            <p:spPr>
              <a:xfrm>
                <a:off x="6933960" y="3429000"/>
                <a:ext cx="0" cy="838080"/>
              </a:xfrm>
              <a:prstGeom prst="line">
                <a:avLst/>
              </a:prstGeom>
              <a:ln w="38160">
                <a:solidFill>
                  <a:srgbClr val="3399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6200000">
                <a:off x="6667200" y="4152240"/>
                <a:ext cx="152280" cy="38088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9720 h 380880"/>
                  <a:gd name="textAreaBottom" fmla="*/ 3711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6324480" y="43434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Cleared from Bid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F32-BB29-458C-944F-E4A384C439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75299-5B48-4646-9D6F-58268EC4B8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990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Software Solu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W Amount that must be issued due to ramp rate cannot set price (“price taker”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y additional amount cleared from bid can set pri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Final Deployment includes Instructed Deviation + Any Cleared BES from bid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023840" indent="-146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475200" indent="-1828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475200" indent="-18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475200" indent="-1828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475200" indent="-1828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762012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3: “I didn’t get struck for the amount of Balancing Energy I expected.  What’s wrong?”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FFB-4C5E-4FCB-8BB7-7BB64A36E1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7095B-AC5D-4637-BB6C-918DA7CC84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04920" y="990720"/>
            <a:ext cx="7924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structed deviation and portfolio ramp rate relate in 14 different w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cenarios depend on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514080" indent="-102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revious deployment (UBES or DBES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514080" indent="-102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revious deployment can/cannot be entirely recalle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514080" indent="-102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ID’s relation to deployment range based on ramp rat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4 scenarios detailed in Market Bulletin # 19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720000" indent="-102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334080" indent="-12852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15408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762012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D62D-2B16-4822-A818-136F62C16F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2858B-9F00-4329-A3B1-BCA6E86FFC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EMMS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Release 3.0 Review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mplement protocol revisi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PRR 332 – Resource on Test Mode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PRR 349 – Ramp Rate adherence in portfolio deployments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PRR 359 – Resource Plan Improvements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PRR 373 – OOME As Instructed Deviation (ID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PRR 424 – Elimination of Commercial Category 4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048120"/>
            <a:ext cx="86108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odel new 3-step market clearing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tep 1: Estimate portfolio deployments for power balance and zonal congestion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tep 2: Resolve local congestion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tep 3: Final portfolio deployments considering unit-specific instructions from Step 2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6483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ND still consider…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Reliability (power balance and congestion management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QSE’s portfolio bid and capacity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cheduling &amp; Bidding opportunities (ramp rate recall and price taker mw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5D2-BA29-41BD-B91E-913A106834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2772A-6994-4E75-9FE4-3A41587D8F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y Category 1 deployment violates my portfolio ramp rate.  Is this right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 got struck for Balancing Energy outside of my bid curve.  Is your system working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I didn’t get struck for the amount of Balancing Energy I expected.  What’s wrong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CAF-C307-4DED-BA1B-5654545EDF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920BA-BC7A-4B91-A83C-87442408BE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Question 1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y Category 1 deployment violates my portfolio ramp rate.  Is this right?”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F06-EB51-4FC6-9EB9-6E09099025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98F1D-569A-4B35-8CFA-AF7EFD1AE3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1: Cat 1 violates portfolio ramp ra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79246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Why It Happ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anual (OOME) deploymen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OOME ID is included in Category 1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t based on portfolio bid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98560" y="4006800"/>
            <a:ext cx="755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215320" y="3231360"/>
            <a:ext cx="3088440" cy="2940480"/>
            <a:chOff x="5215320" y="3231360"/>
            <a:chExt cx="3088440" cy="2940480"/>
          </a:xfrm>
        </p:grpSpPr>
        <p:sp>
          <p:nvSpPr>
            <p:cNvPr id="152" name=""/>
            <p:cNvSpPr/>
            <p:nvPr/>
          </p:nvSpPr>
          <p:spPr>
            <a:xfrm rot="980400">
              <a:off x="6571800" y="3276360"/>
              <a:ext cx="495000" cy="1206360"/>
            </a:xfrm>
            <a:prstGeom prst="upArrow">
              <a:avLst>
                <a:gd name="adj1" fmla="val 50000"/>
                <a:gd name="adj2" fmla="val 6092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9159200">
              <a:off x="5548680" y="3599640"/>
              <a:ext cx="495000" cy="1206360"/>
            </a:xfrm>
            <a:prstGeom prst="upArrow">
              <a:avLst>
                <a:gd name="adj1" fmla="val 50000"/>
                <a:gd name="adj2" fmla="val 6092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3688920"/>
              <a:ext cx="2969640" cy="2482920"/>
            </a:xfrm>
            <a:prstGeom prst="irregularSeal2">
              <a:avLst/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45472"/>
                  </a:solidFill>
                  <a:latin typeface="Times New Roman"/>
                </a:rPr>
                <a:t>Different if unit not operating at planned level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2590920"/>
            <a:ext cx="7924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eared MW v. Instructed Deviation (ID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cal Balancing Energy in Step 2 cleared based on Adjusted SCADA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BES ID calculated based on Resource Pla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BES ID included in Portfolio Deploymen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114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iolate ramp rate to manage congestion or power balanc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C819-0DBF-43EC-9E93-83207F2ECF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EF5FA-3B05-411E-8D2A-9C3127C0A0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15000" y="914400"/>
            <a:ext cx="3200400" cy="438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ortfolio deployment includ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1) Step 1 cleared BES from bi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2) Step 2 cleared BES from bids (ID for Local Balancing Energy instructions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ortfolio deployment constrained by Bid Ramp Ra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Pre-R3 Portfolio Deploymen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3124080"/>
            <a:ext cx="2971800" cy="213372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Portfolio Deployment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 rot="20214600">
            <a:off x="609480" y="1447920"/>
            <a:ext cx="198144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1 Cleared BES bi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 rot="1701000">
            <a:off x="3276360" y="1447560"/>
            <a:ext cx="19810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2 Cleared BES bi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3675600">
            <a:off x="1499760" y="2309760"/>
            <a:ext cx="1219320" cy="561960"/>
          </a:xfrm>
          <a:prstGeom prst="rightArrow">
            <a:avLst>
              <a:gd name="adj1" fmla="val 50000"/>
              <a:gd name="adj2" fmla="val 54244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 rot="6974400">
            <a:off x="3200400" y="2208600"/>
            <a:ext cx="1128600" cy="561960"/>
          </a:xfrm>
          <a:prstGeom prst="rightArrow">
            <a:avLst>
              <a:gd name="adj1" fmla="val 50000"/>
              <a:gd name="adj2" fmla="val 50208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3A9-57A4-4C3F-BCB6-EFE1182D91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0C722-FA78-4558-B6DA-63A82F1EC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15000" y="914400"/>
            <a:ext cx="3200400" cy="438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ortfolio deployment include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1) Cleared BES from bid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2) ID for Local Balancing Energy instructions (LBES ID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3) ID for OOME instructions (OOME ID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Portfolio deployment (and recall) constrained by Bid Ramp Rat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Post-R3 Portfolio Deployment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752480" y="3124080"/>
            <a:ext cx="2971800" cy="2133720"/>
          </a:xfrm>
          <a:prstGeom prst="can">
            <a:avLst>
              <a:gd name="adj" fmla="val 25000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Portfolio Deployment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 rot="2245800">
            <a:off x="4723920" y="1828800"/>
            <a:ext cx="144792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BES I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 rot="19709400">
            <a:off x="228240" y="1676520"/>
            <a:ext cx="144792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OME I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6000" y="914400"/>
            <a:ext cx="198108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 3 Cleared BES bid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3130800">
            <a:off x="935280" y="2493000"/>
            <a:ext cx="1128960" cy="5619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2642760" y="2004840"/>
            <a:ext cx="1218960" cy="561960"/>
          </a:xfrm>
          <a:prstGeom prst="rightArrow">
            <a:avLst>
              <a:gd name="adj1" fmla="val 50000"/>
              <a:gd name="adj2" fmla="val 54228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 rot="8229600">
            <a:off x="4038120" y="2437920"/>
            <a:ext cx="1128960" cy="5619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B31-8B75-485C-93B9-851B2F4EE1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B84D-4EA7-433F-A6F8-FFA1EAA421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647712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Question 1: Cat 1 violates portfolio ramp rat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990720"/>
            <a:ext cx="8686800" cy="27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45472"/>
                </a:solidFill>
                <a:uFillTx/>
                <a:latin typeface="Tahoma"/>
              </a:rPr>
              <a:t>Exampl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SE A in North Zone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No deployment in previous interva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BES bid: 100 MW @ $40 Ramp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BES bid: 100 MW  @ $20 Ramp: 5 MW/mi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it A1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lanned Level: 4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Adjusted SCADA: 6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3809880"/>
            <a:ext cx="86868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arket Clearing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To resolve constraint, cleared 50 MW UBES in Step 2 to Unit A1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Instructed Output Level = 65 MW + 50 MW = 11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1a47"/>
                </a:solidFill>
                <a:latin typeface="Tahoma"/>
              </a:rPr>
              <a:t>Instructed Deviation = 115 MW – 45 MW = 7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5334120"/>
            <a:ext cx="8686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1a47"/>
                </a:solidFill>
                <a:latin typeface="Tahoma"/>
              </a:rPr>
              <a:t>Category 1 Deployment: 70 MW UB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Category 3 Unit-Specific Deployment to Unit A1: 115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-52920"/>
            <a:ext cx="2970000" cy="4988880"/>
          </a:xfrm>
          <a:prstGeom prst="irregularSeal2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Max UBES based on Ramp Rate = 50 MW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5866920" y="5105160"/>
            <a:ext cx="685800" cy="609480"/>
          </a:xfrm>
          <a:custGeom>
            <a:avLst/>
            <a:gdLst>
              <a:gd name="textAreaLeft" fmla="*/ 0 w 685800"/>
              <a:gd name="textAreaRight" fmla="*/ 686160 w 685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435" stAng="10800000" swAng="5400000"/>
                <a:lnTo>
                  <a:pt x="14849" y="4725"/>
                </a:lnTo>
                <a:lnTo>
                  <a:pt x="14849" y="0"/>
                </a:lnTo>
                <a:lnTo>
                  <a:pt x="21600" y="6079"/>
                </a:lnTo>
                <a:lnTo>
                  <a:pt x="14849" y="12158"/>
                </a:lnTo>
                <a:lnTo>
                  <a:pt x="14849" y="7433"/>
                </a:lnTo>
                <a:lnTo>
                  <a:pt x="12427" y="7433"/>
                </a:lnTo>
                <a:arcTo wR="9719" hR="4727" stAng="16200000" swAng="-5400000"/>
                <a:lnTo>
                  <a:pt x="2708" y="21600"/>
                </a:lnTo>
                <a:close/>
              </a:path>
            </a:pathLst>
          </a:custGeom>
          <a:solidFill>
            <a:srgbClr val="ea1a4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 flipH="1" rot="13601400">
            <a:off x="461160" y="4795920"/>
            <a:ext cx="928800" cy="937800"/>
          </a:xfrm>
          <a:custGeom>
            <a:avLst/>
            <a:gdLst>
              <a:gd name="textAreaLeft" fmla="*/ 360 w 928800"/>
              <a:gd name="textAreaRight" fmla="*/ 929520 w 928800"/>
              <a:gd name="textAreaTop" fmla="*/ 0 h 937800"/>
              <a:gd name="textAreaBottom" fmla="*/ 938160 h 937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56" stAng="10800000" swAng="5400000"/>
                <a:lnTo>
                  <a:pt x="13633" y="4904"/>
                </a:lnTo>
                <a:lnTo>
                  <a:pt x="13633" y="0"/>
                </a:lnTo>
                <a:lnTo>
                  <a:pt x="21600" y="6079"/>
                </a:lnTo>
                <a:lnTo>
                  <a:pt x="13633" y="12158"/>
                </a:lnTo>
                <a:lnTo>
                  <a:pt x="13633" y="7254"/>
                </a:lnTo>
                <a:lnTo>
                  <a:pt x="12427" y="7254"/>
                </a:lnTo>
                <a:arcTo wR="10077" hR="4906" stAng="16200000" swAng="-5400000"/>
                <a:lnTo>
                  <a:pt x="2350" y="216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DBB-F03A-41C4-8298-AB30594885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3C176-BC26-4A5B-909E-5D05A35EE4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6:47:12Z</dcterms:created>
  <dc:creator>Yonggang Li</dc:creator>
  <dc:description/>
  <dc:language>en-US</dc:language>
  <cp:lastModifiedBy>aboren</cp:lastModifiedBy>
  <dcterms:modified xsi:type="dcterms:W3CDTF">2004-09-22T21:08:10Z</dcterms:modified>
  <cp:revision>162</cp:revision>
  <dc:subject/>
  <dc:title>Day Ahead Process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9991282</vt:r8>
  </property>
  <property fmtid="{D5CDD505-2E9C-101B-9397-08002B2CF9AE}" pid="3" name="_AuthorEmail">
    <vt:lpwstr>ljohnson@ercot.com</vt:lpwstr>
  </property>
  <property fmtid="{D5CDD505-2E9C-101B-9397-08002B2CF9AE}" pid="4" name="_AuthorEmailDisplayName">
    <vt:lpwstr>Johnson, Lori</vt:lpwstr>
  </property>
  <property fmtid="{D5CDD505-2E9C-101B-9397-08002B2CF9AE}" pid="5" name="_EmailSubject">
    <vt:lpwstr>Background Material for Agenda Item #10</vt:lpwstr>
  </property>
  <property fmtid="{D5CDD505-2E9C-101B-9397-08002B2CF9AE}" pid="6" name="_ReviewingToolsShownOnce">
    <vt:lpwstr/>
  </property>
</Properties>
</file>