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2866-2643-4954-9CEF-A75FACF67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8FB5-012E-497A-AF68-2D4293E4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9CFA-6FAF-4D67-87D9-26A9AD10A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2AA3-7004-4985-99E4-14D9BBA31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31A9-FB9D-4283-BB79-FEFF00D6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285D-F95D-44AC-B762-A2184AF7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406A-C6B2-4C01-9668-1A73F92D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5271-8474-4E51-B4BA-D819F15A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6900-AFEB-45D3-9E41-82D22F36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7D82-E3AB-46A0-8348-F11A0945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A453-4EAD-4A97-A7FC-49D3A53E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E9C8-C8EC-4164-B030-2F44A90E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2F6C-7A85-4271-A1B6-08ABB62F8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66680" y="914400"/>
            <a:ext cx="6400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Ancillary Service procurement methodology meeting that ERCOT staff sponsored on Monday, September 20th; ERCOT staff and participants agreed that the improvements in frequency control which were proposed by ERCOT staff(1), could also be achieved through other means; several of which are proposed in pending PR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llow the market opportunity to achieve this improvement without additional AS charges, ERCOT staff agreed to defer increasing Ancillary Service Regulation Requirements in its proposal for next year; recognizing that the current document allows ERCOT staff to increase the requirements unilaterally with subsequent review of the ERCOT Boar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ly next year, ERCOT staff intends to review the success of the alternatives discussed Monday, and may make other proposals at that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light of this agreement; ERCOT staff proposes revising the 2005 Ancillary Service Procurement methodology document as reflected in the attached DRAFT to remove the proposed regulation increase in the morning and evening ho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Proposed through an increase in regulation procurement during the morning and evening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80880"/>
            <a:ext cx="63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 John Adams Email to ROS and WMS – 9/23/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4T19:03:50Z</dcterms:created>
  <dc:creator>aboren</dc:creator>
  <dc:description/>
  <dc:language>en-US</dc:language>
  <cp:lastModifiedBy>aboren</cp:lastModifiedBy>
  <dcterms:modified xsi:type="dcterms:W3CDTF">2004-09-24T19:04:09Z</dcterms:modified>
  <cp:revision>1</cp:revision>
  <dc:subject/>
  <dc:title>Slide 1</dc:title>
</cp:coreProperties>
</file>