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029-9162-416E-8B0B-094FC094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273-78F6-463B-98D1-AAFEAB5F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ADB-E88A-41C1-90E8-EB060ADD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CE5-7E61-4D7B-B978-A652E047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D50A-B055-431C-BFCC-FC39C9C6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1F4E-BEDD-48A5-9B4A-6A9B6814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11A-A89E-476C-9785-4CD479D4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AE7E-BAE7-402D-9B2A-493C7A2E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480-9B90-4FDC-B92A-D146EDD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64771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934C-1126-4929-A1AC-6641080D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CE37-625E-452C-84AC-841558C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94A-65A1-4C9A-A744-7779614B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CD7-4218-45FB-9DC2-24197486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9796-81B3-42B8-86CD-305C69B5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ACB1-A6FE-4AC9-9D1F-0B079EB6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5326-D4C1-4699-835B-99DA04E7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766A-9BA0-46C7-BAEB-75F5DD3C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CC5-1A4B-4339-B652-80D2B67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EAE-157F-41DF-BF86-A519EC3C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FE0-D91F-4CBB-A764-33891758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64771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093-30B5-427A-BC4A-787D6AFB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857-5450-4DCC-B4DC-85095DC7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F70-5CD4-4469-8B30-CC1F926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5D1-03BD-45FA-8CEF-B54B1C9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A62-AB83-4CE0-928B-D7286079E023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713E-9908-4F98-BBB5-6776342F850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21932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3BCE-1191-4239-8405-14F57C456C0E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F250-D231-40D7-BD84-4E2A1C9A0C5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2.png"/><Relationship Id="rId20" Type="http://schemas.openxmlformats.org/officeDocument/2006/relationships/image" Target="../media/image8.png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ummary of BES Market Activity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ember 7 – September 20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2B5-DC38-4E4F-AE04-E41B0BA1D49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FA720-F7B4-4CA8-B856-9C7B3A6A56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91440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Data Point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Load Forecast Differenc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Difference between mid-term load forecast (end of Day-Ahead) and short-term load forecast (Balancing Energy Market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BES Deploye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Net Balancing Energy Service deployment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UBES Bids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Aggregated UBES Bid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MCP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Market Clearing Price (without price correction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2" marL="902880" indent="-18036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ime Period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Weekdays of September 7 – September 20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HE 14:00 – HE 18:00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mmary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586800" indent="-22572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Data points averaged by day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87C-B177-4965-A6D1-9D8339A819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44024-78B3-4CD4-8826-783E9783DA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62120" y="561960"/>
          <a:ext cx="7619760" cy="5897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61960"/>
                    <a:ext cx="76197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E99-C57B-46C2-ABDD-C67EC49500D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4FCEE-B971-47AB-8396-080464399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1447920"/>
          <a:ext cx="8458200" cy="4038480"/>
        </p:xfrm>
        <a:graphic>
          <a:graphicData uri="http://schemas.openxmlformats.org/drawingml/2006/table">
            <a:tbl>
              <a:tblPr/>
              <a:tblGrid>
                <a:gridCol w="2438640"/>
                <a:gridCol w="2895480"/>
                <a:gridCol w="31240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ptember 9</a:t>
                      </a:r>
                      <a:r>
                        <a:rPr b="1" lang="en-US" sz="1800" spc="-1" strike="noStrike" baseline="30000">
                          <a:solidFill>
                            <a:srgbClr val="545472"/>
                          </a:solidFill>
                          <a:latin typeface="Tahoma"/>
                        </a:rPr>
                        <a:t>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ptember 10</a:t>
                      </a:r>
                      <a:r>
                        <a:rPr b="1" lang="en-US" sz="1800" spc="-1" strike="noStrike" baseline="30000">
                          <a:solidFill>
                            <a:srgbClr val="545472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Load Forecast Differenc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594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65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BES Deploye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949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269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UBES Bid MW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275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320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b193e"/>
                          </a:solidFill>
                          <a:latin typeface="Tahoma"/>
                        </a:rPr>
                        <a:t>$166.9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b193e"/>
                          </a:solidFill>
                          <a:latin typeface="Tahoma"/>
                        </a:rPr>
                        <a:t>$81.92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5105520" y="3200400"/>
            <a:ext cx="1218960" cy="685800"/>
          </a:xfrm>
          <a:prstGeom prst="leftRightArrow">
            <a:avLst>
              <a:gd name="adj1" fmla="val 50000"/>
              <a:gd name="adj2" fmla="val 35384"/>
            </a:avLst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32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114800"/>
            <a:ext cx="1218960" cy="685800"/>
          </a:xfrm>
          <a:prstGeom prst="leftRightArrow">
            <a:avLst>
              <a:gd name="adj1" fmla="val 50000"/>
              <a:gd name="adj2" fmla="val 35384"/>
            </a:avLst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104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 9 v. Sept 10 Pea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150-F5D8-4169-8873-C1E9386C91B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4CB5C-1A67-41FA-8D0C-2D9D6DC202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1447920"/>
          <a:ext cx="8458200" cy="3657600"/>
        </p:xfrm>
        <a:graphic>
          <a:graphicData uri="http://schemas.openxmlformats.org/drawingml/2006/table">
            <a:tbl>
              <a:tblPr/>
              <a:tblGrid>
                <a:gridCol w="3048120"/>
                <a:gridCol w="2743200"/>
                <a:gridCol w="266688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ptember 9</a:t>
                      </a:r>
                      <a:r>
                        <a:rPr b="1" lang="en-US" sz="1800" spc="-1" strike="noStrike" baseline="30000">
                          <a:solidFill>
                            <a:srgbClr val="545472"/>
                          </a:solidFill>
                          <a:latin typeface="Tahoma"/>
                        </a:rPr>
                        <a:t>th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eptember 15</a:t>
                      </a:r>
                      <a:r>
                        <a:rPr b="1" lang="en-US" sz="1800" spc="-1" strike="noStrike" baseline="30000">
                          <a:solidFill>
                            <a:srgbClr val="545472"/>
                          </a:solidFill>
                          <a:latin typeface="Tahoma"/>
                        </a:rPr>
                        <a:t>th</a:t>
                      </a: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Load Forecast Differenc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594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09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Difference in Load Forecast &amp; Gen Sche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949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119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UBES Bid MW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275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247 MW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verage 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b193e"/>
                          </a:solidFill>
                          <a:latin typeface="Tahoma"/>
                        </a:rPr>
                        <a:t>$166.96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b193e"/>
                          </a:solidFill>
                          <a:latin typeface="Tahoma"/>
                        </a:rPr>
                        <a:t>$130.08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eff48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562720" y="3048120"/>
            <a:ext cx="1218960" cy="685800"/>
          </a:xfrm>
          <a:prstGeom prst="leftRightArrow">
            <a:avLst>
              <a:gd name="adj1" fmla="val 50000"/>
              <a:gd name="adj2" fmla="val 35384"/>
            </a:avLst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117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 9 v. Sept 15 Peak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664B-B281-479F-B14A-CDC95A70988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7DDB0-843F-455B-A531-721C2FEB90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1371600"/>
            <a:ext cx="7924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ptember 9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Big difference between mid-term and short-term load forecas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ess 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ptember 15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ahoma"/>
              </a:rPr>
              <a:t>th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Big difference in scheduled generation and load forecas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5BA-9ED8-4855-8475-AB758F9551F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F1D97-B86D-4B93-8F62-C869363EF7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33520" y="762120"/>
          <a:ext cx="8076960" cy="4251240"/>
        </p:xfrm>
        <a:graphic>
          <a:graphicData uri="http://schemas.openxmlformats.org/drawingml/2006/table">
            <a:tbl>
              <a:tblPr/>
              <a:tblGrid>
                <a:gridCol w="1238040"/>
                <a:gridCol w="1352520"/>
                <a:gridCol w="1524240"/>
                <a:gridCol w="1523880"/>
                <a:gridCol w="1219320"/>
                <a:gridCol w="121896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eptember 9</a:t>
                      </a:r>
                      <a:r>
                        <a:rPr b="1" lang="en-US" sz="1600" spc="-1" strike="noStrike" baseline="30000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 Interv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1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3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4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Load Foreca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2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6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8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cheduled Generatio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67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5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8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Available Capacity Not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4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1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5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16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72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9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59.5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2.0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90.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19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84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20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3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9.2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52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09480" y="5029200"/>
            <a:ext cx="792504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tep 1 MCPE is result of simulation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MCPE for 14:30 and 14:45 were later corrected per Protocol 6.9.5.1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Available Capacity Not Bid = Total Max Online Capacity - Energy Schedules –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AS Requirement – UBES Bi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 9 Detai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C9A-D633-483F-84EF-4AAC03DAC61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D13DC-D88A-4EE7-911C-F171251EB5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533520" y="762120"/>
          <a:ext cx="8076960" cy="4251240"/>
        </p:xfrm>
        <a:graphic>
          <a:graphicData uri="http://schemas.openxmlformats.org/drawingml/2006/table">
            <a:tbl>
              <a:tblPr/>
              <a:tblGrid>
                <a:gridCol w="1238040"/>
                <a:gridCol w="1352520"/>
                <a:gridCol w="1706760"/>
                <a:gridCol w="1523880"/>
                <a:gridCol w="1219320"/>
                <a:gridCol w="103644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eptember 9</a:t>
                      </a:r>
                      <a:r>
                        <a:rPr b="1" lang="en-US" sz="1600" spc="-1" strike="noStrike" baseline="30000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 Interv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1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3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4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Load Foreca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2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6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8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cheduled Generatio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67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5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8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Available Capacity Not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4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1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5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16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72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9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59.5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2.0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90.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19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84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20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3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9.2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52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 9 Detai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1219320"/>
            <a:ext cx="1143000" cy="609480"/>
          </a:xfrm>
          <a:prstGeom prst="leftRightArrow">
            <a:avLst>
              <a:gd name="adj1" fmla="val 35185"/>
              <a:gd name="adj2" fmla="val 44019"/>
            </a:avLst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</a:rPr>
              <a:t>500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88620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</a:rPr>
              <a:t>108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984920"/>
            <a:ext cx="79246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Between 14:15 and 14:30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Load Forecast increased by 500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Increase in UBES cleare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Exhausted available (ramp rate) UBES bids in 14:30 interval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114-4C25-4EB5-BC2E-DFC4D7615C6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D0029-A794-4CFD-8BBB-C19E9172E3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533520" y="762120"/>
          <a:ext cx="8076960" cy="4267080"/>
        </p:xfrm>
        <a:graphic>
          <a:graphicData uri="http://schemas.openxmlformats.org/drawingml/2006/table">
            <a:tbl>
              <a:tblPr/>
              <a:tblGrid>
                <a:gridCol w="1238040"/>
                <a:gridCol w="1352520"/>
                <a:gridCol w="1295640"/>
                <a:gridCol w="1295280"/>
                <a:gridCol w="1447920"/>
                <a:gridCol w="1447560"/>
              </a:tblGrid>
              <a:tr h="45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eptember 9</a:t>
                      </a:r>
                      <a:r>
                        <a:rPr b="1" lang="en-US" sz="1600" spc="-1" strike="noStrike" baseline="30000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 Interv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1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3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4:4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5: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65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Load Forecas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2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6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3,8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cheduled Generatio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67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75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0,83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,29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Available Capacity Not Bi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70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4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61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,5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16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72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93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59.5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2.0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90.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19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Step 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U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2,84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04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20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,38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DBE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8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56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4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MCP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79.2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290.01*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$152.5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95280" y="0"/>
            <a:ext cx="64771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ept 9 Detai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1219320"/>
            <a:ext cx="914400" cy="609480"/>
          </a:xfrm>
          <a:prstGeom prst="leftRightArrow">
            <a:avLst>
              <a:gd name="adj1" fmla="val 35185"/>
              <a:gd name="adj2" fmla="val 35215"/>
            </a:avLst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imes New Roman"/>
              </a:rPr>
              <a:t>200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029200"/>
            <a:ext cx="79250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Between 14:45 and 15:00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Load Forecast increased by 200 MW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Increase in UBES cleare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imes New Roman"/>
              </a:rPr>
              <a:t>Same amount of UBES bids, BUT more available UBES due to ramp rate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02F-DC9E-45A9-A140-396EEBE628C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DFACF-EF61-45E3-967B-351549CCD5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6:47:12Z</dcterms:created>
  <dc:creator>Yonggang Li</dc:creator>
  <dc:description/>
  <dc:language>en-US</dc:language>
  <cp:lastModifiedBy>ERCOT</cp:lastModifiedBy>
  <dcterms:modified xsi:type="dcterms:W3CDTF">2004-09-24T16:57:50Z</dcterms:modified>
  <cp:revision>178</cp:revision>
  <dc:subject/>
  <dc:title>Day Ahead Process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62712339</vt:r8>
  </property>
  <property fmtid="{D5CDD505-2E9C-101B-9397-08002B2CF9AE}" pid="3" name="_AuthorEmail">
    <vt:lpwstr>ljohnson@ercot.com</vt:lpwstr>
  </property>
  <property fmtid="{D5CDD505-2E9C-101B-9397-08002B2CF9AE}" pid="4" name="_AuthorEmailDisplayName">
    <vt:lpwstr>Johnson, Lori</vt:lpwstr>
  </property>
  <property fmtid="{D5CDD505-2E9C-101B-9397-08002B2CF9AE}" pid="5" name="_EmailSubject">
    <vt:lpwstr>Presentation from yesterday's meeting</vt:lpwstr>
  </property>
</Properties>
</file>