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5B3-C00A-4C49-8F2B-38589E7C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DE5-3A3A-4575-A1CA-6BBD20A2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62F-FE0C-407E-BF96-92D3A157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76D-8392-4AD2-A5CE-791592A1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E8E-F87B-46AA-86FD-FFB3EF3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F28-E4C7-4672-A271-0E795379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4D6-50AA-4718-BFC4-AC83C10A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37C-9AD8-4F10-8569-AA96D78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155-4E21-4CA1-96DF-2005C24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FB3-983F-4EF9-9BF2-DAFD058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0C3-5455-4D39-AE98-67FB212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23C-93E1-4901-9B8E-B4A5636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A6F9-7F0C-4EED-8C6A-2B0D45A4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tember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6BF-771F-47E3-A9F6-94A5301957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of 82 Competitive Retailers Reported Numbers by the due date for August (09/02/04).   ** note, less CRs reported this month, numbers are lower 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8/12/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 of 82 Competitive Retailers are filing Non-ERCOT DEV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8 of 82 Competitive Retailers are filing ERCOT DEV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s for October RMS (September Reports) are due by October 5,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s for next mon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CRs 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948-8D98-49C8-9AFA-5277A3AA4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371600"/>
          <a:ext cx="8533800" cy="4800240"/>
        </p:xfrm>
        <a:graphic>
          <a:graphicData uri="http://schemas.openxmlformats.org/drawingml/2006/table">
            <a:tbl>
              <a:tblPr/>
              <a:tblGrid>
                <a:gridCol w="2387880"/>
                <a:gridCol w="1614240"/>
                <a:gridCol w="1643400"/>
                <a:gridCol w="1445400"/>
                <a:gridCol w="144288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,7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7DE-6950-442A-8331-7CF53F521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371600"/>
          <a:ext cx="8457840" cy="480024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C4D-D75F-43C3-BC71-F359A20F3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447920"/>
          <a:ext cx="8457840" cy="472392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,8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F5B-788B-4233-B70A-1C300C8B7B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371600"/>
          <a:ext cx="8610120" cy="480024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8FA-1C1B-4F57-8947-B725238BD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371600"/>
          <a:ext cx="8610120" cy="480024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023-56F0-42E7-A9D7-2CB49B8EE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447920"/>
          <a:ext cx="8457840" cy="472392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99F-35EE-4672-B5DF-9D60231C22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9-08T16:35:19Z</dcterms:modified>
  <cp:revision>276</cp:revision>
  <dc:subject/>
  <dc:title>PowerPoint Presentation</dc:title>
</cp:coreProperties>
</file>