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B4A-1FE5-4186-88B7-6FC49F6E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C81-DC9D-4B0B-9DC2-AD9560C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462-EAED-4ED3-A0C6-9D9DE37E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9F0-AA59-4B8D-8C15-502D8FB9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848-BAFF-42FF-94AA-405051D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F7E-586C-4B73-BA37-DF020B1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365-2A32-4466-A505-EAD4BB8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A77-833C-4BDE-AB93-EF0F835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984-04E5-4107-8D4A-75DF924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BDA-F0F1-4761-BCF0-81F68FE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988-0E9B-484D-BE79-08016C0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860-9D6A-4A87-9BA5-83A7B59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372-6948-41FF-97E0-F459B487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Supporting Repor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MS Sept.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D17-6809-493E-9C4A-72657968FF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-3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34080" y="13716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6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371600"/>
          <a:ext cx="54100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4100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791320" y="3962520"/>
            <a:ext cx="30477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558 New and In Progress Non-ERCOT issues, 12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BF6-324D-43F1-96BC-33966E9765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-03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452 New &amp; In Progress, 245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153,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,771 New &amp; In Progress, 281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447920"/>
          <a:ext cx="5168880" cy="50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168880" cy="50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180-DAF8-41F9-8C0B-FD9496F30E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-03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9800" y="1398600"/>
          <a:ext cx="798840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98600"/>
                    <a:ext cx="79884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133720" y="617220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627 New &amp; In Progress ERCOT Issues, 104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427-378A-4318-A7E7-44A035110D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9-03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447920"/>
          <a:ext cx="74422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422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9CE-5ED9-448C-9C91-59A6A5ECC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D8C-BD49-4DC5-BC78-981D1DBFD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8458200" cy="26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97E-68ED-4137-84B5-066A2B6211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9880" y="1309680"/>
            <a:ext cx="8544240" cy="47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454-7179-4543-852E-4B6CCB924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227-4B00-4F1F-A653-862F9D60A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5C1-B834-4669-B138-C69727F09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95F-5B71-45A0-917B-99A7BEACA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105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above includes only data since TX SET 2.0 Implementation – due to changes in cancell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20/04 date with high totals represents a fix to the reporting and “catching up” of th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9343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F04-D2F0-409F-A6B1-C8DBB09B0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3AA-F655-4BB4-AC6E-804C31722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6:24:50Z</dcterms:modified>
  <cp:revision>4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