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F8C-29B2-49BA-9B38-8B751B7C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0B5-3DDF-4A4A-A732-DE26C0DE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C62-731E-44F9-89C0-A65BB6D3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210-DA6A-41D8-8E7B-51CB3DBF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CC1-C5D9-403A-9B5B-E5CDA196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25F-2C2B-443A-92DA-D49F79FA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5D7-F312-4C96-95C5-64340339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E63-969E-42F7-8AAF-9033D228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594-6B61-4FBB-B7A9-5E4D9C25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F29-6A5E-40B6-AAD4-65128210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785-78A0-4958-8B67-8B2A07EE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F82-BFB6-4645-9FDA-78890192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09CB-4733-4FF5-9E7E-3E637F477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386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Measures Re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CT Project 24462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nd Quarter 2004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ransparency &amp; Reporting Team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E6F-EB41-4E40-BF30-67B202D528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3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 Qtr 2004 Performanc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In-Protocol Compliance Percentages to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ransaction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In Transaction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7_02 and 867_04 Meter Reading Transaction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Reports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7D7-8FE3-4560-8A3D-6CDF323E71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756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tr 2004 Performanc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6440" y="14097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Transaction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4040" y="2286000"/>
          <a:ext cx="8575920" cy="356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2286000"/>
                    <a:ext cx="8575920" cy="35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559-7041-4843-BA4A-ABF7A1C0F5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3184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tr 2004 Performance Measure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4097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In Transaction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6345360"/>
            <a:ext cx="715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should be noted that Move-In transactions have stricter protocol times than Switch transa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89080" y="2327400"/>
          <a:ext cx="8615160" cy="37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2327400"/>
                    <a:ext cx="861516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B5F-BDDF-4454-AB07-7F46AF8DF0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744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tr 2004 Performanc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6440" y="14097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Meter Reading Transaction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2336760"/>
          <a:ext cx="8021520" cy="218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36760"/>
                    <a:ext cx="802152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9B6-4EF3-4952-A631-97F5A90B1D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4464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tr 2004 Performance Measure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6440" y="14097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In Meter Reading Transaction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77720" y="2225520"/>
          <a:ext cx="8239320" cy="234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225520"/>
                    <a:ext cx="823932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89A-0769-470B-987A-FFE55E279B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1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 Qtr 2004 Performance Measur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39680" y="2085840"/>
          <a:ext cx="9004320" cy="709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085840"/>
                    <a:ext cx="9004320" cy="709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76440" y="1314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 Generated by ERCOT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3F6-69DB-4DF4-832B-3B6F4E80DD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9-08T17:26:46Z</dcterms:modified>
  <cp:revision>3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