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A806-1B7D-4512-AC02-C77627318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4CB8-2102-46D6-823B-45E626C8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170C-0F0E-4CA6-AA1C-52D153BE2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281F-F112-443C-A04A-BAC5B5ADD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6542-8C74-49CF-A28C-FF98AC77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418C-DD5D-4461-B942-5FB7741D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32D7-9357-4D79-A685-A67BE77B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5B7D-39DC-44B8-A2A3-F544EE9C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0A3E-0FFB-45BF-832A-ADD8CA75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EF0A-AE34-4A1A-A69F-9B93304E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9495-6570-4F82-803C-231A785D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B561-82D7-4C1F-A54C-F9B0A365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9773-48A0-4531-B450-A2836936F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ight 0904 Up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6157-2DAD-47E9-92E3-4B8CBA3703F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904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ight manif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 New REPs are scheduled to test in 09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Existing REPs testing in new terr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Existing REPs testing for D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Existing REPs testing for Bank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Existing REPs testing for change in EDI Prov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0E80-CD64-4456-900A-2E2F96ADFC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904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flight Ch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test bed delivered to ERCOT 8/30, spreadsheets sent to CRs 8/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 acknowledgment tests complete 9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testing complete 9/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ny tests complete 9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ess for September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  -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are a g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4DC3-71BE-4FAF-A387-0DBBD35B18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904 Next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ight Take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ily kick off call Friday 9/10/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s start to flow Monday 9/13 at 8:00 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ily status calls - MAND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October RMS (10/14/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scheduled to be on Day 24 of Flight 09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total scri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(5) scripts should be complete by the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November RMS (11/11/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scheduled to be on Day 44 of Flight 09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st script (STK23) should be complete on Day 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BA2E-1F35-49A6-8335-47CBBBA69A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kbergman</cp:lastModifiedBy>
  <cp:lastPrinted>2002-09-24T18:27:58Z</cp:lastPrinted>
  <dcterms:modified xsi:type="dcterms:W3CDTF">2004-09-08T17:30:22Z</dcterms:modified>
  <cp:revision>352</cp:revision>
  <dc:subject/>
  <dc:title>PowerPoint Presentation</dc:title>
</cp:coreProperties>
</file>