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9C9-B56A-4C7F-AE9C-02A21E2A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BC9-8349-42FC-9B06-F9652F1D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0C2-EFF5-43B3-B713-45A7C857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03F-1CAB-449B-AA07-BEDCE076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FB2-A417-4374-82E6-C3B93F32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E87-9B0C-4E86-9734-F36F016A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178-AD6A-4BA4-BF59-AB323564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A61-067E-4BC8-9AD4-8F06A504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72D-9BFD-4AF3-8BC5-E3221A36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882-FA1C-4EAF-B33F-E0EDABB1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059-3571-45B2-8577-B7186129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3A8-D69A-4D7E-933E-1E17FF55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5772-62FD-41A7-9357-646641EE7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5228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MS Update - 2004 Annual Validation Chang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4759200"/>
            <a:ext cx="8915400" cy="135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1324080"/>
            <a:ext cx="8534160" cy="30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7A1-78AF-434D-8DEF-A2601AD2B7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DOtt</cp:lastModifiedBy>
  <cp:lastPrinted>2002-05-17T20:57:43Z</cp:lastPrinted>
  <dcterms:modified xsi:type="dcterms:W3CDTF">2004-09-15T21:46:39Z</dcterms:modified>
  <cp:revision>217</cp:revision>
  <dc:subject/>
  <dc:title>Retail Transactions Report</dc:title>
</cp:coreProperties>
</file>