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380E-CDFB-42D7-A564-7B7DDEFC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sibly Reduce Cross-Subsidization by Reducing Cross-Customer 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31C-1413-48BE-8EC8-391CCDF5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1D3-E578-463E-95B7-5CF8FC03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BD6-F469-4CE5-82C5-68077792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512-FF95-4BBA-A12E-4AA2CE65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C16-9DEF-4B9E-B2F7-EB16BE34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804-F6E8-4C40-A427-FF5261A5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2A3-E1A4-4D82-9A39-60E8754E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1D3-48DD-4417-8811-6B2FC2CE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273-CCDE-440F-8DD1-7F76D9F5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681-4C68-442B-96F3-3E7DF05D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90F-2B49-4BB0-98BA-D9E3D063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357-4336-415E-B317-95359F13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EA60-ECAF-4691-A8DA-52DA92CCB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al Load Validation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6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 Annual Load Validation – 1.1 Million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.1% of changes affect the residential sector; 10.9% affect the non-residential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% reduction in profile changes from 2003 annua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s have been completed, but no 814_20 transactions have been 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RMS E-Mail Vote Approved Suspension of 2004 Annual Load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RMS Approved PRR 534 allowing the ERCOT Board to suspend Annual Load Validation in extenuating circumstances for the requested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Approved PRR and suggested RMS to take up a motion to complete annual validation for commercial accounts before the next ERCOT Board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forward with 2004 Annual Load Validation for Non-residential sector (120,572 chang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Changes and Changes by TDSP as Presented by ERC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381880" cy="4491000"/>
        </p:xfrm>
        <a:graphic>
          <a:graphicData uri="http://schemas.openxmlformats.org/drawingml/2006/table">
            <a:tbl>
              <a:tblPr/>
              <a:tblGrid>
                <a:gridCol w="393840"/>
                <a:gridCol w="752400"/>
                <a:gridCol w="1517760"/>
                <a:gridCol w="930240"/>
                <a:gridCol w="739800"/>
                <a:gridCol w="237960"/>
                <a:gridCol w="1517760"/>
                <a:gridCol w="930240"/>
                <a:gridCol w="758880"/>
                <a:gridCol w="245880"/>
                <a:gridCol w="3571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esiden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DS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opulation c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# chan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opulation c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# chan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P_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4,9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,9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,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P_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,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7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4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24,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,6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,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3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,8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6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U-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58,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5,8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,3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74,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9,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6,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,5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 Estimated Chan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109,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s on resources that have been expended -- validation work that has already been completed by the TDS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profile accuracy for the non-residential sector, while not overloading the transaction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 the market towards improved settlement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eliminates the compounding of the Annual Validation Process (increasing the number of wrong profile assignmen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ability to accurately forecast customer load, thus improving pricing capabilities while reducing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the potential for CR-TDSP manual load profile disp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modification to the July RMS vote, suspend 2004 Annual Load Validation for the Residential sector (989,409 changes) only. Move forward with 2004 Annual Load Validation for Non-residential sector (120,572 chang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0:01Z</dcterms:created>
  <dc:creator>jtayl13</dc:creator>
  <dc:description/>
  <dc:language>en-US</dc:language>
  <cp:lastModifiedBy>lcao</cp:lastModifiedBy>
  <dcterms:modified xsi:type="dcterms:W3CDTF">2004-09-15T18:58:58Z</dcterms:modified>
  <cp:revision>7</cp:revision>
  <dc:subject/>
  <dc:title>Annual Validation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2107747</vt:r8>
  </property>
  <property fmtid="{D5CDD505-2E9C-101B-9397-08002B2CF9AE}" pid="3" name="_AuthorEmail">
    <vt:lpwstr>lcao@entergy.com</vt:lpwstr>
  </property>
  <property fmtid="{D5CDD505-2E9C-101B-9397-08002B2CF9AE}" pid="4" name="_AuthorEmailDisplayName">
    <vt:lpwstr>CAO-CONN, LAN</vt:lpwstr>
  </property>
  <property fmtid="{D5CDD505-2E9C-101B-9397-08002B2CF9AE}" pid="5" name="_EmailSubject">
    <vt:lpwstr>UPDATED...RMS Presentation - 2004 Annual Load Validation Presentation</vt:lpwstr>
  </property>
</Properties>
</file>