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6DA-DEA4-4B7E-B19D-79CAEABF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E84-3D49-43A5-BBAA-5300018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9BE-5FDB-42F7-BF5C-8C770D37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300-6D6C-4DA5-B6F9-6A282518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3FB-2FBE-404C-AE2B-849E4EB5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EC-5943-493A-8842-496A4402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7CE-195B-4698-8233-573D727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2F3-2B37-4403-857F-7492B43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281-FFAA-44D2-A669-9E8D6619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0CA-8C65-4D52-B32B-AAD2B90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98A-BDE2-4EE2-8F6D-55AE19A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CE3-A473-4065-8C71-E376A19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BE2-D06A-4767-98F8-76CE9F3A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Participants/loadresearchsampling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Research Sampling (L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53A-9E8B-47DE-BB3A-7C7FA426D0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Pilot for TDSPs successfully started on August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fully processed 3 TDSP inbound files and have sent response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2 TDSPs are “in flight” with only minor issues. Expected to complete by RMS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starting to submit prior months IDR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requires data in order to process and turn around information for 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requires data to start building sampl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to have Tuesday morning LRS status conference call to address any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CC-6A02-4C32-807E-B87BBB52F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Installation update as of 9/7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progress in LRS IDR instal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are nearly 50% complete with IDR insta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20" y="2286000"/>
            <a:ext cx="90439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A73-D4D2-4937-BC0C-997C9A9E1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ssues in Pilot to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r enhancement to track original attributes of selected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r enhancement for Database 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documentation and starting transition towards produc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out Produc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LRS updated materials can be found on the ERCOT LRS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rcot.com/Participants/loadresearchsampling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8C2-FF12-42C0-81B6-C3C8879195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09-08T17:13:10Z</dcterms:modified>
  <cp:revision>281</cp:revision>
  <dc:subject>RMS</dc:subject>
  <dc:title>ERCOT RMS Update 10-16-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5515971</vt:r8>
  </property>
  <property fmtid="{D5CDD505-2E9C-101B-9397-08002B2CF9AE}" pid="3" name="_AuthorEmail">
    <vt:lpwstr>amarquez@ercot.com</vt:lpwstr>
  </property>
  <property fmtid="{D5CDD505-2E9C-101B-9397-08002B2CF9AE}" pid="4" name="_AuthorEmailDisplayName">
    <vt:lpwstr>Marquez, Adrian</vt:lpwstr>
  </property>
  <property fmtid="{D5CDD505-2E9C-101B-9397-08002B2CF9AE}" pid="5" name="_EmailSubject">
    <vt:lpwstr>RMS Meeting Update</vt:lpwstr>
  </property>
  <property fmtid="{D5CDD505-2E9C-101B-9397-08002B2CF9AE}" pid="6" name="_PreviousAdHocReviewCycleID">
    <vt:r8>1348640867</vt:r8>
  </property>
  <property fmtid="{D5CDD505-2E9C-101B-9397-08002B2CF9AE}" pid="7" name="_ReviewingToolsShownOnce">
    <vt:lpwstr/>
  </property>
</Properties>
</file>