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83BF-7958-44C5-93E9-BA71416D5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840E-D424-44D4-903C-0621ED1A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ED8D-0890-4C1E-8599-C9F185F10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0AA1-E4E0-4E56-A7E4-0756127E9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ED64-B179-453C-B8A2-76A16ECA6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222F-5226-4E17-B2C0-E1F405E8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E368-6F67-422B-A9C3-CFD6424F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6162-04EF-4085-88EA-75F0D379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AC35-FE45-4792-9534-0201AC64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6AC9-171E-4E90-9411-461D1AB4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53C7-9E2D-4254-8C6E-E05385F6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2965-4A9B-4DAF-AB6D-FE3D7CA2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0AED-8F67-4557-9B47-F0A77710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4514-1B23-46E7-AA5D-EC64379B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896A-B5D1-4A5F-B7E0-CEAAFBDD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1A7B-EBE1-46AE-8163-95AACEE9F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4933-0448-4277-8291-FB41750B4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9F38-CA69-4B4B-9EB3-EAB6A5D7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BCE1-8E08-4CEE-979A-81C49E29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1D62-7230-402D-8462-B95AF684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38D5-42DD-4DCD-83AE-29C7469C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0042-C79E-49A4-9045-90E6A738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4F09-1C94-4EA3-BC07-20CC38E1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699B-BC91-4E35-B4A1-26958EFB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530A-A4DD-4F9C-819A-A2D6266F25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5212-42D6-4AB5-96C2-839AE38EE4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 Task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MS Update 9/16/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EV Upda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a process for contesting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DEV Spreadshe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ed Leap Frog Inadvertent (will require additional meeting with IAG T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working with ERCOT to resolve when DEVs become another “Type” in the middle of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oting Ite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MGRR to modify Section 7.2 documenting the process for submitting Data Extract Vari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R to modify Section 11 requiring ERCOT to provide data to market participants for synchronization.  PRR also  creates the process for submitting the corrected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3T15:04:58Z</dcterms:created>
  <dc:creator>RMA4</dc:creator>
  <dc:description/>
  <dc:language>en-US</dc:language>
  <cp:lastModifiedBy>A.S. Boren</cp:lastModifiedBy>
  <dcterms:modified xsi:type="dcterms:W3CDTF">2004-09-03T15:59:52Z</dcterms:modified>
  <cp:revision>2</cp:revision>
  <dc:subject/>
  <dc:title>DEV Task Force</dc:title>
</cp:coreProperties>
</file>