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D17-DE25-4330-9515-87AC5F03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002-2DA4-4DCD-9388-C7AC7E33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987-BE81-4438-82F5-21D4C25C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3E2-7EA2-4CEE-A603-66D1F7E6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A59-4D78-4042-A465-C5DD6A04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7AB-2CA3-4EFD-A020-837D425D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1B9-26D7-457D-8F59-79FD3D58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619-9E5B-4C30-B4B3-58E9EE33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330-E4B9-4B8F-9032-653C122D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E27-92DC-4BF2-A558-03FCEFFA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840-CAE6-42D9-B67C-E6B7F99A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45A-EED8-4502-8500-47E04BA7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13E7-4713-4C14-93D3-046F3219C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COT Retail Outages and Transaction Processing Not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of August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DFE-9DCA-4D18-A565-264F68DACC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Retail Ou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04840" y="1981080"/>
          <a:ext cx="69343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981080"/>
                    <a:ext cx="6934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B0A-63B9-449E-8A6D-937D1DB5FA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Process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58680" y="1981080"/>
          <a:ext cx="72248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1981080"/>
                    <a:ext cx="7224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864-76A5-49B8-99C2-839D693EEA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Client Services (Retail and Wholesale) continues to work with COPS (communications team) to make improvements to market not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Operations is working to create an alternate inbound throttle to run verification transactions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ill prevent the need in future outages to move production transactions into hold directories while we verify functionality from a technical perspec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Retail Testing continues to execute regression test scripts to minimize production issues with code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A3D-AF65-4DDA-8B5F-187A38F578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9-08T17:12:00Z</dcterms:modified>
  <cp:revision>280</cp:revision>
  <dc:subject/>
  <dc:title>PowerPoint Presentation</dc:title>
</cp:coreProperties>
</file>