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554-1127-4E18-916A-6DF5F8B6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C40-B74B-4134-A917-26686D15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98B-B761-4D0D-B4C6-7101F8C1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9AF-C37F-4E14-9BDF-CAFC4D83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D19-D0BA-4CC0-944D-FAAD53FE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3DA-7C84-4CEB-BE92-63E54BE9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A0E-5AAF-4F62-87F0-3F1CBB3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437-5A7A-43D9-A9FC-49D6410D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D8F-6563-4413-9E42-DCEDB6BD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749-BA15-40D0-BE0D-13FCFB1A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6AF-159D-4881-9FCB-35D31E1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92C-4F0C-4527-8C0E-76757614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558E-9BFC-4739-AF54-AC43EED81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905120"/>
            <a:ext cx="81532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tlement Calend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Extract Vari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6ED-7CDD-4498-AC64-0D21BEB106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30360" y="3886200"/>
            <a:ext cx="1295280" cy="10666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ttlement Cale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900520"/>
            <a:ext cx="6024600" cy="83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602604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72280" y="2057400"/>
            <a:ext cx="2336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gan with 1 Resettlement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7880" y="297180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ved to 3 Resettlements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57880" y="502920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mplet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Resett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57880" y="586728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Catch up to 180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True-Up 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0360" y="2895480"/>
            <a:ext cx="129528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0360" y="5029200"/>
            <a:ext cx="1298520" cy="6094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58800" y="5791320"/>
            <a:ext cx="1298880" cy="9144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0360" y="2057400"/>
            <a:ext cx="12985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0384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ettling October 11-13, 2003 as of September 16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5029200"/>
            <a:ext cx="6010200" cy="55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28600" y="5799240"/>
            <a:ext cx="6010200" cy="83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35080" y="3968640"/>
            <a:ext cx="6024600" cy="83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460-B0EF-4812-A45B-3F485FD587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Month Deadlines for DEV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405080"/>
          <a:ext cx="3809880" cy="4843440"/>
        </p:xfrm>
        <a:graphic>
          <a:graphicData uri="http://schemas.openxmlformats.org/drawingml/2006/table">
            <a:tbl>
              <a:tblPr/>
              <a:tblGrid>
                <a:gridCol w="914400"/>
                <a:gridCol w="1747800"/>
                <a:gridCol w="114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ggregation for True-Up Sett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ad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3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16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4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1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1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1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2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2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3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1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/1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1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00600" y="1405080"/>
          <a:ext cx="3886200" cy="4417920"/>
        </p:xfrm>
        <a:graphic>
          <a:graphicData uri="http://schemas.openxmlformats.org/drawingml/2006/table">
            <a:tbl>
              <a:tblPr/>
              <a:tblGrid>
                <a:gridCol w="925560"/>
                <a:gridCol w="1812960"/>
                <a:gridCol w="114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ggreg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rue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t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ad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3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1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2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8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/1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/28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4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2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12/5/2004 True-Up settlement will be caught up to regular 180 day True-up Schedul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0D6-FF3E-4AC7-800B-EFE2E3A61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71680" y="1600200"/>
          <a:ext cx="800100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600200"/>
                    <a:ext cx="8001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914400" y="609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09/07/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BC3-F299-4734-AE4F-119709985F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533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09/07/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7080" y="1471680"/>
          <a:ext cx="8864640" cy="50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471680"/>
                    <a:ext cx="886464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666-F4C3-48C6-9B18-18AA28B3B0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4572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for Consider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508040"/>
            <a:ext cx="85345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er of the DEV FT issue is the owner of the issue, and should work with the Monitoring party to gain response/agre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s continue to submit variances for months for which settlement has passed and for recent months.  ERCOT will continue to work issues per DEV Manual timeline – basic 75 day 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responses by monitoring party may cause issues to extend beyond the 75 day 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DEV Service History Spreadsheet was implemented in August to standardize responses, helping with ease of agreement interpretation and more speedy cor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 “Monitoring responses causing Variance Type changes will not be accepted” will be discussed at the DEV workshop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D5E-7D2D-4447-BAA4-B7C5E9A811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9-08T17:29:19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