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A4B2-8689-4807-A048-5BE701A9E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CD33-EFF7-45FB-85DD-ACDD7F30C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ED55-FE09-4FDB-AB8B-EFA0B8F3E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5EBC-087F-4A01-9B43-CFBD87D1F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88D9-1F15-4443-BCD6-3B341353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7B97-121F-4D32-A103-EF3E3CEB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8D60-1C90-46F4-AAB9-8EA0E009C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7E53B-A190-4315-95D0-DE171E4B3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752D4-EBDE-4FAB-BB25-3CB12E684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20B6B-3844-414D-A9EC-95C7E87C0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BE7F-DB24-4CD5-831D-AC4B0FC43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5924-DF02-4634-B788-0272D460A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A40A-C95D-4201-9E79-D3B9CCE7B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DCWG has not met since the last ROS meeting.  Attached 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CPS1 data for August by market interval and by day of mon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instantaneous peak load for each day is overlaid on the “by Day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ap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correlation between load and the CPS1 score can be seen.  The "b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val" graph indicates low CPS1 scores on intervals 00:15, 06:15, 08:15, 09:15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:15, 11:15 and 22:1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included in the report is a slide of the August 28 loss of load weather ev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large block of load was lost in north Texas causing frequency to spike "up"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RCOT Frequency response from turbines averaged 300 MWs/0.1 Hz on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t.  This is considerably below the 420 MW/0.1 Hz minimum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dney L. Nieme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DCWG Cha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13-207-50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9080" y="662040"/>
            <a:ext cx="9105840" cy="55339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August 139.6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04760" y="905040"/>
            <a:ext cx="9039240" cy="59529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COT CPS1 August by D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19920" y="10666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39.60 Month CPS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0" y="1447920"/>
            <a:ext cx="16002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400800" y="62485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large unit tri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 flipV="1">
            <a:off x="5333760" y="3962160"/>
            <a:ext cx="990360" cy="243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800600" y="6248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 tr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029200" y="3504960"/>
            <a:ext cx="380880" cy="2895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2920" y="42840"/>
            <a:ext cx="8858160" cy="67723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g 28 Weather ev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4T04:12:17Z</dcterms:created>
  <dc:creator>sniemeyer</dc:creator>
  <dc:description/>
  <dc:language>en-US</dc:language>
  <cp:lastModifiedBy>A.S. Boren</cp:lastModifiedBy>
  <dcterms:modified xsi:type="dcterms:W3CDTF">2004-09-10T13:26:08Z</dcterms:modified>
  <cp:revision>4</cp:revision>
  <dc:subject/>
  <dc:title>PowerPoint Presentation</dc:title>
</cp:coreProperties>
</file>