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A4E-6769-42FB-ABAF-F65234FE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827-9A05-4F2D-96E6-0C764728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31A9-DDA9-4785-BC39-FFDC4BE0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9AD-C388-44BA-8F99-499BDCCD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777-9F30-4F7D-8CD9-2C890F39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75E-F690-4C35-81B8-1828466D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07A-0AC2-4163-88B0-B1B9E16D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E4D-492E-4DC8-954D-4D939AC3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F561-ECF5-4EA0-89F1-7853516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676-22F4-40AF-A619-BE08E75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623F-6B27-4BD8-84B4-69FAA0A3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F2F-5130-4FF7-A21C-F49FE32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C0F-2C97-48CB-9219-1616C3FBE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924680" cy="25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thly ESIID Consumption Data Loading Report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R Protocol Compliance Verificatio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ily Public Load Estimation Cou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E0E2-B485-4731-8E3B-733911656D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do they comp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76320" y="1447920"/>
            <a:ext cx="327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 Data Lo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thly 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DR and I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ort percentages of Active ESIIDs by profiled meter type with usage loaded by MRE by Trade Date in grap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DR - percentages for trade dates from data used in data aggre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R - percentages for 07/01/2003 – current calculated after data agg/settlements and usage data lo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R - 1st trade date MRE is out of compliance reported in 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S requested report i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going maintenance to accommodate market changes and data range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1447920"/>
            <a:ext cx="3200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ad Estimation 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ily PDF and CSV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IDR and I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or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unts and percentag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Active ESIIDs by profiled meter type by MRE by Trade Date for actual, historical and default data used in data aggregation in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nts and percentages for each trade date run in batch two nights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 725 public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447920"/>
            <a:ext cx="3048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toco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ily xls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age of Active ESIIDs by IDR profiled meter type with usage loaded by MRE by Trade Date in 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d only when running True Up Settlements/Re-Sett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ntages for minimum True Up trade date in that day’s batch run + 29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 requi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9D0-D115-49EA-B629-FB7A691231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s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dund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DR Consumption Data Loading percentage data and IDR Consumption Data Loading percentage data (bar graph) provided daily through the Public Load Estimation Count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R Protocol Compliance provides 30 days (minimum True Up Settlement + 29 days) of trade date percentages every day that True Ups ar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lusive Inform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R Consumption Data Loading Report provides the first trade date that the MRE/Market falls out of com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Load Estimation Counts Report provides counts of Active ESIIDs for Actual, Historical, and Default data used for each trade date settlement everyday (the detail behind the percent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B3AB-6628-4FE4-A294-FAE4B01249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609480"/>
            <a:ext cx="8091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752480"/>
            <a:ext cx="70866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COT has worked with one MP who contacted us regarding their transition from using the monthly Consumption Data Loading Reports to the daily Load Estimation Counts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nthly Consumption Data Loading reports were discontinued in September 200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5C7-F72D-4041-855D-EF9FA94571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73200" y="2120760"/>
            <a:ext cx="7797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DF5-A018-47E3-8C85-D19FA6485D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ashbaugh</cp:lastModifiedBy>
  <cp:lastPrinted>2002-09-24T18:27:58Z</cp:lastPrinted>
  <dcterms:modified xsi:type="dcterms:W3CDTF">2004-10-04T19:00:56Z</dcterms:modified>
  <cp:revision>555</cp:revision>
  <dc:subject/>
  <dc:title>PowerPoint Presentation</dc:title>
</cp:coreProperties>
</file>