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9388-F157-4E7C-93E1-0B8FA9AA9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577D-89B2-4A9C-98FC-3BF65887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287D-98B5-49DD-AE47-925B0BF4C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F236-AC2C-4151-80F2-B4D3C9E52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B4C3-44C6-4A68-B3B9-B1AF5693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08E8-6719-4E7B-B3F1-0FC681CF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04C5-F01A-4AD1-A7A6-2D139DA6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AC2C-45D0-4E5E-A2E0-34929738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BA09-484B-4609-B99D-6F0FDEF6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8454-A7FD-4F88-9CD7-E63429D1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FDEB-F9C0-4E65-8FAF-3AAD4E16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3C9E-F1B0-44E8-8307-3558DD6F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93D6-5621-4781-AED1-A91E29AA6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209680"/>
            <a:ext cx="7924680" cy="25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R 740 – SCR 727 Phase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9735-7DBF-44B9-A6B9-B2686BBBB0C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1447920"/>
            <a:ext cx="792504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 740 Impact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SCR 740 Final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 7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FE3A-766F-4151-8D68-E79FA37B9A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 740 – Discussion from 08/10/04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4560" y="1447920"/>
            <a:ext cx="7578720" cy="49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viously Suggested Mod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storical Data Request/Initial Data Load –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apability will be provided as a part of the migration of the extract from the Data Archive to the EDW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ality to coordinate providing the SCR 727 extracts to new Market Particip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ality to create dimensional table extracts for new Market Particip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 DEWG meeting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mensional data dump 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de to entire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unctionality to create a current (as of request date) complete extract – this is to be included as a part of the auditing fe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efresh of databases on a scheduled basis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– this is to be included as a part of the auditing fe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81E7-6DE2-43B9-8C2E-DFAE24F71D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74560" y="1447920"/>
            <a:ext cx="757872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viously Suggested Modif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diting Capabilities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EDIUM-to be included in SC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ality to provide Market Participants with the ability to confirm the accuracy of their SCR 727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 DEWG meeting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ily database counts or monthly – requirement consid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imilar to Siebel extracts (full database dump) and incrementals to get to a current state – solution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resh of databases on a scheduled basis – requirement consid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 740 – Discussion from 08/10/04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0267-FDC9-47D7-B9B0-3F9E7F5CE9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74560" y="1447920"/>
            <a:ext cx="757872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viously Suggested Mod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age for Backdated LSE Relationship Changes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URGENT-to be included in S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ality to provide LSEs with usage that was loaded in ERCOT systems prior to the LSE relationship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 DEWG meeting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blish a list of file names/include a number in the file name or table name for load order (preferred inside zip file)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HIGH-to be included in S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apture the actual date that a particular trade date was run for data aggregation – will be addressed through COPs Committee Me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grammatic web services interface to extract all data for ESIIDs at anytime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MEDIUM-to be included in S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bility to tie a database change back to the source of the change (i.e. FasTrak issue, batch processing)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MEDIUM-to be included in S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 740 – Discussion from 08/10/04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169E-23FF-4BD0-A680-C5D5E75AFA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 7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447920"/>
            <a:ext cx="838188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Mod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necessity of each mod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would be the value of this functionality and how often would MPs use it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content will be contained in the new data request(s) or new functionality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en would this data be made available on an ongoing basis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would MPs request and get approval for this dat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o would make requests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ere would the data be made available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itional information that describes how this new functionality will wor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ditional new functionality not mentioned above along with requirements definition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9F42-0952-4924-9329-3C63DEF167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 7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447920"/>
            <a:ext cx="8381880" cy="43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ummary of Market Requirements from ERCOT Impact Analy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usage to CRs for backdated LSE relationship changes (ranked “Urgent” by DEW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que file load order number by MP (ranked “High” by DEWG)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udit capability to confirm MP database accuracy (ranked “Medium” by DEW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matic web services interface to extract all data for ESIIDs at any time (ranked “Medium” by DEW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bility to provide link back to source of change (i.e. FasTrak) (ranked “Medium” by DEW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EC80-C6B9-4338-98DC-764EC98BE1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 7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447920"/>
            <a:ext cx="83818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inal Market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EA40-1EAC-47DC-9A83-0D8A838224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73200" y="2120760"/>
            <a:ext cx="7797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70D7-550B-4FC4-A02A-1870C0C8E9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jashbaugh</cp:lastModifiedBy>
  <cp:lastPrinted>2002-09-24T18:27:58Z</cp:lastPrinted>
  <dcterms:modified xsi:type="dcterms:W3CDTF">2004-10-04T19:56:08Z</dcterms:modified>
  <cp:revision>443</cp:revision>
  <dc:subject/>
  <dc:title>PowerPoint Presentation</dc:title>
</cp:coreProperties>
</file>