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794-EB39-4B51-9E6D-F65ACD2E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2A7-E0D8-4113-AC43-CE943EE2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399-A17E-47C3-B4D1-010F444A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61F-ADFB-4A10-8A9C-3EFED9AD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E653-1853-43A3-83F9-24543750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824C-5070-469A-AE81-9B9C66ED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5626-C825-4FA8-A27F-5C99F531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2D39-3921-4967-BF10-69706E74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F90E-4AF6-4E0E-86F4-AF7D972D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31D3-5CC1-48D3-9DDF-ABDE10CE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399F-B19B-4B73-84E9-3428BE3D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5BC-9418-421A-8B6E-3698B1F5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C963-5660-47B7-8C4B-6111D720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2ECC-7D1B-49FD-97C3-38D969A6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9035-2856-4721-B0AD-E420E220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C31E-6CD6-4D6E-9E18-9DDBBE9A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DB3C-C0C1-416F-A051-9A2A1945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0CA-820F-4A24-A1DC-F89C053D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41E-3B6C-4E0C-B236-6ECD1C97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DED-DB70-4B3C-947A-F7243A67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A37-E106-4859-9D08-D14CAA73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A9B-E01F-4F0F-833F-2508556A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9E9-9182-4122-BA36-12B3C5E0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B98C-9877-4DD5-842F-BB9347C5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E00F-15EF-448F-A09F-96CF5212C4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005D-6C86-4B9D-A730-B50BF6AD2E8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RCOT Data Warehouse Overview </a:t>
            </a:r>
            <a:br>
              <a:rPr sz="36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ew Horizons, Expanding Abilities, Quality, and Services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5257800"/>
            <a:ext cx="3809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aymond F. Chas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ERCOT Data Warehousing Manag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Directions - Architectur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 databases are Orac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al-time replication using SharePle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entralization of code and log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Directions – Architecture Cont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838080" y="2666880"/>
            <a:ext cx="7010640" cy="3657600"/>
            <a:chOff x="838080" y="2666880"/>
            <a:chExt cx="7010640" cy="3657600"/>
          </a:xfrm>
        </p:grpSpPr>
        <p:sp>
          <p:nvSpPr>
            <p:cNvPr id="227" name=""/>
            <p:cNvSpPr/>
            <p:nvPr/>
          </p:nvSpPr>
          <p:spPr>
            <a:xfrm>
              <a:off x="3581280" y="2666880"/>
              <a:ext cx="609840" cy="121932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90920" y="2666880"/>
              <a:ext cx="990360" cy="121932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6880" y="281952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Database User Login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248520" y="2666880"/>
              <a:ext cx="990360" cy="121932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24480" y="281952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Application User Login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876920" y="2819520"/>
              <a:ext cx="1303200" cy="542880"/>
              <a:chOff x="4876920" y="2819520"/>
              <a:chExt cx="1303200" cy="5428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5165640" y="2819520"/>
                <a:ext cx="1014480" cy="542880"/>
                <a:chOff x="5165640" y="2819520"/>
                <a:chExt cx="1014480" cy="542880"/>
              </a:xfrm>
            </p:grpSpPr>
            <p:grpSp>
              <p:nvGrpSpPr>
                <p:cNvPr id="234" name=""/>
                <p:cNvGrpSpPr/>
                <p:nvPr/>
              </p:nvGrpSpPr>
              <p:grpSpPr>
                <a:xfrm>
                  <a:off x="5918040" y="2830680"/>
                  <a:ext cx="262080" cy="519120"/>
                  <a:chOff x="5918040" y="2830680"/>
                  <a:chExt cx="262080" cy="51912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 flipH="1">
                    <a:off x="5951520" y="2830680"/>
                    <a:ext cx="10800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362">
                        <a:moveTo>
                          <a:pt x="114" y="172"/>
                        </a:moveTo>
                        <a:lnTo>
                          <a:pt x="107" y="120"/>
                        </a:lnTo>
                        <a:lnTo>
                          <a:pt x="107" y="70"/>
                        </a:lnTo>
                        <a:lnTo>
                          <a:pt x="122" y="28"/>
                        </a:lnTo>
                        <a:lnTo>
                          <a:pt x="154" y="10"/>
                        </a:lnTo>
                        <a:lnTo>
                          <a:pt x="199" y="0"/>
                        </a:lnTo>
                        <a:lnTo>
                          <a:pt x="255" y="18"/>
                        </a:lnTo>
                        <a:lnTo>
                          <a:pt x="295" y="73"/>
                        </a:lnTo>
                        <a:lnTo>
                          <a:pt x="327" y="157"/>
                        </a:lnTo>
                        <a:lnTo>
                          <a:pt x="339" y="221"/>
                        </a:lnTo>
                        <a:lnTo>
                          <a:pt x="340" y="300"/>
                        </a:lnTo>
                        <a:lnTo>
                          <a:pt x="322" y="343"/>
                        </a:lnTo>
                        <a:lnTo>
                          <a:pt x="294" y="362"/>
                        </a:lnTo>
                        <a:lnTo>
                          <a:pt x="237" y="362"/>
                        </a:lnTo>
                        <a:lnTo>
                          <a:pt x="197" y="336"/>
                        </a:lnTo>
                        <a:lnTo>
                          <a:pt x="159" y="281"/>
                        </a:lnTo>
                        <a:lnTo>
                          <a:pt x="129" y="236"/>
                        </a:lnTo>
                        <a:lnTo>
                          <a:pt x="12" y="223"/>
                        </a:lnTo>
                        <a:lnTo>
                          <a:pt x="0" y="203"/>
                        </a:lnTo>
                        <a:lnTo>
                          <a:pt x="5" y="191"/>
                        </a:lnTo>
                        <a:lnTo>
                          <a:pt x="120" y="188"/>
                        </a:lnTo>
                        <a:lnTo>
                          <a:pt x="114" y="17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H="1">
                    <a:off x="5969160" y="2916360"/>
                    <a:ext cx="2109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66" h="241">
                        <a:moveTo>
                          <a:pt x="664" y="203"/>
                        </a:moveTo>
                        <a:lnTo>
                          <a:pt x="576" y="173"/>
                        </a:lnTo>
                        <a:lnTo>
                          <a:pt x="543" y="165"/>
                        </a:lnTo>
                        <a:lnTo>
                          <a:pt x="441" y="139"/>
                        </a:lnTo>
                        <a:lnTo>
                          <a:pt x="241" y="82"/>
                        </a:lnTo>
                        <a:lnTo>
                          <a:pt x="108" y="42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  <a:lnTo>
                          <a:pt x="13" y="30"/>
                        </a:lnTo>
                        <a:lnTo>
                          <a:pt x="77" y="62"/>
                        </a:lnTo>
                        <a:lnTo>
                          <a:pt x="120" y="70"/>
                        </a:lnTo>
                        <a:lnTo>
                          <a:pt x="103" y="90"/>
                        </a:lnTo>
                        <a:lnTo>
                          <a:pt x="108" y="120"/>
                        </a:lnTo>
                        <a:lnTo>
                          <a:pt x="160" y="154"/>
                        </a:lnTo>
                        <a:lnTo>
                          <a:pt x="216" y="167"/>
                        </a:lnTo>
                        <a:lnTo>
                          <a:pt x="248" y="145"/>
                        </a:lnTo>
                        <a:lnTo>
                          <a:pt x="260" y="115"/>
                        </a:lnTo>
                        <a:lnTo>
                          <a:pt x="333" y="128"/>
                        </a:lnTo>
                        <a:lnTo>
                          <a:pt x="403" y="158"/>
                        </a:lnTo>
                        <a:lnTo>
                          <a:pt x="486" y="185"/>
                        </a:lnTo>
                        <a:lnTo>
                          <a:pt x="549" y="215"/>
                        </a:lnTo>
                        <a:lnTo>
                          <a:pt x="613" y="237"/>
                        </a:lnTo>
                        <a:lnTo>
                          <a:pt x="647" y="241"/>
                        </a:lnTo>
                        <a:lnTo>
                          <a:pt x="666" y="224"/>
                        </a:lnTo>
                        <a:lnTo>
                          <a:pt x="664" y="2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>
                    <a:off x="5918040" y="2954160"/>
                    <a:ext cx="6984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698">
                        <a:moveTo>
                          <a:pt x="32" y="34"/>
                        </a:moveTo>
                        <a:lnTo>
                          <a:pt x="47" y="8"/>
                        </a:lnTo>
                        <a:lnTo>
                          <a:pt x="87" y="0"/>
                        </a:lnTo>
                        <a:lnTo>
                          <a:pt x="135" y="25"/>
                        </a:lnTo>
                        <a:lnTo>
                          <a:pt x="180" y="108"/>
                        </a:lnTo>
                        <a:lnTo>
                          <a:pt x="200" y="172"/>
                        </a:lnTo>
                        <a:lnTo>
                          <a:pt x="215" y="250"/>
                        </a:lnTo>
                        <a:lnTo>
                          <a:pt x="220" y="354"/>
                        </a:lnTo>
                        <a:lnTo>
                          <a:pt x="219" y="448"/>
                        </a:lnTo>
                        <a:lnTo>
                          <a:pt x="215" y="558"/>
                        </a:lnTo>
                        <a:lnTo>
                          <a:pt x="208" y="642"/>
                        </a:lnTo>
                        <a:lnTo>
                          <a:pt x="189" y="678"/>
                        </a:lnTo>
                        <a:lnTo>
                          <a:pt x="157" y="691"/>
                        </a:lnTo>
                        <a:lnTo>
                          <a:pt x="118" y="698"/>
                        </a:lnTo>
                        <a:lnTo>
                          <a:pt x="67" y="685"/>
                        </a:lnTo>
                        <a:lnTo>
                          <a:pt x="29" y="668"/>
                        </a:lnTo>
                        <a:lnTo>
                          <a:pt x="9" y="630"/>
                        </a:lnTo>
                        <a:lnTo>
                          <a:pt x="0" y="558"/>
                        </a:lnTo>
                        <a:lnTo>
                          <a:pt x="2" y="473"/>
                        </a:lnTo>
                        <a:lnTo>
                          <a:pt x="22" y="415"/>
                        </a:lnTo>
                        <a:lnTo>
                          <a:pt x="29" y="326"/>
                        </a:lnTo>
                        <a:lnTo>
                          <a:pt x="27" y="282"/>
                        </a:lnTo>
                        <a:lnTo>
                          <a:pt x="15" y="230"/>
                        </a:lnTo>
                        <a:lnTo>
                          <a:pt x="7" y="179"/>
                        </a:lnTo>
                        <a:lnTo>
                          <a:pt x="2" y="117"/>
                        </a:lnTo>
                        <a:lnTo>
                          <a:pt x="2" y="72"/>
                        </a:lnTo>
                        <a:lnTo>
                          <a:pt x="20" y="47"/>
                        </a:lnTo>
                        <a:lnTo>
                          <a:pt x="32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flipH="1">
                    <a:off x="5919480" y="3138480"/>
                    <a:ext cx="88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666">
                        <a:moveTo>
                          <a:pt x="177" y="0"/>
                        </a:moveTo>
                        <a:lnTo>
                          <a:pt x="228" y="13"/>
                        </a:lnTo>
                        <a:lnTo>
                          <a:pt x="236" y="53"/>
                        </a:lnTo>
                        <a:lnTo>
                          <a:pt x="241" y="128"/>
                        </a:lnTo>
                        <a:lnTo>
                          <a:pt x="228" y="218"/>
                        </a:lnTo>
                        <a:lnTo>
                          <a:pt x="218" y="316"/>
                        </a:lnTo>
                        <a:lnTo>
                          <a:pt x="209" y="425"/>
                        </a:lnTo>
                        <a:lnTo>
                          <a:pt x="216" y="480"/>
                        </a:lnTo>
                        <a:lnTo>
                          <a:pt x="231" y="533"/>
                        </a:lnTo>
                        <a:lnTo>
                          <a:pt x="266" y="583"/>
                        </a:lnTo>
                        <a:lnTo>
                          <a:pt x="281" y="604"/>
                        </a:lnTo>
                        <a:lnTo>
                          <a:pt x="274" y="623"/>
                        </a:lnTo>
                        <a:lnTo>
                          <a:pt x="234" y="623"/>
                        </a:lnTo>
                        <a:lnTo>
                          <a:pt x="173" y="634"/>
                        </a:lnTo>
                        <a:lnTo>
                          <a:pt x="90" y="655"/>
                        </a:lnTo>
                        <a:lnTo>
                          <a:pt x="38" y="666"/>
                        </a:lnTo>
                        <a:lnTo>
                          <a:pt x="7" y="643"/>
                        </a:lnTo>
                        <a:lnTo>
                          <a:pt x="0" y="608"/>
                        </a:lnTo>
                        <a:lnTo>
                          <a:pt x="38" y="598"/>
                        </a:lnTo>
                        <a:lnTo>
                          <a:pt x="106" y="596"/>
                        </a:lnTo>
                        <a:lnTo>
                          <a:pt x="183" y="596"/>
                        </a:lnTo>
                        <a:lnTo>
                          <a:pt x="241" y="598"/>
                        </a:lnTo>
                        <a:lnTo>
                          <a:pt x="236" y="589"/>
                        </a:lnTo>
                        <a:lnTo>
                          <a:pt x="211" y="563"/>
                        </a:lnTo>
                        <a:lnTo>
                          <a:pt x="190" y="518"/>
                        </a:lnTo>
                        <a:lnTo>
                          <a:pt x="173" y="461"/>
                        </a:lnTo>
                        <a:lnTo>
                          <a:pt x="173" y="423"/>
                        </a:lnTo>
                        <a:lnTo>
                          <a:pt x="183" y="308"/>
                        </a:lnTo>
                        <a:lnTo>
                          <a:pt x="183" y="225"/>
                        </a:lnTo>
                        <a:lnTo>
                          <a:pt x="177" y="135"/>
                        </a:lnTo>
                        <a:lnTo>
                          <a:pt x="164" y="92"/>
                        </a:lnTo>
                        <a:lnTo>
                          <a:pt x="153" y="38"/>
                        </a:lnTo>
                        <a:lnTo>
                          <a:pt x="171" y="13"/>
                        </a:lnTo>
                        <a:lnTo>
                          <a:pt x="17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flipH="1">
                    <a:off x="5955840" y="3111480"/>
                    <a:ext cx="8892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652">
                        <a:moveTo>
                          <a:pt x="219" y="0"/>
                        </a:moveTo>
                        <a:lnTo>
                          <a:pt x="269" y="15"/>
                        </a:lnTo>
                        <a:lnTo>
                          <a:pt x="275" y="55"/>
                        </a:lnTo>
                        <a:lnTo>
                          <a:pt x="275" y="132"/>
                        </a:lnTo>
                        <a:lnTo>
                          <a:pt x="256" y="220"/>
                        </a:lnTo>
                        <a:lnTo>
                          <a:pt x="237" y="318"/>
                        </a:lnTo>
                        <a:lnTo>
                          <a:pt x="222" y="424"/>
                        </a:lnTo>
                        <a:lnTo>
                          <a:pt x="224" y="479"/>
                        </a:lnTo>
                        <a:lnTo>
                          <a:pt x="234" y="534"/>
                        </a:lnTo>
                        <a:lnTo>
                          <a:pt x="269" y="586"/>
                        </a:lnTo>
                        <a:lnTo>
                          <a:pt x="281" y="607"/>
                        </a:lnTo>
                        <a:lnTo>
                          <a:pt x="273" y="626"/>
                        </a:lnTo>
                        <a:lnTo>
                          <a:pt x="232" y="624"/>
                        </a:lnTo>
                        <a:lnTo>
                          <a:pt x="171" y="631"/>
                        </a:lnTo>
                        <a:lnTo>
                          <a:pt x="88" y="645"/>
                        </a:lnTo>
                        <a:lnTo>
                          <a:pt x="35" y="652"/>
                        </a:lnTo>
                        <a:lnTo>
                          <a:pt x="5" y="626"/>
                        </a:lnTo>
                        <a:lnTo>
                          <a:pt x="0" y="592"/>
                        </a:lnTo>
                        <a:lnTo>
                          <a:pt x="38" y="584"/>
                        </a:lnTo>
                        <a:lnTo>
                          <a:pt x="106" y="588"/>
                        </a:lnTo>
                        <a:lnTo>
                          <a:pt x="183" y="592"/>
                        </a:lnTo>
                        <a:lnTo>
                          <a:pt x="241" y="599"/>
                        </a:lnTo>
                        <a:lnTo>
                          <a:pt x="239" y="590"/>
                        </a:lnTo>
                        <a:lnTo>
                          <a:pt x="213" y="562"/>
                        </a:lnTo>
                        <a:lnTo>
                          <a:pt x="196" y="516"/>
                        </a:lnTo>
                        <a:lnTo>
                          <a:pt x="183" y="458"/>
                        </a:lnTo>
                        <a:lnTo>
                          <a:pt x="186" y="419"/>
                        </a:lnTo>
                        <a:lnTo>
                          <a:pt x="204" y="305"/>
                        </a:lnTo>
                        <a:lnTo>
                          <a:pt x="211" y="223"/>
                        </a:lnTo>
                        <a:lnTo>
                          <a:pt x="209" y="132"/>
                        </a:lnTo>
                        <a:lnTo>
                          <a:pt x="201" y="90"/>
                        </a:lnTo>
                        <a:lnTo>
                          <a:pt x="194" y="36"/>
                        </a:lnTo>
                        <a:lnTo>
                          <a:pt x="211" y="10"/>
                        </a:lnTo>
                        <a:lnTo>
                          <a:pt x="2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5165640" y="2882880"/>
                  <a:ext cx="184320" cy="473040"/>
                  <a:chOff x="5165640" y="2882880"/>
                  <a:chExt cx="184320" cy="47304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 flipH="1">
                    <a:off x="5225760" y="2998800"/>
                    <a:ext cx="7596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601">
                        <a:moveTo>
                          <a:pt x="64" y="26"/>
                        </a:moveTo>
                        <a:lnTo>
                          <a:pt x="90" y="7"/>
                        </a:lnTo>
                        <a:lnTo>
                          <a:pt x="122" y="0"/>
                        </a:lnTo>
                        <a:lnTo>
                          <a:pt x="147" y="5"/>
                        </a:lnTo>
                        <a:lnTo>
                          <a:pt x="169" y="33"/>
                        </a:lnTo>
                        <a:lnTo>
                          <a:pt x="186" y="90"/>
                        </a:lnTo>
                        <a:lnTo>
                          <a:pt x="201" y="166"/>
                        </a:lnTo>
                        <a:lnTo>
                          <a:pt x="218" y="241"/>
                        </a:lnTo>
                        <a:lnTo>
                          <a:pt x="231" y="306"/>
                        </a:lnTo>
                        <a:lnTo>
                          <a:pt x="231" y="378"/>
                        </a:lnTo>
                        <a:lnTo>
                          <a:pt x="239" y="467"/>
                        </a:lnTo>
                        <a:lnTo>
                          <a:pt x="231" y="519"/>
                        </a:lnTo>
                        <a:lnTo>
                          <a:pt x="220" y="563"/>
                        </a:lnTo>
                        <a:lnTo>
                          <a:pt x="182" y="589"/>
                        </a:lnTo>
                        <a:lnTo>
                          <a:pt x="111" y="601"/>
                        </a:lnTo>
                        <a:lnTo>
                          <a:pt x="60" y="587"/>
                        </a:lnTo>
                        <a:lnTo>
                          <a:pt x="12" y="551"/>
                        </a:lnTo>
                        <a:lnTo>
                          <a:pt x="0" y="493"/>
                        </a:lnTo>
                        <a:lnTo>
                          <a:pt x="0" y="433"/>
                        </a:lnTo>
                        <a:lnTo>
                          <a:pt x="15" y="324"/>
                        </a:lnTo>
                        <a:lnTo>
                          <a:pt x="15" y="236"/>
                        </a:lnTo>
                        <a:lnTo>
                          <a:pt x="19" y="154"/>
                        </a:lnTo>
                        <a:lnTo>
                          <a:pt x="38" y="101"/>
                        </a:lnTo>
                        <a:lnTo>
                          <a:pt x="60" y="65"/>
                        </a:lnTo>
                        <a:lnTo>
                          <a:pt x="64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H="1">
                    <a:off x="5165640" y="3154320"/>
                    <a:ext cx="9072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595">
                        <a:moveTo>
                          <a:pt x="0" y="52"/>
                        </a:moveTo>
                        <a:lnTo>
                          <a:pt x="2" y="7"/>
                        </a:lnTo>
                        <a:lnTo>
                          <a:pt x="25" y="0"/>
                        </a:lnTo>
                        <a:lnTo>
                          <a:pt x="70" y="2"/>
                        </a:lnTo>
                        <a:lnTo>
                          <a:pt x="83" y="41"/>
                        </a:lnTo>
                        <a:lnTo>
                          <a:pt x="121" y="122"/>
                        </a:lnTo>
                        <a:lnTo>
                          <a:pt x="140" y="186"/>
                        </a:lnTo>
                        <a:lnTo>
                          <a:pt x="153" y="262"/>
                        </a:lnTo>
                        <a:lnTo>
                          <a:pt x="149" y="307"/>
                        </a:lnTo>
                        <a:lnTo>
                          <a:pt x="123" y="378"/>
                        </a:lnTo>
                        <a:lnTo>
                          <a:pt x="98" y="444"/>
                        </a:lnTo>
                        <a:lnTo>
                          <a:pt x="90" y="500"/>
                        </a:lnTo>
                        <a:lnTo>
                          <a:pt x="90" y="522"/>
                        </a:lnTo>
                        <a:lnTo>
                          <a:pt x="117" y="525"/>
                        </a:lnTo>
                        <a:lnTo>
                          <a:pt x="153" y="512"/>
                        </a:lnTo>
                        <a:lnTo>
                          <a:pt x="250" y="522"/>
                        </a:lnTo>
                        <a:lnTo>
                          <a:pt x="288" y="545"/>
                        </a:lnTo>
                        <a:lnTo>
                          <a:pt x="281" y="560"/>
                        </a:lnTo>
                        <a:lnTo>
                          <a:pt x="230" y="590"/>
                        </a:lnTo>
                        <a:lnTo>
                          <a:pt x="200" y="595"/>
                        </a:lnTo>
                        <a:lnTo>
                          <a:pt x="172" y="570"/>
                        </a:lnTo>
                        <a:lnTo>
                          <a:pt x="108" y="557"/>
                        </a:lnTo>
                        <a:lnTo>
                          <a:pt x="53" y="557"/>
                        </a:lnTo>
                        <a:lnTo>
                          <a:pt x="34" y="552"/>
                        </a:lnTo>
                        <a:lnTo>
                          <a:pt x="32" y="532"/>
                        </a:lnTo>
                        <a:lnTo>
                          <a:pt x="65" y="432"/>
                        </a:lnTo>
                        <a:lnTo>
                          <a:pt x="98" y="355"/>
                        </a:lnTo>
                        <a:lnTo>
                          <a:pt x="110" y="304"/>
                        </a:lnTo>
                        <a:lnTo>
                          <a:pt x="110" y="233"/>
                        </a:lnTo>
                        <a:lnTo>
                          <a:pt x="85" y="169"/>
                        </a:lnTo>
                        <a:lnTo>
                          <a:pt x="32" y="102"/>
                        </a:lnTo>
                        <a:lnTo>
                          <a:pt x="8" y="71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 flipH="1">
                    <a:off x="5268600" y="3157560"/>
                    <a:ext cx="8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625">
                        <a:moveTo>
                          <a:pt x="151" y="101"/>
                        </a:moveTo>
                        <a:lnTo>
                          <a:pt x="166" y="50"/>
                        </a:lnTo>
                        <a:lnTo>
                          <a:pt x="198" y="0"/>
                        </a:lnTo>
                        <a:lnTo>
                          <a:pt x="228" y="0"/>
                        </a:lnTo>
                        <a:lnTo>
                          <a:pt x="256" y="26"/>
                        </a:lnTo>
                        <a:lnTo>
                          <a:pt x="253" y="58"/>
                        </a:lnTo>
                        <a:lnTo>
                          <a:pt x="215" y="102"/>
                        </a:lnTo>
                        <a:lnTo>
                          <a:pt x="177" y="184"/>
                        </a:lnTo>
                        <a:lnTo>
                          <a:pt x="160" y="257"/>
                        </a:lnTo>
                        <a:lnTo>
                          <a:pt x="158" y="340"/>
                        </a:lnTo>
                        <a:lnTo>
                          <a:pt x="177" y="434"/>
                        </a:lnTo>
                        <a:lnTo>
                          <a:pt x="196" y="487"/>
                        </a:lnTo>
                        <a:lnTo>
                          <a:pt x="215" y="530"/>
                        </a:lnTo>
                        <a:lnTo>
                          <a:pt x="221" y="552"/>
                        </a:lnTo>
                        <a:lnTo>
                          <a:pt x="218" y="582"/>
                        </a:lnTo>
                        <a:lnTo>
                          <a:pt x="185" y="583"/>
                        </a:lnTo>
                        <a:lnTo>
                          <a:pt x="108" y="600"/>
                        </a:lnTo>
                        <a:lnTo>
                          <a:pt x="38" y="625"/>
                        </a:lnTo>
                        <a:lnTo>
                          <a:pt x="23" y="615"/>
                        </a:lnTo>
                        <a:lnTo>
                          <a:pt x="0" y="587"/>
                        </a:lnTo>
                        <a:lnTo>
                          <a:pt x="7" y="570"/>
                        </a:lnTo>
                        <a:lnTo>
                          <a:pt x="75" y="562"/>
                        </a:lnTo>
                        <a:lnTo>
                          <a:pt x="135" y="562"/>
                        </a:lnTo>
                        <a:lnTo>
                          <a:pt x="166" y="562"/>
                        </a:lnTo>
                        <a:lnTo>
                          <a:pt x="185" y="545"/>
                        </a:lnTo>
                        <a:lnTo>
                          <a:pt x="177" y="507"/>
                        </a:lnTo>
                        <a:lnTo>
                          <a:pt x="145" y="430"/>
                        </a:lnTo>
                        <a:lnTo>
                          <a:pt x="125" y="357"/>
                        </a:lnTo>
                        <a:lnTo>
                          <a:pt x="120" y="282"/>
                        </a:lnTo>
                        <a:lnTo>
                          <a:pt x="125" y="212"/>
                        </a:lnTo>
                        <a:lnTo>
                          <a:pt x="138" y="152"/>
                        </a:lnTo>
                        <a:lnTo>
                          <a:pt x="151" y="1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 flipH="1">
                    <a:off x="5279760" y="3003480"/>
                    <a:ext cx="5868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503">
                        <a:moveTo>
                          <a:pt x="92" y="13"/>
                        </a:moveTo>
                        <a:lnTo>
                          <a:pt x="128" y="0"/>
                        </a:lnTo>
                        <a:lnTo>
                          <a:pt x="167" y="4"/>
                        </a:lnTo>
                        <a:lnTo>
                          <a:pt x="182" y="25"/>
                        </a:lnTo>
                        <a:lnTo>
                          <a:pt x="172" y="83"/>
                        </a:lnTo>
                        <a:lnTo>
                          <a:pt x="130" y="101"/>
                        </a:lnTo>
                        <a:lnTo>
                          <a:pt x="79" y="138"/>
                        </a:lnTo>
                        <a:lnTo>
                          <a:pt x="60" y="189"/>
                        </a:lnTo>
                        <a:lnTo>
                          <a:pt x="45" y="236"/>
                        </a:lnTo>
                        <a:lnTo>
                          <a:pt x="40" y="306"/>
                        </a:lnTo>
                        <a:lnTo>
                          <a:pt x="47" y="374"/>
                        </a:lnTo>
                        <a:lnTo>
                          <a:pt x="57" y="402"/>
                        </a:lnTo>
                        <a:lnTo>
                          <a:pt x="72" y="422"/>
                        </a:lnTo>
                        <a:lnTo>
                          <a:pt x="98" y="428"/>
                        </a:lnTo>
                        <a:lnTo>
                          <a:pt x="98" y="460"/>
                        </a:lnTo>
                        <a:lnTo>
                          <a:pt x="60" y="489"/>
                        </a:lnTo>
                        <a:lnTo>
                          <a:pt x="40" y="503"/>
                        </a:lnTo>
                        <a:lnTo>
                          <a:pt x="15" y="484"/>
                        </a:lnTo>
                        <a:lnTo>
                          <a:pt x="0" y="428"/>
                        </a:lnTo>
                        <a:lnTo>
                          <a:pt x="0" y="358"/>
                        </a:lnTo>
                        <a:lnTo>
                          <a:pt x="2" y="268"/>
                        </a:lnTo>
                        <a:lnTo>
                          <a:pt x="27" y="176"/>
                        </a:lnTo>
                        <a:lnTo>
                          <a:pt x="57" y="100"/>
                        </a:lnTo>
                        <a:lnTo>
                          <a:pt x="79" y="43"/>
                        </a:lnTo>
                        <a:lnTo>
                          <a:pt x="92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H="1">
                    <a:off x="5244840" y="2882880"/>
                    <a:ext cx="982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357">
                        <a:moveTo>
                          <a:pt x="164" y="5"/>
                        </a:moveTo>
                        <a:lnTo>
                          <a:pt x="194" y="0"/>
                        </a:lnTo>
                        <a:lnTo>
                          <a:pt x="236" y="17"/>
                        </a:lnTo>
                        <a:lnTo>
                          <a:pt x="283" y="73"/>
                        </a:lnTo>
                        <a:lnTo>
                          <a:pt x="313" y="155"/>
                        </a:lnTo>
                        <a:lnTo>
                          <a:pt x="308" y="207"/>
                        </a:lnTo>
                        <a:lnTo>
                          <a:pt x="299" y="274"/>
                        </a:lnTo>
                        <a:lnTo>
                          <a:pt x="278" y="320"/>
                        </a:lnTo>
                        <a:lnTo>
                          <a:pt x="233" y="357"/>
                        </a:lnTo>
                        <a:lnTo>
                          <a:pt x="186" y="349"/>
                        </a:lnTo>
                        <a:lnTo>
                          <a:pt x="134" y="312"/>
                        </a:lnTo>
                        <a:lnTo>
                          <a:pt x="111" y="257"/>
                        </a:lnTo>
                        <a:lnTo>
                          <a:pt x="92" y="220"/>
                        </a:lnTo>
                        <a:lnTo>
                          <a:pt x="36" y="244"/>
                        </a:lnTo>
                        <a:lnTo>
                          <a:pt x="11" y="244"/>
                        </a:lnTo>
                        <a:lnTo>
                          <a:pt x="0" y="240"/>
                        </a:lnTo>
                        <a:lnTo>
                          <a:pt x="9" y="220"/>
                        </a:lnTo>
                        <a:lnTo>
                          <a:pt x="62" y="205"/>
                        </a:lnTo>
                        <a:lnTo>
                          <a:pt x="88" y="201"/>
                        </a:lnTo>
                        <a:lnTo>
                          <a:pt x="86" y="158"/>
                        </a:lnTo>
                        <a:lnTo>
                          <a:pt x="98" y="115"/>
                        </a:lnTo>
                        <a:lnTo>
                          <a:pt x="111" y="70"/>
                        </a:lnTo>
                        <a:lnTo>
                          <a:pt x="136" y="21"/>
                        </a:lnTo>
                        <a:lnTo>
                          <a:pt x="164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5443560" y="2844720"/>
                  <a:ext cx="154080" cy="517680"/>
                  <a:chOff x="5443560" y="2844720"/>
                  <a:chExt cx="154080" cy="5176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 flipH="1">
                    <a:off x="5470200" y="2970360"/>
                    <a:ext cx="7452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98">
                        <a:moveTo>
                          <a:pt x="81" y="60"/>
                        </a:moveTo>
                        <a:lnTo>
                          <a:pt x="110" y="15"/>
                        </a:lnTo>
                        <a:lnTo>
                          <a:pt x="140" y="0"/>
                        </a:lnTo>
                        <a:lnTo>
                          <a:pt x="165" y="8"/>
                        </a:lnTo>
                        <a:lnTo>
                          <a:pt x="198" y="48"/>
                        </a:lnTo>
                        <a:lnTo>
                          <a:pt x="223" y="109"/>
                        </a:lnTo>
                        <a:lnTo>
                          <a:pt x="238" y="188"/>
                        </a:lnTo>
                        <a:lnTo>
                          <a:pt x="238" y="301"/>
                        </a:lnTo>
                        <a:lnTo>
                          <a:pt x="225" y="431"/>
                        </a:lnTo>
                        <a:lnTo>
                          <a:pt x="216" y="564"/>
                        </a:lnTo>
                        <a:lnTo>
                          <a:pt x="198" y="628"/>
                        </a:lnTo>
                        <a:lnTo>
                          <a:pt x="178" y="661"/>
                        </a:lnTo>
                        <a:lnTo>
                          <a:pt x="155" y="686"/>
                        </a:lnTo>
                        <a:lnTo>
                          <a:pt x="123" y="698"/>
                        </a:lnTo>
                        <a:lnTo>
                          <a:pt x="65" y="698"/>
                        </a:lnTo>
                        <a:lnTo>
                          <a:pt x="33" y="686"/>
                        </a:lnTo>
                        <a:lnTo>
                          <a:pt x="5" y="628"/>
                        </a:lnTo>
                        <a:lnTo>
                          <a:pt x="0" y="546"/>
                        </a:lnTo>
                        <a:lnTo>
                          <a:pt x="0" y="444"/>
                        </a:lnTo>
                        <a:lnTo>
                          <a:pt x="13" y="308"/>
                        </a:lnTo>
                        <a:lnTo>
                          <a:pt x="30" y="198"/>
                        </a:lnTo>
                        <a:lnTo>
                          <a:pt x="56" y="103"/>
                        </a:lnTo>
                        <a:lnTo>
                          <a:pt x="81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 flipH="1">
                    <a:off x="5508720" y="2971800"/>
                    <a:ext cx="6984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613">
                        <a:moveTo>
                          <a:pt x="117" y="50"/>
                        </a:moveTo>
                        <a:lnTo>
                          <a:pt x="153" y="0"/>
                        </a:lnTo>
                        <a:lnTo>
                          <a:pt x="198" y="0"/>
                        </a:lnTo>
                        <a:lnTo>
                          <a:pt x="221" y="38"/>
                        </a:lnTo>
                        <a:lnTo>
                          <a:pt x="210" y="80"/>
                        </a:lnTo>
                        <a:lnTo>
                          <a:pt x="183" y="88"/>
                        </a:lnTo>
                        <a:lnTo>
                          <a:pt x="148" y="109"/>
                        </a:lnTo>
                        <a:lnTo>
                          <a:pt x="118" y="143"/>
                        </a:lnTo>
                        <a:lnTo>
                          <a:pt x="97" y="181"/>
                        </a:lnTo>
                        <a:lnTo>
                          <a:pt x="72" y="250"/>
                        </a:lnTo>
                        <a:lnTo>
                          <a:pt x="42" y="338"/>
                        </a:lnTo>
                        <a:lnTo>
                          <a:pt x="33" y="431"/>
                        </a:lnTo>
                        <a:lnTo>
                          <a:pt x="45" y="493"/>
                        </a:lnTo>
                        <a:lnTo>
                          <a:pt x="52" y="538"/>
                        </a:lnTo>
                        <a:lnTo>
                          <a:pt x="67" y="570"/>
                        </a:lnTo>
                        <a:lnTo>
                          <a:pt x="63" y="603"/>
                        </a:lnTo>
                        <a:lnTo>
                          <a:pt x="40" y="613"/>
                        </a:lnTo>
                        <a:lnTo>
                          <a:pt x="20" y="588"/>
                        </a:lnTo>
                        <a:lnTo>
                          <a:pt x="0" y="551"/>
                        </a:lnTo>
                        <a:lnTo>
                          <a:pt x="7" y="521"/>
                        </a:lnTo>
                        <a:lnTo>
                          <a:pt x="12" y="425"/>
                        </a:lnTo>
                        <a:lnTo>
                          <a:pt x="12" y="355"/>
                        </a:lnTo>
                        <a:lnTo>
                          <a:pt x="22" y="282"/>
                        </a:lnTo>
                        <a:lnTo>
                          <a:pt x="45" y="183"/>
                        </a:lnTo>
                        <a:lnTo>
                          <a:pt x="85" y="107"/>
                        </a:lnTo>
                        <a:lnTo>
                          <a:pt x="117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 flipH="1">
                    <a:off x="5519880" y="3144960"/>
                    <a:ext cx="7776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630">
                        <a:moveTo>
                          <a:pt x="207" y="0"/>
                        </a:moveTo>
                        <a:lnTo>
                          <a:pt x="245" y="32"/>
                        </a:lnTo>
                        <a:lnTo>
                          <a:pt x="244" y="86"/>
                        </a:lnTo>
                        <a:lnTo>
                          <a:pt x="227" y="134"/>
                        </a:lnTo>
                        <a:lnTo>
                          <a:pt x="205" y="227"/>
                        </a:lnTo>
                        <a:lnTo>
                          <a:pt x="188" y="321"/>
                        </a:lnTo>
                        <a:lnTo>
                          <a:pt x="188" y="394"/>
                        </a:lnTo>
                        <a:lnTo>
                          <a:pt x="195" y="489"/>
                        </a:lnTo>
                        <a:lnTo>
                          <a:pt x="207" y="544"/>
                        </a:lnTo>
                        <a:lnTo>
                          <a:pt x="227" y="571"/>
                        </a:lnTo>
                        <a:lnTo>
                          <a:pt x="227" y="604"/>
                        </a:lnTo>
                        <a:lnTo>
                          <a:pt x="195" y="611"/>
                        </a:lnTo>
                        <a:lnTo>
                          <a:pt x="150" y="624"/>
                        </a:lnTo>
                        <a:lnTo>
                          <a:pt x="92" y="630"/>
                        </a:lnTo>
                        <a:lnTo>
                          <a:pt x="22" y="630"/>
                        </a:lnTo>
                        <a:lnTo>
                          <a:pt x="0" y="611"/>
                        </a:lnTo>
                        <a:lnTo>
                          <a:pt x="15" y="589"/>
                        </a:lnTo>
                        <a:lnTo>
                          <a:pt x="77" y="592"/>
                        </a:lnTo>
                        <a:lnTo>
                          <a:pt x="117" y="592"/>
                        </a:lnTo>
                        <a:lnTo>
                          <a:pt x="169" y="584"/>
                        </a:lnTo>
                        <a:lnTo>
                          <a:pt x="182" y="566"/>
                        </a:lnTo>
                        <a:lnTo>
                          <a:pt x="175" y="521"/>
                        </a:lnTo>
                        <a:lnTo>
                          <a:pt x="157" y="436"/>
                        </a:lnTo>
                        <a:lnTo>
                          <a:pt x="157" y="349"/>
                        </a:lnTo>
                        <a:lnTo>
                          <a:pt x="162" y="239"/>
                        </a:lnTo>
                        <a:lnTo>
                          <a:pt x="169" y="129"/>
                        </a:lnTo>
                        <a:lnTo>
                          <a:pt x="187" y="45"/>
                        </a:lnTo>
                        <a:lnTo>
                          <a:pt x="202" y="15"/>
                        </a:lnTo>
                        <a:lnTo>
                          <a:pt x="2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>
                    <a:off x="5476680" y="3149640"/>
                    <a:ext cx="5400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670">
                        <a:moveTo>
                          <a:pt x="116" y="12"/>
                        </a:moveTo>
                        <a:lnTo>
                          <a:pt x="77" y="0"/>
                        </a:lnTo>
                        <a:lnTo>
                          <a:pt x="56" y="30"/>
                        </a:lnTo>
                        <a:lnTo>
                          <a:pt x="51" y="77"/>
                        </a:lnTo>
                        <a:lnTo>
                          <a:pt x="65" y="119"/>
                        </a:lnTo>
                        <a:lnTo>
                          <a:pt x="83" y="164"/>
                        </a:lnTo>
                        <a:lnTo>
                          <a:pt x="101" y="235"/>
                        </a:lnTo>
                        <a:lnTo>
                          <a:pt x="103" y="305"/>
                        </a:lnTo>
                        <a:lnTo>
                          <a:pt x="103" y="377"/>
                        </a:lnTo>
                        <a:lnTo>
                          <a:pt x="107" y="529"/>
                        </a:lnTo>
                        <a:lnTo>
                          <a:pt x="113" y="570"/>
                        </a:lnTo>
                        <a:lnTo>
                          <a:pt x="58" y="593"/>
                        </a:lnTo>
                        <a:lnTo>
                          <a:pt x="18" y="633"/>
                        </a:lnTo>
                        <a:lnTo>
                          <a:pt x="0" y="650"/>
                        </a:lnTo>
                        <a:lnTo>
                          <a:pt x="11" y="663"/>
                        </a:lnTo>
                        <a:lnTo>
                          <a:pt x="65" y="670"/>
                        </a:lnTo>
                        <a:lnTo>
                          <a:pt x="77" y="632"/>
                        </a:lnTo>
                        <a:lnTo>
                          <a:pt x="121" y="595"/>
                        </a:lnTo>
                        <a:lnTo>
                          <a:pt x="160" y="574"/>
                        </a:lnTo>
                        <a:lnTo>
                          <a:pt x="171" y="557"/>
                        </a:lnTo>
                        <a:lnTo>
                          <a:pt x="154" y="542"/>
                        </a:lnTo>
                        <a:lnTo>
                          <a:pt x="139" y="512"/>
                        </a:lnTo>
                        <a:lnTo>
                          <a:pt x="139" y="442"/>
                        </a:lnTo>
                        <a:lnTo>
                          <a:pt x="133" y="313"/>
                        </a:lnTo>
                        <a:lnTo>
                          <a:pt x="128" y="210"/>
                        </a:lnTo>
                        <a:lnTo>
                          <a:pt x="128" y="127"/>
                        </a:lnTo>
                        <a:lnTo>
                          <a:pt x="128" y="49"/>
                        </a:lnTo>
                        <a:lnTo>
                          <a:pt x="116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 flipH="1">
                    <a:off x="5443200" y="2844720"/>
                    <a:ext cx="1033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371">
                        <a:moveTo>
                          <a:pt x="305" y="211"/>
                        </a:moveTo>
                        <a:lnTo>
                          <a:pt x="316" y="168"/>
                        </a:lnTo>
                        <a:lnTo>
                          <a:pt x="327" y="109"/>
                        </a:lnTo>
                        <a:lnTo>
                          <a:pt x="301" y="51"/>
                        </a:lnTo>
                        <a:lnTo>
                          <a:pt x="249" y="0"/>
                        </a:lnTo>
                        <a:lnTo>
                          <a:pt x="205" y="5"/>
                        </a:lnTo>
                        <a:lnTo>
                          <a:pt x="168" y="33"/>
                        </a:lnTo>
                        <a:lnTo>
                          <a:pt x="123" y="87"/>
                        </a:lnTo>
                        <a:lnTo>
                          <a:pt x="98" y="147"/>
                        </a:lnTo>
                        <a:lnTo>
                          <a:pt x="68" y="167"/>
                        </a:lnTo>
                        <a:lnTo>
                          <a:pt x="21" y="182"/>
                        </a:lnTo>
                        <a:lnTo>
                          <a:pt x="0" y="206"/>
                        </a:lnTo>
                        <a:lnTo>
                          <a:pt x="10" y="218"/>
                        </a:lnTo>
                        <a:lnTo>
                          <a:pt x="56" y="204"/>
                        </a:lnTo>
                        <a:lnTo>
                          <a:pt x="82" y="203"/>
                        </a:lnTo>
                        <a:lnTo>
                          <a:pt x="77" y="258"/>
                        </a:lnTo>
                        <a:lnTo>
                          <a:pt x="86" y="316"/>
                        </a:lnTo>
                        <a:lnTo>
                          <a:pt x="105" y="349"/>
                        </a:lnTo>
                        <a:lnTo>
                          <a:pt x="131" y="371"/>
                        </a:lnTo>
                        <a:lnTo>
                          <a:pt x="195" y="353"/>
                        </a:lnTo>
                        <a:lnTo>
                          <a:pt x="253" y="316"/>
                        </a:lnTo>
                        <a:lnTo>
                          <a:pt x="287" y="269"/>
                        </a:lnTo>
                        <a:lnTo>
                          <a:pt x="305" y="2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5668920" y="2819520"/>
                  <a:ext cx="128520" cy="531720"/>
                  <a:chOff x="5668920" y="2819520"/>
                  <a:chExt cx="128520" cy="53172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 flipH="1">
                    <a:off x="5670360" y="2941560"/>
                    <a:ext cx="7488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730">
                        <a:moveTo>
                          <a:pt x="39" y="55"/>
                        </a:moveTo>
                        <a:lnTo>
                          <a:pt x="58" y="19"/>
                        </a:lnTo>
                        <a:lnTo>
                          <a:pt x="90" y="0"/>
                        </a:lnTo>
                        <a:lnTo>
                          <a:pt x="124" y="0"/>
                        </a:lnTo>
                        <a:lnTo>
                          <a:pt x="185" y="12"/>
                        </a:lnTo>
                        <a:lnTo>
                          <a:pt x="200" y="70"/>
                        </a:lnTo>
                        <a:lnTo>
                          <a:pt x="225" y="190"/>
                        </a:lnTo>
                        <a:lnTo>
                          <a:pt x="233" y="288"/>
                        </a:lnTo>
                        <a:lnTo>
                          <a:pt x="239" y="384"/>
                        </a:lnTo>
                        <a:lnTo>
                          <a:pt x="239" y="525"/>
                        </a:lnTo>
                        <a:lnTo>
                          <a:pt x="225" y="653"/>
                        </a:lnTo>
                        <a:lnTo>
                          <a:pt x="198" y="723"/>
                        </a:lnTo>
                        <a:lnTo>
                          <a:pt x="154" y="730"/>
                        </a:lnTo>
                        <a:lnTo>
                          <a:pt x="60" y="730"/>
                        </a:lnTo>
                        <a:lnTo>
                          <a:pt x="15" y="692"/>
                        </a:lnTo>
                        <a:lnTo>
                          <a:pt x="0" y="602"/>
                        </a:lnTo>
                        <a:lnTo>
                          <a:pt x="7" y="485"/>
                        </a:lnTo>
                        <a:lnTo>
                          <a:pt x="15" y="390"/>
                        </a:lnTo>
                        <a:lnTo>
                          <a:pt x="41" y="333"/>
                        </a:lnTo>
                        <a:lnTo>
                          <a:pt x="41" y="250"/>
                        </a:lnTo>
                        <a:lnTo>
                          <a:pt x="41" y="160"/>
                        </a:lnTo>
                        <a:lnTo>
                          <a:pt x="35" y="94"/>
                        </a:lnTo>
                        <a:lnTo>
                          <a:pt x="39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>
                    <a:off x="5668560" y="3138480"/>
                    <a:ext cx="8244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672">
                        <a:moveTo>
                          <a:pt x="160" y="0"/>
                        </a:moveTo>
                        <a:lnTo>
                          <a:pt x="198" y="27"/>
                        </a:lnTo>
                        <a:lnTo>
                          <a:pt x="211" y="67"/>
                        </a:lnTo>
                        <a:lnTo>
                          <a:pt x="215" y="160"/>
                        </a:lnTo>
                        <a:lnTo>
                          <a:pt x="223" y="250"/>
                        </a:lnTo>
                        <a:lnTo>
                          <a:pt x="234" y="355"/>
                        </a:lnTo>
                        <a:lnTo>
                          <a:pt x="241" y="461"/>
                        </a:lnTo>
                        <a:lnTo>
                          <a:pt x="243" y="531"/>
                        </a:lnTo>
                        <a:lnTo>
                          <a:pt x="253" y="570"/>
                        </a:lnTo>
                        <a:lnTo>
                          <a:pt x="256" y="589"/>
                        </a:lnTo>
                        <a:lnTo>
                          <a:pt x="241" y="604"/>
                        </a:lnTo>
                        <a:lnTo>
                          <a:pt x="205" y="611"/>
                        </a:lnTo>
                        <a:lnTo>
                          <a:pt x="147" y="623"/>
                        </a:lnTo>
                        <a:lnTo>
                          <a:pt x="90" y="653"/>
                        </a:lnTo>
                        <a:lnTo>
                          <a:pt x="45" y="672"/>
                        </a:lnTo>
                        <a:lnTo>
                          <a:pt x="19" y="659"/>
                        </a:lnTo>
                        <a:lnTo>
                          <a:pt x="0" y="628"/>
                        </a:lnTo>
                        <a:lnTo>
                          <a:pt x="23" y="611"/>
                        </a:lnTo>
                        <a:lnTo>
                          <a:pt x="93" y="598"/>
                        </a:lnTo>
                        <a:lnTo>
                          <a:pt x="173" y="589"/>
                        </a:lnTo>
                        <a:lnTo>
                          <a:pt x="208" y="589"/>
                        </a:lnTo>
                        <a:lnTo>
                          <a:pt x="218" y="566"/>
                        </a:lnTo>
                        <a:lnTo>
                          <a:pt x="215" y="500"/>
                        </a:lnTo>
                        <a:lnTo>
                          <a:pt x="205" y="398"/>
                        </a:lnTo>
                        <a:lnTo>
                          <a:pt x="190" y="290"/>
                        </a:lnTo>
                        <a:lnTo>
                          <a:pt x="177" y="182"/>
                        </a:lnTo>
                        <a:lnTo>
                          <a:pt x="140" y="99"/>
                        </a:lnTo>
                        <a:lnTo>
                          <a:pt x="121" y="35"/>
                        </a:lnTo>
                        <a:lnTo>
                          <a:pt x="135" y="14"/>
                        </a:lnTo>
                        <a:lnTo>
                          <a:pt x="16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flipH="1">
                    <a:off x="5714640" y="3143160"/>
                    <a:ext cx="8244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595">
                        <a:moveTo>
                          <a:pt x="167" y="126"/>
                        </a:moveTo>
                        <a:lnTo>
                          <a:pt x="180" y="51"/>
                        </a:lnTo>
                        <a:lnTo>
                          <a:pt x="220" y="0"/>
                        </a:lnTo>
                        <a:lnTo>
                          <a:pt x="243" y="13"/>
                        </a:lnTo>
                        <a:lnTo>
                          <a:pt x="263" y="45"/>
                        </a:lnTo>
                        <a:lnTo>
                          <a:pt x="253" y="81"/>
                        </a:lnTo>
                        <a:lnTo>
                          <a:pt x="233" y="101"/>
                        </a:lnTo>
                        <a:lnTo>
                          <a:pt x="213" y="164"/>
                        </a:lnTo>
                        <a:lnTo>
                          <a:pt x="205" y="224"/>
                        </a:lnTo>
                        <a:lnTo>
                          <a:pt x="205" y="304"/>
                        </a:lnTo>
                        <a:lnTo>
                          <a:pt x="201" y="375"/>
                        </a:lnTo>
                        <a:lnTo>
                          <a:pt x="205" y="464"/>
                        </a:lnTo>
                        <a:lnTo>
                          <a:pt x="213" y="515"/>
                        </a:lnTo>
                        <a:lnTo>
                          <a:pt x="218" y="537"/>
                        </a:lnTo>
                        <a:lnTo>
                          <a:pt x="208" y="550"/>
                        </a:lnTo>
                        <a:lnTo>
                          <a:pt x="175" y="554"/>
                        </a:lnTo>
                        <a:lnTo>
                          <a:pt x="118" y="562"/>
                        </a:lnTo>
                        <a:lnTo>
                          <a:pt x="66" y="588"/>
                        </a:lnTo>
                        <a:lnTo>
                          <a:pt x="40" y="595"/>
                        </a:lnTo>
                        <a:lnTo>
                          <a:pt x="0" y="569"/>
                        </a:lnTo>
                        <a:lnTo>
                          <a:pt x="0" y="557"/>
                        </a:lnTo>
                        <a:lnTo>
                          <a:pt x="38" y="550"/>
                        </a:lnTo>
                        <a:lnTo>
                          <a:pt x="137" y="537"/>
                        </a:lnTo>
                        <a:lnTo>
                          <a:pt x="180" y="537"/>
                        </a:lnTo>
                        <a:lnTo>
                          <a:pt x="188" y="517"/>
                        </a:lnTo>
                        <a:lnTo>
                          <a:pt x="186" y="464"/>
                        </a:lnTo>
                        <a:lnTo>
                          <a:pt x="180" y="369"/>
                        </a:lnTo>
                        <a:lnTo>
                          <a:pt x="175" y="279"/>
                        </a:lnTo>
                        <a:lnTo>
                          <a:pt x="173" y="186"/>
                        </a:lnTo>
                        <a:lnTo>
                          <a:pt x="167" y="1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flipH="1">
                    <a:off x="5722920" y="2951280"/>
                    <a:ext cx="55440" cy="20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657">
                        <a:moveTo>
                          <a:pt x="72" y="60"/>
                        </a:moveTo>
                        <a:lnTo>
                          <a:pt x="102" y="5"/>
                        </a:lnTo>
                        <a:lnTo>
                          <a:pt x="147" y="0"/>
                        </a:lnTo>
                        <a:lnTo>
                          <a:pt x="175" y="38"/>
                        </a:lnTo>
                        <a:lnTo>
                          <a:pt x="168" y="81"/>
                        </a:lnTo>
                        <a:lnTo>
                          <a:pt x="140" y="95"/>
                        </a:lnTo>
                        <a:lnTo>
                          <a:pt x="109" y="119"/>
                        </a:lnTo>
                        <a:lnTo>
                          <a:pt x="83" y="159"/>
                        </a:lnTo>
                        <a:lnTo>
                          <a:pt x="65" y="202"/>
                        </a:lnTo>
                        <a:lnTo>
                          <a:pt x="47" y="276"/>
                        </a:lnTo>
                        <a:lnTo>
                          <a:pt x="27" y="370"/>
                        </a:lnTo>
                        <a:lnTo>
                          <a:pt x="27" y="469"/>
                        </a:lnTo>
                        <a:lnTo>
                          <a:pt x="47" y="531"/>
                        </a:lnTo>
                        <a:lnTo>
                          <a:pt x="59" y="578"/>
                        </a:lnTo>
                        <a:lnTo>
                          <a:pt x="77" y="610"/>
                        </a:lnTo>
                        <a:lnTo>
                          <a:pt x="77" y="643"/>
                        </a:lnTo>
                        <a:lnTo>
                          <a:pt x="53" y="657"/>
                        </a:lnTo>
                        <a:lnTo>
                          <a:pt x="32" y="633"/>
                        </a:lnTo>
                        <a:lnTo>
                          <a:pt x="8" y="598"/>
                        </a:lnTo>
                        <a:lnTo>
                          <a:pt x="12" y="565"/>
                        </a:lnTo>
                        <a:lnTo>
                          <a:pt x="6" y="464"/>
                        </a:lnTo>
                        <a:lnTo>
                          <a:pt x="0" y="390"/>
                        </a:lnTo>
                        <a:lnTo>
                          <a:pt x="2" y="314"/>
                        </a:lnTo>
                        <a:lnTo>
                          <a:pt x="15" y="209"/>
                        </a:lnTo>
                        <a:lnTo>
                          <a:pt x="44" y="126"/>
                        </a:lnTo>
                        <a:lnTo>
                          <a:pt x="72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H="1">
                    <a:off x="5689080" y="2819520"/>
                    <a:ext cx="10332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360">
                        <a:moveTo>
                          <a:pt x="83" y="175"/>
                        </a:moveTo>
                        <a:lnTo>
                          <a:pt x="77" y="124"/>
                        </a:lnTo>
                        <a:lnTo>
                          <a:pt x="77" y="73"/>
                        </a:lnTo>
                        <a:lnTo>
                          <a:pt x="90" y="35"/>
                        </a:lnTo>
                        <a:lnTo>
                          <a:pt x="115" y="14"/>
                        </a:lnTo>
                        <a:lnTo>
                          <a:pt x="167" y="0"/>
                        </a:lnTo>
                        <a:lnTo>
                          <a:pt x="205" y="2"/>
                        </a:lnTo>
                        <a:lnTo>
                          <a:pt x="246" y="20"/>
                        </a:lnTo>
                        <a:lnTo>
                          <a:pt x="278" y="60"/>
                        </a:lnTo>
                        <a:lnTo>
                          <a:pt x="302" y="105"/>
                        </a:lnTo>
                        <a:lnTo>
                          <a:pt x="317" y="167"/>
                        </a:lnTo>
                        <a:lnTo>
                          <a:pt x="327" y="227"/>
                        </a:lnTo>
                        <a:lnTo>
                          <a:pt x="327" y="272"/>
                        </a:lnTo>
                        <a:lnTo>
                          <a:pt x="315" y="320"/>
                        </a:lnTo>
                        <a:lnTo>
                          <a:pt x="285" y="348"/>
                        </a:lnTo>
                        <a:lnTo>
                          <a:pt x="240" y="360"/>
                        </a:lnTo>
                        <a:lnTo>
                          <a:pt x="212" y="359"/>
                        </a:lnTo>
                        <a:lnTo>
                          <a:pt x="180" y="340"/>
                        </a:lnTo>
                        <a:lnTo>
                          <a:pt x="148" y="297"/>
                        </a:lnTo>
                        <a:lnTo>
                          <a:pt x="122" y="257"/>
                        </a:lnTo>
                        <a:lnTo>
                          <a:pt x="40" y="282"/>
                        </a:lnTo>
                        <a:lnTo>
                          <a:pt x="15" y="290"/>
                        </a:lnTo>
                        <a:lnTo>
                          <a:pt x="0" y="284"/>
                        </a:lnTo>
                        <a:lnTo>
                          <a:pt x="2" y="269"/>
                        </a:lnTo>
                        <a:lnTo>
                          <a:pt x="98" y="227"/>
                        </a:lnTo>
                        <a:lnTo>
                          <a:pt x="83" y="1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8" name=""/>
              <p:cNvGrpSpPr/>
              <p:nvPr/>
            </p:nvGrpSpPr>
            <p:grpSpPr>
              <a:xfrm>
                <a:off x="4876920" y="2951280"/>
                <a:ext cx="1257120" cy="358560"/>
                <a:chOff x="4876920" y="2951280"/>
                <a:chExt cx="1257120" cy="358560"/>
              </a:xfrm>
            </p:grpSpPr>
            <p:sp>
              <p:nvSpPr>
                <p:cNvPr id="259" name=""/>
                <p:cNvSpPr/>
                <p:nvPr/>
              </p:nvSpPr>
              <p:spPr>
                <a:xfrm flipH="1">
                  <a:off x="4876560" y="2965320"/>
                  <a:ext cx="290520" cy="344520"/>
                </a:xfrm>
                <a:custGeom>
                  <a:avLst/>
                  <a:gdLst/>
                  <a:ahLst/>
                  <a:rect l="l" t="t" r="r" b="b"/>
                  <a:pathLst>
                    <a:path w="916" h="1083">
                      <a:moveTo>
                        <a:pt x="90" y="548"/>
                      </a:moveTo>
                      <a:lnTo>
                        <a:pt x="52" y="603"/>
                      </a:lnTo>
                      <a:lnTo>
                        <a:pt x="15" y="699"/>
                      </a:lnTo>
                      <a:lnTo>
                        <a:pt x="0" y="821"/>
                      </a:lnTo>
                      <a:lnTo>
                        <a:pt x="13" y="912"/>
                      </a:lnTo>
                      <a:lnTo>
                        <a:pt x="60" y="986"/>
                      </a:lnTo>
                      <a:lnTo>
                        <a:pt x="122" y="1051"/>
                      </a:lnTo>
                      <a:lnTo>
                        <a:pt x="189" y="1083"/>
                      </a:lnTo>
                      <a:lnTo>
                        <a:pt x="274" y="1069"/>
                      </a:lnTo>
                      <a:lnTo>
                        <a:pt x="344" y="1051"/>
                      </a:lnTo>
                      <a:lnTo>
                        <a:pt x="404" y="1019"/>
                      </a:lnTo>
                      <a:lnTo>
                        <a:pt x="455" y="946"/>
                      </a:lnTo>
                      <a:lnTo>
                        <a:pt x="485" y="881"/>
                      </a:lnTo>
                      <a:lnTo>
                        <a:pt x="489" y="793"/>
                      </a:lnTo>
                      <a:lnTo>
                        <a:pt x="489" y="750"/>
                      </a:lnTo>
                      <a:lnTo>
                        <a:pt x="540" y="821"/>
                      </a:lnTo>
                      <a:lnTo>
                        <a:pt x="637" y="871"/>
                      </a:lnTo>
                      <a:lnTo>
                        <a:pt x="683" y="881"/>
                      </a:lnTo>
                      <a:lnTo>
                        <a:pt x="763" y="867"/>
                      </a:lnTo>
                      <a:lnTo>
                        <a:pt x="818" y="844"/>
                      </a:lnTo>
                      <a:lnTo>
                        <a:pt x="861" y="771"/>
                      </a:lnTo>
                      <a:lnTo>
                        <a:pt x="910" y="703"/>
                      </a:lnTo>
                      <a:lnTo>
                        <a:pt x="912" y="601"/>
                      </a:lnTo>
                      <a:lnTo>
                        <a:pt x="916" y="526"/>
                      </a:lnTo>
                      <a:lnTo>
                        <a:pt x="912" y="460"/>
                      </a:lnTo>
                      <a:lnTo>
                        <a:pt x="850" y="368"/>
                      </a:lnTo>
                      <a:lnTo>
                        <a:pt x="790" y="325"/>
                      </a:lnTo>
                      <a:lnTo>
                        <a:pt x="720" y="306"/>
                      </a:lnTo>
                      <a:lnTo>
                        <a:pt x="639" y="306"/>
                      </a:lnTo>
                      <a:lnTo>
                        <a:pt x="575" y="317"/>
                      </a:lnTo>
                      <a:lnTo>
                        <a:pt x="547" y="355"/>
                      </a:lnTo>
                      <a:lnTo>
                        <a:pt x="512" y="385"/>
                      </a:lnTo>
                      <a:lnTo>
                        <a:pt x="515" y="289"/>
                      </a:lnTo>
                      <a:lnTo>
                        <a:pt x="507" y="180"/>
                      </a:lnTo>
                      <a:lnTo>
                        <a:pt x="447" y="95"/>
                      </a:lnTo>
                      <a:lnTo>
                        <a:pt x="395" y="43"/>
                      </a:lnTo>
                      <a:lnTo>
                        <a:pt x="337" y="8"/>
                      </a:lnTo>
                      <a:lnTo>
                        <a:pt x="297" y="0"/>
                      </a:lnTo>
                      <a:lnTo>
                        <a:pt x="237" y="1"/>
                      </a:lnTo>
                      <a:lnTo>
                        <a:pt x="179" y="18"/>
                      </a:lnTo>
                      <a:lnTo>
                        <a:pt x="117" y="50"/>
                      </a:lnTo>
                      <a:lnTo>
                        <a:pt x="72" y="110"/>
                      </a:lnTo>
                      <a:lnTo>
                        <a:pt x="49" y="170"/>
                      </a:lnTo>
                      <a:lnTo>
                        <a:pt x="41" y="276"/>
                      </a:lnTo>
                      <a:lnTo>
                        <a:pt x="37" y="328"/>
                      </a:lnTo>
                      <a:lnTo>
                        <a:pt x="54" y="391"/>
                      </a:lnTo>
                      <a:lnTo>
                        <a:pt x="71" y="433"/>
                      </a:lnTo>
                      <a:lnTo>
                        <a:pt x="84" y="460"/>
                      </a:lnTo>
                      <a:lnTo>
                        <a:pt x="90" y="54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>
                  <a:off x="4883040" y="2951280"/>
                  <a:ext cx="292320" cy="342720"/>
                </a:xfrm>
                <a:custGeom>
                  <a:avLst/>
                  <a:gdLst/>
                  <a:ahLst/>
                  <a:rect l="l" t="t" r="r" b="b"/>
                  <a:pathLst>
                    <a:path w="917" h="1080">
                      <a:moveTo>
                        <a:pt x="85" y="547"/>
                      </a:moveTo>
                      <a:lnTo>
                        <a:pt x="55" y="608"/>
                      </a:lnTo>
                      <a:lnTo>
                        <a:pt x="15" y="695"/>
                      </a:lnTo>
                      <a:lnTo>
                        <a:pt x="0" y="815"/>
                      </a:lnTo>
                      <a:lnTo>
                        <a:pt x="20" y="917"/>
                      </a:lnTo>
                      <a:lnTo>
                        <a:pt x="55" y="984"/>
                      </a:lnTo>
                      <a:lnTo>
                        <a:pt x="128" y="1052"/>
                      </a:lnTo>
                      <a:lnTo>
                        <a:pt x="190" y="1080"/>
                      </a:lnTo>
                      <a:lnTo>
                        <a:pt x="268" y="1069"/>
                      </a:lnTo>
                      <a:lnTo>
                        <a:pt x="348" y="1057"/>
                      </a:lnTo>
                      <a:lnTo>
                        <a:pt x="408" y="1015"/>
                      </a:lnTo>
                      <a:lnTo>
                        <a:pt x="448" y="945"/>
                      </a:lnTo>
                      <a:lnTo>
                        <a:pt x="486" y="879"/>
                      </a:lnTo>
                      <a:lnTo>
                        <a:pt x="484" y="790"/>
                      </a:lnTo>
                      <a:lnTo>
                        <a:pt x="493" y="752"/>
                      </a:lnTo>
                      <a:lnTo>
                        <a:pt x="537" y="820"/>
                      </a:lnTo>
                      <a:lnTo>
                        <a:pt x="640" y="877"/>
                      </a:lnTo>
                      <a:lnTo>
                        <a:pt x="681" y="877"/>
                      </a:lnTo>
                      <a:lnTo>
                        <a:pt x="764" y="864"/>
                      </a:lnTo>
                      <a:lnTo>
                        <a:pt x="812" y="843"/>
                      </a:lnTo>
                      <a:lnTo>
                        <a:pt x="862" y="765"/>
                      </a:lnTo>
                      <a:lnTo>
                        <a:pt x="907" y="702"/>
                      </a:lnTo>
                      <a:lnTo>
                        <a:pt x="915" y="597"/>
                      </a:lnTo>
                      <a:lnTo>
                        <a:pt x="917" y="532"/>
                      </a:lnTo>
                      <a:lnTo>
                        <a:pt x="907" y="459"/>
                      </a:lnTo>
                      <a:lnTo>
                        <a:pt x="845" y="367"/>
                      </a:lnTo>
                      <a:lnTo>
                        <a:pt x="792" y="322"/>
                      </a:lnTo>
                      <a:lnTo>
                        <a:pt x="717" y="314"/>
                      </a:lnTo>
                      <a:lnTo>
                        <a:pt x="642" y="303"/>
                      </a:lnTo>
                      <a:lnTo>
                        <a:pt x="569" y="314"/>
                      </a:lnTo>
                      <a:lnTo>
                        <a:pt x="548" y="354"/>
                      </a:lnTo>
                      <a:lnTo>
                        <a:pt x="508" y="382"/>
                      </a:lnTo>
                      <a:lnTo>
                        <a:pt x="512" y="285"/>
                      </a:lnTo>
                      <a:lnTo>
                        <a:pt x="501" y="177"/>
                      </a:lnTo>
                      <a:lnTo>
                        <a:pt x="446" y="90"/>
                      </a:lnTo>
                      <a:lnTo>
                        <a:pt x="399" y="40"/>
                      </a:lnTo>
                      <a:lnTo>
                        <a:pt x="341" y="7"/>
                      </a:lnTo>
                      <a:lnTo>
                        <a:pt x="294" y="4"/>
                      </a:lnTo>
                      <a:lnTo>
                        <a:pt x="233" y="0"/>
                      </a:lnTo>
                      <a:lnTo>
                        <a:pt x="183" y="15"/>
                      </a:lnTo>
                      <a:lnTo>
                        <a:pt x="120" y="47"/>
                      </a:lnTo>
                      <a:lnTo>
                        <a:pt x="77" y="104"/>
                      </a:lnTo>
                      <a:lnTo>
                        <a:pt x="53" y="168"/>
                      </a:lnTo>
                      <a:lnTo>
                        <a:pt x="36" y="282"/>
                      </a:lnTo>
                      <a:lnTo>
                        <a:pt x="30" y="327"/>
                      </a:lnTo>
                      <a:lnTo>
                        <a:pt x="47" y="390"/>
                      </a:lnTo>
                      <a:lnTo>
                        <a:pt x="77" y="435"/>
                      </a:lnTo>
                      <a:lnTo>
                        <a:pt x="85" y="459"/>
                      </a:lnTo>
                      <a:lnTo>
                        <a:pt x="85" y="547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H="1">
                  <a:off x="5082840" y="3006720"/>
                  <a:ext cx="1050840" cy="147600"/>
                </a:xfrm>
                <a:custGeom>
                  <a:avLst/>
                  <a:gdLst/>
                  <a:ahLst/>
                  <a:rect l="l" t="t" r="r" b="b"/>
                  <a:pathLst>
                    <a:path w="3307" h="467">
                      <a:moveTo>
                        <a:pt x="3306" y="377"/>
                      </a:moveTo>
                      <a:lnTo>
                        <a:pt x="3307" y="360"/>
                      </a:lnTo>
                      <a:lnTo>
                        <a:pt x="3303" y="344"/>
                      </a:lnTo>
                      <a:lnTo>
                        <a:pt x="3297" y="329"/>
                      </a:lnTo>
                      <a:lnTo>
                        <a:pt x="3288" y="313"/>
                      </a:lnTo>
                      <a:lnTo>
                        <a:pt x="3278" y="300"/>
                      </a:lnTo>
                      <a:lnTo>
                        <a:pt x="3264" y="289"/>
                      </a:lnTo>
                      <a:lnTo>
                        <a:pt x="3250" y="281"/>
                      </a:lnTo>
                      <a:lnTo>
                        <a:pt x="3234" y="275"/>
                      </a:lnTo>
                      <a:lnTo>
                        <a:pt x="3217" y="271"/>
                      </a:lnTo>
                      <a:lnTo>
                        <a:pt x="108" y="0"/>
                      </a:lnTo>
                      <a:lnTo>
                        <a:pt x="90" y="0"/>
                      </a:lnTo>
                      <a:lnTo>
                        <a:pt x="73" y="3"/>
                      </a:lnTo>
                      <a:lnTo>
                        <a:pt x="58" y="9"/>
                      </a:lnTo>
                      <a:lnTo>
                        <a:pt x="42" y="17"/>
                      </a:lnTo>
                      <a:lnTo>
                        <a:pt x="29" y="27"/>
                      </a:lnTo>
                      <a:lnTo>
                        <a:pt x="18" y="42"/>
                      </a:lnTo>
                      <a:lnTo>
                        <a:pt x="10" y="56"/>
                      </a:lnTo>
                      <a:lnTo>
                        <a:pt x="4" y="72"/>
                      </a:lnTo>
                      <a:lnTo>
                        <a:pt x="2" y="89"/>
                      </a:lnTo>
                      <a:lnTo>
                        <a:pt x="2" y="89"/>
                      </a:lnTo>
                      <a:lnTo>
                        <a:pt x="0" y="107"/>
                      </a:lnTo>
                      <a:lnTo>
                        <a:pt x="4" y="123"/>
                      </a:lnTo>
                      <a:lnTo>
                        <a:pt x="10" y="138"/>
                      </a:lnTo>
                      <a:lnTo>
                        <a:pt x="19" y="154"/>
                      </a:lnTo>
                      <a:lnTo>
                        <a:pt x="29" y="167"/>
                      </a:lnTo>
                      <a:lnTo>
                        <a:pt x="43" y="178"/>
                      </a:lnTo>
                      <a:lnTo>
                        <a:pt x="57" y="186"/>
                      </a:lnTo>
                      <a:lnTo>
                        <a:pt x="73" y="192"/>
                      </a:lnTo>
                      <a:lnTo>
                        <a:pt x="90" y="195"/>
                      </a:lnTo>
                      <a:lnTo>
                        <a:pt x="3200" y="467"/>
                      </a:lnTo>
                      <a:lnTo>
                        <a:pt x="3217" y="467"/>
                      </a:lnTo>
                      <a:lnTo>
                        <a:pt x="3234" y="464"/>
                      </a:lnTo>
                      <a:lnTo>
                        <a:pt x="3249" y="458"/>
                      </a:lnTo>
                      <a:lnTo>
                        <a:pt x="3265" y="450"/>
                      </a:lnTo>
                      <a:lnTo>
                        <a:pt x="3278" y="438"/>
                      </a:lnTo>
                      <a:lnTo>
                        <a:pt x="3289" y="424"/>
                      </a:lnTo>
                      <a:lnTo>
                        <a:pt x="3297" y="411"/>
                      </a:lnTo>
                      <a:lnTo>
                        <a:pt x="3303" y="395"/>
                      </a:lnTo>
                      <a:lnTo>
                        <a:pt x="3306" y="377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4927680" y="3098880"/>
                  <a:ext cx="63360" cy="77760"/>
                </a:xfrm>
                <a:custGeom>
                  <a:avLst/>
                  <a:gdLst/>
                  <a:ahLst/>
                  <a:rect l="l" t="t" r="r" b="b"/>
                  <a:pathLst>
                    <a:path w="203" h="242">
                      <a:moveTo>
                        <a:pt x="91" y="242"/>
                      </a:moveTo>
                      <a:lnTo>
                        <a:pt x="108" y="241"/>
                      </a:lnTo>
                      <a:lnTo>
                        <a:pt x="126" y="237"/>
                      </a:lnTo>
                      <a:lnTo>
                        <a:pt x="143" y="229"/>
                      </a:lnTo>
                      <a:lnTo>
                        <a:pt x="159" y="219"/>
                      </a:lnTo>
                      <a:lnTo>
                        <a:pt x="172" y="205"/>
                      </a:lnTo>
                      <a:lnTo>
                        <a:pt x="183" y="188"/>
                      </a:lnTo>
                      <a:lnTo>
                        <a:pt x="194" y="170"/>
                      </a:lnTo>
                      <a:lnTo>
                        <a:pt x="200" y="151"/>
                      </a:lnTo>
                      <a:lnTo>
                        <a:pt x="203" y="130"/>
                      </a:lnTo>
                      <a:lnTo>
                        <a:pt x="203" y="109"/>
                      </a:lnTo>
                      <a:lnTo>
                        <a:pt x="201" y="87"/>
                      </a:lnTo>
                      <a:lnTo>
                        <a:pt x="194" y="69"/>
                      </a:lnTo>
                      <a:lnTo>
                        <a:pt x="186" y="51"/>
                      </a:lnTo>
                      <a:lnTo>
                        <a:pt x="175" y="34"/>
                      </a:lnTo>
                      <a:lnTo>
                        <a:pt x="161" y="21"/>
                      </a:lnTo>
                      <a:lnTo>
                        <a:pt x="146" y="10"/>
                      </a:lnTo>
                      <a:lnTo>
                        <a:pt x="129" y="5"/>
                      </a:lnTo>
                      <a:lnTo>
                        <a:pt x="112" y="0"/>
                      </a:lnTo>
                      <a:lnTo>
                        <a:pt x="95" y="1"/>
                      </a:lnTo>
                      <a:lnTo>
                        <a:pt x="77" y="5"/>
                      </a:lnTo>
                      <a:lnTo>
                        <a:pt x="60" y="13"/>
                      </a:lnTo>
                      <a:lnTo>
                        <a:pt x="44" y="23"/>
                      </a:lnTo>
                      <a:lnTo>
                        <a:pt x="31" y="37"/>
                      </a:lnTo>
                      <a:lnTo>
                        <a:pt x="20" y="54"/>
                      </a:lnTo>
                      <a:lnTo>
                        <a:pt x="9" y="71"/>
                      </a:lnTo>
                      <a:lnTo>
                        <a:pt x="4" y="91"/>
                      </a:lnTo>
                      <a:lnTo>
                        <a:pt x="0" y="112"/>
                      </a:lnTo>
                      <a:lnTo>
                        <a:pt x="0" y="132"/>
                      </a:lnTo>
                      <a:lnTo>
                        <a:pt x="2" y="154"/>
                      </a:lnTo>
                      <a:lnTo>
                        <a:pt x="9" y="173"/>
                      </a:lnTo>
                      <a:lnTo>
                        <a:pt x="17" y="191"/>
                      </a:lnTo>
                      <a:lnTo>
                        <a:pt x="28" y="207"/>
                      </a:lnTo>
                      <a:lnTo>
                        <a:pt x="42" y="221"/>
                      </a:lnTo>
                      <a:lnTo>
                        <a:pt x="57" y="231"/>
                      </a:lnTo>
                      <a:lnTo>
                        <a:pt x="74" y="237"/>
                      </a:lnTo>
                      <a:lnTo>
                        <a:pt x="91" y="2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263" name=""/>
                <p:cNvGrpSpPr/>
                <p:nvPr/>
              </p:nvGrpSpPr>
              <p:grpSpPr>
                <a:xfrm>
                  <a:off x="5707080" y="3052800"/>
                  <a:ext cx="355680" cy="155520"/>
                  <a:chOff x="5707080" y="3052800"/>
                  <a:chExt cx="355680" cy="1555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 flipH="1">
                    <a:off x="5995800" y="3052800"/>
                    <a:ext cx="669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59">
                        <a:moveTo>
                          <a:pt x="210" y="15"/>
                        </a:moveTo>
                        <a:lnTo>
                          <a:pt x="30" y="0"/>
                        </a:lnTo>
                        <a:lnTo>
                          <a:pt x="0" y="344"/>
                        </a:lnTo>
                        <a:lnTo>
                          <a:pt x="180" y="359"/>
                        </a:lnTo>
                        <a:lnTo>
                          <a:pt x="210" y="15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>
                    <a:off x="5877000" y="3067200"/>
                    <a:ext cx="712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263">
                        <a:moveTo>
                          <a:pt x="223" y="17"/>
                        </a:moveTo>
                        <a:lnTo>
                          <a:pt x="22" y="0"/>
                        </a:lnTo>
                        <a:lnTo>
                          <a:pt x="0" y="246"/>
                        </a:lnTo>
                        <a:lnTo>
                          <a:pt x="201" y="263"/>
                        </a:lnTo>
                        <a:lnTo>
                          <a:pt x="223" y="17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H="1">
                    <a:off x="5765760" y="3079800"/>
                    <a:ext cx="712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406">
                        <a:moveTo>
                          <a:pt x="227" y="17"/>
                        </a:moveTo>
                        <a:lnTo>
                          <a:pt x="33" y="0"/>
                        </a:lnTo>
                        <a:lnTo>
                          <a:pt x="0" y="389"/>
                        </a:lnTo>
                        <a:lnTo>
                          <a:pt x="193" y="406"/>
                        </a:lnTo>
                        <a:lnTo>
                          <a:pt x="227" y="17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>
                    <a:off x="5707080" y="3086280"/>
                    <a:ext cx="698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45">
                        <a:moveTo>
                          <a:pt x="216" y="18"/>
                        </a:moveTo>
                        <a:lnTo>
                          <a:pt x="20" y="0"/>
                        </a:lnTo>
                        <a:lnTo>
                          <a:pt x="0" y="227"/>
                        </a:lnTo>
                        <a:lnTo>
                          <a:pt x="196" y="245"/>
                        </a:lnTo>
                        <a:lnTo>
                          <a:pt x="216" y="18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5722920" y="3035160"/>
                  <a:ext cx="353880" cy="157320"/>
                  <a:chOff x="5722920" y="3035160"/>
                  <a:chExt cx="353880" cy="1573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>
                    <a:off x="6005520" y="3035160"/>
                    <a:ext cx="71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70">
                        <a:moveTo>
                          <a:pt x="223" y="17"/>
                        </a:moveTo>
                        <a:lnTo>
                          <a:pt x="31" y="0"/>
                        </a:lnTo>
                        <a:lnTo>
                          <a:pt x="0" y="353"/>
                        </a:lnTo>
                        <a:lnTo>
                          <a:pt x="191" y="370"/>
                        </a:lnTo>
                        <a:lnTo>
                          <a:pt x="223" y="17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>
                    <a:off x="5887800" y="3052800"/>
                    <a:ext cx="68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263">
                        <a:moveTo>
                          <a:pt x="215" y="17"/>
                        </a:moveTo>
                        <a:lnTo>
                          <a:pt x="22" y="0"/>
                        </a:lnTo>
                        <a:lnTo>
                          <a:pt x="0" y="246"/>
                        </a:lnTo>
                        <a:lnTo>
                          <a:pt x="194" y="263"/>
                        </a:lnTo>
                        <a:lnTo>
                          <a:pt x="215" y="17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>
                    <a:off x="5779800" y="3065400"/>
                    <a:ext cx="666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400">
                        <a:moveTo>
                          <a:pt x="213" y="15"/>
                        </a:moveTo>
                        <a:lnTo>
                          <a:pt x="33" y="0"/>
                        </a:lnTo>
                        <a:lnTo>
                          <a:pt x="0" y="384"/>
                        </a:lnTo>
                        <a:lnTo>
                          <a:pt x="180" y="400"/>
                        </a:lnTo>
                        <a:lnTo>
                          <a:pt x="213" y="15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>
                    <a:off x="5722560" y="3068640"/>
                    <a:ext cx="651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257">
                        <a:moveTo>
                          <a:pt x="207" y="16"/>
                        </a:moveTo>
                        <a:lnTo>
                          <a:pt x="21" y="0"/>
                        </a:lnTo>
                        <a:lnTo>
                          <a:pt x="0" y="241"/>
                        </a:lnTo>
                        <a:lnTo>
                          <a:pt x="186" y="257"/>
                        </a:lnTo>
                        <a:lnTo>
                          <a:pt x="207" y="16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3" name=""/>
              <p:cNvGrpSpPr/>
              <p:nvPr/>
            </p:nvGrpSpPr>
            <p:grpSpPr>
              <a:xfrm>
                <a:off x="5183280" y="2940120"/>
                <a:ext cx="787320" cy="222120"/>
                <a:chOff x="5183280" y="2940120"/>
                <a:chExt cx="787320" cy="222120"/>
              </a:xfrm>
            </p:grpSpPr>
            <p:sp>
              <p:nvSpPr>
                <p:cNvPr id="274" name=""/>
                <p:cNvSpPr/>
                <p:nvPr/>
              </p:nvSpPr>
              <p:spPr>
                <a:xfrm flipH="1">
                  <a:off x="5643360" y="2940120"/>
                  <a:ext cx="52200" cy="181080"/>
                </a:xfrm>
                <a:custGeom>
                  <a:avLst/>
                  <a:gdLst/>
                  <a:ahLst/>
                  <a:rect l="l" t="t" r="r" b="b"/>
                  <a:pathLst>
                    <a:path w="168" h="568">
                      <a:moveTo>
                        <a:pt x="0" y="23"/>
                      </a:moveTo>
                      <a:lnTo>
                        <a:pt x="15" y="3"/>
                      </a:lnTo>
                      <a:lnTo>
                        <a:pt x="38" y="0"/>
                      </a:lnTo>
                      <a:lnTo>
                        <a:pt x="63" y="18"/>
                      </a:lnTo>
                      <a:lnTo>
                        <a:pt x="97" y="70"/>
                      </a:lnTo>
                      <a:lnTo>
                        <a:pt x="123" y="145"/>
                      </a:lnTo>
                      <a:lnTo>
                        <a:pt x="146" y="234"/>
                      </a:lnTo>
                      <a:lnTo>
                        <a:pt x="161" y="333"/>
                      </a:lnTo>
                      <a:lnTo>
                        <a:pt x="168" y="416"/>
                      </a:lnTo>
                      <a:lnTo>
                        <a:pt x="161" y="493"/>
                      </a:lnTo>
                      <a:lnTo>
                        <a:pt x="140" y="538"/>
                      </a:lnTo>
                      <a:lnTo>
                        <a:pt x="103" y="568"/>
                      </a:lnTo>
                      <a:lnTo>
                        <a:pt x="63" y="568"/>
                      </a:lnTo>
                      <a:lnTo>
                        <a:pt x="44" y="554"/>
                      </a:lnTo>
                      <a:lnTo>
                        <a:pt x="44" y="524"/>
                      </a:lnTo>
                      <a:lnTo>
                        <a:pt x="63" y="496"/>
                      </a:lnTo>
                      <a:lnTo>
                        <a:pt x="110" y="524"/>
                      </a:lnTo>
                      <a:lnTo>
                        <a:pt x="130" y="506"/>
                      </a:lnTo>
                      <a:lnTo>
                        <a:pt x="142" y="435"/>
                      </a:lnTo>
                      <a:lnTo>
                        <a:pt x="133" y="358"/>
                      </a:lnTo>
                      <a:lnTo>
                        <a:pt x="110" y="288"/>
                      </a:lnTo>
                      <a:lnTo>
                        <a:pt x="76" y="189"/>
                      </a:lnTo>
                      <a:lnTo>
                        <a:pt x="33" y="134"/>
                      </a:lnTo>
                      <a:lnTo>
                        <a:pt x="2" y="74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5425920" y="2975040"/>
                  <a:ext cx="100080" cy="158760"/>
                </a:xfrm>
                <a:custGeom>
                  <a:avLst/>
                  <a:gdLst/>
                  <a:ahLst/>
                  <a:rect l="l" t="t" r="r" b="b"/>
                  <a:pathLst>
                    <a:path w="313" h="503">
                      <a:moveTo>
                        <a:pt x="110" y="16"/>
                      </a:moveTo>
                      <a:lnTo>
                        <a:pt x="140" y="0"/>
                      </a:lnTo>
                      <a:lnTo>
                        <a:pt x="162" y="0"/>
                      </a:lnTo>
                      <a:lnTo>
                        <a:pt x="213" y="56"/>
                      </a:lnTo>
                      <a:lnTo>
                        <a:pt x="243" y="108"/>
                      </a:lnTo>
                      <a:lnTo>
                        <a:pt x="283" y="176"/>
                      </a:lnTo>
                      <a:lnTo>
                        <a:pt x="309" y="247"/>
                      </a:lnTo>
                      <a:lnTo>
                        <a:pt x="313" y="324"/>
                      </a:lnTo>
                      <a:lnTo>
                        <a:pt x="303" y="343"/>
                      </a:lnTo>
                      <a:lnTo>
                        <a:pt x="226" y="377"/>
                      </a:lnTo>
                      <a:lnTo>
                        <a:pt x="148" y="422"/>
                      </a:lnTo>
                      <a:lnTo>
                        <a:pt x="95" y="464"/>
                      </a:lnTo>
                      <a:lnTo>
                        <a:pt x="85" y="479"/>
                      </a:lnTo>
                      <a:lnTo>
                        <a:pt x="50" y="503"/>
                      </a:lnTo>
                      <a:lnTo>
                        <a:pt x="20" y="492"/>
                      </a:lnTo>
                      <a:lnTo>
                        <a:pt x="2" y="460"/>
                      </a:lnTo>
                      <a:lnTo>
                        <a:pt x="0" y="441"/>
                      </a:lnTo>
                      <a:lnTo>
                        <a:pt x="8" y="429"/>
                      </a:lnTo>
                      <a:lnTo>
                        <a:pt x="38" y="426"/>
                      </a:lnTo>
                      <a:lnTo>
                        <a:pt x="65" y="422"/>
                      </a:lnTo>
                      <a:lnTo>
                        <a:pt x="140" y="396"/>
                      </a:lnTo>
                      <a:lnTo>
                        <a:pt x="206" y="362"/>
                      </a:lnTo>
                      <a:lnTo>
                        <a:pt x="262" y="324"/>
                      </a:lnTo>
                      <a:lnTo>
                        <a:pt x="281" y="298"/>
                      </a:lnTo>
                      <a:lnTo>
                        <a:pt x="271" y="243"/>
                      </a:lnTo>
                      <a:lnTo>
                        <a:pt x="233" y="179"/>
                      </a:lnTo>
                      <a:lnTo>
                        <a:pt x="188" y="132"/>
                      </a:lnTo>
                      <a:lnTo>
                        <a:pt x="140" y="108"/>
                      </a:lnTo>
                      <a:lnTo>
                        <a:pt x="102" y="70"/>
                      </a:lnTo>
                      <a:lnTo>
                        <a:pt x="105" y="36"/>
                      </a:lnTo>
                      <a:lnTo>
                        <a:pt x="11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5183280" y="2997360"/>
                  <a:ext cx="101520" cy="164880"/>
                </a:xfrm>
                <a:custGeom>
                  <a:avLst/>
                  <a:gdLst/>
                  <a:ahLst/>
                  <a:rect l="l" t="t" r="r" b="b"/>
                  <a:pathLst>
                    <a:path w="317" h="520">
                      <a:moveTo>
                        <a:pt x="90" y="20"/>
                      </a:moveTo>
                      <a:lnTo>
                        <a:pt x="118" y="0"/>
                      </a:lnTo>
                      <a:lnTo>
                        <a:pt x="188" y="20"/>
                      </a:lnTo>
                      <a:lnTo>
                        <a:pt x="231" y="70"/>
                      </a:lnTo>
                      <a:lnTo>
                        <a:pt x="256" y="133"/>
                      </a:lnTo>
                      <a:lnTo>
                        <a:pt x="288" y="197"/>
                      </a:lnTo>
                      <a:lnTo>
                        <a:pt x="317" y="268"/>
                      </a:lnTo>
                      <a:lnTo>
                        <a:pt x="315" y="300"/>
                      </a:lnTo>
                      <a:lnTo>
                        <a:pt x="291" y="341"/>
                      </a:lnTo>
                      <a:lnTo>
                        <a:pt x="208" y="409"/>
                      </a:lnTo>
                      <a:lnTo>
                        <a:pt x="131" y="456"/>
                      </a:lnTo>
                      <a:lnTo>
                        <a:pt x="128" y="480"/>
                      </a:lnTo>
                      <a:lnTo>
                        <a:pt x="121" y="492"/>
                      </a:lnTo>
                      <a:lnTo>
                        <a:pt x="90" y="514"/>
                      </a:lnTo>
                      <a:lnTo>
                        <a:pt x="53" y="520"/>
                      </a:lnTo>
                      <a:lnTo>
                        <a:pt x="26" y="505"/>
                      </a:lnTo>
                      <a:lnTo>
                        <a:pt x="1" y="480"/>
                      </a:lnTo>
                      <a:lnTo>
                        <a:pt x="0" y="460"/>
                      </a:lnTo>
                      <a:lnTo>
                        <a:pt x="15" y="450"/>
                      </a:lnTo>
                      <a:lnTo>
                        <a:pt x="58" y="456"/>
                      </a:lnTo>
                      <a:lnTo>
                        <a:pt x="96" y="447"/>
                      </a:lnTo>
                      <a:lnTo>
                        <a:pt x="105" y="435"/>
                      </a:lnTo>
                      <a:lnTo>
                        <a:pt x="143" y="417"/>
                      </a:lnTo>
                      <a:lnTo>
                        <a:pt x="208" y="372"/>
                      </a:lnTo>
                      <a:lnTo>
                        <a:pt x="256" y="334"/>
                      </a:lnTo>
                      <a:lnTo>
                        <a:pt x="271" y="290"/>
                      </a:lnTo>
                      <a:lnTo>
                        <a:pt x="256" y="217"/>
                      </a:lnTo>
                      <a:lnTo>
                        <a:pt x="208" y="140"/>
                      </a:lnTo>
                      <a:lnTo>
                        <a:pt x="148" y="104"/>
                      </a:lnTo>
                      <a:lnTo>
                        <a:pt x="105" y="95"/>
                      </a:lnTo>
                      <a:lnTo>
                        <a:pt x="90" y="59"/>
                      </a:lnTo>
                      <a:lnTo>
                        <a:pt x="9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5887800" y="2959200"/>
                  <a:ext cx="82440" cy="162000"/>
                </a:xfrm>
                <a:custGeom>
                  <a:avLst/>
                  <a:gdLst/>
                  <a:ahLst/>
                  <a:rect l="l" t="t" r="r" b="b"/>
                  <a:pathLst>
                    <a:path w="261" h="511">
                      <a:moveTo>
                        <a:pt x="23" y="93"/>
                      </a:moveTo>
                      <a:lnTo>
                        <a:pt x="0" y="49"/>
                      </a:lnTo>
                      <a:lnTo>
                        <a:pt x="7" y="10"/>
                      </a:lnTo>
                      <a:lnTo>
                        <a:pt x="33" y="0"/>
                      </a:lnTo>
                      <a:lnTo>
                        <a:pt x="58" y="6"/>
                      </a:lnTo>
                      <a:lnTo>
                        <a:pt x="101" y="38"/>
                      </a:lnTo>
                      <a:lnTo>
                        <a:pt x="135" y="93"/>
                      </a:lnTo>
                      <a:lnTo>
                        <a:pt x="186" y="190"/>
                      </a:lnTo>
                      <a:lnTo>
                        <a:pt x="225" y="248"/>
                      </a:lnTo>
                      <a:lnTo>
                        <a:pt x="250" y="306"/>
                      </a:lnTo>
                      <a:lnTo>
                        <a:pt x="261" y="336"/>
                      </a:lnTo>
                      <a:lnTo>
                        <a:pt x="241" y="358"/>
                      </a:lnTo>
                      <a:lnTo>
                        <a:pt x="184" y="363"/>
                      </a:lnTo>
                      <a:lnTo>
                        <a:pt x="113" y="381"/>
                      </a:lnTo>
                      <a:lnTo>
                        <a:pt x="83" y="396"/>
                      </a:lnTo>
                      <a:lnTo>
                        <a:pt x="71" y="441"/>
                      </a:lnTo>
                      <a:lnTo>
                        <a:pt x="83" y="460"/>
                      </a:lnTo>
                      <a:lnTo>
                        <a:pt x="75" y="490"/>
                      </a:lnTo>
                      <a:lnTo>
                        <a:pt x="36" y="511"/>
                      </a:lnTo>
                      <a:lnTo>
                        <a:pt x="30" y="496"/>
                      </a:lnTo>
                      <a:lnTo>
                        <a:pt x="11" y="471"/>
                      </a:lnTo>
                      <a:lnTo>
                        <a:pt x="7" y="434"/>
                      </a:lnTo>
                      <a:lnTo>
                        <a:pt x="23" y="415"/>
                      </a:lnTo>
                      <a:lnTo>
                        <a:pt x="56" y="388"/>
                      </a:lnTo>
                      <a:lnTo>
                        <a:pt x="101" y="348"/>
                      </a:lnTo>
                      <a:lnTo>
                        <a:pt x="166" y="336"/>
                      </a:lnTo>
                      <a:lnTo>
                        <a:pt x="210" y="320"/>
                      </a:lnTo>
                      <a:lnTo>
                        <a:pt x="199" y="287"/>
                      </a:lnTo>
                      <a:lnTo>
                        <a:pt x="154" y="236"/>
                      </a:lnTo>
                      <a:lnTo>
                        <a:pt x="81" y="185"/>
                      </a:lnTo>
                      <a:lnTo>
                        <a:pt x="33" y="125"/>
                      </a:lnTo>
                      <a:lnTo>
                        <a:pt x="23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"/>
            <p:cNvGrpSpPr/>
            <p:nvPr/>
          </p:nvGrpSpPr>
          <p:grpSpPr>
            <a:xfrm>
              <a:off x="1219320" y="2819520"/>
              <a:ext cx="1303200" cy="542880"/>
              <a:chOff x="1219320" y="2819520"/>
              <a:chExt cx="1303200" cy="54288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1508040" y="2819520"/>
                <a:ext cx="1014480" cy="542880"/>
                <a:chOff x="1508040" y="2819520"/>
                <a:chExt cx="1014480" cy="542880"/>
              </a:xfrm>
            </p:grpSpPr>
            <p:grpSp>
              <p:nvGrpSpPr>
                <p:cNvPr id="280" name=""/>
                <p:cNvGrpSpPr/>
                <p:nvPr/>
              </p:nvGrpSpPr>
              <p:grpSpPr>
                <a:xfrm>
                  <a:off x="2260440" y="2830680"/>
                  <a:ext cx="262080" cy="519120"/>
                  <a:chOff x="2260440" y="2830680"/>
                  <a:chExt cx="262080" cy="5191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 flipH="1">
                    <a:off x="2293920" y="2830680"/>
                    <a:ext cx="10800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362">
                        <a:moveTo>
                          <a:pt x="114" y="172"/>
                        </a:moveTo>
                        <a:lnTo>
                          <a:pt x="107" y="120"/>
                        </a:lnTo>
                        <a:lnTo>
                          <a:pt x="107" y="70"/>
                        </a:lnTo>
                        <a:lnTo>
                          <a:pt x="122" y="28"/>
                        </a:lnTo>
                        <a:lnTo>
                          <a:pt x="154" y="10"/>
                        </a:lnTo>
                        <a:lnTo>
                          <a:pt x="199" y="0"/>
                        </a:lnTo>
                        <a:lnTo>
                          <a:pt x="255" y="18"/>
                        </a:lnTo>
                        <a:lnTo>
                          <a:pt x="295" y="73"/>
                        </a:lnTo>
                        <a:lnTo>
                          <a:pt x="327" y="157"/>
                        </a:lnTo>
                        <a:lnTo>
                          <a:pt x="339" y="221"/>
                        </a:lnTo>
                        <a:lnTo>
                          <a:pt x="340" y="300"/>
                        </a:lnTo>
                        <a:lnTo>
                          <a:pt x="322" y="343"/>
                        </a:lnTo>
                        <a:lnTo>
                          <a:pt x="294" y="362"/>
                        </a:lnTo>
                        <a:lnTo>
                          <a:pt x="237" y="362"/>
                        </a:lnTo>
                        <a:lnTo>
                          <a:pt x="197" y="336"/>
                        </a:lnTo>
                        <a:lnTo>
                          <a:pt x="159" y="281"/>
                        </a:lnTo>
                        <a:lnTo>
                          <a:pt x="129" y="236"/>
                        </a:lnTo>
                        <a:lnTo>
                          <a:pt x="12" y="223"/>
                        </a:lnTo>
                        <a:lnTo>
                          <a:pt x="0" y="203"/>
                        </a:lnTo>
                        <a:lnTo>
                          <a:pt x="5" y="191"/>
                        </a:lnTo>
                        <a:lnTo>
                          <a:pt x="120" y="188"/>
                        </a:lnTo>
                        <a:lnTo>
                          <a:pt x="114" y="17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>
                    <a:off x="2311560" y="2916360"/>
                    <a:ext cx="2109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666" h="241">
                        <a:moveTo>
                          <a:pt x="664" y="203"/>
                        </a:moveTo>
                        <a:lnTo>
                          <a:pt x="576" y="173"/>
                        </a:lnTo>
                        <a:lnTo>
                          <a:pt x="543" y="165"/>
                        </a:lnTo>
                        <a:lnTo>
                          <a:pt x="441" y="139"/>
                        </a:lnTo>
                        <a:lnTo>
                          <a:pt x="241" y="82"/>
                        </a:lnTo>
                        <a:lnTo>
                          <a:pt x="108" y="42"/>
                        </a:lnTo>
                        <a:lnTo>
                          <a:pt x="20" y="0"/>
                        </a:lnTo>
                        <a:lnTo>
                          <a:pt x="0" y="11"/>
                        </a:lnTo>
                        <a:lnTo>
                          <a:pt x="13" y="30"/>
                        </a:lnTo>
                        <a:lnTo>
                          <a:pt x="77" y="62"/>
                        </a:lnTo>
                        <a:lnTo>
                          <a:pt x="120" y="70"/>
                        </a:lnTo>
                        <a:lnTo>
                          <a:pt x="103" y="90"/>
                        </a:lnTo>
                        <a:lnTo>
                          <a:pt x="108" y="120"/>
                        </a:lnTo>
                        <a:lnTo>
                          <a:pt x="160" y="154"/>
                        </a:lnTo>
                        <a:lnTo>
                          <a:pt x="216" y="167"/>
                        </a:lnTo>
                        <a:lnTo>
                          <a:pt x="248" y="145"/>
                        </a:lnTo>
                        <a:lnTo>
                          <a:pt x="260" y="115"/>
                        </a:lnTo>
                        <a:lnTo>
                          <a:pt x="333" y="128"/>
                        </a:lnTo>
                        <a:lnTo>
                          <a:pt x="403" y="158"/>
                        </a:lnTo>
                        <a:lnTo>
                          <a:pt x="486" y="185"/>
                        </a:lnTo>
                        <a:lnTo>
                          <a:pt x="549" y="215"/>
                        </a:lnTo>
                        <a:lnTo>
                          <a:pt x="613" y="237"/>
                        </a:lnTo>
                        <a:lnTo>
                          <a:pt x="647" y="241"/>
                        </a:lnTo>
                        <a:lnTo>
                          <a:pt x="666" y="224"/>
                        </a:lnTo>
                        <a:lnTo>
                          <a:pt x="664" y="2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flipH="1">
                    <a:off x="2260440" y="2954160"/>
                    <a:ext cx="6984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698">
                        <a:moveTo>
                          <a:pt x="32" y="34"/>
                        </a:moveTo>
                        <a:lnTo>
                          <a:pt x="47" y="8"/>
                        </a:lnTo>
                        <a:lnTo>
                          <a:pt x="87" y="0"/>
                        </a:lnTo>
                        <a:lnTo>
                          <a:pt x="135" y="25"/>
                        </a:lnTo>
                        <a:lnTo>
                          <a:pt x="180" y="108"/>
                        </a:lnTo>
                        <a:lnTo>
                          <a:pt x="200" y="172"/>
                        </a:lnTo>
                        <a:lnTo>
                          <a:pt x="215" y="250"/>
                        </a:lnTo>
                        <a:lnTo>
                          <a:pt x="220" y="354"/>
                        </a:lnTo>
                        <a:lnTo>
                          <a:pt x="219" y="448"/>
                        </a:lnTo>
                        <a:lnTo>
                          <a:pt x="215" y="558"/>
                        </a:lnTo>
                        <a:lnTo>
                          <a:pt x="208" y="642"/>
                        </a:lnTo>
                        <a:lnTo>
                          <a:pt x="189" y="678"/>
                        </a:lnTo>
                        <a:lnTo>
                          <a:pt x="157" y="691"/>
                        </a:lnTo>
                        <a:lnTo>
                          <a:pt x="118" y="698"/>
                        </a:lnTo>
                        <a:lnTo>
                          <a:pt x="67" y="685"/>
                        </a:lnTo>
                        <a:lnTo>
                          <a:pt x="29" y="668"/>
                        </a:lnTo>
                        <a:lnTo>
                          <a:pt x="9" y="630"/>
                        </a:lnTo>
                        <a:lnTo>
                          <a:pt x="0" y="558"/>
                        </a:lnTo>
                        <a:lnTo>
                          <a:pt x="2" y="473"/>
                        </a:lnTo>
                        <a:lnTo>
                          <a:pt x="22" y="415"/>
                        </a:lnTo>
                        <a:lnTo>
                          <a:pt x="29" y="326"/>
                        </a:lnTo>
                        <a:lnTo>
                          <a:pt x="27" y="282"/>
                        </a:lnTo>
                        <a:lnTo>
                          <a:pt x="15" y="230"/>
                        </a:lnTo>
                        <a:lnTo>
                          <a:pt x="7" y="179"/>
                        </a:lnTo>
                        <a:lnTo>
                          <a:pt x="2" y="117"/>
                        </a:lnTo>
                        <a:lnTo>
                          <a:pt x="2" y="72"/>
                        </a:lnTo>
                        <a:lnTo>
                          <a:pt x="20" y="47"/>
                        </a:lnTo>
                        <a:lnTo>
                          <a:pt x="32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flipH="1">
                    <a:off x="2261880" y="3138480"/>
                    <a:ext cx="88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666">
                        <a:moveTo>
                          <a:pt x="177" y="0"/>
                        </a:moveTo>
                        <a:lnTo>
                          <a:pt x="228" y="13"/>
                        </a:lnTo>
                        <a:lnTo>
                          <a:pt x="236" y="53"/>
                        </a:lnTo>
                        <a:lnTo>
                          <a:pt x="241" y="128"/>
                        </a:lnTo>
                        <a:lnTo>
                          <a:pt x="228" y="218"/>
                        </a:lnTo>
                        <a:lnTo>
                          <a:pt x="218" y="316"/>
                        </a:lnTo>
                        <a:lnTo>
                          <a:pt x="209" y="425"/>
                        </a:lnTo>
                        <a:lnTo>
                          <a:pt x="216" y="480"/>
                        </a:lnTo>
                        <a:lnTo>
                          <a:pt x="231" y="533"/>
                        </a:lnTo>
                        <a:lnTo>
                          <a:pt x="266" y="583"/>
                        </a:lnTo>
                        <a:lnTo>
                          <a:pt x="281" y="604"/>
                        </a:lnTo>
                        <a:lnTo>
                          <a:pt x="274" y="623"/>
                        </a:lnTo>
                        <a:lnTo>
                          <a:pt x="234" y="623"/>
                        </a:lnTo>
                        <a:lnTo>
                          <a:pt x="173" y="634"/>
                        </a:lnTo>
                        <a:lnTo>
                          <a:pt x="90" y="655"/>
                        </a:lnTo>
                        <a:lnTo>
                          <a:pt x="38" y="666"/>
                        </a:lnTo>
                        <a:lnTo>
                          <a:pt x="7" y="643"/>
                        </a:lnTo>
                        <a:lnTo>
                          <a:pt x="0" y="608"/>
                        </a:lnTo>
                        <a:lnTo>
                          <a:pt x="38" y="598"/>
                        </a:lnTo>
                        <a:lnTo>
                          <a:pt x="106" y="596"/>
                        </a:lnTo>
                        <a:lnTo>
                          <a:pt x="183" y="596"/>
                        </a:lnTo>
                        <a:lnTo>
                          <a:pt x="241" y="598"/>
                        </a:lnTo>
                        <a:lnTo>
                          <a:pt x="236" y="589"/>
                        </a:lnTo>
                        <a:lnTo>
                          <a:pt x="211" y="563"/>
                        </a:lnTo>
                        <a:lnTo>
                          <a:pt x="190" y="518"/>
                        </a:lnTo>
                        <a:lnTo>
                          <a:pt x="173" y="461"/>
                        </a:lnTo>
                        <a:lnTo>
                          <a:pt x="173" y="423"/>
                        </a:lnTo>
                        <a:lnTo>
                          <a:pt x="183" y="308"/>
                        </a:lnTo>
                        <a:lnTo>
                          <a:pt x="183" y="225"/>
                        </a:lnTo>
                        <a:lnTo>
                          <a:pt x="177" y="135"/>
                        </a:lnTo>
                        <a:lnTo>
                          <a:pt x="164" y="92"/>
                        </a:lnTo>
                        <a:lnTo>
                          <a:pt x="153" y="38"/>
                        </a:lnTo>
                        <a:lnTo>
                          <a:pt x="171" y="13"/>
                        </a:lnTo>
                        <a:lnTo>
                          <a:pt x="17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>
                    <a:off x="2298240" y="3111480"/>
                    <a:ext cx="88920" cy="20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652">
                        <a:moveTo>
                          <a:pt x="219" y="0"/>
                        </a:moveTo>
                        <a:lnTo>
                          <a:pt x="269" y="15"/>
                        </a:lnTo>
                        <a:lnTo>
                          <a:pt x="275" y="55"/>
                        </a:lnTo>
                        <a:lnTo>
                          <a:pt x="275" y="132"/>
                        </a:lnTo>
                        <a:lnTo>
                          <a:pt x="256" y="220"/>
                        </a:lnTo>
                        <a:lnTo>
                          <a:pt x="237" y="318"/>
                        </a:lnTo>
                        <a:lnTo>
                          <a:pt x="222" y="424"/>
                        </a:lnTo>
                        <a:lnTo>
                          <a:pt x="224" y="479"/>
                        </a:lnTo>
                        <a:lnTo>
                          <a:pt x="234" y="534"/>
                        </a:lnTo>
                        <a:lnTo>
                          <a:pt x="269" y="586"/>
                        </a:lnTo>
                        <a:lnTo>
                          <a:pt x="281" y="607"/>
                        </a:lnTo>
                        <a:lnTo>
                          <a:pt x="273" y="626"/>
                        </a:lnTo>
                        <a:lnTo>
                          <a:pt x="232" y="624"/>
                        </a:lnTo>
                        <a:lnTo>
                          <a:pt x="171" y="631"/>
                        </a:lnTo>
                        <a:lnTo>
                          <a:pt x="88" y="645"/>
                        </a:lnTo>
                        <a:lnTo>
                          <a:pt x="35" y="652"/>
                        </a:lnTo>
                        <a:lnTo>
                          <a:pt x="5" y="626"/>
                        </a:lnTo>
                        <a:lnTo>
                          <a:pt x="0" y="592"/>
                        </a:lnTo>
                        <a:lnTo>
                          <a:pt x="38" y="584"/>
                        </a:lnTo>
                        <a:lnTo>
                          <a:pt x="106" y="588"/>
                        </a:lnTo>
                        <a:lnTo>
                          <a:pt x="183" y="592"/>
                        </a:lnTo>
                        <a:lnTo>
                          <a:pt x="241" y="599"/>
                        </a:lnTo>
                        <a:lnTo>
                          <a:pt x="239" y="590"/>
                        </a:lnTo>
                        <a:lnTo>
                          <a:pt x="213" y="562"/>
                        </a:lnTo>
                        <a:lnTo>
                          <a:pt x="196" y="516"/>
                        </a:lnTo>
                        <a:lnTo>
                          <a:pt x="183" y="458"/>
                        </a:lnTo>
                        <a:lnTo>
                          <a:pt x="186" y="419"/>
                        </a:lnTo>
                        <a:lnTo>
                          <a:pt x="204" y="305"/>
                        </a:lnTo>
                        <a:lnTo>
                          <a:pt x="211" y="223"/>
                        </a:lnTo>
                        <a:lnTo>
                          <a:pt x="209" y="132"/>
                        </a:lnTo>
                        <a:lnTo>
                          <a:pt x="201" y="90"/>
                        </a:lnTo>
                        <a:lnTo>
                          <a:pt x="194" y="36"/>
                        </a:lnTo>
                        <a:lnTo>
                          <a:pt x="211" y="10"/>
                        </a:lnTo>
                        <a:lnTo>
                          <a:pt x="2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1508040" y="2882880"/>
                  <a:ext cx="184320" cy="473040"/>
                  <a:chOff x="1508040" y="2882880"/>
                  <a:chExt cx="184320" cy="47304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 flipH="1">
                    <a:off x="1568160" y="2998800"/>
                    <a:ext cx="7596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601">
                        <a:moveTo>
                          <a:pt x="64" y="26"/>
                        </a:moveTo>
                        <a:lnTo>
                          <a:pt x="90" y="7"/>
                        </a:lnTo>
                        <a:lnTo>
                          <a:pt x="122" y="0"/>
                        </a:lnTo>
                        <a:lnTo>
                          <a:pt x="147" y="5"/>
                        </a:lnTo>
                        <a:lnTo>
                          <a:pt x="169" y="33"/>
                        </a:lnTo>
                        <a:lnTo>
                          <a:pt x="186" y="90"/>
                        </a:lnTo>
                        <a:lnTo>
                          <a:pt x="201" y="166"/>
                        </a:lnTo>
                        <a:lnTo>
                          <a:pt x="218" y="241"/>
                        </a:lnTo>
                        <a:lnTo>
                          <a:pt x="231" y="306"/>
                        </a:lnTo>
                        <a:lnTo>
                          <a:pt x="231" y="378"/>
                        </a:lnTo>
                        <a:lnTo>
                          <a:pt x="239" y="467"/>
                        </a:lnTo>
                        <a:lnTo>
                          <a:pt x="231" y="519"/>
                        </a:lnTo>
                        <a:lnTo>
                          <a:pt x="220" y="563"/>
                        </a:lnTo>
                        <a:lnTo>
                          <a:pt x="182" y="589"/>
                        </a:lnTo>
                        <a:lnTo>
                          <a:pt x="111" y="601"/>
                        </a:lnTo>
                        <a:lnTo>
                          <a:pt x="60" y="587"/>
                        </a:lnTo>
                        <a:lnTo>
                          <a:pt x="12" y="551"/>
                        </a:lnTo>
                        <a:lnTo>
                          <a:pt x="0" y="493"/>
                        </a:lnTo>
                        <a:lnTo>
                          <a:pt x="0" y="433"/>
                        </a:lnTo>
                        <a:lnTo>
                          <a:pt x="15" y="324"/>
                        </a:lnTo>
                        <a:lnTo>
                          <a:pt x="15" y="236"/>
                        </a:lnTo>
                        <a:lnTo>
                          <a:pt x="19" y="154"/>
                        </a:lnTo>
                        <a:lnTo>
                          <a:pt x="38" y="101"/>
                        </a:lnTo>
                        <a:lnTo>
                          <a:pt x="60" y="65"/>
                        </a:lnTo>
                        <a:lnTo>
                          <a:pt x="64" y="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 flipH="1">
                    <a:off x="1508040" y="3154320"/>
                    <a:ext cx="9072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595">
                        <a:moveTo>
                          <a:pt x="0" y="52"/>
                        </a:moveTo>
                        <a:lnTo>
                          <a:pt x="2" y="7"/>
                        </a:lnTo>
                        <a:lnTo>
                          <a:pt x="25" y="0"/>
                        </a:lnTo>
                        <a:lnTo>
                          <a:pt x="70" y="2"/>
                        </a:lnTo>
                        <a:lnTo>
                          <a:pt x="83" y="41"/>
                        </a:lnTo>
                        <a:lnTo>
                          <a:pt x="121" y="122"/>
                        </a:lnTo>
                        <a:lnTo>
                          <a:pt x="140" y="186"/>
                        </a:lnTo>
                        <a:lnTo>
                          <a:pt x="153" y="262"/>
                        </a:lnTo>
                        <a:lnTo>
                          <a:pt x="149" y="307"/>
                        </a:lnTo>
                        <a:lnTo>
                          <a:pt x="123" y="378"/>
                        </a:lnTo>
                        <a:lnTo>
                          <a:pt x="98" y="444"/>
                        </a:lnTo>
                        <a:lnTo>
                          <a:pt x="90" y="500"/>
                        </a:lnTo>
                        <a:lnTo>
                          <a:pt x="90" y="522"/>
                        </a:lnTo>
                        <a:lnTo>
                          <a:pt x="117" y="525"/>
                        </a:lnTo>
                        <a:lnTo>
                          <a:pt x="153" y="512"/>
                        </a:lnTo>
                        <a:lnTo>
                          <a:pt x="250" y="522"/>
                        </a:lnTo>
                        <a:lnTo>
                          <a:pt x="288" y="545"/>
                        </a:lnTo>
                        <a:lnTo>
                          <a:pt x="281" y="560"/>
                        </a:lnTo>
                        <a:lnTo>
                          <a:pt x="230" y="590"/>
                        </a:lnTo>
                        <a:lnTo>
                          <a:pt x="200" y="595"/>
                        </a:lnTo>
                        <a:lnTo>
                          <a:pt x="172" y="570"/>
                        </a:lnTo>
                        <a:lnTo>
                          <a:pt x="108" y="557"/>
                        </a:lnTo>
                        <a:lnTo>
                          <a:pt x="53" y="557"/>
                        </a:lnTo>
                        <a:lnTo>
                          <a:pt x="34" y="552"/>
                        </a:lnTo>
                        <a:lnTo>
                          <a:pt x="32" y="532"/>
                        </a:lnTo>
                        <a:lnTo>
                          <a:pt x="65" y="432"/>
                        </a:lnTo>
                        <a:lnTo>
                          <a:pt x="98" y="355"/>
                        </a:lnTo>
                        <a:lnTo>
                          <a:pt x="110" y="304"/>
                        </a:lnTo>
                        <a:lnTo>
                          <a:pt x="110" y="233"/>
                        </a:lnTo>
                        <a:lnTo>
                          <a:pt x="85" y="169"/>
                        </a:lnTo>
                        <a:lnTo>
                          <a:pt x="32" y="102"/>
                        </a:lnTo>
                        <a:lnTo>
                          <a:pt x="8" y="71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1611000" y="3157560"/>
                    <a:ext cx="8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625">
                        <a:moveTo>
                          <a:pt x="151" y="101"/>
                        </a:moveTo>
                        <a:lnTo>
                          <a:pt x="166" y="50"/>
                        </a:lnTo>
                        <a:lnTo>
                          <a:pt x="198" y="0"/>
                        </a:lnTo>
                        <a:lnTo>
                          <a:pt x="228" y="0"/>
                        </a:lnTo>
                        <a:lnTo>
                          <a:pt x="256" y="26"/>
                        </a:lnTo>
                        <a:lnTo>
                          <a:pt x="253" y="58"/>
                        </a:lnTo>
                        <a:lnTo>
                          <a:pt x="215" y="102"/>
                        </a:lnTo>
                        <a:lnTo>
                          <a:pt x="177" y="184"/>
                        </a:lnTo>
                        <a:lnTo>
                          <a:pt x="160" y="257"/>
                        </a:lnTo>
                        <a:lnTo>
                          <a:pt x="158" y="340"/>
                        </a:lnTo>
                        <a:lnTo>
                          <a:pt x="177" y="434"/>
                        </a:lnTo>
                        <a:lnTo>
                          <a:pt x="196" y="487"/>
                        </a:lnTo>
                        <a:lnTo>
                          <a:pt x="215" y="530"/>
                        </a:lnTo>
                        <a:lnTo>
                          <a:pt x="221" y="552"/>
                        </a:lnTo>
                        <a:lnTo>
                          <a:pt x="218" y="582"/>
                        </a:lnTo>
                        <a:lnTo>
                          <a:pt x="185" y="583"/>
                        </a:lnTo>
                        <a:lnTo>
                          <a:pt x="108" y="600"/>
                        </a:lnTo>
                        <a:lnTo>
                          <a:pt x="38" y="625"/>
                        </a:lnTo>
                        <a:lnTo>
                          <a:pt x="23" y="615"/>
                        </a:lnTo>
                        <a:lnTo>
                          <a:pt x="0" y="587"/>
                        </a:lnTo>
                        <a:lnTo>
                          <a:pt x="7" y="570"/>
                        </a:lnTo>
                        <a:lnTo>
                          <a:pt x="75" y="562"/>
                        </a:lnTo>
                        <a:lnTo>
                          <a:pt x="135" y="562"/>
                        </a:lnTo>
                        <a:lnTo>
                          <a:pt x="166" y="562"/>
                        </a:lnTo>
                        <a:lnTo>
                          <a:pt x="185" y="545"/>
                        </a:lnTo>
                        <a:lnTo>
                          <a:pt x="177" y="507"/>
                        </a:lnTo>
                        <a:lnTo>
                          <a:pt x="145" y="430"/>
                        </a:lnTo>
                        <a:lnTo>
                          <a:pt x="125" y="357"/>
                        </a:lnTo>
                        <a:lnTo>
                          <a:pt x="120" y="282"/>
                        </a:lnTo>
                        <a:lnTo>
                          <a:pt x="125" y="212"/>
                        </a:lnTo>
                        <a:lnTo>
                          <a:pt x="138" y="152"/>
                        </a:lnTo>
                        <a:lnTo>
                          <a:pt x="151" y="1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1622160" y="3003480"/>
                    <a:ext cx="5868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503">
                        <a:moveTo>
                          <a:pt x="92" y="13"/>
                        </a:moveTo>
                        <a:lnTo>
                          <a:pt x="128" y="0"/>
                        </a:lnTo>
                        <a:lnTo>
                          <a:pt x="167" y="4"/>
                        </a:lnTo>
                        <a:lnTo>
                          <a:pt x="182" y="25"/>
                        </a:lnTo>
                        <a:lnTo>
                          <a:pt x="172" y="83"/>
                        </a:lnTo>
                        <a:lnTo>
                          <a:pt x="130" y="101"/>
                        </a:lnTo>
                        <a:lnTo>
                          <a:pt x="79" y="138"/>
                        </a:lnTo>
                        <a:lnTo>
                          <a:pt x="60" y="189"/>
                        </a:lnTo>
                        <a:lnTo>
                          <a:pt x="45" y="236"/>
                        </a:lnTo>
                        <a:lnTo>
                          <a:pt x="40" y="306"/>
                        </a:lnTo>
                        <a:lnTo>
                          <a:pt x="47" y="374"/>
                        </a:lnTo>
                        <a:lnTo>
                          <a:pt x="57" y="402"/>
                        </a:lnTo>
                        <a:lnTo>
                          <a:pt x="72" y="422"/>
                        </a:lnTo>
                        <a:lnTo>
                          <a:pt x="98" y="428"/>
                        </a:lnTo>
                        <a:lnTo>
                          <a:pt x="98" y="460"/>
                        </a:lnTo>
                        <a:lnTo>
                          <a:pt x="60" y="489"/>
                        </a:lnTo>
                        <a:lnTo>
                          <a:pt x="40" y="503"/>
                        </a:lnTo>
                        <a:lnTo>
                          <a:pt x="15" y="484"/>
                        </a:lnTo>
                        <a:lnTo>
                          <a:pt x="0" y="428"/>
                        </a:lnTo>
                        <a:lnTo>
                          <a:pt x="0" y="358"/>
                        </a:lnTo>
                        <a:lnTo>
                          <a:pt x="2" y="268"/>
                        </a:lnTo>
                        <a:lnTo>
                          <a:pt x="27" y="176"/>
                        </a:lnTo>
                        <a:lnTo>
                          <a:pt x="57" y="100"/>
                        </a:lnTo>
                        <a:lnTo>
                          <a:pt x="79" y="43"/>
                        </a:lnTo>
                        <a:lnTo>
                          <a:pt x="92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>
                    <a:off x="1587240" y="2882880"/>
                    <a:ext cx="9828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3" h="357">
                        <a:moveTo>
                          <a:pt x="164" y="5"/>
                        </a:moveTo>
                        <a:lnTo>
                          <a:pt x="194" y="0"/>
                        </a:lnTo>
                        <a:lnTo>
                          <a:pt x="236" y="17"/>
                        </a:lnTo>
                        <a:lnTo>
                          <a:pt x="283" y="73"/>
                        </a:lnTo>
                        <a:lnTo>
                          <a:pt x="313" y="155"/>
                        </a:lnTo>
                        <a:lnTo>
                          <a:pt x="308" y="207"/>
                        </a:lnTo>
                        <a:lnTo>
                          <a:pt x="299" y="274"/>
                        </a:lnTo>
                        <a:lnTo>
                          <a:pt x="278" y="320"/>
                        </a:lnTo>
                        <a:lnTo>
                          <a:pt x="233" y="357"/>
                        </a:lnTo>
                        <a:lnTo>
                          <a:pt x="186" y="349"/>
                        </a:lnTo>
                        <a:lnTo>
                          <a:pt x="134" y="312"/>
                        </a:lnTo>
                        <a:lnTo>
                          <a:pt x="111" y="257"/>
                        </a:lnTo>
                        <a:lnTo>
                          <a:pt x="92" y="220"/>
                        </a:lnTo>
                        <a:lnTo>
                          <a:pt x="36" y="244"/>
                        </a:lnTo>
                        <a:lnTo>
                          <a:pt x="11" y="244"/>
                        </a:lnTo>
                        <a:lnTo>
                          <a:pt x="0" y="240"/>
                        </a:lnTo>
                        <a:lnTo>
                          <a:pt x="9" y="220"/>
                        </a:lnTo>
                        <a:lnTo>
                          <a:pt x="62" y="205"/>
                        </a:lnTo>
                        <a:lnTo>
                          <a:pt x="88" y="201"/>
                        </a:lnTo>
                        <a:lnTo>
                          <a:pt x="86" y="158"/>
                        </a:lnTo>
                        <a:lnTo>
                          <a:pt x="98" y="115"/>
                        </a:lnTo>
                        <a:lnTo>
                          <a:pt x="111" y="70"/>
                        </a:lnTo>
                        <a:lnTo>
                          <a:pt x="136" y="21"/>
                        </a:lnTo>
                        <a:lnTo>
                          <a:pt x="164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"/>
                <p:cNvGrpSpPr/>
                <p:nvPr/>
              </p:nvGrpSpPr>
              <p:grpSpPr>
                <a:xfrm>
                  <a:off x="1785960" y="2844720"/>
                  <a:ext cx="154080" cy="517680"/>
                  <a:chOff x="1785960" y="2844720"/>
                  <a:chExt cx="154080" cy="51768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 flipH="1">
                    <a:off x="1812600" y="2970360"/>
                    <a:ext cx="7452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698">
                        <a:moveTo>
                          <a:pt x="81" y="60"/>
                        </a:moveTo>
                        <a:lnTo>
                          <a:pt x="110" y="15"/>
                        </a:lnTo>
                        <a:lnTo>
                          <a:pt x="140" y="0"/>
                        </a:lnTo>
                        <a:lnTo>
                          <a:pt x="165" y="8"/>
                        </a:lnTo>
                        <a:lnTo>
                          <a:pt x="198" y="48"/>
                        </a:lnTo>
                        <a:lnTo>
                          <a:pt x="223" y="109"/>
                        </a:lnTo>
                        <a:lnTo>
                          <a:pt x="238" y="188"/>
                        </a:lnTo>
                        <a:lnTo>
                          <a:pt x="238" y="301"/>
                        </a:lnTo>
                        <a:lnTo>
                          <a:pt x="225" y="431"/>
                        </a:lnTo>
                        <a:lnTo>
                          <a:pt x="216" y="564"/>
                        </a:lnTo>
                        <a:lnTo>
                          <a:pt x="198" y="628"/>
                        </a:lnTo>
                        <a:lnTo>
                          <a:pt x="178" y="661"/>
                        </a:lnTo>
                        <a:lnTo>
                          <a:pt x="155" y="686"/>
                        </a:lnTo>
                        <a:lnTo>
                          <a:pt x="123" y="698"/>
                        </a:lnTo>
                        <a:lnTo>
                          <a:pt x="65" y="698"/>
                        </a:lnTo>
                        <a:lnTo>
                          <a:pt x="33" y="686"/>
                        </a:lnTo>
                        <a:lnTo>
                          <a:pt x="5" y="628"/>
                        </a:lnTo>
                        <a:lnTo>
                          <a:pt x="0" y="546"/>
                        </a:lnTo>
                        <a:lnTo>
                          <a:pt x="0" y="444"/>
                        </a:lnTo>
                        <a:lnTo>
                          <a:pt x="13" y="308"/>
                        </a:lnTo>
                        <a:lnTo>
                          <a:pt x="30" y="198"/>
                        </a:lnTo>
                        <a:lnTo>
                          <a:pt x="56" y="103"/>
                        </a:lnTo>
                        <a:lnTo>
                          <a:pt x="81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>
                    <a:off x="1851120" y="2971800"/>
                    <a:ext cx="6984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613">
                        <a:moveTo>
                          <a:pt x="117" y="50"/>
                        </a:moveTo>
                        <a:lnTo>
                          <a:pt x="153" y="0"/>
                        </a:lnTo>
                        <a:lnTo>
                          <a:pt x="198" y="0"/>
                        </a:lnTo>
                        <a:lnTo>
                          <a:pt x="221" y="38"/>
                        </a:lnTo>
                        <a:lnTo>
                          <a:pt x="210" y="80"/>
                        </a:lnTo>
                        <a:lnTo>
                          <a:pt x="183" y="88"/>
                        </a:lnTo>
                        <a:lnTo>
                          <a:pt x="148" y="109"/>
                        </a:lnTo>
                        <a:lnTo>
                          <a:pt x="118" y="143"/>
                        </a:lnTo>
                        <a:lnTo>
                          <a:pt x="97" y="181"/>
                        </a:lnTo>
                        <a:lnTo>
                          <a:pt x="72" y="250"/>
                        </a:lnTo>
                        <a:lnTo>
                          <a:pt x="42" y="338"/>
                        </a:lnTo>
                        <a:lnTo>
                          <a:pt x="33" y="431"/>
                        </a:lnTo>
                        <a:lnTo>
                          <a:pt x="45" y="493"/>
                        </a:lnTo>
                        <a:lnTo>
                          <a:pt x="52" y="538"/>
                        </a:lnTo>
                        <a:lnTo>
                          <a:pt x="67" y="570"/>
                        </a:lnTo>
                        <a:lnTo>
                          <a:pt x="63" y="603"/>
                        </a:lnTo>
                        <a:lnTo>
                          <a:pt x="40" y="613"/>
                        </a:lnTo>
                        <a:lnTo>
                          <a:pt x="20" y="588"/>
                        </a:lnTo>
                        <a:lnTo>
                          <a:pt x="0" y="551"/>
                        </a:lnTo>
                        <a:lnTo>
                          <a:pt x="7" y="521"/>
                        </a:lnTo>
                        <a:lnTo>
                          <a:pt x="12" y="425"/>
                        </a:lnTo>
                        <a:lnTo>
                          <a:pt x="12" y="355"/>
                        </a:lnTo>
                        <a:lnTo>
                          <a:pt x="22" y="282"/>
                        </a:lnTo>
                        <a:lnTo>
                          <a:pt x="45" y="183"/>
                        </a:lnTo>
                        <a:lnTo>
                          <a:pt x="85" y="107"/>
                        </a:lnTo>
                        <a:lnTo>
                          <a:pt x="117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>
                    <a:off x="1862280" y="3144960"/>
                    <a:ext cx="7776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5" h="630">
                        <a:moveTo>
                          <a:pt x="207" y="0"/>
                        </a:moveTo>
                        <a:lnTo>
                          <a:pt x="245" y="32"/>
                        </a:lnTo>
                        <a:lnTo>
                          <a:pt x="244" y="86"/>
                        </a:lnTo>
                        <a:lnTo>
                          <a:pt x="227" y="134"/>
                        </a:lnTo>
                        <a:lnTo>
                          <a:pt x="205" y="227"/>
                        </a:lnTo>
                        <a:lnTo>
                          <a:pt x="188" y="321"/>
                        </a:lnTo>
                        <a:lnTo>
                          <a:pt x="188" y="394"/>
                        </a:lnTo>
                        <a:lnTo>
                          <a:pt x="195" y="489"/>
                        </a:lnTo>
                        <a:lnTo>
                          <a:pt x="207" y="544"/>
                        </a:lnTo>
                        <a:lnTo>
                          <a:pt x="227" y="571"/>
                        </a:lnTo>
                        <a:lnTo>
                          <a:pt x="227" y="604"/>
                        </a:lnTo>
                        <a:lnTo>
                          <a:pt x="195" y="611"/>
                        </a:lnTo>
                        <a:lnTo>
                          <a:pt x="150" y="624"/>
                        </a:lnTo>
                        <a:lnTo>
                          <a:pt x="92" y="630"/>
                        </a:lnTo>
                        <a:lnTo>
                          <a:pt x="22" y="630"/>
                        </a:lnTo>
                        <a:lnTo>
                          <a:pt x="0" y="611"/>
                        </a:lnTo>
                        <a:lnTo>
                          <a:pt x="15" y="589"/>
                        </a:lnTo>
                        <a:lnTo>
                          <a:pt x="77" y="592"/>
                        </a:lnTo>
                        <a:lnTo>
                          <a:pt x="117" y="592"/>
                        </a:lnTo>
                        <a:lnTo>
                          <a:pt x="169" y="584"/>
                        </a:lnTo>
                        <a:lnTo>
                          <a:pt x="182" y="566"/>
                        </a:lnTo>
                        <a:lnTo>
                          <a:pt x="175" y="521"/>
                        </a:lnTo>
                        <a:lnTo>
                          <a:pt x="157" y="436"/>
                        </a:lnTo>
                        <a:lnTo>
                          <a:pt x="157" y="349"/>
                        </a:lnTo>
                        <a:lnTo>
                          <a:pt x="162" y="239"/>
                        </a:lnTo>
                        <a:lnTo>
                          <a:pt x="169" y="129"/>
                        </a:lnTo>
                        <a:lnTo>
                          <a:pt x="187" y="45"/>
                        </a:lnTo>
                        <a:lnTo>
                          <a:pt x="202" y="15"/>
                        </a:lnTo>
                        <a:lnTo>
                          <a:pt x="20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>
                    <a:off x="1819080" y="3149640"/>
                    <a:ext cx="5400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1" h="670">
                        <a:moveTo>
                          <a:pt x="116" y="12"/>
                        </a:moveTo>
                        <a:lnTo>
                          <a:pt x="77" y="0"/>
                        </a:lnTo>
                        <a:lnTo>
                          <a:pt x="56" y="30"/>
                        </a:lnTo>
                        <a:lnTo>
                          <a:pt x="51" y="77"/>
                        </a:lnTo>
                        <a:lnTo>
                          <a:pt x="65" y="119"/>
                        </a:lnTo>
                        <a:lnTo>
                          <a:pt x="83" y="164"/>
                        </a:lnTo>
                        <a:lnTo>
                          <a:pt x="101" y="235"/>
                        </a:lnTo>
                        <a:lnTo>
                          <a:pt x="103" y="305"/>
                        </a:lnTo>
                        <a:lnTo>
                          <a:pt x="103" y="377"/>
                        </a:lnTo>
                        <a:lnTo>
                          <a:pt x="107" y="529"/>
                        </a:lnTo>
                        <a:lnTo>
                          <a:pt x="113" y="570"/>
                        </a:lnTo>
                        <a:lnTo>
                          <a:pt x="58" y="593"/>
                        </a:lnTo>
                        <a:lnTo>
                          <a:pt x="18" y="633"/>
                        </a:lnTo>
                        <a:lnTo>
                          <a:pt x="0" y="650"/>
                        </a:lnTo>
                        <a:lnTo>
                          <a:pt x="11" y="663"/>
                        </a:lnTo>
                        <a:lnTo>
                          <a:pt x="65" y="670"/>
                        </a:lnTo>
                        <a:lnTo>
                          <a:pt x="77" y="632"/>
                        </a:lnTo>
                        <a:lnTo>
                          <a:pt x="121" y="595"/>
                        </a:lnTo>
                        <a:lnTo>
                          <a:pt x="160" y="574"/>
                        </a:lnTo>
                        <a:lnTo>
                          <a:pt x="171" y="557"/>
                        </a:lnTo>
                        <a:lnTo>
                          <a:pt x="154" y="542"/>
                        </a:lnTo>
                        <a:lnTo>
                          <a:pt x="139" y="512"/>
                        </a:lnTo>
                        <a:lnTo>
                          <a:pt x="139" y="442"/>
                        </a:lnTo>
                        <a:lnTo>
                          <a:pt x="133" y="313"/>
                        </a:lnTo>
                        <a:lnTo>
                          <a:pt x="128" y="210"/>
                        </a:lnTo>
                        <a:lnTo>
                          <a:pt x="128" y="127"/>
                        </a:lnTo>
                        <a:lnTo>
                          <a:pt x="128" y="49"/>
                        </a:lnTo>
                        <a:lnTo>
                          <a:pt x="116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>
                    <a:off x="1785600" y="2844720"/>
                    <a:ext cx="1033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371">
                        <a:moveTo>
                          <a:pt x="305" y="211"/>
                        </a:moveTo>
                        <a:lnTo>
                          <a:pt x="316" y="168"/>
                        </a:lnTo>
                        <a:lnTo>
                          <a:pt x="327" y="109"/>
                        </a:lnTo>
                        <a:lnTo>
                          <a:pt x="301" y="51"/>
                        </a:lnTo>
                        <a:lnTo>
                          <a:pt x="249" y="0"/>
                        </a:lnTo>
                        <a:lnTo>
                          <a:pt x="205" y="5"/>
                        </a:lnTo>
                        <a:lnTo>
                          <a:pt x="168" y="33"/>
                        </a:lnTo>
                        <a:lnTo>
                          <a:pt x="123" y="87"/>
                        </a:lnTo>
                        <a:lnTo>
                          <a:pt x="98" y="147"/>
                        </a:lnTo>
                        <a:lnTo>
                          <a:pt x="68" y="167"/>
                        </a:lnTo>
                        <a:lnTo>
                          <a:pt x="21" y="182"/>
                        </a:lnTo>
                        <a:lnTo>
                          <a:pt x="0" y="206"/>
                        </a:lnTo>
                        <a:lnTo>
                          <a:pt x="10" y="218"/>
                        </a:lnTo>
                        <a:lnTo>
                          <a:pt x="56" y="204"/>
                        </a:lnTo>
                        <a:lnTo>
                          <a:pt x="82" y="203"/>
                        </a:lnTo>
                        <a:lnTo>
                          <a:pt x="77" y="258"/>
                        </a:lnTo>
                        <a:lnTo>
                          <a:pt x="86" y="316"/>
                        </a:lnTo>
                        <a:lnTo>
                          <a:pt x="105" y="349"/>
                        </a:lnTo>
                        <a:lnTo>
                          <a:pt x="131" y="371"/>
                        </a:lnTo>
                        <a:lnTo>
                          <a:pt x="195" y="353"/>
                        </a:lnTo>
                        <a:lnTo>
                          <a:pt x="253" y="316"/>
                        </a:lnTo>
                        <a:lnTo>
                          <a:pt x="287" y="269"/>
                        </a:lnTo>
                        <a:lnTo>
                          <a:pt x="305" y="2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"/>
                <p:cNvGrpSpPr/>
                <p:nvPr/>
              </p:nvGrpSpPr>
              <p:grpSpPr>
                <a:xfrm>
                  <a:off x="2011320" y="2819520"/>
                  <a:ext cx="128520" cy="531720"/>
                  <a:chOff x="2011320" y="2819520"/>
                  <a:chExt cx="128520" cy="53172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H="1">
                    <a:off x="2012760" y="2941560"/>
                    <a:ext cx="7488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730">
                        <a:moveTo>
                          <a:pt x="39" y="55"/>
                        </a:moveTo>
                        <a:lnTo>
                          <a:pt x="58" y="19"/>
                        </a:lnTo>
                        <a:lnTo>
                          <a:pt x="90" y="0"/>
                        </a:lnTo>
                        <a:lnTo>
                          <a:pt x="124" y="0"/>
                        </a:lnTo>
                        <a:lnTo>
                          <a:pt x="185" y="12"/>
                        </a:lnTo>
                        <a:lnTo>
                          <a:pt x="200" y="70"/>
                        </a:lnTo>
                        <a:lnTo>
                          <a:pt x="225" y="190"/>
                        </a:lnTo>
                        <a:lnTo>
                          <a:pt x="233" y="288"/>
                        </a:lnTo>
                        <a:lnTo>
                          <a:pt x="239" y="384"/>
                        </a:lnTo>
                        <a:lnTo>
                          <a:pt x="239" y="525"/>
                        </a:lnTo>
                        <a:lnTo>
                          <a:pt x="225" y="653"/>
                        </a:lnTo>
                        <a:lnTo>
                          <a:pt x="198" y="723"/>
                        </a:lnTo>
                        <a:lnTo>
                          <a:pt x="154" y="730"/>
                        </a:lnTo>
                        <a:lnTo>
                          <a:pt x="60" y="730"/>
                        </a:lnTo>
                        <a:lnTo>
                          <a:pt x="15" y="692"/>
                        </a:lnTo>
                        <a:lnTo>
                          <a:pt x="0" y="602"/>
                        </a:lnTo>
                        <a:lnTo>
                          <a:pt x="7" y="485"/>
                        </a:lnTo>
                        <a:lnTo>
                          <a:pt x="15" y="390"/>
                        </a:lnTo>
                        <a:lnTo>
                          <a:pt x="41" y="333"/>
                        </a:lnTo>
                        <a:lnTo>
                          <a:pt x="41" y="250"/>
                        </a:lnTo>
                        <a:lnTo>
                          <a:pt x="41" y="160"/>
                        </a:lnTo>
                        <a:lnTo>
                          <a:pt x="35" y="94"/>
                        </a:lnTo>
                        <a:lnTo>
                          <a:pt x="39" y="5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>
                    <a:off x="2010960" y="3138480"/>
                    <a:ext cx="8244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6" h="672">
                        <a:moveTo>
                          <a:pt x="160" y="0"/>
                        </a:moveTo>
                        <a:lnTo>
                          <a:pt x="198" y="27"/>
                        </a:lnTo>
                        <a:lnTo>
                          <a:pt x="211" y="67"/>
                        </a:lnTo>
                        <a:lnTo>
                          <a:pt x="215" y="160"/>
                        </a:lnTo>
                        <a:lnTo>
                          <a:pt x="223" y="250"/>
                        </a:lnTo>
                        <a:lnTo>
                          <a:pt x="234" y="355"/>
                        </a:lnTo>
                        <a:lnTo>
                          <a:pt x="241" y="461"/>
                        </a:lnTo>
                        <a:lnTo>
                          <a:pt x="243" y="531"/>
                        </a:lnTo>
                        <a:lnTo>
                          <a:pt x="253" y="570"/>
                        </a:lnTo>
                        <a:lnTo>
                          <a:pt x="256" y="589"/>
                        </a:lnTo>
                        <a:lnTo>
                          <a:pt x="241" y="604"/>
                        </a:lnTo>
                        <a:lnTo>
                          <a:pt x="205" y="611"/>
                        </a:lnTo>
                        <a:lnTo>
                          <a:pt x="147" y="623"/>
                        </a:lnTo>
                        <a:lnTo>
                          <a:pt x="90" y="653"/>
                        </a:lnTo>
                        <a:lnTo>
                          <a:pt x="45" y="672"/>
                        </a:lnTo>
                        <a:lnTo>
                          <a:pt x="19" y="659"/>
                        </a:lnTo>
                        <a:lnTo>
                          <a:pt x="0" y="628"/>
                        </a:lnTo>
                        <a:lnTo>
                          <a:pt x="23" y="611"/>
                        </a:lnTo>
                        <a:lnTo>
                          <a:pt x="93" y="598"/>
                        </a:lnTo>
                        <a:lnTo>
                          <a:pt x="173" y="589"/>
                        </a:lnTo>
                        <a:lnTo>
                          <a:pt x="208" y="589"/>
                        </a:lnTo>
                        <a:lnTo>
                          <a:pt x="218" y="566"/>
                        </a:lnTo>
                        <a:lnTo>
                          <a:pt x="215" y="500"/>
                        </a:lnTo>
                        <a:lnTo>
                          <a:pt x="205" y="398"/>
                        </a:lnTo>
                        <a:lnTo>
                          <a:pt x="190" y="290"/>
                        </a:lnTo>
                        <a:lnTo>
                          <a:pt x="177" y="182"/>
                        </a:lnTo>
                        <a:lnTo>
                          <a:pt x="140" y="99"/>
                        </a:lnTo>
                        <a:lnTo>
                          <a:pt x="121" y="35"/>
                        </a:lnTo>
                        <a:lnTo>
                          <a:pt x="135" y="14"/>
                        </a:lnTo>
                        <a:lnTo>
                          <a:pt x="16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>
                    <a:off x="2057040" y="3143160"/>
                    <a:ext cx="82440" cy="18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3" h="595">
                        <a:moveTo>
                          <a:pt x="167" y="126"/>
                        </a:moveTo>
                        <a:lnTo>
                          <a:pt x="180" y="51"/>
                        </a:lnTo>
                        <a:lnTo>
                          <a:pt x="220" y="0"/>
                        </a:lnTo>
                        <a:lnTo>
                          <a:pt x="243" y="13"/>
                        </a:lnTo>
                        <a:lnTo>
                          <a:pt x="263" y="45"/>
                        </a:lnTo>
                        <a:lnTo>
                          <a:pt x="253" y="81"/>
                        </a:lnTo>
                        <a:lnTo>
                          <a:pt x="233" y="101"/>
                        </a:lnTo>
                        <a:lnTo>
                          <a:pt x="213" y="164"/>
                        </a:lnTo>
                        <a:lnTo>
                          <a:pt x="205" y="224"/>
                        </a:lnTo>
                        <a:lnTo>
                          <a:pt x="205" y="304"/>
                        </a:lnTo>
                        <a:lnTo>
                          <a:pt x="201" y="375"/>
                        </a:lnTo>
                        <a:lnTo>
                          <a:pt x="205" y="464"/>
                        </a:lnTo>
                        <a:lnTo>
                          <a:pt x="213" y="515"/>
                        </a:lnTo>
                        <a:lnTo>
                          <a:pt x="218" y="537"/>
                        </a:lnTo>
                        <a:lnTo>
                          <a:pt x="208" y="550"/>
                        </a:lnTo>
                        <a:lnTo>
                          <a:pt x="175" y="554"/>
                        </a:lnTo>
                        <a:lnTo>
                          <a:pt x="118" y="562"/>
                        </a:lnTo>
                        <a:lnTo>
                          <a:pt x="66" y="588"/>
                        </a:lnTo>
                        <a:lnTo>
                          <a:pt x="40" y="595"/>
                        </a:lnTo>
                        <a:lnTo>
                          <a:pt x="0" y="569"/>
                        </a:lnTo>
                        <a:lnTo>
                          <a:pt x="0" y="557"/>
                        </a:lnTo>
                        <a:lnTo>
                          <a:pt x="38" y="550"/>
                        </a:lnTo>
                        <a:lnTo>
                          <a:pt x="137" y="537"/>
                        </a:lnTo>
                        <a:lnTo>
                          <a:pt x="180" y="537"/>
                        </a:lnTo>
                        <a:lnTo>
                          <a:pt x="188" y="517"/>
                        </a:lnTo>
                        <a:lnTo>
                          <a:pt x="186" y="464"/>
                        </a:lnTo>
                        <a:lnTo>
                          <a:pt x="180" y="369"/>
                        </a:lnTo>
                        <a:lnTo>
                          <a:pt x="175" y="279"/>
                        </a:lnTo>
                        <a:lnTo>
                          <a:pt x="173" y="186"/>
                        </a:lnTo>
                        <a:lnTo>
                          <a:pt x="167" y="1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>
                    <a:off x="2065320" y="2951280"/>
                    <a:ext cx="55440" cy="20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657">
                        <a:moveTo>
                          <a:pt x="72" y="60"/>
                        </a:moveTo>
                        <a:lnTo>
                          <a:pt x="102" y="5"/>
                        </a:lnTo>
                        <a:lnTo>
                          <a:pt x="147" y="0"/>
                        </a:lnTo>
                        <a:lnTo>
                          <a:pt x="175" y="38"/>
                        </a:lnTo>
                        <a:lnTo>
                          <a:pt x="168" y="81"/>
                        </a:lnTo>
                        <a:lnTo>
                          <a:pt x="140" y="95"/>
                        </a:lnTo>
                        <a:lnTo>
                          <a:pt x="109" y="119"/>
                        </a:lnTo>
                        <a:lnTo>
                          <a:pt x="83" y="159"/>
                        </a:lnTo>
                        <a:lnTo>
                          <a:pt x="65" y="202"/>
                        </a:lnTo>
                        <a:lnTo>
                          <a:pt x="47" y="276"/>
                        </a:lnTo>
                        <a:lnTo>
                          <a:pt x="27" y="370"/>
                        </a:lnTo>
                        <a:lnTo>
                          <a:pt x="27" y="469"/>
                        </a:lnTo>
                        <a:lnTo>
                          <a:pt x="47" y="531"/>
                        </a:lnTo>
                        <a:lnTo>
                          <a:pt x="59" y="578"/>
                        </a:lnTo>
                        <a:lnTo>
                          <a:pt x="77" y="610"/>
                        </a:lnTo>
                        <a:lnTo>
                          <a:pt x="77" y="643"/>
                        </a:lnTo>
                        <a:lnTo>
                          <a:pt x="53" y="657"/>
                        </a:lnTo>
                        <a:lnTo>
                          <a:pt x="32" y="633"/>
                        </a:lnTo>
                        <a:lnTo>
                          <a:pt x="8" y="598"/>
                        </a:lnTo>
                        <a:lnTo>
                          <a:pt x="12" y="565"/>
                        </a:lnTo>
                        <a:lnTo>
                          <a:pt x="6" y="464"/>
                        </a:lnTo>
                        <a:lnTo>
                          <a:pt x="0" y="390"/>
                        </a:lnTo>
                        <a:lnTo>
                          <a:pt x="2" y="314"/>
                        </a:lnTo>
                        <a:lnTo>
                          <a:pt x="15" y="209"/>
                        </a:lnTo>
                        <a:lnTo>
                          <a:pt x="44" y="126"/>
                        </a:lnTo>
                        <a:lnTo>
                          <a:pt x="72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>
                    <a:off x="2031480" y="2819520"/>
                    <a:ext cx="10332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7" h="360">
                        <a:moveTo>
                          <a:pt x="83" y="175"/>
                        </a:moveTo>
                        <a:lnTo>
                          <a:pt x="77" y="124"/>
                        </a:lnTo>
                        <a:lnTo>
                          <a:pt x="77" y="73"/>
                        </a:lnTo>
                        <a:lnTo>
                          <a:pt x="90" y="35"/>
                        </a:lnTo>
                        <a:lnTo>
                          <a:pt x="115" y="14"/>
                        </a:lnTo>
                        <a:lnTo>
                          <a:pt x="167" y="0"/>
                        </a:lnTo>
                        <a:lnTo>
                          <a:pt x="205" y="2"/>
                        </a:lnTo>
                        <a:lnTo>
                          <a:pt x="246" y="20"/>
                        </a:lnTo>
                        <a:lnTo>
                          <a:pt x="278" y="60"/>
                        </a:lnTo>
                        <a:lnTo>
                          <a:pt x="302" y="105"/>
                        </a:lnTo>
                        <a:lnTo>
                          <a:pt x="317" y="167"/>
                        </a:lnTo>
                        <a:lnTo>
                          <a:pt x="327" y="227"/>
                        </a:lnTo>
                        <a:lnTo>
                          <a:pt x="327" y="272"/>
                        </a:lnTo>
                        <a:lnTo>
                          <a:pt x="315" y="320"/>
                        </a:lnTo>
                        <a:lnTo>
                          <a:pt x="285" y="348"/>
                        </a:lnTo>
                        <a:lnTo>
                          <a:pt x="240" y="360"/>
                        </a:lnTo>
                        <a:lnTo>
                          <a:pt x="212" y="359"/>
                        </a:lnTo>
                        <a:lnTo>
                          <a:pt x="180" y="340"/>
                        </a:lnTo>
                        <a:lnTo>
                          <a:pt x="148" y="297"/>
                        </a:lnTo>
                        <a:lnTo>
                          <a:pt x="122" y="257"/>
                        </a:lnTo>
                        <a:lnTo>
                          <a:pt x="40" y="282"/>
                        </a:lnTo>
                        <a:lnTo>
                          <a:pt x="15" y="290"/>
                        </a:lnTo>
                        <a:lnTo>
                          <a:pt x="0" y="284"/>
                        </a:lnTo>
                        <a:lnTo>
                          <a:pt x="2" y="269"/>
                        </a:lnTo>
                        <a:lnTo>
                          <a:pt x="98" y="227"/>
                        </a:lnTo>
                        <a:lnTo>
                          <a:pt x="83" y="1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4" name=""/>
              <p:cNvGrpSpPr/>
              <p:nvPr/>
            </p:nvGrpSpPr>
            <p:grpSpPr>
              <a:xfrm>
                <a:off x="1219320" y="2951280"/>
                <a:ext cx="1257120" cy="358560"/>
                <a:chOff x="1219320" y="2951280"/>
                <a:chExt cx="1257120" cy="358560"/>
              </a:xfrm>
            </p:grpSpPr>
            <p:sp>
              <p:nvSpPr>
                <p:cNvPr id="305" name=""/>
                <p:cNvSpPr/>
                <p:nvPr/>
              </p:nvSpPr>
              <p:spPr>
                <a:xfrm flipH="1">
                  <a:off x="1218960" y="2965320"/>
                  <a:ext cx="290520" cy="344520"/>
                </a:xfrm>
                <a:custGeom>
                  <a:avLst/>
                  <a:gdLst/>
                  <a:ahLst/>
                  <a:rect l="l" t="t" r="r" b="b"/>
                  <a:pathLst>
                    <a:path w="916" h="1083">
                      <a:moveTo>
                        <a:pt x="90" y="548"/>
                      </a:moveTo>
                      <a:lnTo>
                        <a:pt x="52" y="603"/>
                      </a:lnTo>
                      <a:lnTo>
                        <a:pt x="15" y="699"/>
                      </a:lnTo>
                      <a:lnTo>
                        <a:pt x="0" y="821"/>
                      </a:lnTo>
                      <a:lnTo>
                        <a:pt x="13" y="912"/>
                      </a:lnTo>
                      <a:lnTo>
                        <a:pt x="60" y="986"/>
                      </a:lnTo>
                      <a:lnTo>
                        <a:pt x="122" y="1051"/>
                      </a:lnTo>
                      <a:lnTo>
                        <a:pt x="189" y="1083"/>
                      </a:lnTo>
                      <a:lnTo>
                        <a:pt x="274" y="1069"/>
                      </a:lnTo>
                      <a:lnTo>
                        <a:pt x="344" y="1051"/>
                      </a:lnTo>
                      <a:lnTo>
                        <a:pt x="404" y="1019"/>
                      </a:lnTo>
                      <a:lnTo>
                        <a:pt x="455" y="946"/>
                      </a:lnTo>
                      <a:lnTo>
                        <a:pt x="485" y="881"/>
                      </a:lnTo>
                      <a:lnTo>
                        <a:pt x="489" y="793"/>
                      </a:lnTo>
                      <a:lnTo>
                        <a:pt x="489" y="750"/>
                      </a:lnTo>
                      <a:lnTo>
                        <a:pt x="540" y="821"/>
                      </a:lnTo>
                      <a:lnTo>
                        <a:pt x="637" y="871"/>
                      </a:lnTo>
                      <a:lnTo>
                        <a:pt x="683" y="881"/>
                      </a:lnTo>
                      <a:lnTo>
                        <a:pt x="763" y="867"/>
                      </a:lnTo>
                      <a:lnTo>
                        <a:pt x="818" y="844"/>
                      </a:lnTo>
                      <a:lnTo>
                        <a:pt x="861" y="771"/>
                      </a:lnTo>
                      <a:lnTo>
                        <a:pt x="910" y="703"/>
                      </a:lnTo>
                      <a:lnTo>
                        <a:pt x="912" y="601"/>
                      </a:lnTo>
                      <a:lnTo>
                        <a:pt x="916" y="526"/>
                      </a:lnTo>
                      <a:lnTo>
                        <a:pt x="912" y="460"/>
                      </a:lnTo>
                      <a:lnTo>
                        <a:pt x="850" y="368"/>
                      </a:lnTo>
                      <a:lnTo>
                        <a:pt x="790" y="325"/>
                      </a:lnTo>
                      <a:lnTo>
                        <a:pt x="720" y="306"/>
                      </a:lnTo>
                      <a:lnTo>
                        <a:pt x="639" y="306"/>
                      </a:lnTo>
                      <a:lnTo>
                        <a:pt x="575" y="317"/>
                      </a:lnTo>
                      <a:lnTo>
                        <a:pt x="547" y="355"/>
                      </a:lnTo>
                      <a:lnTo>
                        <a:pt x="512" y="385"/>
                      </a:lnTo>
                      <a:lnTo>
                        <a:pt x="515" y="289"/>
                      </a:lnTo>
                      <a:lnTo>
                        <a:pt x="507" y="180"/>
                      </a:lnTo>
                      <a:lnTo>
                        <a:pt x="447" y="95"/>
                      </a:lnTo>
                      <a:lnTo>
                        <a:pt x="395" y="43"/>
                      </a:lnTo>
                      <a:lnTo>
                        <a:pt x="337" y="8"/>
                      </a:lnTo>
                      <a:lnTo>
                        <a:pt x="297" y="0"/>
                      </a:lnTo>
                      <a:lnTo>
                        <a:pt x="237" y="1"/>
                      </a:lnTo>
                      <a:lnTo>
                        <a:pt x="179" y="18"/>
                      </a:lnTo>
                      <a:lnTo>
                        <a:pt x="117" y="50"/>
                      </a:lnTo>
                      <a:lnTo>
                        <a:pt x="72" y="110"/>
                      </a:lnTo>
                      <a:lnTo>
                        <a:pt x="49" y="170"/>
                      </a:lnTo>
                      <a:lnTo>
                        <a:pt x="41" y="276"/>
                      </a:lnTo>
                      <a:lnTo>
                        <a:pt x="37" y="328"/>
                      </a:lnTo>
                      <a:lnTo>
                        <a:pt x="54" y="391"/>
                      </a:lnTo>
                      <a:lnTo>
                        <a:pt x="71" y="433"/>
                      </a:lnTo>
                      <a:lnTo>
                        <a:pt x="84" y="460"/>
                      </a:lnTo>
                      <a:lnTo>
                        <a:pt x="90" y="54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>
                  <a:off x="1225440" y="2951280"/>
                  <a:ext cx="292320" cy="342720"/>
                </a:xfrm>
                <a:custGeom>
                  <a:avLst/>
                  <a:gdLst/>
                  <a:ahLst/>
                  <a:rect l="l" t="t" r="r" b="b"/>
                  <a:pathLst>
                    <a:path w="917" h="1080">
                      <a:moveTo>
                        <a:pt x="85" y="547"/>
                      </a:moveTo>
                      <a:lnTo>
                        <a:pt x="55" y="608"/>
                      </a:lnTo>
                      <a:lnTo>
                        <a:pt x="15" y="695"/>
                      </a:lnTo>
                      <a:lnTo>
                        <a:pt x="0" y="815"/>
                      </a:lnTo>
                      <a:lnTo>
                        <a:pt x="20" y="917"/>
                      </a:lnTo>
                      <a:lnTo>
                        <a:pt x="55" y="984"/>
                      </a:lnTo>
                      <a:lnTo>
                        <a:pt x="128" y="1052"/>
                      </a:lnTo>
                      <a:lnTo>
                        <a:pt x="190" y="1080"/>
                      </a:lnTo>
                      <a:lnTo>
                        <a:pt x="268" y="1069"/>
                      </a:lnTo>
                      <a:lnTo>
                        <a:pt x="348" y="1057"/>
                      </a:lnTo>
                      <a:lnTo>
                        <a:pt x="408" y="1015"/>
                      </a:lnTo>
                      <a:lnTo>
                        <a:pt x="448" y="945"/>
                      </a:lnTo>
                      <a:lnTo>
                        <a:pt x="486" y="879"/>
                      </a:lnTo>
                      <a:lnTo>
                        <a:pt x="484" y="790"/>
                      </a:lnTo>
                      <a:lnTo>
                        <a:pt x="493" y="752"/>
                      </a:lnTo>
                      <a:lnTo>
                        <a:pt x="537" y="820"/>
                      </a:lnTo>
                      <a:lnTo>
                        <a:pt x="640" y="877"/>
                      </a:lnTo>
                      <a:lnTo>
                        <a:pt x="681" y="877"/>
                      </a:lnTo>
                      <a:lnTo>
                        <a:pt x="764" y="864"/>
                      </a:lnTo>
                      <a:lnTo>
                        <a:pt x="812" y="843"/>
                      </a:lnTo>
                      <a:lnTo>
                        <a:pt x="862" y="765"/>
                      </a:lnTo>
                      <a:lnTo>
                        <a:pt x="907" y="702"/>
                      </a:lnTo>
                      <a:lnTo>
                        <a:pt x="915" y="597"/>
                      </a:lnTo>
                      <a:lnTo>
                        <a:pt x="917" y="532"/>
                      </a:lnTo>
                      <a:lnTo>
                        <a:pt x="907" y="459"/>
                      </a:lnTo>
                      <a:lnTo>
                        <a:pt x="845" y="367"/>
                      </a:lnTo>
                      <a:lnTo>
                        <a:pt x="792" y="322"/>
                      </a:lnTo>
                      <a:lnTo>
                        <a:pt x="717" y="314"/>
                      </a:lnTo>
                      <a:lnTo>
                        <a:pt x="642" y="303"/>
                      </a:lnTo>
                      <a:lnTo>
                        <a:pt x="569" y="314"/>
                      </a:lnTo>
                      <a:lnTo>
                        <a:pt x="548" y="354"/>
                      </a:lnTo>
                      <a:lnTo>
                        <a:pt x="508" y="382"/>
                      </a:lnTo>
                      <a:lnTo>
                        <a:pt x="512" y="285"/>
                      </a:lnTo>
                      <a:lnTo>
                        <a:pt x="501" y="177"/>
                      </a:lnTo>
                      <a:lnTo>
                        <a:pt x="446" y="90"/>
                      </a:lnTo>
                      <a:lnTo>
                        <a:pt x="399" y="40"/>
                      </a:lnTo>
                      <a:lnTo>
                        <a:pt x="341" y="7"/>
                      </a:lnTo>
                      <a:lnTo>
                        <a:pt x="294" y="4"/>
                      </a:lnTo>
                      <a:lnTo>
                        <a:pt x="233" y="0"/>
                      </a:lnTo>
                      <a:lnTo>
                        <a:pt x="183" y="15"/>
                      </a:lnTo>
                      <a:lnTo>
                        <a:pt x="120" y="47"/>
                      </a:lnTo>
                      <a:lnTo>
                        <a:pt x="77" y="104"/>
                      </a:lnTo>
                      <a:lnTo>
                        <a:pt x="53" y="168"/>
                      </a:lnTo>
                      <a:lnTo>
                        <a:pt x="36" y="282"/>
                      </a:lnTo>
                      <a:lnTo>
                        <a:pt x="30" y="327"/>
                      </a:lnTo>
                      <a:lnTo>
                        <a:pt x="47" y="390"/>
                      </a:lnTo>
                      <a:lnTo>
                        <a:pt x="77" y="435"/>
                      </a:lnTo>
                      <a:lnTo>
                        <a:pt x="85" y="459"/>
                      </a:lnTo>
                      <a:lnTo>
                        <a:pt x="85" y="547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>
                  <a:off x="1425240" y="3006720"/>
                  <a:ext cx="1050840" cy="147600"/>
                </a:xfrm>
                <a:custGeom>
                  <a:avLst/>
                  <a:gdLst/>
                  <a:ahLst/>
                  <a:rect l="l" t="t" r="r" b="b"/>
                  <a:pathLst>
                    <a:path w="3307" h="467">
                      <a:moveTo>
                        <a:pt x="3306" y="377"/>
                      </a:moveTo>
                      <a:lnTo>
                        <a:pt x="3307" y="360"/>
                      </a:lnTo>
                      <a:lnTo>
                        <a:pt x="3303" y="344"/>
                      </a:lnTo>
                      <a:lnTo>
                        <a:pt x="3297" y="329"/>
                      </a:lnTo>
                      <a:lnTo>
                        <a:pt x="3288" y="313"/>
                      </a:lnTo>
                      <a:lnTo>
                        <a:pt x="3278" y="300"/>
                      </a:lnTo>
                      <a:lnTo>
                        <a:pt x="3264" y="289"/>
                      </a:lnTo>
                      <a:lnTo>
                        <a:pt x="3250" y="281"/>
                      </a:lnTo>
                      <a:lnTo>
                        <a:pt x="3234" y="275"/>
                      </a:lnTo>
                      <a:lnTo>
                        <a:pt x="3217" y="271"/>
                      </a:lnTo>
                      <a:lnTo>
                        <a:pt x="108" y="0"/>
                      </a:lnTo>
                      <a:lnTo>
                        <a:pt x="90" y="0"/>
                      </a:lnTo>
                      <a:lnTo>
                        <a:pt x="73" y="3"/>
                      </a:lnTo>
                      <a:lnTo>
                        <a:pt x="58" y="9"/>
                      </a:lnTo>
                      <a:lnTo>
                        <a:pt x="42" y="17"/>
                      </a:lnTo>
                      <a:lnTo>
                        <a:pt x="29" y="27"/>
                      </a:lnTo>
                      <a:lnTo>
                        <a:pt x="18" y="42"/>
                      </a:lnTo>
                      <a:lnTo>
                        <a:pt x="10" y="56"/>
                      </a:lnTo>
                      <a:lnTo>
                        <a:pt x="4" y="72"/>
                      </a:lnTo>
                      <a:lnTo>
                        <a:pt x="2" y="89"/>
                      </a:lnTo>
                      <a:lnTo>
                        <a:pt x="2" y="89"/>
                      </a:lnTo>
                      <a:lnTo>
                        <a:pt x="0" y="107"/>
                      </a:lnTo>
                      <a:lnTo>
                        <a:pt x="4" y="123"/>
                      </a:lnTo>
                      <a:lnTo>
                        <a:pt x="10" y="138"/>
                      </a:lnTo>
                      <a:lnTo>
                        <a:pt x="19" y="154"/>
                      </a:lnTo>
                      <a:lnTo>
                        <a:pt x="29" y="167"/>
                      </a:lnTo>
                      <a:lnTo>
                        <a:pt x="43" y="178"/>
                      </a:lnTo>
                      <a:lnTo>
                        <a:pt x="57" y="186"/>
                      </a:lnTo>
                      <a:lnTo>
                        <a:pt x="73" y="192"/>
                      </a:lnTo>
                      <a:lnTo>
                        <a:pt x="90" y="195"/>
                      </a:lnTo>
                      <a:lnTo>
                        <a:pt x="3200" y="467"/>
                      </a:lnTo>
                      <a:lnTo>
                        <a:pt x="3217" y="467"/>
                      </a:lnTo>
                      <a:lnTo>
                        <a:pt x="3234" y="464"/>
                      </a:lnTo>
                      <a:lnTo>
                        <a:pt x="3249" y="458"/>
                      </a:lnTo>
                      <a:lnTo>
                        <a:pt x="3265" y="450"/>
                      </a:lnTo>
                      <a:lnTo>
                        <a:pt x="3278" y="438"/>
                      </a:lnTo>
                      <a:lnTo>
                        <a:pt x="3289" y="424"/>
                      </a:lnTo>
                      <a:lnTo>
                        <a:pt x="3297" y="411"/>
                      </a:lnTo>
                      <a:lnTo>
                        <a:pt x="3303" y="395"/>
                      </a:lnTo>
                      <a:lnTo>
                        <a:pt x="3306" y="377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1270080" y="3098880"/>
                  <a:ext cx="63360" cy="77760"/>
                </a:xfrm>
                <a:custGeom>
                  <a:avLst/>
                  <a:gdLst/>
                  <a:ahLst/>
                  <a:rect l="l" t="t" r="r" b="b"/>
                  <a:pathLst>
                    <a:path w="203" h="242">
                      <a:moveTo>
                        <a:pt x="91" y="242"/>
                      </a:moveTo>
                      <a:lnTo>
                        <a:pt x="108" y="241"/>
                      </a:lnTo>
                      <a:lnTo>
                        <a:pt x="126" y="237"/>
                      </a:lnTo>
                      <a:lnTo>
                        <a:pt x="143" y="229"/>
                      </a:lnTo>
                      <a:lnTo>
                        <a:pt x="159" y="219"/>
                      </a:lnTo>
                      <a:lnTo>
                        <a:pt x="172" y="205"/>
                      </a:lnTo>
                      <a:lnTo>
                        <a:pt x="183" y="188"/>
                      </a:lnTo>
                      <a:lnTo>
                        <a:pt x="194" y="170"/>
                      </a:lnTo>
                      <a:lnTo>
                        <a:pt x="200" y="151"/>
                      </a:lnTo>
                      <a:lnTo>
                        <a:pt x="203" y="130"/>
                      </a:lnTo>
                      <a:lnTo>
                        <a:pt x="203" y="109"/>
                      </a:lnTo>
                      <a:lnTo>
                        <a:pt x="201" y="87"/>
                      </a:lnTo>
                      <a:lnTo>
                        <a:pt x="194" y="69"/>
                      </a:lnTo>
                      <a:lnTo>
                        <a:pt x="186" y="51"/>
                      </a:lnTo>
                      <a:lnTo>
                        <a:pt x="175" y="34"/>
                      </a:lnTo>
                      <a:lnTo>
                        <a:pt x="161" y="21"/>
                      </a:lnTo>
                      <a:lnTo>
                        <a:pt x="146" y="10"/>
                      </a:lnTo>
                      <a:lnTo>
                        <a:pt x="129" y="5"/>
                      </a:lnTo>
                      <a:lnTo>
                        <a:pt x="112" y="0"/>
                      </a:lnTo>
                      <a:lnTo>
                        <a:pt x="95" y="1"/>
                      </a:lnTo>
                      <a:lnTo>
                        <a:pt x="77" y="5"/>
                      </a:lnTo>
                      <a:lnTo>
                        <a:pt x="60" y="13"/>
                      </a:lnTo>
                      <a:lnTo>
                        <a:pt x="44" y="23"/>
                      </a:lnTo>
                      <a:lnTo>
                        <a:pt x="31" y="37"/>
                      </a:lnTo>
                      <a:lnTo>
                        <a:pt x="20" y="54"/>
                      </a:lnTo>
                      <a:lnTo>
                        <a:pt x="9" y="71"/>
                      </a:lnTo>
                      <a:lnTo>
                        <a:pt x="4" y="91"/>
                      </a:lnTo>
                      <a:lnTo>
                        <a:pt x="0" y="112"/>
                      </a:lnTo>
                      <a:lnTo>
                        <a:pt x="0" y="132"/>
                      </a:lnTo>
                      <a:lnTo>
                        <a:pt x="2" y="154"/>
                      </a:lnTo>
                      <a:lnTo>
                        <a:pt x="9" y="173"/>
                      </a:lnTo>
                      <a:lnTo>
                        <a:pt x="17" y="191"/>
                      </a:lnTo>
                      <a:lnTo>
                        <a:pt x="28" y="207"/>
                      </a:lnTo>
                      <a:lnTo>
                        <a:pt x="42" y="221"/>
                      </a:lnTo>
                      <a:lnTo>
                        <a:pt x="57" y="231"/>
                      </a:lnTo>
                      <a:lnTo>
                        <a:pt x="74" y="237"/>
                      </a:lnTo>
                      <a:lnTo>
                        <a:pt x="91" y="2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309" name=""/>
                <p:cNvGrpSpPr/>
                <p:nvPr/>
              </p:nvGrpSpPr>
              <p:grpSpPr>
                <a:xfrm>
                  <a:off x="2049480" y="3052800"/>
                  <a:ext cx="355680" cy="155520"/>
                  <a:chOff x="2049480" y="3052800"/>
                  <a:chExt cx="355680" cy="1555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 flipH="1">
                    <a:off x="2338200" y="3052800"/>
                    <a:ext cx="6696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359">
                        <a:moveTo>
                          <a:pt x="210" y="15"/>
                        </a:moveTo>
                        <a:lnTo>
                          <a:pt x="30" y="0"/>
                        </a:lnTo>
                        <a:lnTo>
                          <a:pt x="0" y="344"/>
                        </a:lnTo>
                        <a:lnTo>
                          <a:pt x="180" y="359"/>
                        </a:lnTo>
                        <a:lnTo>
                          <a:pt x="210" y="15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>
                    <a:off x="2219400" y="3067200"/>
                    <a:ext cx="7128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263">
                        <a:moveTo>
                          <a:pt x="223" y="17"/>
                        </a:moveTo>
                        <a:lnTo>
                          <a:pt x="22" y="0"/>
                        </a:lnTo>
                        <a:lnTo>
                          <a:pt x="0" y="246"/>
                        </a:lnTo>
                        <a:lnTo>
                          <a:pt x="201" y="263"/>
                        </a:lnTo>
                        <a:lnTo>
                          <a:pt x="223" y="17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>
                    <a:off x="2108160" y="3079800"/>
                    <a:ext cx="712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406">
                        <a:moveTo>
                          <a:pt x="227" y="17"/>
                        </a:moveTo>
                        <a:lnTo>
                          <a:pt x="33" y="0"/>
                        </a:lnTo>
                        <a:lnTo>
                          <a:pt x="0" y="389"/>
                        </a:lnTo>
                        <a:lnTo>
                          <a:pt x="193" y="406"/>
                        </a:lnTo>
                        <a:lnTo>
                          <a:pt x="227" y="17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>
                    <a:off x="2049480" y="3086280"/>
                    <a:ext cx="698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45">
                        <a:moveTo>
                          <a:pt x="216" y="18"/>
                        </a:moveTo>
                        <a:lnTo>
                          <a:pt x="20" y="0"/>
                        </a:lnTo>
                        <a:lnTo>
                          <a:pt x="0" y="227"/>
                        </a:lnTo>
                        <a:lnTo>
                          <a:pt x="196" y="245"/>
                        </a:lnTo>
                        <a:lnTo>
                          <a:pt x="216" y="18"/>
                        </a:lnTo>
                        <a:close/>
                      </a:path>
                    </a:pathLst>
                  </a:custGeom>
                  <a:solidFill>
                    <a:srgbClr val="cc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2065320" y="3035160"/>
                  <a:ext cx="353880" cy="157320"/>
                  <a:chOff x="2065320" y="3035160"/>
                  <a:chExt cx="353880" cy="1573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>
                    <a:off x="2347920" y="3035160"/>
                    <a:ext cx="71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70">
                        <a:moveTo>
                          <a:pt x="223" y="17"/>
                        </a:moveTo>
                        <a:lnTo>
                          <a:pt x="31" y="0"/>
                        </a:lnTo>
                        <a:lnTo>
                          <a:pt x="0" y="353"/>
                        </a:lnTo>
                        <a:lnTo>
                          <a:pt x="191" y="370"/>
                        </a:lnTo>
                        <a:lnTo>
                          <a:pt x="223" y="17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>
                    <a:off x="2230200" y="3052800"/>
                    <a:ext cx="6804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263">
                        <a:moveTo>
                          <a:pt x="215" y="17"/>
                        </a:moveTo>
                        <a:lnTo>
                          <a:pt x="22" y="0"/>
                        </a:lnTo>
                        <a:lnTo>
                          <a:pt x="0" y="246"/>
                        </a:lnTo>
                        <a:lnTo>
                          <a:pt x="194" y="263"/>
                        </a:lnTo>
                        <a:lnTo>
                          <a:pt x="215" y="17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>
                    <a:off x="2122200" y="3065400"/>
                    <a:ext cx="666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400">
                        <a:moveTo>
                          <a:pt x="213" y="15"/>
                        </a:moveTo>
                        <a:lnTo>
                          <a:pt x="33" y="0"/>
                        </a:lnTo>
                        <a:lnTo>
                          <a:pt x="0" y="384"/>
                        </a:lnTo>
                        <a:lnTo>
                          <a:pt x="180" y="400"/>
                        </a:lnTo>
                        <a:lnTo>
                          <a:pt x="213" y="15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>
                    <a:off x="2064960" y="3068640"/>
                    <a:ext cx="6516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257">
                        <a:moveTo>
                          <a:pt x="207" y="16"/>
                        </a:moveTo>
                        <a:lnTo>
                          <a:pt x="21" y="0"/>
                        </a:lnTo>
                        <a:lnTo>
                          <a:pt x="0" y="241"/>
                        </a:lnTo>
                        <a:lnTo>
                          <a:pt x="186" y="257"/>
                        </a:lnTo>
                        <a:lnTo>
                          <a:pt x="207" y="16"/>
                        </a:lnTo>
                        <a:close/>
                      </a:path>
                    </a:pathLst>
                  </a:custGeom>
                  <a:solidFill>
                    <a:srgbClr val="ff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9" name=""/>
              <p:cNvGrpSpPr/>
              <p:nvPr/>
            </p:nvGrpSpPr>
            <p:grpSpPr>
              <a:xfrm>
                <a:off x="1525680" y="2940120"/>
                <a:ext cx="787320" cy="222120"/>
                <a:chOff x="1525680" y="2940120"/>
                <a:chExt cx="787320" cy="22212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985760" y="2940120"/>
                  <a:ext cx="52200" cy="181080"/>
                </a:xfrm>
                <a:custGeom>
                  <a:avLst/>
                  <a:gdLst/>
                  <a:ahLst/>
                  <a:rect l="l" t="t" r="r" b="b"/>
                  <a:pathLst>
                    <a:path w="168" h="568">
                      <a:moveTo>
                        <a:pt x="0" y="23"/>
                      </a:moveTo>
                      <a:lnTo>
                        <a:pt x="15" y="3"/>
                      </a:lnTo>
                      <a:lnTo>
                        <a:pt x="38" y="0"/>
                      </a:lnTo>
                      <a:lnTo>
                        <a:pt x="63" y="18"/>
                      </a:lnTo>
                      <a:lnTo>
                        <a:pt x="97" y="70"/>
                      </a:lnTo>
                      <a:lnTo>
                        <a:pt x="123" y="145"/>
                      </a:lnTo>
                      <a:lnTo>
                        <a:pt x="146" y="234"/>
                      </a:lnTo>
                      <a:lnTo>
                        <a:pt x="161" y="333"/>
                      </a:lnTo>
                      <a:lnTo>
                        <a:pt x="168" y="416"/>
                      </a:lnTo>
                      <a:lnTo>
                        <a:pt x="161" y="493"/>
                      </a:lnTo>
                      <a:lnTo>
                        <a:pt x="140" y="538"/>
                      </a:lnTo>
                      <a:lnTo>
                        <a:pt x="103" y="568"/>
                      </a:lnTo>
                      <a:lnTo>
                        <a:pt x="63" y="568"/>
                      </a:lnTo>
                      <a:lnTo>
                        <a:pt x="44" y="554"/>
                      </a:lnTo>
                      <a:lnTo>
                        <a:pt x="44" y="524"/>
                      </a:lnTo>
                      <a:lnTo>
                        <a:pt x="63" y="496"/>
                      </a:lnTo>
                      <a:lnTo>
                        <a:pt x="110" y="524"/>
                      </a:lnTo>
                      <a:lnTo>
                        <a:pt x="130" y="506"/>
                      </a:lnTo>
                      <a:lnTo>
                        <a:pt x="142" y="435"/>
                      </a:lnTo>
                      <a:lnTo>
                        <a:pt x="133" y="358"/>
                      </a:lnTo>
                      <a:lnTo>
                        <a:pt x="110" y="288"/>
                      </a:lnTo>
                      <a:lnTo>
                        <a:pt x="76" y="189"/>
                      </a:lnTo>
                      <a:lnTo>
                        <a:pt x="33" y="134"/>
                      </a:lnTo>
                      <a:lnTo>
                        <a:pt x="2" y="74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1768320" y="2975040"/>
                  <a:ext cx="100080" cy="158760"/>
                </a:xfrm>
                <a:custGeom>
                  <a:avLst/>
                  <a:gdLst/>
                  <a:ahLst/>
                  <a:rect l="l" t="t" r="r" b="b"/>
                  <a:pathLst>
                    <a:path w="313" h="503">
                      <a:moveTo>
                        <a:pt x="110" y="16"/>
                      </a:moveTo>
                      <a:lnTo>
                        <a:pt x="140" y="0"/>
                      </a:lnTo>
                      <a:lnTo>
                        <a:pt x="162" y="0"/>
                      </a:lnTo>
                      <a:lnTo>
                        <a:pt x="213" y="56"/>
                      </a:lnTo>
                      <a:lnTo>
                        <a:pt x="243" y="108"/>
                      </a:lnTo>
                      <a:lnTo>
                        <a:pt x="283" y="176"/>
                      </a:lnTo>
                      <a:lnTo>
                        <a:pt x="309" y="247"/>
                      </a:lnTo>
                      <a:lnTo>
                        <a:pt x="313" y="324"/>
                      </a:lnTo>
                      <a:lnTo>
                        <a:pt x="303" y="343"/>
                      </a:lnTo>
                      <a:lnTo>
                        <a:pt x="226" y="377"/>
                      </a:lnTo>
                      <a:lnTo>
                        <a:pt x="148" y="422"/>
                      </a:lnTo>
                      <a:lnTo>
                        <a:pt x="95" y="464"/>
                      </a:lnTo>
                      <a:lnTo>
                        <a:pt x="85" y="479"/>
                      </a:lnTo>
                      <a:lnTo>
                        <a:pt x="50" y="503"/>
                      </a:lnTo>
                      <a:lnTo>
                        <a:pt x="20" y="492"/>
                      </a:lnTo>
                      <a:lnTo>
                        <a:pt x="2" y="460"/>
                      </a:lnTo>
                      <a:lnTo>
                        <a:pt x="0" y="441"/>
                      </a:lnTo>
                      <a:lnTo>
                        <a:pt x="8" y="429"/>
                      </a:lnTo>
                      <a:lnTo>
                        <a:pt x="38" y="426"/>
                      </a:lnTo>
                      <a:lnTo>
                        <a:pt x="65" y="422"/>
                      </a:lnTo>
                      <a:lnTo>
                        <a:pt x="140" y="396"/>
                      </a:lnTo>
                      <a:lnTo>
                        <a:pt x="206" y="362"/>
                      </a:lnTo>
                      <a:lnTo>
                        <a:pt x="262" y="324"/>
                      </a:lnTo>
                      <a:lnTo>
                        <a:pt x="281" y="298"/>
                      </a:lnTo>
                      <a:lnTo>
                        <a:pt x="271" y="243"/>
                      </a:lnTo>
                      <a:lnTo>
                        <a:pt x="233" y="179"/>
                      </a:lnTo>
                      <a:lnTo>
                        <a:pt x="188" y="132"/>
                      </a:lnTo>
                      <a:lnTo>
                        <a:pt x="140" y="108"/>
                      </a:lnTo>
                      <a:lnTo>
                        <a:pt x="102" y="70"/>
                      </a:lnTo>
                      <a:lnTo>
                        <a:pt x="105" y="36"/>
                      </a:lnTo>
                      <a:lnTo>
                        <a:pt x="11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1525680" y="2997360"/>
                  <a:ext cx="101520" cy="164880"/>
                </a:xfrm>
                <a:custGeom>
                  <a:avLst/>
                  <a:gdLst/>
                  <a:ahLst/>
                  <a:rect l="l" t="t" r="r" b="b"/>
                  <a:pathLst>
                    <a:path w="317" h="520">
                      <a:moveTo>
                        <a:pt x="90" y="20"/>
                      </a:moveTo>
                      <a:lnTo>
                        <a:pt x="118" y="0"/>
                      </a:lnTo>
                      <a:lnTo>
                        <a:pt x="188" y="20"/>
                      </a:lnTo>
                      <a:lnTo>
                        <a:pt x="231" y="70"/>
                      </a:lnTo>
                      <a:lnTo>
                        <a:pt x="256" y="133"/>
                      </a:lnTo>
                      <a:lnTo>
                        <a:pt x="288" y="197"/>
                      </a:lnTo>
                      <a:lnTo>
                        <a:pt x="317" y="268"/>
                      </a:lnTo>
                      <a:lnTo>
                        <a:pt x="315" y="300"/>
                      </a:lnTo>
                      <a:lnTo>
                        <a:pt x="291" y="341"/>
                      </a:lnTo>
                      <a:lnTo>
                        <a:pt x="208" y="409"/>
                      </a:lnTo>
                      <a:lnTo>
                        <a:pt x="131" y="456"/>
                      </a:lnTo>
                      <a:lnTo>
                        <a:pt x="128" y="480"/>
                      </a:lnTo>
                      <a:lnTo>
                        <a:pt x="121" y="492"/>
                      </a:lnTo>
                      <a:lnTo>
                        <a:pt x="90" y="514"/>
                      </a:lnTo>
                      <a:lnTo>
                        <a:pt x="53" y="520"/>
                      </a:lnTo>
                      <a:lnTo>
                        <a:pt x="26" y="505"/>
                      </a:lnTo>
                      <a:lnTo>
                        <a:pt x="1" y="480"/>
                      </a:lnTo>
                      <a:lnTo>
                        <a:pt x="0" y="460"/>
                      </a:lnTo>
                      <a:lnTo>
                        <a:pt x="15" y="450"/>
                      </a:lnTo>
                      <a:lnTo>
                        <a:pt x="58" y="456"/>
                      </a:lnTo>
                      <a:lnTo>
                        <a:pt x="96" y="447"/>
                      </a:lnTo>
                      <a:lnTo>
                        <a:pt x="105" y="435"/>
                      </a:lnTo>
                      <a:lnTo>
                        <a:pt x="143" y="417"/>
                      </a:lnTo>
                      <a:lnTo>
                        <a:pt x="208" y="372"/>
                      </a:lnTo>
                      <a:lnTo>
                        <a:pt x="256" y="334"/>
                      </a:lnTo>
                      <a:lnTo>
                        <a:pt x="271" y="290"/>
                      </a:lnTo>
                      <a:lnTo>
                        <a:pt x="256" y="217"/>
                      </a:lnTo>
                      <a:lnTo>
                        <a:pt x="208" y="140"/>
                      </a:lnTo>
                      <a:lnTo>
                        <a:pt x="148" y="104"/>
                      </a:lnTo>
                      <a:lnTo>
                        <a:pt x="105" y="95"/>
                      </a:lnTo>
                      <a:lnTo>
                        <a:pt x="90" y="59"/>
                      </a:lnTo>
                      <a:lnTo>
                        <a:pt x="9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2230200" y="2959200"/>
                  <a:ext cx="82440" cy="162000"/>
                </a:xfrm>
                <a:custGeom>
                  <a:avLst/>
                  <a:gdLst/>
                  <a:ahLst/>
                  <a:rect l="l" t="t" r="r" b="b"/>
                  <a:pathLst>
                    <a:path w="261" h="511">
                      <a:moveTo>
                        <a:pt x="23" y="93"/>
                      </a:moveTo>
                      <a:lnTo>
                        <a:pt x="0" y="49"/>
                      </a:lnTo>
                      <a:lnTo>
                        <a:pt x="7" y="10"/>
                      </a:lnTo>
                      <a:lnTo>
                        <a:pt x="33" y="0"/>
                      </a:lnTo>
                      <a:lnTo>
                        <a:pt x="58" y="6"/>
                      </a:lnTo>
                      <a:lnTo>
                        <a:pt x="101" y="38"/>
                      </a:lnTo>
                      <a:lnTo>
                        <a:pt x="135" y="93"/>
                      </a:lnTo>
                      <a:lnTo>
                        <a:pt x="186" y="190"/>
                      </a:lnTo>
                      <a:lnTo>
                        <a:pt x="225" y="248"/>
                      </a:lnTo>
                      <a:lnTo>
                        <a:pt x="250" y="306"/>
                      </a:lnTo>
                      <a:lnTo>
                        <a:pt x="261" y="336"/>
                      </a:lnTo>
                      <a:lnTo>
                        <a:pt x="241" y="358"/>
                      </a:lnTo>
                      <a:lnTo>
                        <a:pt x="184" y="363"/>
                      </a:lnTo>
                      <a:lnTo>
                        <a:pt x="113" y="381"/>
                      </a:lnTo>
                      <a:lnTo>
                        <a:pt x="83" y="396"/>
                      </a:lnTo>
                      <a:lnTo>
                        <a:pt x="71" y="441"/>
                      </a:lnTo>
                      <a:lnTo>
                        <a:pt x="83" y="460"/>
                      </a:lnTo>
                      <a:lnTo>
                        <a:pt x="75" y="490"/>
                      </a:lnTo>
                      <a:lnTo>
                        <a:pt x="36" y="511"/>
                      </a:lnTo>
                      <a:lnTo>
                        <a:pt x="30" y="496"/>
                      </a:lnTo>
                      <a:lnTo>
                        <a:pt x="11" y="471"/>
                      </a:lnTo>
                      <a:lnTo>
                        <a:pt x="7" y="434"/>
                      </a:lnTo>
                      <a:lnTo>
                        <a:pt x="23" y="415"/>
                      </a:lnTo>
                      <a:lnTo>
                        <a:pt x="56" y="388"/>
                      </a:lnTo>
                      <a:lnTo>
                        <a:pt x="101" y="348"/>
                      </a:lnTo>
                      <a:lnTo>
                        <a:pt x="166" y="336"/>
                      </a:lnTo>
                      <a:lnTo>
                        <a:pt x="210" y="320"/>
                      </a:lnTo>
                      <a:lnTo>
                        <a:pt x="199" y="287"/>
                      </a:lnTo>
                      <a:lnTo>
                        <a:pt x="154" y="236"/>
                      </a:lnTo>
                      <a:lnTo>
                        <a:pt x="81" y="185"/>
                      </a:lnTo>
                      <a:lnTo>
                        <a:pt x="33" y="125"/>
                      </a:lnTo>
                      <a:lnTo>
                        <a:pt x="23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838080" y="3124080"/>
              <a:ext cx="304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19720" y="3124080"/>
              <a:ext cx="3045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81280" y="2666880"/>
              <a:ext cx="609840" cy="11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DB Grant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Select Secured View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Execute Secured API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66880" y="5029200"/>
              <a:ext cx="5181840" cy="12952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19520" y="5029200"/>
              <a:ext cx="281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Database Objects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86200" y="3962520"/>
              <a:ext cx="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43800" y="3962520"/>
              <a:ext cx="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86200" y="4267080"/>
              <a:ext cx="3657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91320" y="4267080"/>
              <a:ext cx="0" cy="3049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38880" y="2666880"/>
              <a:ext cx="609840" cy="121932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38880" y="26668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Role Access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838080" y="2819520"/>
              <a:ext cx="244440" cy="215640"/>
              <a:chOff x="838080" y="2819520"/>
              <a:chExt cx="244440" cy="215640"/>
            </a:xfrm>
          </p:grpSpPr>
          <p:sp>
            <p:nvSpPr>
              <p:cNvPr id="336" name=""/>
              <p:cNvSpPr/>
              <p:nvPr/>
            </p:nvSpPr>
            <p:spPr>
              <a:xfrm>
                <a:off x="873000" y="2833920"/>
                <a:ext cx="152280" cy="15228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38080" y="2819520"/>
                <a:ext cx="24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4419720" y="2819520"/>
              <a:ext cx="244440" cy="215640"/>
              <a:chOff x="4419720" y="2819520"/>
              <a:chExt cx="244440" cy="215640"/>
            </a:xfrm>
          </p:grpSpPr>
          <p:sp>
            <p:nvSpPr>
              <p:cNvPr id="339" name=""/>
              <p:cNvSpPr/>
              <p:nvPr/>
            </p:nvSpPr>
            <p:spPr>
              <a:xfrm>
                <a:off x="4454640" y="2843280"/>
                <a:ext cx="152280" cy="15228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19720" y="2819520"/>
                <a:ext cx="24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486400" y="4343400"/>
              <a:ext cx="244440" cy="215640"/>
              <a:chOff x="5486400" y="4343400"/>
              <a:chExt cx="244440" cy="215640"/>
            </a:xfrm>
          </p:grpSpPr>
          <p:sp>
            <p:nvSpPr>
              <p:cNvPr id="342" name=""/>
              <p:cNvSpPr/>
              <p:nvPr/>
            </p:nvSpPr>
            <p:spPr>
              <a:xfrm>
                <a:off x="5511600" y="4366800"/>
                <a:ext cx="152640" cy="152280"/>
              </a:xfrm>
              <a:prstGeom prst="ellipse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86400" y="4343400"/>
                <a:ext cx="24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2666880" y="4648320"/>
              <a:ext cx="5181840" cy="380880"/>
            </a:xfrm>
            <a:prstGeom prst="rect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43200" y="4648320"/>
              <a:ext cx="50292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Application Security Enforcement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Views – Virtual Private Database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	</a:t>
              </a:r>
              <a:r>
                <a:rPr b="0" lang="en-US" sz="800" spc="-1" strike="noStrike">
                  <a:solidFill>
                    <a:srgbClr val="003366"/>
                  </a:solidFill>
                  <a:latin typeface="Arial"/>
                </a:rPr>
                <a:t>APIs – Explicit Code Based Security Check</a:t>
              </a:r>
              <a:endParaRPr b="0" lang="en-US" sz="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Directions - Business Intelligenc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 business logic is stored in metadata at the databas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entraliz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igh reusabil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une once, use man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 business logic is used across delivery medium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Data Extraction/Delive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On-line SQ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ture: Data Warehouse ET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imarily users query the database with Cognos, through the BI lay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ower users will be able to use T.O.A.D., SQL*Plus, or other tool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Directions - Featur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ulfilled protocol requirem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cludes all intra-day transacti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Provided access to historical inform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oint-in-Time, standardized views, centralized logic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tabilized, reliable, certified inform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tandardized approach for future source system inclus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ighly secured through user profiles (object and row level security capabilities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Multiple layers for targeted/distributed workloa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tandardized compon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rror Trapp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lert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uditing/Monitor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erformance Metric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PIs for all D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iews for all access to dat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onsistent and complete document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etter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operational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system (feedback and maintenanc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914400" y="23623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e module built to support many applica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tandardizing approach for extraction of information from the databa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lexible component driven method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ata Delivery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371600" y="2819520"/>
            <a:ext cx="2895480" cy="12189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71600" y="281952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OD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9920" y="2819520"/>
            <a:ext cx="1257120" cy="12189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019920" y="2819520"/>
            <a:ext cx="12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Extrac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2819520"/>
            <a:ext cx="121932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2819520"/>
            <a:ext cx="12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D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3429000"/>
            <a:ext cx="533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52680" y="4876920"/>
            <a:ext cx="21337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352680" y="487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DD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4876920"/>
            <a:ext cx="1371600" cy="3045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14800" y="5181480"/>
            <a:ext cx="1371600" cy="3049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114800" y="5486400"/>
            <a:ext cx="1371600" cy="3049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5791320"/>
            <a:ext cx="1371600" cy="3045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4876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CSV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191120" y="5181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91120" y="54864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FTP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191120" y="57913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ZIP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6095880"/>
            <a:ext cx="1371600" cy="3049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191120" y="60958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4876920"/>
            <a:ext cx="1143000" cy="15238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71600" y="4876920"/>
            <a:ext cx="125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OD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BI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90920" y="5638680"/>
            <a:ext cx="7617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ata Delivery – Extract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tracts use business logic centrally stored in the ODS and CDW environm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usiness logic has integrated point-in-time, as of, reporting abilities built-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usiness logic is available and on-demand to ERCOT representativ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Versioning of underlying business logic can change over time, allowing the ability to reproduce data, as it was extracted in the pas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ngle DDM accepts raw data from the extraction views/process in order to create a physical fi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apid development cycle concentrating on business logic and requireme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plete end-to-end auditabili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ata Delivery – Auditability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apture opt-in information with historical state storag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apture what extracts were produced, when, and for what participan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apture the output style selec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apture the output file inform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apture the state of the extract, as delivered to the ERCOT Porta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bility to reproduce information, as delivered, at any point-in-ti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bility to generate current state of a participant’s system**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apture information about access to the information by participants**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*Not currently in scop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uture Possibiliti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 items are currently under consideration, but ERCOT is still very early in the process of determining what best practices we wish to follow for these future enhancements and capabil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RCOT is determined to work with internal business owners, participants, and the PUCT in order to deliver to promis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uture Possibilities – Extracts/Reporting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itional audit capabilities are possible in the very near future, providing a potential method to validate participant’s data and re-synchronize external system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usiness intelligence static reporting solution, with the ability to schedule reports, be alerted when completed, and access onlin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usiness intelligence ad-hoc reporting, with a web-based interface to allow secured access to ERCOT dat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ata warehouse reporting, data mining, analytical process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uture Possibilities – API Interact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pening systems through a secured application programming interfa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Java, J2E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XML communication channel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JMS interaction with backend data bu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ata Warehousing Visio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xisting System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Business Intellig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Limit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New Direc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Business Intellig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Featur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ata Deliver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Extrac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uditabil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New Delive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uture Possibilit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Report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API Interac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Web Services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uture Possibilities – Web Serv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ured web services to OD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ured web services to Data Warehous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ured web services to reporting toolse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DW Schedul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1 – EMMS Replicated Source System – Oct 200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2 – Data Delivery Module – Sep 200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3 – Application Foundation, Phase 1 – Nov 2004**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4 – Lodestar Operational Data Store – Aug 2004 (Oct Rollout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5 – Business Intelligence Foundation, Phase 1 – Dec 200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6 – Lodestar Batch Extracts – Nov 200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0042_07 – EMMS Operational Data Store – Dec 2004 /Jan 200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ny projects are under budget review and prioritization planning for 200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**Multiple rollouts available up to dat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pen Discuss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ank you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ment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ata Warehousing Vis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vide best-in-class, centric, flexible, reliable, and comple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cision support and business intelligence syste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ERCOT, Participants, and the PUC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xisting System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523880" y="2590920"/>
            <a:ext cx="6858000" cy="3886200"/>
            <a:chOff x="1523880" y="2590920"/>
            <a:chExt cx="6858000" cy="3886200"/>
          </a:xfrm>
        </p:grpSpPr>
        <p:sp>
          <p:nvSpPr>
            <p:cNvPr id="106" name=""/>
            <p:cNvSpPr/>
            <p:nvPr/>
          </p:nvSpPr>
          <p:spPr>
            <a:xfrm>
              <a:off x="1523880" y="2590920"/>
              <a:ext cx="125712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3880" y="2590920"/>
              <a:ext cx="125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Source Systems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828440" y="3276360"/>
              <a:ext cx="609480" cy="342720"/>
              <a:chOff x="1828440" y="3276360"/>
              <a:chExt cx="609480" cy="342720"/>
            </a:xfrm>
          </p:grpSpPr>
          <p:sp>
            <p:nvSpPr>
              <p:cNvPr id="109" name=""/>
              <p:cNvSpPr/>
              <p:nvPr/>
            </p:nvSpPr>
            <p:spPr>
              <a:xfrm>
                <a:off x="1828440" y="327636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828440" y="327636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Lodestar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828440" y="3733920"/>
              <a:ext cx="609480" cy="342720"/>
              <a:chOff x="1828440" y="3733920"/>
              <a:chExt cx="609480" cy="342720"/>
            </a:xfrm>
          </p:grpSpPr>
          <p:sp>
            <p:nvSpPr>
              <p:cNvPr id="112" name=""/>
              <p:cNvSpPr/>
              <p:nvPr/>
            </p:nvSpPr>
            <p:spPr>
              <a:xfrm>
                <a:off x="1828440" y="373392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28440" y="373392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EMMS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1828440" y="4191120"/>
              <a:ext cx="609480" cy="342720"/>
              <a:chOff x="1828440" y="4191120"/>
              <a:chExt cx="609480" cy="342720"/>
            </a:xfrm>
          </p:grpSpPr>
          <p:sp>
            <p:nvSpPr>
              <p:cNvPr id="115" name=""/>
              <p:cNvSpPr/>
              <p:nvPr/>
            </p:nvSpPr>
            <p:spPr>
              <a:xfrm>
                <a:off x="1828440" y="419112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828440" y="419112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Siebel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1828440" y="4648320"/>
              <a:ext cx="609480" cy="342720"/>
              <a:chOff x="1828440" y="4648320"/>
              <a:chExt cx="609480" cy="342720"/>
            </a:xfrm>
          </p:grpSpPr>
          <p:sp>
            <p:nvSpPr>
              <p:cNvPr id="118" name=""/>
              <p:cNvSpPr/>
              <p:nvPr/>
            </p:nvSpPr>
            <p:spPr>
              <a:xfrm>
                <a:off x="1828440" y="464832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28440" y="464832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EAI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267080" y="2590920"/>
              <a:ext cx="125712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67080" y="2590920"/>
              <a:ext cx="12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Data Archiv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24760" y="2590920"/>
              <a:ext cx="125712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590920"/>
              <a:ext cx="125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Data Warehous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38280" y="3505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9625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44197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38280" y="48769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09600" y="4076640"/>
              <a:ext cx="1028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ETL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24560" y="4076640"/>
              <a:ext cx="159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67280" y="384804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ETL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7080" y="5562720"/>
              <a:ext cx="1257120" cy="9144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67080" y="5562720"/>
              <a:ext cx="12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Extraction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38400" y="5105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95680" y="5219640"/>
              <a:ext cx="1028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"/>
                </a:rPr>
                <a:t>ETL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Existing Systems - Architectur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 databases are Orac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napshot based replication using ET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TL tool is currently Informatic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Existing Systems - Business Intelligence (BI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st information is generated/delivered through ETL process and Per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 business logic is imbedded in ETL too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sers query the database with T.O.A.D., SQL*Plus, or other tool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cent activity to rollout proper BI layer as part of EDW direc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evious use of DW through Cognos (Impromptu, Cubes, etc.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l business logic embedded in repor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3623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ccess to historical information not optimiz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ll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toolset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business logic imbedded in toolset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ata inconsistencies noted throughout existence, based on snapshot limita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 point-in-time selectivity capabilit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No way to rebuild 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of syste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No way to rebuild extracts historicall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naccurate results from queri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onsistent standard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oding, Testing, Documentation, Security, Structures, Reporting, Process, et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intra-day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transac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consistent document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Existing Systems - Limitation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Direction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333440" y="2743200"/>
            <a:ext cx="6858000" cy="3429000"/>
            <a:chOff x="1333440" y="2743200"/>
            <a:chExt cx="6858000" cy="3429000"/>
          </a:xfrm>
        </p:grpSpPr>
        <p:sp>
          <p:nvSpPr>
            <p:cNvPr id="147" name=""/>
            <p:cNvSpPr/>
            <p:nvPr/>
          </p:nvSpPr>
          <p:spPr>
            <a:xfrm>
              <a:off x="1333440" y="2743200"/>
              <a:ext cx="125748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33440" y="2743200"/>
              <a:ext cx="1257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Source Systems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638360" y="3314880"/>
              <a:ext cx="609480" cy="342720"/>
              <a:chOff x="1638360" y="3314880"/>
              <a:chExt cx="609480" cy="342720"/>
            </a:xfrm>
          </p:grpSpPr>
          <p:sp>
            <p:nvSpPr>
              <p:cNvPr id="150" name=""/>
              <p:cNvSpPr/>
              <p:nvPr/>
            </p:nvSpPr>
            <p:spPr>
              <a:xfrm>
                <a:off x="1638360" y="331488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638360" y="331488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Lodestar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1638360" y="3772080"/>
              <a:ext cx="609480" cy="342720"/>
              <a:chOff x="1638360" y="3772080"/>
              <a:chExt cx="609480" cy="342720"/>
            </a:xfrm>
          </p:grpSpPr>
          <p:sp>
            <p:nvSpPr>
              <p:cNvPr id="153" name=""/>
              <p:cNvSpPr/>
              <p:nvPr/>
            </p:nvSpPr>
            <p:spPr>
              <a:xfrm>
                <a:off x="1638360" y="377208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38360" y="377208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EMMS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638360" y="4229280"/>
              <a:ext cx="609480" cy="342720"/>
              <a:chOff x="1638360" y="4229280"/>
              <a:chExt cx="609480" cy="342720"/>
            </a:xfrm>
          </p:grpSpPr>
          <p:sp>
            <p:nvSpPr>
              <p:cNvPr id="156" name=""/>
              <p:cNvSpPr/>
              <p:nvPr/>
            </p:nvSpPr>
            <p:spPr>
              <a:xfrm>
                <a:off x="1638360" y="422928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38360" y="422928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Siebel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638360" y="4686480"/>
              <a:ext cx="609480" cy="342720"/>
              <a:chOff x="1638360" y="4686480"/>
              <a:chExt cx="609480" cy="342720"/>
            </a:xfrm>
          </p:grpSpPr>
          <p:sp>
            <p:nvSpPr>
              <p:cNvPr id="159" name=""/>
              <p:cNvSpPr/>
              <p:nvPr/>
            </p:nvSpPr>
            <p:spPr>
              <a:xfrm>
                <a:off x="1638360" y="4686480"/>
                <a:ext cx="60948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638360" y="4686480"/>
                <a:ext cx="60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EAI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4991040" y="2743200"/>
              <a:ext cx="125748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91040" y="2743200"/>
              <a:ext cx="12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ODS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34320" y="2743200"/>
              <a:ext cx="125712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34320" y="2743200"/>
              <a:ext cx="125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Data Warehous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4229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62640" y="400068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66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91040" y="5600880"/>
              <a:ext cx="1257480" cy="57132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91040" y="5600880"/>
              <a:ext cx="12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Extraction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91040" y="4915080"/>
              <a:ext cx="1257480" cy="34272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1040" y="4915080"/>
              <a:ext cx="12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DDM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62720" y="525780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8120" y="2743200"/>
              <a:ext cx="1257120" cy="251460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48120" y="2743200"/>
              <a:ext cx="125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RSS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47840" y="34290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47840" y="38862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47840" y="4343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47840" y="48006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352680" y="3314880"/>
              <a:ext cx="609840" cy="342720"/>
              <a:chOff x="3352680" y="3314880"/>
              <a:chExt cx="609840" cy="342720"/>
            </a:xfrm>
          </p:grpSpPr>
          <p:sp>
            <p:nvSpPr>
              <p:cNvPr id="179" name=""/>
              <p:cNvSpPr/>
              <p:nvPr/>
            </p:nvSpPr>
            <p:spPr>
              <a:xfrm>
                <a:off x="3352680" y="3314880"/>
                <a:ext cx="60984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2680" y="3314880"/>
                <a:ext cx="60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Lodestar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352680" y="3772080"/>
              <a:ext cx="609840" cy="342720"/>
              <a:chOff x="3352680" y="3772080"/>
              <a:chExt cx="609840" cy="342720"/>
            </a:xfrm>
          </p:grpSpPr>
          <p:sp>
            <p:nvSpPr>
              <p:cNvPr id="182" name=""/>
              <p:cNvSpPr/>
              <p:nvPr/>
            </p:nvSpPr>
            <p:spPr>
              <a:xfrm>
                <a:off x="3352680" y="3772080"/>
                <a:ext cx="60984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52680" y="3772080"/>
                <a:ext cx="60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EMMS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352680" y="4229280"/>
              <a:ext cx="609840" cy="342720"/>
              <a:chOff x="3352680" y="4229280"/>
              <a:chExt cx="609840" cy="342720"/>
            </a:xfrm>
          </p:grpSpPr>
          <p:sp>
            <p:nvSpPr>
              <p:cNvPr id="185" name=""/>
              <p:cNvSpPr/>
              <p:nvPr/>
            </p:nvSpPr>
            <p:spPr>
              <a:xfrm>
                <a:off x="3352680" y="4229280"/>
                <a:ext cx="60984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52680" y="4229280"/>
                <a:ext cx="60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Siebel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352680" y="4686480"/>
              <a:ext cx="609840" cy="342720"/>
              <a:chOff x="3352680" y="4686480"/>
              <a:chExt cx="609840" cy="342720"/>
            </a:xfrm>
          </p:grpSpPr>
          <p:sp>
            <p:nvSpPr>
              <p:cNvPr id="188" name=""/>
              <p:cNvSpPr/>
              <p:nvPr/>
            </p:nvSpPr>
            <p:spPr>
              <a:xfrm>
                <a:off x="3352680" y="4686480"/>
                <a:ext cx="609840" cy="34272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52680" y="4686480"/>
                <a:ext cx="609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3366"/>
                    </a:solidFill>
                    <a:latin typeface="Arial"/>
                  </a:rPr>
                  <a:t>EAI</a:t>
                </a:r>
                <a:endParaRPr b="0" lang="en-US" sz="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3962520" y="342900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62520" y="388620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62520" y="434340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62520" y="4800600"/>
              <a:ext cx="102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819520" y="4876920"/>
            <a:ext cx="0" cy="685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4876920"/>
            <a:ext cx="0" cy="685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5562720"/>
            <a:ext cx="18288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5640" y="5410080"/>
            <a:ext cx="886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arePlex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819440" y="3174840"/>
            <a:ext cx="2057400" cy="1943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Application Securit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3429000"/>
            <a:ext cx="1581120" cy="1434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perational Data Store (OD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w Directions Cont.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3429000"/>
            <a:ext cx="158112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API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4611600"/>
            <a:ext cx="158112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View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7480" y="4603680"/>
            <a:ext cx="59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"/>
              </a:rPr>
              <a:t>API</a:t>
            </a: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"/>
              </a:rPr>
              <a:t>Ref Cursor</a:t>
            </a:r>
            <a:endParaRPr b="0" lang="en-US" sz="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62440" y="270504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-Boun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7960" y="4762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390760" y="544824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ut-Boun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2933640"/>
            <a:ext cx="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14920" y="3174840"/>
            <a:ext cx="2057400" cy="1943280"/>
          </a:xfrm>
          <a:prstGeom prst="rect">
            <a:avLst/>
          </a:prstGeom>
          <a:solidFill>
            <a:srgbClr val="99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Application Securit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1581120" cy="1434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formed Data Warehouse (CDW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52880" y="3429000"/>
            <a:ext cx="158112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API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4611600"/>
            <a:ext cx="1581120" cy="2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View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952960" y="4603680"/>
            <a:ext cx="59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"/>
              </a:rPr>
              <a:t>API</a:t>
            </a: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66"/>
                </a:solidFill>
                <a:latin typeface="Arial"/>
              </a:rPr>
              <a:t>Ref Cursor</a:t>
            </a:r>
            <a:endParaRPr b="0" lang="en-US" sz="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57920" y="270504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n-Boun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43440" y="4762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86240" y="544824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ut-Boun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15120" y="2933640"/>
            <a:ext cx="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4724280"/>
            <a:ext cx="6094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267080" y="3580920"/>
            <a:ext cx="0" cy="1143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581280"/>
            <a:ext cx="6858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20:23:20Z</dcterms:created>
  <dc:creator>syedavalli</dc:creator>
  <dc:description/>
  <dc:language>en-US</dc:language>
  <cp:lastModifiedBy>JLavas</cp:lastModifiedBy>
  <dcterms:modified xsi:type="dcterms:W3CDTF">2004-10-05T17:09:55Z</dcterms:modified>
  <cp:revision>57</cp:revision>
  <dc:subject/>
  <dc:title>ODS Source Schema Standards</dc:title>
</cp:coreProperties>
</file>