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CC99-DAD9-4C42-B741-B0316A70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62A-6B3A-4DCC-83EE-38C77477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64A8-0B7A-43D5-B31A-78917D40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3E72-B387-47C1-9C55-769C6F60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C3D1-B2EB-483D-B823-9C29A619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D9B9-4AEA-45AC-B99B-36E6B668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D322-D84F-42A0-BC5B-0BEF906C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AEC0-421A-4206-89CE-3356D75B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24AA-2158-40BB-9638-E18D692F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26FC-CC55-47C6-9776-E9E1F78C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4A7F-9BAD-42FA-A89D-9E215F33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881D-94D0-4F13-81C2-E9CEBB48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5041-4D3E-4754-985F-CA2B2824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E2DA-C5EB-4759-A9C7-8C1663F0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D5CB-0175-438A-9D56-72053310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6BB4-F957-42E9-81EA-8E898C92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F358-BE26-42F3-A167-7A2ACF3E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CAF6-7378-435B-A960-5FE83440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BA04-D265-4154-BF19-E19A8819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9D08-53B5-4877-8E51-005F871B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B6C3-0394-4B44-B2E8-03C77637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6271-64E1-4076-9D61-68E31ADF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578A-A3AB-49F6-93A5-28950450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3EA-1FE7-4B2F-BBD8-295DBFED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ECEF-B577-42FD-80F0-FA4064AC04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99E8-2875-401B-936F-E56E91DF79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CMWG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MWG has completed their data collection and evaluation of conges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Based on this evaluation WMS recommends that the same CSCs with the addition of a N to W CSC using the same elements as the W to N CSC and the same number of zones that exist in 2004 for 2005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PRR 476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Ramp Rate During Local Conges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AC remanded the PRR back to WMS to evaluate methods of implement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WMS determined that under the current design there is no real fix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RCOT indicated the only real fix is unit specific bidding and unit specific deploymen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RCOT commented that the current system is very complex due to the “fixes” to date and there are currently unintended consequenc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WMS has asked ERCOT to step in from an operations view point and assemble a concise list of issues and gap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Based on these complexities, WMS agrees there is no easy method of implementation and would like guidance from TAC on next step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Proposed Mo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AC recommends that, with the addition of a N to W CSC using the same elements as the current W to N CSC, the same CSCs and number of zones that currently exist for 2004 be approved for 2005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7619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ADA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9/03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Last day for bidders to submit RFP question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9/10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Bidders Submit Proposals (no extensions, no exceptions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9/17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eam Meeting (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CLOSED TO TEAM MEMBER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9:30 to 2:00  (Austin Met Center, Room 168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dentify Bidder short lis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iscuss Bidder proposal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evelop questions for Bidder Presentation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9/27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Bidder Presentations (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OPEN MEETING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8:30 to 5:00  Austin Met Cente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General Presentations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Room 206A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Technical Discussions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Room 206B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9/28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eam Meeting (</a:t>
            </a: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CLOSED TO MEMBERS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) 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8:30 to 12:00 (AmeriSuites near ERCOT Austin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iscuss presentat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rced ranking within each criteri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commend bidd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10/1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eam Meeting  (if needed)  (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CLOSED TO TEAM MEMBER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) 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9:30 to 2:00 (Austin – Room 168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ontinue forced ranking within each criteria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Recommend bidde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10/4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Final selection (ERCOT begins contract negotiations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10/19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RCOT Board Meeting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11/1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mplementation begin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DEWG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WMS approved the DEWG Charte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WMS recommends that the DEWG be moved under the COPS  and that the DEWG become part of the COPS charter when approved by TAC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2005 AS Methodolog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RCOT Operations submitted the methodology for AS procuremen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e methodology contains a marked increase in the amount of regulation procured for 0600 and 2200 period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s is necessary due to frequency is deviating faster than ERCOT can deploy under the calculated ramp rat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WMS had a lengthy discussion on the cause of needing this additional regul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WMS recommended that ERCOT continue to procure the amounts they feel is necessary on a case by case basis and not make this a part of ERCOT policy until WMS can evaluation the causes and potential alternativ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RCOT was willing to postpone taking this to TAC until the Oct. Meeting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01:57:05Z</dcterms:created>
  <dc:creator>BHELTON</dc:creator>
  <dc:description/>
  <dc:language>en-US</dc:language>
  <cp:lastModifiedBy>Bob Helton</cp:lastModifiedBy>
  <dcterms:modified xsi:type="dcterms:W3CDTF">2004-09-02T00:12:54Z</dcterms:modified>
  <cp:revision>12</cp:revision>
  <dc:subject/>
  <dc:title>WMS UP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58749459</vt:r8>
  </property>
  <property fmtid="{D5CDD505-2E9C-101B-9397-08002B2CF9AE}" pid="3" name="_AuthorEmail">
    <vt:lpwstr>BHELTON@anpower.com</vt:lpwstr>
  </property>
  <property fmtid="{D5CDD505-2E9C-101B-9397-08002B2CF9AE}" pid="4" name="_AuthorEmailDisplayName">
    <vt:lpwstr>Helton, Bob</vt:lpwstr>
  </property>
  <property fmtid="{D5CDD505-2E9C-101B-9397-08002B2CF9AE}" pid="5" name="_EmailSubject">
    <vt:lpwstr>Draft September 9, 2004 TAC Meeting Agenda</vt:lpwstr>
  </property>
</Properties>
</file>