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88A5C-9750-4FE3-8843-77C8838A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52025-40D9-47D1-8E19-78C38A418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2CFBF-E8B6-475B-A823-6E8A8D32A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731EB-0680-4435-A046-D16FBCC13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90B26-7071-4455-9B41-989126B0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FC62-2124-4D1A-BF49-3FBF28BD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319F-1B82-42A4-BDAD-78E05ABF9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46A0D-1B0F-4C3C-95C7-9B525DBF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7AAA-4F5C-456F-86CB-DEDEFCBC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7EF5-F027-4DC1-81D3-76596FCFD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DB074-09D6-436A-BF1B-AA899DEA7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F26B-E754-4B58-962A-A0110E1DC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1224-3708-4BB0-8913-2B88B3E5E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Working Group</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ptember 9,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6" name=""/>
          <p:cNvSpPr/>
          <p:nvPr/>
        </p:nvSpPr>
        <p:spPr>
          <a:xfrm>
            <a:off x="457200" y="1447920"/>
            <a:ext cx="8381880" cy="4863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FE - COPS and RMS will co-host a UFE work session Sept 14.  The intent for this work session will be to discuss UFE operational aspects, brain storm ideas about UFE and level set the attendees on the basics behind UFE calculation in today’s settlement.</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view of Protocols Section 9 – Settlement and Billing.  Cops began this review with an initial conference call.  A revised redline has been issued by DeAnn Walker and the next conference call will be Friday September 10 – please watch the COPS distribution for dates.</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Distribution Lists - A list of all the “ERCOT Distribution Lists” has been sent out for revie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8" name=""/>
          <p:cNvSpPr/>
          <p:nvPr/>
        </p:nvSpPr>
        <p:spPr>
          <a:xfrm>
            <a:off x="380880" y="1523880"/>
            <a:ext cx="8382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Sub-Committee Process:  Initial review by COPS would point toward a PRS voting structure.  </a:t>
            </a:r>
            <a:endParaRPr b="0" lang="en-US" sz="2400" spc="-1" strike="noStrike">
              <a:solidFill>
                <a:srgbClr val="000000"/>
              </a:solidFill>
              <a:latin typeface="Times New Roman"/>
            </a:endParaRPr>
          </a:p>
          <a:p>
            <a:pPr lvl="2" marL="9144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uggested procedures will be voted at next meeting</a:t>
            </a:r>
            <a:endParaRPr b="0" lang="en-US" sz="2400" spc="-1" strike="noStrike">
              <a:solidFill>
                <a:srgbClr val="000000"/>
              </a:solidFill>
              <a:latin typeface="Times New Roman"/>
            </a:endParaRPr>
          </a:p>
          <a:p>
            <a:pPr lvl="2" marL="9144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had MP representation from all segments except Consu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MA4</cp:lastModifiedBy>
  <dcterms:modified xsi:type="dcterms:W3CDTF">2004-09-02T19:09:55Z</dcterms:modified>
  <cp:revision>90</cp:revision>
  <dc:subject/>
  <dc:title>Point-to-Point</dc:title>
</cp:coreProperties>
</file>