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34A-65F8-40CC-B7C1-1CCA9DDA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D156-72B1-4E2D-A465-B6A94C4F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8EF6-0B0D-4611-BFA1-89089935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B14-5353-4F2D-9497-1E5C3819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063-9A20-45B4-B203-1994EE64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6811-9B9E-46C0-A212-1886CB59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F593-223F-478B-8CB0-4303A82E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677-2A99-43D9-A95E-BCCB4CB0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97A3-A676-4D7A-B06F-42A79D09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FA34-5854-48D5-BA69-E7F6CE43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4E31-B727-446E-83BD-32F3F1A8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086-5DD3-437E-9044-6005F059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6FCD-7D02-488F-9EDA-45BF331A47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Protocol Revision </a:t>
            </a:r>
            <a:br>
              <a:rPr sz="5400"/>
            </a:b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Subcommitte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esentation to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ptember 9,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09 – Initiation, Procedure, and Settlement of Disputes through AD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ovides 15 day response time for request for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ovides for treatment of Protected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ovides for  methods of deli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quires written agreement of re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stablishes procedures for adjustments to MP accou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stablishes procedures for pay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09 – Initiation, Procedure, and Settlement of Disputes through AD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inor impacts to ERCOT budget, staffing, computer systems and business functions; no impact to operations, no credit im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October 1,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18 – Clarification of Requirements Relating to Retail Transac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write of Section 15 addressing retail transactions to clarify deadlines, Market Participant requirements and improve read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dds new definitions to Section 2 for Retail Business Day, CR of Record and Safety-Net Move-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dds new point-to-point transactions to Section 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18 – Clarification of Requirements Relating to Retail Transac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impact on ERCOT budget, staffing, business functions or operations; minimal computer system impact; no credit im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October 1,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22 – Collateral Requirements &amp; Credit Chang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manded to PRS from TAC to resolve three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reditworthiness test for new entr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solved by limiting ERCOT to investigate QSE applicant bill payments in other markets only if it believes the applicant is failing to comp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ffiliate reporting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arified the information required to be provided to ERC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consider additional collateral requirement attributable to payment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 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22 – Collateral Requirements &amp; Credit Chang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o ERCOT imp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ffective October 1,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commendation vote included abstentions from 3 se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28 – Deadline for Filing ADR Claim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mpanion PRR to PRR 509 (Section 20 Rewri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mends ADR filing deadline for denied disputes from 30 to 45 d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o impact to ERCOT budget, staffing, computer systems, business functions and operations; no credit im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ffective October 1,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34 – Temporary Modifications to Annual Load Profile ID Assignment  and Validation Proces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rgent Status Reques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serts language allowing the Board to suspend the annual requirement in the existing Protoc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o impact to ERCOT budget, staffing, computer systems, business functions or operations; no credit im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ffective upon Board appro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37 – Increased Congestion Management Flexibili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rgent Status Requ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R allows ERCOT to issue OOMC instructions where, to solve a constraint, ERCOT would otherwise move a unit with a shift factor equal to or less than 5% or the total of unit-specific deployments exceeds 1K M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udget impact, no impact on staffing, some impact on business functions and operations; no credit im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ffective October 1,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30 – Short Pay Uplift to LS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S recommends re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would require the uplift of short payments to load on a more timely b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RS 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7 PRRs for Appro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 PRR for Re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ystem Project Priorit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50680" y="228600"/>
            <a:ext cx="56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commended TAC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3480" y="1060560"/>
            <a:ext cx="8037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rgent Sta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34 (Urgent Status &amp; Annual Profile Valid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37 (Increased Congestion Management Flexibil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prov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409 (Voltage Support Servi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09 (ADR Section Rewri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18 (Retail Transaction Requirem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22 (Collateral Requirements/Credit Chang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28 (ADR Filing Deadlin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34 (Urgent Status &amp; Annual Profile Valid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37 (Increased Congestion Management Flexibil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ffirm Rej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30 (Short-Pay Uplift to LS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System Prioritiz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1295280"/>
            <a:ext cx="883944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Rs, SCRs, System, Facility &amp; PUC Improvement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2743200"/>
            <a:ext cx="1214640" cy="914400"/>
          </a:xfrm>
          <a:custGeom>
            <a:avLst/>
            <a:gdLst>
              <a:gd name="textAreaLeft" fmla="*/ 267120 w 1214640"/>
              <a:gd name="textAreaRight" fmla="*/ 947520 w 121464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74320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9520" y="274320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U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343400"/>
            <a:ext cx="693396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ioritization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5715000"/>
            <a:ext cx="739152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iority Assignments for ERCOT Budget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5043600"/>
            <a:ext cx="485640" cy="595080"/>
          </a:xfrm>
          <a:prstGeom prst="downArrow">
            <a:avLst>
              <a:gd name="adj1" fmla="val 50000"/>
              <a:gd name="adj2" fmla="val 3063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485640" cy="595080"/>
          </a:xfrm>
          <a:prstGeom prst="downArrow">
            <a:avLst>
              <a:gd name="adj1" fmla="val 50000"/>
              <a:gd name="adj2" fmla="val 3063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3733920"/>
            <a:ext cx="485640" cy="595080"/>
          </a:xfrm>
          <a:prstGeom prst="downArrow">
            <a:avLst>
              <a:gd name="adj1" fmla="val 50000"/>
              <a:gd name="adj2" fmla="val 3063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76920" y="3733920"/>
            <a:ext cx="486000" cy="595080"/>
          </a:xfrm>
          <a:prstGeom prst="downArrow">
            <a:avLst>
              <a:gd name="adj1" fmla="val 50000"/>
              <a:gd name="adj2" fmla="val 3061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57400"/>
            <a:ext cx="485640" cy="595440"/>
          </a:xfrm>
          <a:prstGeom prst="downArrow">
            <a:avLst>
              <a:gd name="adj1" fmla="val 50000"/>
              <a:gd name="adj2" fmla="val 3065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76920" y="2057400"/>
            <a:ext cx="486000" cy="595440"/>
          </a:xfrm>
          <a:prstGeom prst="downArrow">
            <a:avLst>
              <a:gd name="adj1" fmla="val 50000"/>
              <a:gd name="adj2" fmla="val 3063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86360" y="2057400"/>
            <a:ext cx="485640" cy="595440"/>
          </a:xfrm>
          <a:prstGeom prst="downArrow">
            <a:avLst>
              <a:gd name="adj1" fmla="val 50000"/>
              <a:gd name="adj2" fmla="val 3065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rioritization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14300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14300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81800" y="114300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U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743200"/>
            <a:ext cx="358128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ternal Review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739116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S Assignment of System Prior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3443400"/>
            <a:ext cx="486000" cy="595080"/>
          </a:xfrm>
          <a:prstGeom prst="downArrow">
            <a:avLst>
              <a:gd name="adj1" fmla="val 50000"/>
              <a:gd name="adj2" fmla="val 3061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2133720"/>
            <a:ext cx="485640" cy="1904760"/>
          </a:xfrm>
          <a:prstGeom prst="downArrow">
            <a:avLst>
              <a:gd name="adj1" fmla="val 50000"/>
              <a:gd name="adj2" fmla="val 980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2133720"/>
            <a:ext cx="486000" cy="595080"/>
          </a:xfrm>
          <a:prstGeom prst="downArrow">
            <a:avLst>
              <a:gd name="adj1" fmla="val 50000"/>
              <a:gd name="adj2" fmla="val 3061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29560" y="2133720"/>
            <a:ext cx="485640" cy="1904760"/>
          </a:xfrm>
          <a:prstGeom prst="downArrow">
            <a:avLst>
              <a:gd name="adj1" fmla="val 50000"/>
              <a:gd name="adj2" fmla="val 980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5562720"/>
            <a:ext cx="739116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AC Review &amp; Approval of System Prior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4800600"/>
            <a:ext cx="486000" cy="595440"/>
          </a:xfrm>
          <a:prstGeom prst="downArrow">
            <a:avLst>
              <a:gd name="adj1" fmla="val 50000"/>
              <a:gd name="adj2" fmla="val 3063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riority Assign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523880"/>
            <a:ext cx="129528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1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1523880"/>
            <a:ext cx="411480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.1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.2 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.3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1523880"/>
            <a:ext cx="129528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3276720"/>
            <a:ext cx="1295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2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3276720"/>
            <a:ext cx="41148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.1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.2 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.3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3276720"/>
            <a:ext cx="1295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5181480"/>
            <a:ext cx="129528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3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5181480"/>
            <a:ext cx="411480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.1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.2 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.3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5181480"/>
            <a:ext cx="129528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The Project Stac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523880"/>
            <a:ext cx="129528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1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1523880"/>
            <a:ext cx="411480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1523880"/>
            <a:ext cx="129528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3276720"/>
            <a:ext cx="1295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2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3276720"/>
            <a:ext cx="41148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3276720"/>
            <a:ext cx="1295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5181480"/>
            <a:ext cx="129528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3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5181480"/>
            <a:ext cx="411480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5181480"/>
            <a:ext cx="129528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riorities For 200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523880"/>
            <a:ext cx="129528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1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1523880"/>
            <a:ext cx="411480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  (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 (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 (6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1523880"/>
            <a:ext cx="129528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3276720"/>
            <a:ext cx="1295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2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3276720"/>
            <a:ext cx="41148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  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 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 (4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3276720"/>
            <a:ext cx="1295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5181480"/>
            <a:ext cx="129528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3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5181480"/>
            <a:ext cx="411480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  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 (1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 (2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5181480"/>
            <a:ext cx="129528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895480"/>
            <a:ext cx="2743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2895480"/>
            <a:ext cx="2743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96520" y="27036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jected  Cut 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System Prioritiz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S recommends TAC approval of 2005 prior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S will continue to update the list as new PRRs/SCRs are appro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409 – Voltage Support Servi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R originated from Generator Reactive Compensation T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xisting Protocols recognized this issue would be addressed at a later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R maintains +/- .95 power factor envelope and allows for compensation when ERCOT instructs generators to go outside th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mpensation based on the avoided cost of reactive support devices on the transmission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$2.65/MVARhr based on $50/installed KV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409 – Voltage Support Servi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mpensation allowed f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active support outside the .95 bandwidth based on the avoided cost of reactive support devices on the transmission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$2.65/MVARhr based on $50/installed KV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duction in real p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aid as OOME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SS settled on a Load Ratio Share b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409 – Voltage Support Servi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mpacts to ERCOT budget, staffing, computer systems, business functions and operations; no credit im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requency of VSS dispatch determines level of imp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ffective upon system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09 – Initiation, Procedure, and Settlement of Disputes through AD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write of Section 20 (ADR) by Commercial Operations Working Group (CO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Goal was to clarify ADR process and bring more consistency to payments for resolved AD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09 – Initiation, Procedure, and Settlement of Disputes through AD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RCOT is required to participate as a facilitator if any party requests such involv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DR will apply to disputes involving variances that are filed through FasTrak or any other data discrepancy tracking meth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ust file a written request &amp; serve on General Counsel of ERC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09 – Initiation, Procedure, and Settlement of Disputes through AD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DR request must be submitted within 45 days of date dispute is denied or failure to ag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09 – Initiation, Procedure, and Settlement of Disputes through AD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f ADR is not timely pursued, ERCOT can send a notification.  If the MP wants to pursue the ADR, then the MP must submit an affirmative written statement that includes a recommended course of a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3:13:47Z</dcterms:created>
  <dc:creator>i013996</dc:creator>
  <dc:description/>
  <dc:language>en-US</dc:language>
  <cp:lastModifiedBy>i013996</cp:lastModifiedBy>
  <dcterms:modified xsi:type="dcterms:W3CDTF">2004-09-09T17:13:48Z</dcterms:modified>
  <cp:revision>36</cp:revision>
  <dc:subject/>
  <dc:title>Protocol Revision  Subcommittee</dc:title>
</cp:coreProperties>
</file>