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55720" y="2907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0904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5572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9640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3672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C2BB5-627A-4EEA-B0AC-214F536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05A7-B18B-4CBE-804D-4FFDB06A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BAD1D-E403-488D-9A90-0C205A75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5A565-B6EC-4A8A-A1DB-A9F0EB4D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BE16A-35CA-42C4-9282-29FBB12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95CC-C45C-4A74-99A7-4312C44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A5DC3-0DD1-4BA9-A0E5-F8F5810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0904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00F41-AAE0-45B1-8E9C-205D1C2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27744-895E-49CD-92C1-5A3E3F9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55720" y="2907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EC8CC-718A-412E-BE41-DCEABEF3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0904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BECA-2E09-4A6C-AAE3-E9764368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5572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640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36720" y="2907720"/>
            <a:ext cx="260964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C8126-A8DB-4F30-A7D6-421B003C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9040" y="2907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720" y="2907720"/>
            <a:ext cx="810576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2362320" cy="12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3623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25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5" marL="2036520" indent="-226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6" marL="2036520" indent="-226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1160" y="1143000"/>
            <a:ext cx="904320" cy="5715000"/>
            <a:chOff x="11160" y="1143000"/>
            <a:chExt cx="904320" cy="5715000"/>
          </a:xfrm>
        </p:grpSpPr>
        <p:sp>
          <p:nvSpPr>
            <p:cNvPr id="5" name=""/>
            <p:cNvSpPr/>
            <p:nvPr/>
          </p:nvSpPr>
          <p:spPr>
            <a:xfrm>
              <a:off x="258840" y="1506600"/>
              <a:ext cx="142920" cy="13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6440" y="151128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0"/>
                  </a:moveTo>
                  <a:lnTo>
                    <a:pt x="0" y="98"/>
                  </a:lnTo>
                  <a:lnTo>
                    <a:pt x="17" y="98"/>
                  </a:lnTo>
                  <a:lnTo>
                    <a:pt x="36" y="102"/>
                  </a:lnTo>
                  <a:lnTo>
                    <a:pt x="51" y="116"/>
                  </a:lnTo>
                  <a:lnTo>
                    <a:pt x="58" y="133"/>
                  </a:lnTo>
                  <a:lnTo>
                    <a:pt x="58" y="150"/>
                  </a:lnTo>
                  <a:lnTo>
                    <a:pt x="152" y="149"/>
                  </a:lnTo>
                  <a:lnTo>
                    <a:pt x="152" y="131"/>
                  </a:lnTo>
                  <a:lnTo>
                    <a:pt x="150" y="114"/>
                  </a:lnTo>
                  <a:lnTo>
                    <a:pt x="147" y="100"/>
                  </a:lnTo>
                  <a:lnTo>
                    <a:pt x="143" y="88"/>
                  </a:lnTo>
                  <a:lnTo>
                    <a:pt x="138" y="70"/>
                  </a:lnTo>
                  <a:lnTo>
                    <a:pt x="133" y="57"/>
                  </a:lnTo>
                  <a:lnTo>
                    <a:pt x="125" y="47"/>
                  </a:lnTo>
                  <a:lnTo>
                    <a:pt x="116" y="35"/>
                  </a:lnTo>
                  <a:lnTo>
                    <a:pt x="102" y="24"/>
                  </a:lnTo>
                  <a:lnTo>
                    <a:pt x="88" y="15"/>
                  </a:lnTo>
                  <a:lnTo>
                    <a:pt x="66" y="7"/>
                  </a:lnTo>
                  <a:lnTo>
                    <a:pt x="39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11880" y="1449720"/>
              <a:ext cx="249480" cy="250920"/>
            </a:xfrm>
            <a:prstGeom prst="triangle">
              <a:avLst>
                <a:gd name="adj" fmla="val 4999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880" y="1143000"/>
              <a:ext cx="289080" cy="230040"/>
            </a:xfrm>
            <a:prstGeom prst="triangle">
              <a:avLst>
                <a:gd name="adj" fmla="val 4999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040" y="1712880"/>
              <a:ext cx="149400" cy="514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7920" y="1771560"/>
              <a:ext cx="245880" cy="198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0"/>
                  </a:moveTo>
                  <a:lnTo>
                    <a:pt x="154" y="97"/>
                  </a:lnTo>
                  <a:lnTo>
                    <a:pt x="136" y="97"/>
                  </a:lnTo>
                  <a:lnTo>
                    <a:pt x="117" y="101"/>
                  </a:lnTo>
                  <a:lnTo>
                    <a:pt x="102" y="115"/>
                  </a:lnTo>
                  <a:lnTo>
                    <a:pt x="94" y="132"/>
                  </a:lnTo>
                  <a:lnTo>
                    <a:pt x="94" y="148"/>
                  </a:lnTo>
                  <a:lnTo>
                    <a:pt x="0" y="148"/>
                  </a:lnTo>
                  <a:lnTo>
                    <a:pt x="0" y="129"/>
                  </a:lnTo>
                  <a:lnTo>
                    <a:pt x="1" y="112"/>
                  </a:lnTo>
                  <a:lnTo>
                    <a:pt x="4" y="99"/>
                  </a:lnTo>
                  <a:lnTo>
                    <a:pt x="8" y="87"/>
                  </a:lnTo>
                  <a:lnTo>
                    <a:pt x="13" y="70"/>
                  </a:lnTo>
                  <a:lnTo>
                    <a:pt x="18" y="57"/>
                  </a:lnTo>
                  <a:lnTo>
                    <a:pt x="26" y="47"/>
                  </a:lnTo>
                  <a:lnTo>
                    <a:pt x="36" y="35"/>
                  </a:lnTo>
                  <a:lnTo>
                    <a:pt x="49" y="24"/>
                  </a:lnTo>
                  <a:lnTo>
                    <a:pt x="64" y="15"/>
                  </a:lnTo>
                  <a:lnTo>
                    <a:pt x="86" y="7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664200" y="1708200"/>
              <a:ext cx="247680" cy="253800"/>
            </a:xfrm>
            <a:prstGeom prst="triangle">
              <a:avLst>
                <a:gd name="adj" fmla="val 49995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2360" y="1771560"/>
              <a:ext cx="142920" cy="1303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6120" y="1963800"/>
              <a:ext cx="142920" cy="489420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920" y="1373040"/>
              <a:ext cx="144360" cy="54849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257680" y="6612480"/>
            <a:ext cx="885960" cy="24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d006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09/09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19280" y="6669000"/>
            <a:ext cx="116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© ERCOT 2004 K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52280"/>
          <a:ext cx="36576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36576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dt" idx="2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60" y="174600"/>
            <a:ext cx="168120" cy="6054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60" y="0"/>
            <a:ext cx="507960" cy="325440"/>
            <a:chOff x="52560" y="0"/>
            <a:chExt cx="507960" cy="325440"/>
          </a:xfrm>
        </p:grpSpPr>
        <p:sp>
          <p:nvSpPr>
            <p:cNvPr id="60" name=""/>
            <p:cNvSpPr/>
            <p:nvPr/>
          </p:nvSpPr>
          <p:spPr>
            <a:xfrm>
              <a:off x="52560" y="82800"/>
              <a:ext cx="179280" cy="16992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640" y="0"/>
              <a:ext cx="407880" cy="325440"/>
            </a:xfrm>
            <a:prstGeom prst="rightArrow">
              <a:avLst>
                <a:gd name="adj1" fmla="val 50000"/>
                <a:gd name="adj2" fmla="val 62671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52320" y="69840"/>
            <a:ext cx="8490240" cy="511200"/>
            <a:chOff x="652320" y="69840"/>
            <a:chExt cx="8490240" cy="511200"/>
          </a:xfrm>
        </p:grpSpPr>
        <p:sp>
          <p:nvSpPr>
            <p:cNvPr id="63" name=""/>
            <p:cNvSpPr/>
            <p:nvPr/>
          </p:nvSpPr>
          <p:spPr>
            <a:xfrm>
              <a:off x="652320" y="69840"/>
              <a:ext cx="8344080" cy="163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831160" y="71280"/>
              <a:ext cx="311400" cy="509760"/>
              <a:chOff x="8831160" y="71280"/>
              <a:chExt cx="311400" cy="509760"/>
            </a:xfrm>
          </p:grpSpPr>
          <p:sp>
            <p:nvSpPr>
              <p:cNvPr id="65" name=""/>
              <p:cNvSpPr/>
              <p:nvPr/>
            </p:nvSpPr>
            <p:spPr>
              <a:xfrm>
                <a:off x="8901000" y="71280"/>
                <a:ext cx="165240" cy="179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1160" y="169920"/>
                <a:ext cx="311400" cy="411120"/>
              </a:xfrm>
              <a:prstGeom prst="downArrow">
                <a:avLst>
                  <a:gd name="adj1" fmla="val 50000"/>
                  <a:gd name="adj2" fmla="val 66018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0" y="6283440"/>
            <a:ext cx="8488440" cy="512640"/>
            <a:chOff x="0" y="6283440"/>
            <a:chExt cx="8488440" cy="512640"/>
          </a:xfrm>
        </p:grpSpPr>
        <p:sp>
          <p:nvSpPr>
            <p:cNvPr id="68" name=""/>
            <p:cNvSpPr/>
            <p:nvPr/>
          </p:nvSpPr>
          <p:spPr>
            <a:xfrm>
              <a:off x="149400" y="6632640"/>
              <a:ext cx="8339040" cy="163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0" y="6283440"/>
              <a:ext cx="309600" cy="511200"/>
              <a:chOff x="0" y="6283440"/>
              <a:chExt cx="309600" cy="511200"/>
            </a:xfrm>
          </p:grpSpPr>
          <p:sp>
            <p:nvSpPr>
              <p:cNvPr id="70" name=""/>
              <p:cNvSpPr/>
              <p:nvPr/>
            </p:nvSpPr>
            <p:spPr>
              <a:xfrm>
                <a:off x="76320" y="6613560"/>
                <a:ext cx="164880" cy="1810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6283440"/>
                <a:ext cx="309600" cy="411120"/>
              </a:xfrm>
              <a:prstGeom prst="upArrow">
                <a:avLst>
                  <a:gd name="adj1" fmla="val 50000"/>
                  <a:gd name="adj2" fmla="val 66389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8569440" y="636480"/>
            <a:ext cx="507960" cy="6213600"/>
            <a:chOff x="8569440" y="636480"/>
            <a:chExt cx="507960" cy="6213600"/>
          </a:xfrm>
        </p:grpSpPr>
        <p:sp>
          <p:nvSpPr>
            <p:cNvPr id="73" name=""/>
            <p:cNvSpPr/>
            <p:nvPr/>
          </p:nvSpPr>
          <p:spPr>
            <a:xfrm>
              <a:off x="8908920" y="636480"/>
              <a:ext cx="168480" cy="6032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8569440" y="6526080"/>
              <a:ext cx="507960" cy="324000"/>
              <a:chOff x="8569440" y="6526080"/>
              <a:chExt cx="507960" cy="324000"/>
            </a:xfrm>
          </p:grpSpPr>
          <p:sp>
            <p:nvSpPr>
              <p:cNvPr id="75" name=""/>
              <p:cNvSpPr/>
              <p:nvPr/>
            </p:nvSpPr>
            <p:spPr>
              <a:xfrm>
                <a:off x="8897760" y="6599160"/>
                <a:ext cx="179640" cy="1684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69440" y="6526080"/>
                <a:ext cx="407880" cy="324000"/>
              </a:xfrm>
              <a:prstGeom prst="leftArrow">
                <a:avLst>
                  <a:gd name="adj1" fmla="val 50000"/>
                  <a:gd name="adj2" fmla="val 62938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POWER SYSTEM PLANNING</a:t>
            </a:r>
            <a:br>
              <a:rPr sz="36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CHARTER AND PROCESSES</a:t>
            </a:r>
            <a:br>
              <a:rPr sz="36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UPDATES</a:t>
            </a:r>
            <a:br>
              <a:rPr sz="36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Presentation to TAC</a:t>
            </a:r>
            <a:br>
              <a:rPr sz="24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pt 9, 2004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80880" y="5345280"/>
            <a:ext cx="83822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Transmission Services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Ken Donohoo, Manager of System Planning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06c"/>
                </a:solidFill>
                <a:latin typeface="Tahoma"/>
              </a:rPr>
              <a:t>www.ercot.com</a:t>
            </a:r>
            <a:endParaRPr b="1" lang="en-US" sz="16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TAC ACTION ITEM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81000" y="1663560"/>
            <a:ext cx="80107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Coordinate a review of and possible changes to the Tier 1 Projects Review Process – (5/6/04)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OPEN PROCES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68040" y="1665360"/>
            <a:ext cx="801036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Update was developed and emailed to Region Planning Groups (RPG) for comment/review on July 12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Comments were received on July 27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enterPoint (CNP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Bryan Texas Utilities (BTU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PUCT Staff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TXU Energy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TXU Electric Delivery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TECO EnergySource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Flint Hills Resources (industrial consumer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Lower Colorado River Authority (LCRA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South Texas Electric Coop (STEC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Brownsville Public Utility Board (BPUB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City Public Service San Antonio (CPS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06c"/>
                </a:solidFill>
                <a:latin typeface="Tahoma"/>
              </a:rPr>
              <a:t>Austin Energy (AEN)</a:t>
            </a:r>
            <a:endParaRPr b="0" lang="en-US" sz="18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Assembled and emailed to RPGs July 27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RPG meeting to review and discussion August 3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LANNING PROCESS</a:t>
            </a:r>
            <a:br>
              <a:rPr sz="4400"/>
            </a:b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Project Submission And Review Requirement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9200" y="1326960"/>
            <a:ext cx="8010360" cy="54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Small Projects - “Tier 1” (60 kV to 138 kV projects)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Projects requiring a Certificate of Convenience and Necessity (CCN) from the PUCT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Includes exempt municipal &amp; electric cooperatives projects under what-if test 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Except for any project for which the CCN has been approved or a Public Participation Meeting has already been conducted prior to August 15, 2004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Projects that have an estimated capital cost greater than $10 million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To facilitate communication and coordination of projects among the RPG members, members can individually request and review any project below this level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Projects having a projected in-service date after June 1, 2006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06c"/>
                </a:solidFill>
                <a:latin typeface="Tahoma"/>
              </a:rPr>
              <a:t>Exempt Projects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Construction to connect a new substation or accommodate load growth in an existing substation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Replacement of line terminal equipment, such as switches, current transformers, circuit breakers, and wave traps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Addition or replacement of reactive power sources (capacitors and reactors) not capable of dynamic response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LANNING PROCESS</a:t>
            </a:r>
            <a:br>
              <a:rPr sz="4400"/>
            </a:b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Project Submission And Review Requirement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636200"/>
            <a:ext cx="801072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Large Projects - “Tier 2” (345 kV and higher projects)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Any projects requiring PUCT certification (CCN)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Includes exempt municipal &amp; electric cooperatives projects under what-if test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buClr>
                <a:srgbClr val="0d006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Except for any project for which the CCN has been approved or a Public Participation Meeting has already been conducted prior to August 15, 2004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RCOT Staff independent review/study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Submit to ERCOT Board for endorsement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xempt Project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Construction to connect a new substation or accommodate load growth in an existing substation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Replacement of line terminal equipment, such as switches, current transformers, circuit breakers, and wave traps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6c"/>
                </a:solidFill>
                <a:latin typeface="Tahoma"/>
              </a:rPr>
              <a:t>Addition or replacement of reactive power sources (capacitors and reactors) not capable of dynamic response</a:t>
            </a:r>
            <a:endParaRPr b="0" lang="en-US" sz="16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OTHER ITEM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676160"/>
            <a:ext cx="8010720" cy="33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Alignment of charter to Standard Generation Interconnection Agreement (SGIA) requirement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RCOT provide estimated transmission project cost information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Total by year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By Region Planning Group by year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By kV service level by year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By transmission owner by year (subject to approval)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Also provides breakdown of circuit miles of line, transformer capability, reactive capability and circuit breakers</a:t>
            </a:r>
            <a:endParaRPr b="0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General clarification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QUESTIONS/DISCUSSION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54360" y="1631880"/>
            <a:ext cx="463860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22:29:49Z</dcterms:created>
  <dc:creator/>
  <dc:description/>
  <dc:language>en-US</dc:language>
  <cp:lastModifiedBy/>
  <dcterms:modified xsi:type="dcterms:W3CDTF">2004-09-10T20:56:57Z</dcterms:modified>
  <cp:revision>425</cp:revision>
  <dc:subject/>
  <dc:title>GENERATION INTERCONNECTION</dc:title>
</cp:coreProperties>
</file>