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75C-A071-44A1-9D94-B89ED192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5AD-ED20-4CC9-99E0-D366A323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969-9531-4149-A3D6-10D49319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2BB-B21D-4950-B206-B0547BE2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649-9839-4348-9F25-2F8D781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69E-2F70-499E-A9A4-A8C880D7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132-2294-4C49-897E-EBE2CA4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211-19ED-4166-A1A1-EBD86765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8262-6541-4158-9C7E-FF57536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5C1C-8551-40E1-80F5-F4A8A4F2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AC4-808C-401C-950B-E48CD8F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903-8E7E-46A8-AC78-F3C0386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A55-8208-43BC-938F-4458AD8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F1AD-D978-4B18-AA28-EED95B6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C27-3FE7-4431-9134-FC32C78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BFEB-7FB7-4056-8D2B-EA1B473F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456B-ECF3-489A-94F8-AC52995D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7B1-3CF8-4C63-98B4-683EE30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0DD-5DD1-4BE9-B41B-ED8CF14F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696-0509-4197-BB86-AB8DDA6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B5A-3F35-4096-9772-B4A5165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E9F-3318-494A-A3BC-EE613831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733-D207-4494-8C74-A53B0A5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A69-8072-461E-8C2E-8F40969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AAC-C7B9-4DFB-AC8A-A0EB69E65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F92E-85CE-4F02-929C-466C405A0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2005 A/S Methodolog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RCOT staff agreed to defer increasing Ancillary Service Regulation Requirements in its proposal for next year in order to allow the market opportunity to achieve improvement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R 541 – Regulation Deployment Ramp Rat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R 525 – SCE Performance and Monitor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R 356 – SCE Performance Require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R 358 – Negative Impact SC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RCOT staff intends to review the success of the alternatives early next year and may make other proposals at that time.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EMMS Release 3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structed deviation and portfolio ramp rate relate in 14 different 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enarios depend on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evious deployment (UBES or DB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evious deployment can/cannot be entirely recalle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D’s relation to deployment range based on ramp rat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4 scenarios detailed in Market Bulletin # 1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HUB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PRR has been submitted that creates a new section that defines the term “Trading Hub” for the ERCOT market and establishes a list of buses that constitute each Trading Hub in ERCOT based on the following principles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rading Hubs will only consist of actual transmission buses in the ERCOT transmission syst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rading Hubs, once created, will never change or be deleted (unless a bus contained in the hub is physically retired from service by the associated TDSP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ew Trading Hubs may only be created upon request by a Market Participant and approval by the ERCOT Board using the existing PRR proces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or the existing zonal market design, the Trading Hub price will correspond to the MCPE of the Congestion Zone to which each transmission bus is assigned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ading Hub prices will be posted by ERCOT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f a new transmission bus is created, it will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be included in any existing Trading Hub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initial set of six ERCOT Trading Hubs in this PRR are based on the four 2003 ERCOT Congestion Zones: North, South, Houston, and West and two average ERCOT Trading Hub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Bob Helton</cp:lastModifiedBy>
  <dcterms:modified xsi:type="dcterms:W3CDTF">2004-10-07T14:53:46Z</dcterms:modified>
  <cp:revision>12</cp:revision>
  <dc:subject/>
  <dc:title>WMS UPDATE</dc:title>
</cp:coreProperties>
</file>