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03D-AD76-47F8-A1D2-E9112CF2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569-9190-49B1-B02F-7555C29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646-CE51-4144-9D9D-9E8BF3EE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9B3-230F-4AC6-A1B3-2FE32061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ECB-C810-45A9-9249-B5305C8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1D3-379E-4EB9-9489-B8E79EBA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ED5-8C23-4DDA-92A6-A260A42E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DBC-E532-4C2E-A33F-5BDED77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E86-424C-4BDF-B57B-590B83B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735-C0FE-466F-B25E-FAC01B2C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C25-B725-46B2-98C2-CA75295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F1A-CC57-485C-85DE-BCB53E9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506-0EEA-412A-BD99-B4907D5CC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ctober 6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B93-A7AA-49B1-8A91-596E769F5461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1 – Load Clar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nanimous recommendation to approve PRR (all market segments present) as revised by P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system impact consists of adding a new TDSP to Lodes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credit monitoring or liability calculation changes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November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71C-9140-450E-9E5D-7BF4E4A030FF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2 – Implementation of Non-Transmission Alternatives to RM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submitted on behalf of WMS by ANP, Independent Generator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tocols require ERCOT to evaluate non-transmission exit strategies to RMR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proposes a Must-Run Alternative (MRA) agreement and selection and settlement processes to support the M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ies on the Regional Planning Group process to aid in the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A will provide a more cost-effective alternative to an RMR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ffort to reduce uplifted costs to th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DF-F32E-48A1-B983-D5D44B89374F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2 – Implementation of Non-Transmission Alternatives to RM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lies on the Regional Planning Group process to aid in the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RA will provide a more cost-effective alternative to an RMR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RA agreement term is limited to the time necessary for the cost-effective transmission alternative to be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the MRA forecloses another viable technical solution, the agreement shall limit the MRA’s ability to terminate MRA service or increase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715-A8F5-48FF-B6B5-34628EED0595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2 – Implementation of Non-Transmission Alternatives to RM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commendation to approve PRR (all market segments present) as revised by CPS, Austin Energy and P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 votes in opposition; 4 absten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te: PRS previously rejected “urgent” status for this P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requires 1 FTE for Legal (contact negotiation and administration); future MRAs may impact ERCOT computer systems; grid operations may be impacted by future M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November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D57-27B5-497F-B2B4-FF3EB78C006B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2 – Implementation of Non-Transmission Alternatives to RM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redit Work Group submitted comments to TAC subsequent to PRS’ consideration and recommendation of PRR 5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WG determined that the MRA’s financial stability must b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WG proposed language that MRAs meet ERCOT requirements for the appropriate tenor of the MRA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specific requirements will need to be develo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6DF-CE0E-4E48-A27C-49C230FD52F0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5 – Reactive Tes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submitted on behalf of the Generator Reactive Testing Procedures TF by LCRA, Electric Cooperative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ises wording to reflect that “capability” is being tested (previously stated “capacity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rifies the timing of reactiv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E87-C457-4AC6-AE02-6538E1B081E5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5 – Reactive Test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nanimous recommendation to approve PRR (all market segments present) as amended by P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impacts on ERCOT systems or business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credit monitoring or liability calculation changes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November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BD5-1C30-4CC3-9CE1-2ECD96630CAC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4 – Clarification of Timeline for Cost Submiss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submitted and withdrawn by Centrica, Independent REP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would revise the submission timeline for verifiable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mpacts settlement timeline work ongoing in C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affirmed withdraw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ACA-B8D6-41A9-A157-44F5DBD20761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9520" y="1060560"/>
            <a:ext cx="727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rgent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3 – (Section 21 Revi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6 – (OOMC Verifiable Cost Document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1 – (Load Clarification for BL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2 – (Implementation of MR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5 – (Reactive Test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FBC-1042-4587-BE85-CF15EEDE9277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ystem Prioritization Upda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informed PRS that more information was needed to quantify system change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iteria worksheets consist of weight factors for various categories (e.g., criticality of project for Regulatory Requirement or Reliabi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formation required by October 6 for submission to B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will develop information in draft form for submission to BOD and PRS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811-2A23-4169-A426-908D37DC5460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5 PRRs for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 PRR Withdrawal No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ystem Prioritization Up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Commun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F2B-5699-4C45-A3EC-CEEF57ABDD8D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Improving PRR Communication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0" name="PE01832_" descr=""/>
          <p:cNvPicPr/>
          <p:nvPr/>
        </p:nvPicPr>
        <p:blipFill>
          <a:blip r:embed="rId1"/>
          <a:stretch/>
        </p:blipFill>
        <p:spPr>
          <a:xfrm>
            <a:off x="2895480" y="2136600"/>
            <a:ext cx="3581640" cy="327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410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Or “What Was PRS/TAC Thinking?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D3D-F16B-4BF1-8D7D-D59A7DE0C6ED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mproving Commun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sire for more information on PRRs requested by BOD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sights to the deliberations at PRS and T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segments imp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discussed BOD comments at its la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vised PRR Recommendation Re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scussed the quantification of benef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0DF-4389-48ED-98EE-E74938C1764B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mmunication Objectiv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 better communicate more information to TAC/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earer statement of what the PRR d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ho submitted the P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ho commented on the P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cedural history (e.g., developed in another TAC subcommitte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mmary of PRS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ority and ranking for system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C0A-2151-4CF5-805C-E8B7E9EC287B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mmunication Objectiv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 better communicate information related to PRR costs and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’s costs currently captured in the impact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oking for ways to quantify PRR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FAC-F069-4F68-A7D2-9BB77374F9E8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22F-3D83-4BC6-AD4C-476A1F1779B3}" type="slidenum">
              <a:t>24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3 – Revisions to Protocol Section 2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submitted by ERC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dates PRR section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vise Impact Analysis 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clude system project priorit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malize the System Change Reques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rify dead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04C-3946-4033-B611-1949F51C82DD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3 – Revisions to Protocol Section 2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595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912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gust 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5440" y="42670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v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0" y="43434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July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152960" y="3085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7320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October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940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7432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3800" y="25430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76360" y="3200400"/>
            <a:ext cx="7596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35053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7040" y="534672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October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959520" y="3962520"/>
            <a:ext cx="27936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187760" y="2743200"/>
            <a:ext cx="68580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D04-8E41-4F91-9F5E-20243E987A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3 – Revisions to Protocol Section 2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595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2680" y="4495680"/>
            <a:ext cx="181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August 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 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55440" y="42670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v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0" y="43434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July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152960" y="3085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7320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October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940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743200"/>
            <a:ext cx="0" cy="8380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25430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3200400"/>
            <a:ext cx="75960" cy="3808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5053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7040" y="534672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October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959520" y="3962520"/>
            <a:ext cx="279360" cy="121896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187760" y="2743200"/>
            <a:ext cx="685800" cy="83808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5400000">
            <a:off x="4191120" y="236124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76240" y="208584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25-Day 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2743200"/>
            <a:ext cx="7632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334120" y="3580920"/>
            <a:ext cx="0" cy="304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4920" y="4797360"/>
            <a:ext cx="19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eptember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2nd 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876920" y="3962520"/>
            <a:ext cx="685800" cy="7617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27800" y="254304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ERCOT Upd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231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274320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548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November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8076960" y="3962520"/>
            <a:ext cx="7596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5400000">
            <a:off x="7010280" y="26658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960" y="26193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30-Day 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124080"/>
            <a:ext cx="76320" cy="152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240" y="624852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milar process applies to System Change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A95-FC02-4953-8B18-AD6655310B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3 – Revisions to Protocol Section 2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nimous recommendation to approve PRR (all market segments present) as revised by Austin Energy, CenterPoint, ERCOT, TXU and P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nor staffing impact -- requires update of ERCOT interna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lows ERCOT to provide a more thorough impact analysis to P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redit monitoring or liability calculation change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November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E47-3C78-49F0-ADD6-45B3F4652CE9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6 – OOMC Verifiable Cost Docum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submitted by AEP, IOU Se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clarifies the Protocols for OOMC verifiable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fines the required documentation standards required when ERCOT cancels/delays a unit’s planned and approved maintenance outage due to an OOMC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988-505D-48FA-A6C3-B31F6A8D6E3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6 – OOMC Verifiable Cost Docum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nimous recommendation to approve PRR (all market segments pres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impacts to ERCOT systems; minor impacts to business processes but application of the PRR is predicted to be in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redit monitoring or liability calculation change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November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9CA-9DC8-4C7D-9A8D-80C77664B5E9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1 – Load Clar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submitted by AEP, IOU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LT move a load obligation to or from another power pool into or out of ERCOT in an emergency and only under a specific ERCOT Dispatch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clarifies that load points involved in Block Load Transfers (BLT) will be treated as non-competitive load and registered similarly to NO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ll be responsible for UFE and transmission losses similar to NO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FF9-E652-4B52-A441-94EA6FF5C34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i013996</cp:lastModifiedBy>
  <dcterms:modified xsi:type="dcterms:W3CDTF">2004-10-07T16:52:34Z</dcterms:modified>
  <cp:revision>43</cp:revision>
  <dc:subject/>
  <dc:title>Protocol Revision  Subcommittee</dc:title>
</cp:coreProperties>
</file>