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A40-FC87-41D1-8A08-849D355E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D35-948F-4BD3-92E4-86DB432C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D4A-3908-4943-8E78-F9C46541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82A-0B7E-46C6-93C4-ABFA4DE0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1C3-4E73-4106-860F-0DA6C644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6CE-2D44-4059-A387-1023C73F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B6E-926F-4EDB-AE02-F25D5D98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903-8F50-4A92-ABC3-0E8484A5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D02-B9D9-4DE7-AD08-2264A945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134-B60C-4238-BCF0-C8FAC1F4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86B-3A7E-48C6-8C2A-A80D1C08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CD0-0BB2-4BF8-A47C-22662348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5856-47C1-4451-AAFE-1A80904A3679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05D1-5BDC-4B93-A9C0-7784B8D8407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4140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AC Updat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920" y="4653000"/>
            <a:ext cx="71056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rip Dogget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acilitator, Texas Nodal Tea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ctober 7, 200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st Benefit Stud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RCOT Protocol Develop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conomist Worksho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ptember 8 Vot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CA4-49E5-47BC-915B-A75223DAC6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30434-7979-4DB4-AB75-CC0BBFAFAD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st Benefit  Stud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xpected comprehensive report on September 22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n September 17, vendor recommended a delay in submitting the Energy Impact Assess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odifying input assumptions for treatment of “Overloaded Constrain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ct an update on re-running the model on October 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rafts of Implementation Impacts Assessment (IIA) and Other Market Impacts Assessment (OMIA) submitted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ew comments received on I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gnificant comments received on O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ments to be reviewed by CBCG on October 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RCOT to file comments on proposed rule changes, requesting filing deadline for Cost Benefit Study be moved to December 3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EE2-220C-41BF-A3FD-5737C2536A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722A3-E481-4CAC-AFED-453F78B678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RCOT Protocol Developmen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leted most sections of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Round review with a few remaining homework assignm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letion of Round 1 projected to be approximately October 2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ayed discussion of RUC and EHDA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conomist’s comments will have to be incorporated in Round 2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CF5-165D-4D4A-812F-5291ECAFF3E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920CA-7F32-4817-88D5-0E6F69A72C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conomist Workshop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7924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orkshop held September 16 and 17 to address comments received from Dr. Wolak, Dr. Oren, Dr. Patton, and Dr. Roy Shanke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llowing the workshop, TNT met two days to decide how to respond to the economists’ comment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dentified several potential changes to consider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more “integrated” DAEM, RUC, co-optimized Ancillary Services and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cation of CRRs to L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Deration of CR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Ancillary Service Mar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Mitigation after other proposals revie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hite papers to describe options to consider due October 1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y ideas accepted will be incorporated in the Round 2 Protocol review proces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E9F-578E-4D79-8EC2-EB4D3AE962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C46CF-813E-4AA6-AAED-0F1551EA4F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September 8 Voting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440000"/>
          <a:ext cx="8101080" cy="4197240"/>
        </p:xfrm>
        <a:graphic>
          <a:graphicData uri="http://schemas.openxmlformats.org/drawingml/2006/table">
            <a:tbl>
              <a:tblPr/>
              <a:tblGrid>
                <a:gridCol w="4968720"/>
                <a:gridCol w="31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37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not allow Loads to participate in the SCED and RUC process at this ti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dopt the whitepaper language as amended to define the setting of market clearing price (MCPC) for Ancillary Services in Section 5.6.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ballot vote of 73.8% in favor and 26.2% opposed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ballot vote of 81.0% in favor and 19.0% opposed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CC9-7426-4E9F-9793-362E060CEF5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8C1DD-FDCE-4DC1-92C8-9130DDC778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September 8 Voting (cont.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440000"/>
          <a:ext cx="8101080" cy="5235480"/>
        </p:xfrm>
        <a:graphic>
          <a:graphicData uri="http://schemas.openxmlformats.org/drawingml/2006/table">
            <a:tbl>
              <a:tblPr/>
              <a:tblGrid>
                <a:gridCol w="4968720"/>
                <a:gridCol w="31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47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dopt the alternative language proposed for Section 5.6.6(3), which states that ERCOT shall notify the Independent Market Monitor of AS “price reversals”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dopt the language submitted by Randy Jones and Clayton Greer for Section 6.8.5.1, related to Voltage Support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make the minimum quantity for CRRs 1 MW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unanimous voice vote.  Representatives from all seven segments were presen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ballot vote of 92.9% in favor and 7.1% opposed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unanimous voice vote.  Representatives from all seven segments were presen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FDE-734B-4793-B85F-69964F59EA4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806D6-F29E-4989-94AD-472A241CEB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September 8 Voting (cont.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1440000"/>
          <a:ext cx="8101080" cy="5616360"/>
        </p:xfrm>
        <a:graphic>
          <a:graphicData uri="http://schemas.openxmlformats.org/drawingml/2006/table">
            <a:tbl>
              <a:tblPr/>
              <a:tblGrid>
                <a:gridCol w="4968720"/>
                <a:gridCol w="31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51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strike paragraphs 7.4.1 (3) and (4) related to Pre-assigned Congestion Revenue Right (PCRR) allocation and eligibilit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ccept the language revised during the TNT 9/08 meeting for Section 7.8 (1)–(5) related to Congestion Revenue Rights bilateral trades and registr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majority voice vote with one opposed, Oxy and no abstentions.   Representatives from all seven segments were presen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unanimous voice vote with one abstention by CPS-San Antonio.  Representatives from all seven segments were presen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8F8-3C29-4671-8387-2E36AE93159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6CDC6-D738-40AF-9BA2-4EDF3B5B1B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p Doggett</cp:lastModifiedBy>
  <dcterms:modified xsi:type="dcterms:W3CDTF">2004-10-04T02:22:03Z</dcterms:modified>
  <cp:revision>3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