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11F5-92CD-47C2-B0B9-E11A730E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6789-9580-4655-820A-8CAB8A0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28A2-384E-4BE6-B972-C87F47B2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4C48-0CEE-4837-B70C-05041F49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B934-3B9F-4E8B-A90F-2CE59BFA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C99-8E77-42AC-95F0-51BADE46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58EB-B7A5-45B0-AB01-71742B8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4E24-929C-451C-8664-ACF4B1D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2C7-85E7-41E6-A3F9-02F7E69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BBDC-59D4-403A-92A2-B3CDA2BA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C8F0-6A4E-46B6-B40D-D04F964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E8C7-32C4-459F-962E-22202140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F6C5-5198-4042-A082-477324A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54DD-731D-4409-949D-B0DA2DE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2AF-D317-442B-8B1E-C35EB49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FEF8-E245-486F-8F4E-DB68FCBF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29A9-E051-4C73-9CB5-8D95CDA3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0E5D-2EA9-4A9D-AE12-089C5429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ECBF-DECD-4DA1-89AE-5374E78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8D63-C4A9-4DE2-B4D8-74D6AF8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F032-1F0B-4A3D-94B4-0F03B50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3C93-C623-4E89-98E1-B6A8566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0120-9D1A-4670-BB01-2B85094E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FD0A-2F6B-44D7-A13F-0DDD014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70A-B370-41FA-B5D3-1209580F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15DF-AB0F-4443-9FE6-BBC639EF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RCOT Fee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llocation Metho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COT TAC Mee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8,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3320" y="595800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 Market Segment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893-E8D8-42B0-9EBF-72013F28D2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447920"/>
            <a:ext cx="3809880" cy="3657600"/>
            <a:chOff x="457200" y="1447920"/>
            <a:chExt cx="3809880" cy="3657600"/>
          </a:xfrm>
        </p:grpSpPr>
        <p:sp>
          <p:nvSpPr>
            <p:cNvPr id="196" name=""/>
            <p:cNvSpPr/>
            <p:nvPr/>
          </p:nvSpPr>
          <p:spPr>
            <a:xfrm>
              <a:off x="457200" y="14479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t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9320" y="2362320"/>
              <a:ext cx="304776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ception Proc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ception Repor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s-Trak Review and Re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Metr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 &amp; WG Particip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Market Guid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Coord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Transactional Clean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Documentation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ion and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Portal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38480" y="1447920"/>
            <a:ext cx="1981440" cy="7617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362320"/>
            <a:ext cx="3962520" cy="274320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ed Market Services /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action Specification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Protocol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 Certification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Controls and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F77A-15E4-4B72-BE61-0EA11DF89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Cost Centers a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Cost Center Functions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Costs to Cos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Market Segments to Cos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cost weighting to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0699-CD6C-416D-AFDD-1E594F89BE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Pr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s ERCOT’s existing categorization of internal functions as reflected in current financial 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ERCOT’s daily operational functions in support of market activities and de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quire ERCOT employee time / cost reporting for determination of expens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or delineation between wholesale and retail functions for expense capture and al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tarting point for segment benefit determination based on ERCO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BA41-CBD0-4555-9237-3583B837E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st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828800"/>
            <a:ext cx="8228520" cy="4495320"/>
            <a:chOff x="457200" y="1828800"/>
            <a:chExt cx="8228520" cy="4495320"/>
          </a:xfrm>
        </p:grpSpPr>
        <p:cxnSp>
          <p:nvCxnSpPr>
            <p:cNvPr id="113" name="_s85021"/>
            <p:cNvCxnSpPr>
              <a:stCxn id="114" idx="3"/>
              <a:endCxn id="115" idx="2"/>
            </p:cNvCxnSpPr>
            <p:nvPr/>
          </p:nvCxnSpPr>
          <p:spPr>
            <a:xfrm flipV="1">
              <a:off x="3983760" y="2356920"/>
              <a:ext cx="588240" cy="370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85019"/>
            <p:cNvCxnSpPr>
              <a:stCxn id="117" idx="1"/>
              <a:endCxn id="115" idx="2"/>
            </p:cNvCxnSpPr>
            <p:nvPr/>
          </p:nvCxnSpPr>
          <p:spPr>
            <a:xfrm rot="10800000">
              <a:off x="4570920" y="2356920"/>
              <a:ext cx="588240" cy="29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85017"/>
            <p:cNvCxnSpPr>
              <a:stCxn id="119" idx="3"/>
              <a:endCxn id="115" idx="2"/>
            </p:cNvCxnSpPr>
            <p:nvPr/>
          </p:nvCxnSpPr>
          <p:spPr>
            <a:xfrm flipV="1">
              <a:off x="3983760" y="2357280"/>
              <a:ext cx="588240" cy="29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85015"/>
            <p:cNvCxnSpPr>
              <a:stCxn id="121" idx="1"/>
              <a:endCxn id="115" idx="2"/>
            </p:cNvCxnSpPr>
            <p:nvPr/>
          </p:nvCxnSpPr>
          <p:spPr>
            <a:xfrm rot="10800000">
              <a:off x="4570920" y="2356920"/>
              <a:ext cx="588240" cy="211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85013"/>
            <p:cNvCxnSpPr>
              <a:stCxn id="123" idx="3"/>
              <a:endCxn id="115" idx="2"/>
            </p:cNvCxnSpPr>
            <p:nvPr/>
          </p:nvCxnSpPr>
          <p:spPr>
            <a:xfrm flipV="1">
              <a:off x="3983760" y="2357280"/>
              <a:ext cx="588240" cy="211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85011"/>
            <p:cNvCxnSpPr>
              <a:stCxn id="125" idx="1"/>
              <a:endCxn id="115" idx="2"/>
            </p:cNvCxnSpPr>
            <p:nvPr/>
          </p:nvCxnSpPr>
          <p:spPr>
            <a:xfrm rot="10800000">
              <a:off x="4570920" y="2356920"/>
              <a:ext cx="588240" cy="132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85007"/>
            <p:cNvCxnSpPr>
              <a:stCxn id="127" idx="3"/>
              <a:endCxn id="115" idx="2"/>
            </p:cNvCxnSpPr>
            <p:nvPr/>
          </p:nvCxnSpPr>
          <p:spPr>
            <a:xfrm flipV="1">
              <a:off x="3983760" y="2357280"/>
              <a:ext cx="588240" cy="132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85006"/>
            <p:cNvCxnSpPr>
              <a:stCxn id="129" idx="1"/>
              <a:endCxn id="115" idx="2"/>
            </p:cNvCxnSpPr>
            <p:nvPr/>
          </p:nvCxnSpPr>
          <p:spPr>
            <a:xfrm rot="10800000">
              <a:off x="4570920" y="2356920"/>
              <a:ext cx="588240" cy="5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85005"/>
            <p:cNvCxnSpPr>
              <a:stCxn id="131" idx="3"/>
              <a:endCxn id="115" idx="2"/>
            </p:cNvCxnSpPr>
            <p:nvPr/>
          </p:nvCxnSpPr>
          <p:spPr>
            <a:xfrm flipV="1">
              <a:off x="3983760" y="2357280"/>
              <a:ext cx="588240" cy="52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85001"/>
            <p:cNvSpPr/>
            <p:nvPr/>
          </p:nvSpPr>
          <p:spPr>
            <a:xfrm>
              <a:off x="2808000" y="182880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RC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85002"/>
            <p:cNvSpPr/>
            <p:nvPr/>
          </p:nvSpPr>
          <p:spPr>
            <a:xfrm>
              <a:off x="457200" y="26222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ministrative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5003"/>
            <p:cNvSpPr/>
            <p:nvPr/>
          </p:nvSpPr>
          <p:spPr>
            <a:xfrm>
              <a:off x="5159160" y="26222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lesa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5004"/>
            <p:cNvSpPr/>
            <p:nvPr/>
          </p:nvSpPr>
          <p:spPr>
            <a:xfrm>
              <a:off x="457200" y="34160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 Processing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5010"/>
            <p:cNvSpPr/>
            <p:nvPr/>
          </p:nvSpPr>
          <p:spPr>
            <a:xfrm>
              <a:off x="5159160" y="341604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olesale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5012"/>
            <p:cNvSpPr/>
            <p:nvPr/>
          </p:nvSpPr>
          <p:spPr>
            <a:xfrm>
              <a:off x="460800" y="4209480"/>
              <a:ext cx="35229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5014"/>
            <p:cNvSpPr/>
            <p:nvPr/>
          </p:nvSpPr>
          <p:spPr>
            <a:xfrm>
              <a:off x="5159160" y="4209480"/>
              <a:ext cx="35265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ail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5016"/>
            <p:cNvSpPr/>
            <p:nvPr/>
          </p:nvSpPr>
          <p:spPr>
            <a:xfrm>
              <a:off x="460800" y="5003280"/>
              <a:ext cx="3522960" cy="528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ssion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5018"/>
            <p:cNvSpPr/>
            <p:nvPr/>
          </p:nvSpPr>
          <p:spPr>
            <a:xfrm>
              <a:off x="5159160" y="5003280"/>
              <a:ext cx="3526560" cy="5274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ail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85020"/>
            <p:cNvSpPr/>
            <p:nvPr/>
          </p:nvSpPr>
          <p:spPr>
            <a:xfrm>
              <a:off x="457200" y="5796720"/>
              <a:ext cx="3526560" cy="5274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ital Pro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37A0-F928-40C0-BBAC-92F893101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Center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services of ERCOT that are allocated across all ERCOT internal job func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on Processing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management &amp; processing of files &amp; data in support of the market &amp; ERCOT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oversight and operation of the transmission gr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ssion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coordination, analysis, planning &amp; implementation of transmission infrastructure improvements &amp; 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and technical expenditures in support of approved projects for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back office functions in support of wholesale settlement operat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oversight and management of QSE contracts and Service agreements (RMR and Black Start) with supply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back office functions in support of retail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’s analysis, coordination, and recommendation of retail solutions and support servic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109F-198E-430D-8B72-A24CC0914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066680"/>
            <a:ext cx="28195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52680" y="1828800"/>
            <a:ext cx="3962520" cy="4648320"/>
            <a:chOff x="3352680" y="1828800"/>
            <a:chExt cx="3962520" cy="4648320"/>
          </a:xfrm>
        </p:grpSpPr>
        <p:sp>
          <p:nvSpPr>
            <p:cNvPr id="137" name=""/>
            <p:cNvSpPr/>
            <p:nvPr/>
          </p:nvSpPr>
          <p:spPr>
            <a:xfrm>
              <a:off x="3352680" y="1981080"/>
              <a:ext cx="3962520" cy="449604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 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COT &amp; Market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iance Fun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SE Certification and Tes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ocol Revisions and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umentation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kehold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Commun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 R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 Services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Warehou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Appl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yber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1828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2B8D-9B9C-404D-A516-0D20D88B9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rocess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1371600"/>
            <a:ext cx="2057400" cy="1676520"/>
            <a:chOff x="2438280" y="1371600"/>
            <a:chExt cx="2057400" cy="1676520"/>
          </a:xfrm>
        </p:grpSpPr>
        <p:sp>
          <p:nvSpPr>
            <p:cNvPr id="141" name=""/>
            <p:cNvSpPr/>
            <p:nvPr/>
          </p:nvSpPr>
          <p:spPr>
            <a:xfrm>
              <a:off x="32004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137160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Supp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3200" y="2057400"/>
              <a:ext cx="175248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/LSE Sett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3505320"/>
            <a:ext cx="2057400" cy="1676160"/>
            <a:chOff x="380880" y="3505320"/>
            <a:chExt cx="2057400" cy="1676160"/>
          </a:xfrm>
        </p:grpSpPr>
        <p:sp>
          <p:nvSpPr>
            <p:cNvPr id="145" name=""/>
            <p:cNvSpPr/>
            <p:nvPr/>
          </p:nvSpPr>
          <p:spPr>
            <a:xfrm>
              <a:off x="106668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350532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oice / Bi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L Ru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62320" y="3505320"/>
            <a:ext cx="175248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lesale /R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y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371600"/>
            <a:ext cx="2057400" cy="1676520"/>
            <a:chOff x="304920" y="1371600"/>
            <a:chExt cx="2057400" cy="1676520"/>
          </a:xfrm>
        </p:grpSpPr>
        <p:sp>
          <p:nvSpPr>
            <p:cNvPr id="150" name=""/>
            <p:cNvSpPr/>
            <p:nvPr/>
          </p:nvSpPr>
          <p:spPr>
            <a:xfrm>
              <a:off x="304920" y="1371600"/>
              <a:ext cx="144756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olesale Supp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2057400"/>
              <a:ext cx="175284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holesale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nual Validation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SE/Resource Sett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343400" y="1371600"/>
            <a:ext cx="2514600" cy="1676520"/>
            <a:chOff x="4343400" y="1371600"/>
            <a:chExt cx="2514600" cy="1676520"/>
          </a:xfrm>
        </p:grpSpPr>
        <p:sp>
          <p:nvSpPr>
            <p:cNvPr id="154" name=""/>
            <p:cNvSpPr/>
            <p:nvPr/>
          </p:nvSpPr>
          <p:spPr>
            <a:xfrm>
              <a:off x="4343400" y="1371600"/>
              <a:ext cx="182880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ail Registration D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2057400"/>
              <a:ext cx="205740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X Set Transa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ket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ception Research &amp; Clean 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ail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nual Validation L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57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81680" y="1371600"/>
            <a:ext cx="2057400" cy="1676520"/>
            <a:chOff x="6781680" y="1371600"/>
            <a:chExt cx="2057400" cy="1676520"/>
          </a:xfrm>
        </p:grpSpPr>
        <p:sp>
          <p:nvSpPr>
            <p:cNvPr id="158" name=""/>
            <p:cNvSpPr/>
            <p:nvPr/>
          </p:nvSpPr>
          <p:spPr>
            <a:xfrm>
              <a:off x="6781680" y="137160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86600" y="2057400"/>
              <a:ext cx="1752480" cy="99072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Fe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patch Transaction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 Instru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7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19520" y="4114800"/>
            <a:ext cx="1752480" cy="1523880"/>
            <a:chOff x="2819520" y="4114800"/>
            <a:chExt cx="1752480" cy="1523880"/>
          </a:xfrm>
        </p:grpSpPr>
        <p:sp>
          <p:nvSpPr>
            <p:cNvPr id="162" name=""/>
            <p:cNvSpPr/>
            <p:nvPr/>
          </p:nvSpPr>
          <p:spPr>
            <a:xfrm>
              <a:off x="2819520" y="4191120"/>
              <a:ext cx="1752480" cy="14475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FE Calcul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eca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&amp;D Lo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er Read Loa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imated R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tion Meter P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mple Meter P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ile Load &amp;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6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19720" y="3505320"/>
            <a:ext cx="2209680" cy="1676160"/>
            <a:chOff x="4419720" y="3505320"/>
            <a:chExt cx="2209680" cy="1676160"/>
          </a:xfrm>
        </p:grpSpPr>
        <p:sp>
          <p:nvSpPr>
            <p:cNvPr id="165" name=""/>
            <p:cNvSpPr/>
            <p:nvPr/>
          </p:nvSpPr>
          <p:spPr>
            <a:xfrm>
              <a:off x="4419720" y="3505320"/>
              <a:ext cx="182880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C Data Ware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692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oads &amp; Refre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C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COT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858000" y="3505320"/>
            <a:ext cx="2057400" cy="1676160"/>
            <a:chOff x="6858000" y="3505320"/>
            <a:chExt cx="2057400" cy="1676160"/>
          </a:xfrm>
        </p:grpSpPr>
        <p:sp>
          <p:nvSpPr>
            <p:cNvPr id="169" name=""/>
            <p:cNvSpPr/>
            <p:nvPr/>
          </p:nvSpPr>
          <p:spPr>
            <a:xfrm>
              <a:off x="6858000" y="3505320"/>
              <a:ext cx="1447920" cy="60948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COT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91120"/>
              <a:ext cx="1752480" cy="9903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ounting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ro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DA4A-4D08-476E-A66D-1DFA7C85B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7200" y="1219320"/>
            <a:ext cx="3809880" cy="3276360"/>
            <a:chOff x="457200" y="1219320"/>
            <a:chExt cx="3809880" cy="3276360"/>
          </a:xfrm>
        </p:grpSpPr>
        <p:sp>
          <p:nvSpPr>
            <p:cNvPr id="174" name=""/>
            <p:cNvSpPr/>
            <p:nvPr/>
          </p:nvSpPr>
          <p:spPr>
            <a:xfrm>
              <a:off x="457200" y="12193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 Oper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2133720"/>
              <a:ext cx="3047760" cy="236196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SE Resource Disp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&amp; Weather 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gestion Manag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OM Determination &amp; Dispat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Bal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79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67080" y="1143000"/>
            <a:ext cx="4114800" cy="3352680"/>
            <a:chOff x="4267080" y="1143000"/>
            <a:chExt cx="4114800" cy="3352680"/>
          </a:xfrm>
        </p:grpSpPr>
        <p:sp>
          <p:nvSpPr>
            <p:cNvPr id="178" name=""/>
            <p:cNvSpPr/>
            <p:nvPr/>
          </p:nvSpPr>
          <p:spPr>
            <a:xfrm>
              <a:off x="4267080" y="1143000"/>
              <a:ext cx="1981440" cy="76212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057400"/>
              <a:ext cx="3352680" cy="243828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connection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 Negotiation &amp;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ilitating Regional Planning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Benefit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 and CM Zone 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gestion Management Z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C Deter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R Re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ual Transmission 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B2AC-D356-4812-BC2D-8C7A43A50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1981080" cy="7617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133720"/>
            <a:ext cx="3047760" cy="335268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 and 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and Unit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 Implementation 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1982-276A-4607-B754-4A38582C3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Activities -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1219320"/>
            <a:ext cx="3809880" cy="3657600"/>
            <a:chOff x="457200" y="1219320"/>
            <a:chExt cx="3809880" cy="3657600"/>
          </a:xfrm>
        </p:grpSpPr>
        <p:sp>
          <p:nvSpPr>
            <p:cNvPr id="187" name=""/>
            <p:cNvSpPr/>
            <p:nvPr/>
          </p:nvSpPr>
          <p:spPr>
            <a:xfrm>
              <a:off x="457200" y="1219320"/>
              <a:ext cx="198108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ole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2133720"/>
              <a:ext cx="304776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 Sche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SE Sche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ttlement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eca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&amp;D Lo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 Not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 Guides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38480" y="1219320"/>
            <a:ext cx="4724640" cy="3657600"/>
            <a:chOff x="4038480" y="1219320"/>
            <a:chExt cx="4724640" cy="3657600"/>
          </a:xfrm>
        </p:grpSpPr>
        <p:sp>
          <p:nvSpPr>
            <p:cNvPr id="191" name=""/>
            <p:cNvSpPr/>
            <p:nvPr/>
          </p:nvSpPr>
          <p:spPr>
            <a:xfrm>
              <a:off x="4038480" y="1219320"/>
              <a:ext cx="1981440" cy="76176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ole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2133720"/>
              <a:ext cx="3962520" cy="2743200"/>
            </a:xfrm>
            <a:prstGeom prst="flowChartProcess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MR Contr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OM Agre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tion Adequa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Improv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le Specification Improvements (XML, ED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unication Protocol Improv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3609-DCFF-406D-B80B-921A67910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4:07:44Z</dcterms:created>
  <dc:creator>Marty</dc:creator>
  <dc:description/>
  <dc:language>en-US</dc:language>
  <cp:lastModifiedBy>Marty</cp:lastModifiedBy>
  <dcterms:modified xsi:type="dcterms:W3CDTF">2004-10-06T16:30:33Z</dcterms:modified>
  <cp:revision>3</cp:revision>
  <dc:subject/>
  <dc:title>Allocation of ERCOT Fee </dc:title>
</cp:coreProperties>
</file>