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6D8-2FCC-4A98-AF27-334F14BE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034-44B6-46A7-800F-ACFBD7BD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7C4-CCFA-4B42-A723-09657314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E1E-A6CC-4718-8EAA-AA913267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CB1-7D07-434D-BE76-7CBA970A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9D4-0723-43E9-9260-9D74DDD6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319-61B6-4BF8-AEAE-A771D2E1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61E-7B09-4440-AC2B-4BCCCC71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8C7C-8AE8-4591-8CE8-1E7C3D16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E74-C941-4390-B9A7-A09CD6C2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623-061E-4711-A6AC-E4A5CC98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8B9-3292-4376-B4BF-FC1BF78C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52D4-5314-44F0-A720-255103185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orking Group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ctober 7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447920"/>
            <a:ext cx="83818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FE: COPS and RMS co-hosted a UFE work session on Sept 14. Three action items were identified – assign Task Force to COPS, cleanup deadlines currently in Protocols, Review Transmission Losses calculation. Next meeting scheduled for Oct 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view of Protocols Section 9: Settlement and Billing.  Review of this Section continues.  Group has met three times and has made a complete pass through the chapter.  A new revision will be posted to COPS with a second pass on Oct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52388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PS Sub-Committee Process:  COPS approved their procedures and request TAC appro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tilized PRS format to allow larger representation by Segments, not limited to 4 participants per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lows Proxy Votes and Email Votes, utilizing the language from RMS/WM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quorum is defined as at least one Standing Rep in each of at least 4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simple majority of Segments will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RMA4</cp:lastModifiedBy>
  <dcterms:modified xsi:type="dcterms:W3CDTF">2004-09-30T00:17:58Z</dcterms:modified>
  <cp:revision>98</cp:revision>
  <dc:subject/>
  <dc:title>Point-to-Point</dc:title>
</cp:coreProperties>
</file>