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DB44-0BDE-41E7-B0B0-C842E7AA1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EC3B-AC29-4F22-83FD-58BB6A49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94B6-C713-4772-AF94-09E17F88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0D56-7BE6-4411-9563-1C37E2009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3E3F-BD1B-4050-800E-96814F04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68B2-2157-4B9D-AA81-2871F647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B6BD-F51B-435C-BB9F-A44E96B8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E93D-FC47-440E-8863-65073FF8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743200" y="274680"/>
            <a:ext cx="6019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AE79-547A-40D8-B8EE-1B9C979E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33A1-7012-4662-A56E-AD35CC2B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9878-B6FB-48A4-81CE-08F83380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FF3E-488E-42CA-BD7C-91103831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433C-EC7D-42C1-B346-5B71E6776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0"/>
            <a:ext cx="2133720" cy="12952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RM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Up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1219320"/>
            <a:ext cx="8686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October 7,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80520" y="24922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Retail Market Subcommittee</a:t>
            </a:r>
            <a:br>
              <a:rPr sz="5400"/>
            </a:b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Update to TA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6520" y="7596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MS Items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ting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rmation of RMS Vice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34800">
              <a:lnSpc>
                <a:spcPct val="15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 Conn – Entergy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34800">
              <a:lnSpc>
                <a:spcPct val="15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GRR 2004-012 – TDSP Invoice Dispute Spread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34800">
              <a:lnSpc>
                <a:spcPct val="15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I ID added to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34800">
              <a:lnSpc>
                <a:spcPct val="15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666520" y="7596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MS Items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R 534 – Suspension of Annual 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34800">
              <a:lnSpc>
                <a:spcPct val="15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 2004 TAC Me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lnSpc>
                <a:spcPct val="150000"/>
              </a:lnSpc>
              <a:spcBef>
                <a:spcPts val="34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roved “Urgent” stat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lnSpc>
                <a:spcPct val="150000"/>
              </a:lnSpc>
              <a:spcBef>
                <a:spcPts val="34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roved PRR 5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lnSpc>
                <a:spcPct val="150000"/>
              </a:lnSpc>
              <a:spcBef>
                <a:spcPts val="34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ed that RMS reconsider suspension cri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34800">
              <a:lnSpc>
                <a:spcPct val="15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 considered TAC’s request and recommended suspension of 2004 annual validation for residential customers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34800">
              <a:lnSpc>
                <a:spcPct val="15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C passed email vote to suspend annual validation as per RMS requ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34800">
              <a:lnSpc>
                <a:spcPct val="15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lnSpc>
                <a:spcPct val="150000"/>
              </a:lnSpc>
              <a:spcBef>
                <a:spcPts val="34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d to suspend the 2004 validation process for residential ESI 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lnSpc>
                <a:spcPct val="150000"/>
              </a:lnSpc>
              <a:spcBef>
                <a:spcPts val="34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ed TAC to provide a timeline and a scope of possible resolutions by November 16,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78FE-9A13-4D50-ABC9-D5F6A22ACC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4:01:50Z</dcterms:created>
  <dc:creator>CF48</dc:creator>
  <dc:description/>
  <dc:language>en-US</dc:language>
  <cp:lastModifiedBy>Kristy Tyra</cp:lastModifiedBy>
  <dcterms:modified xsi:type="dcterms:W3CDTF">2004-10-05T20:16:34Z</dcterms:modified>
  <cp:revision>31</cp:revision>
  <dc:subject/>
  <dc:title>RMS Report to TAC 6/3/04</dc:title>
</cp:coreProperties>
</file>