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6D6F-0DE3-434A-B3D7-EC9EF33B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A519-E381-4CC2-80B6-EE05FC4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CA91-F43C-465C-AD0F-22CAFF26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959A-A99E-4AC8-9871-9C44815F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5ABC-FCEC-483B-9FF7-388F564F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05E5-03F1-48C7-951E-41D5B53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107-7AD8-4B89-9AD2-F5DA2CD8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8B90-5720-4BD9-A9B0-3D49CA16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9363-DCEF-4C7E-AD9A-AE1ECD0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4AE7-F933-4794-BD83-8E98D8F0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227D-5218-4092-84BD-19391A9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86C5-1395-4D21-9984-95958FF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670D-0981-4A03-8BE6-729A77A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55B7-82C4-4DAB-BE81-7BF34D7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4DFB-09C4-4DCD-BC76-1F7927C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3E90-8DB6-4115-8FCE-2A88B097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D7E-0277-4F05-919D-A438BE6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213F-16EE-4053-AF64-20CD5E8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1AB2-E9BD-4D1C-9E43-83888BC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694D-90ED-4C15-97A6-2FD8076C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8E90-CB04-4E01-B173-31738E79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7CD8-12C8-4787-A395-7EFB4E77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A5F3-E0AC-4D5A-B783-75FDECE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EE99-8426-4854-AE90-986CBD77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D7E4-CF42-4F4E-8BC2-D218ECF0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353E-1FBE-4B02-AFBB-C99DC9EE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RCOT Fee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llocation Metho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COT TAC Mee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8,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3320" y="595800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 Market Segment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CF07-00F4-4747-99F5-F0E9DDC35A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447920"/>
            <a:ext cx="3809880" cy="3657600"/>
            <a:chOff x="457200" y="1447920"/>
            <a:chExt cx="3809880" cy="3657600"/>
          </a:xfrm>
        </p:grpSpPr>
        <p:sp>
          <p:nvSpPr>
            <p:cNvPr id="196" name=""/>
            <p:cNvSpPr/>
            <p:nvPr/>
          </p:nvSpPr>
          <p:spPr>
            <a:xfrm>
              <a:off x="457200" y="1447920"/>
              <a:ext cx="198108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t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9320" y="2362320"/>
              <a:ext cx="3047760" cy="274320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ception Proces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ception Repor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s-Trak Review and Re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Metr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tee &amp; WG Particip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ail Market Guid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Coord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Transactional Clean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Documentation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ion and 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Portal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038480" y="1447920"/>
            <a:ext cx="1981440" cy="7617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362320"/>
            <a:ext cx="3962520" cy="274320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ed Market Services /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action Specification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Protocol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 Certification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Controls and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9878-15D0-4F40-98FD-3B1729BD6B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Cost Centers a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Cost Center Functions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Costs to Cost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Market Segments to Cost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cost weighting to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6D92-DA00-4FC6-9AC3-459D0FC4B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Pr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s ERCOT’s existing categorization of internal functions as reflected in current financial 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ERCOT’s daily operational functions in support of market activities and de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quire ERCOT employee time / cost reporting for determination of expense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or delineation between wholesale and retail functions for expense capture and al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tarting point for segment benefit determination based on ERCO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8623-CBC8-4015-A40D-A3EC0973C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st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828800"/>
            <a:ext cx="8228520" cy="4495320"/>
            <a:chOff x="457200" y="1828800"/>
            <a:chExt cx="8228520" cy="4495320"/>
          </a:xfrm>
        </p:grpSpPr>
        <p:cxnSp>
          <p:nvCxnSpPr>
            <p:cNvPr id="113" name="_s85021"/>
            <p:cNvCxnSpPr>
              <a:stCxn id="114" idx="3"/>
              <a:endCxn id="115" idx="2"/>
            </p:cNvCxnSpPr>
            <p:nvPr/>
          </p:nvCxnSpPr>
          <p:spPr>
            <a:xfrm flipV="1">
              <a:off x="3983760" y="2356920"/>
              <a:ext cx="588240" cy="370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85019"/>
            <p:cNvCxnSpPr>
              <a:stCxn id="117" idx="1"/>
              <a:endCxn id="115" idx="2"/>
            </p:cNvCxnSpPr>
            <p:nvPr/>
          </p:nvCxnSpPr>
          <p:spPr>
            <a:xfrm rot="10800000">
              <a:off x="4570920" y="2356920"/>
              <a:ext cx="588240" cy="29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85017"/>
            <p:cNvCxnSpPr>
              <a:stCxn id="119" idx="3"/>
              <a:endCxn id="115" idx="2"/>
            </p:cNvCxnSpPr>
            <p:nvPr/>
          </p:nvCxnSpPr>
          <p:spPr>
            <a:xfrm flipV="1">
              <a:off x="3983760" y="2357280"/>
              <a:ext cx="588240" cy="29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85015"/>
            <p:cNvCxnSpPr>
              <a:stCxn id="121" idx="1"/>
              <a:endCxn id="115" idx="2"/>
            </p:cNvCxnSpPr>
            <p:nvPr/>
          </p:nvCxnSpPr>
          <p:spPr>
            <a:xfrm rot="10800000">
              <a:off x="4570920" y="2356920"/>
              <a:ext cx="588240" cy="211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85013"/>
            <p:cNvCxnSpPr>
              <a:stCxn id="123" idx="3"/>
              <a:endCxn id="115" idx="2"/>
            </p:cNvCxnSpPr>
            <p:nvPr/>
          </p:nvCxnSpPr>
          <p:spPr>
            <a:xfrm flipV="1">
              <a:off x="3983760" y="2357280"/>
              <a:ext cx="588240" cy="211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85011"/>
            <p:cNvCxnSpPr>
              <a:stCxn id="125" idx="1"/>
              <a:endCxn id="115" idx="2"/>
            </p:cNvCxnSpPr>
            <p:nvPr/>
          </p:nvCxnSpPr>
          <p:spPr>
            <a:xfrm rot="10800000">
              <a:off x="4570920" y="2356920"/>
              <a:ext cx="588240" cy="132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85007"/>
            <p:cNvCxnSpPr>
              <a:stCxn id="127" idx="3"/>
              <a:endCxn id="115" idx="2"/>
            </p:cNvCxnSpPr>
            <p:nvPr/>
          </p:nvCxnSpPr>
          <p:spPr>
            <a:xfrm flipV="1">
              <a:off x="3983760" y="2357280"/>
              <a:ext cx="588240" cy="132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85006"/>
            <p:cNvCxnSpPr>
              <a:stCxn id="129" idx="1"/>
              <a:endCxn id="115" idx="2"/>
            </p:cNvCxnSpPr>
            <p:nvPr/>
          </p:nvCxnSpPr>
          <p:spPr>
            <a:xfrm rot="10800000">
              <a:off x="4570920" y="2356920"/>
              <a:ext cx="588240" cy="52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85005"/>
            <p:cNvCxnSpPr>
              <a:stCxn id="131" idx="3"/>
              <a:endCxn id="115" idx="2"/>
            </p:cNvCxnSpPr>
            <p:nvPr/>
          </p:nvCxnSpPr>
          <p:spPr>
            <a:xfrm flipV="1">
              <a:off x="3983760" y="2357280"/>
              <a:ext cx="588240" cy="52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85001"/>
            <p:cNvSpPr/>
            <p:nvPr/>
          </p:nvSpPr>
          <p:spPr>
            <a:xfrm>
              <a:off x="2808000" y="182880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ERCO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85002"/>
            <p:cNvSpPr/>
            <p:nvPr/>
          </p:nvSpPr>
          <p:spPr>
            <a:xfrm>
              <a:off x="457200" y="26222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ministrative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5003"/>
            <p:cNvSpPr/>
            <p:nvPr/>
          </p:nvSpPr>
          <p:spPr>
            <a:xfrm>
              <a:off x="5159160" y="26222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olesa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5004"/>
            <p:cNvSpPr/>
            <p:nvPr/>
          </p:nvSpPr>
          <p:spPr>
            <a:xfrm>
              <a:off x="457200" y="34160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 Processing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5010"/>
            <p:cNvSpPr/>
            <p:nvPr/>
          </p:nvSpPr>
          <p:spPr>
            <a:xfrm>
              <a:off x="5159160" y="34160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olesale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5012"/>
            <p:cNvSpPr/>
            <p:nvPr/>
          </p:nvSpPr>
          <p:spPr>
            <a:xfrm>
              <a:off x="460800" y="4209480"/>
              <a:ext cx="35229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Oper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5014"/>
            <p:cNvSpPr/>
            <p:nvPr/>
          </p:nvSpPr>
          <p:spPr>
            <a:xfrm>
              <a:off x="5159160" y="420948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ail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5016"/>
            <p:cNvSpPr/>
            <p:nvPr/>
          </p:nvSpPr>
          <p:spPr>
            <a:xfrm>
              <a:off x="460800" y="5003280"/>
              <a:ext cx="35229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ssion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5018"/>
            <p:cNvSpPr/>
            <p:nvPr/>
          </p:nvSpPr>
          <p:spPr>
            <a:xfrm>
              <a:off x="5159160" y="5003280"/>
              <a:ext cx="3526560" cy="5274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ail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85020"/>
            <p:cNvSpPr/>
            <p:nvPr/>
          </p:nvSpPr>
          <p:spPr>
            <a:xfrm>
              <a:off x="457200" y="5796720"/>
              <a:ext cx="3526560" cy="5274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ital Pro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BDD4-533D-4456-B133-2FBC23BC37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Center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services of ERCOT that are allocated across all ERCOT internal job func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ion Processing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management &amp; processing of files &amp; data in support of the market &amp; ERCOT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oversight and operation of the transmission gr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mission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coordination, analysis, planning &amp; implementation of transmission infrastructure improvements &amp; constr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and technical expenditures in support of approved projects for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back office functions in support of wholesale settlement operatio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oversight and management of QSE contracts and Service agreements (RMR and Black Start) with supply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back office functions in support of retail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analysis, coordination, and recommendation of retail solutions and support servic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E491-DCA8-4132-803B-7E9440EE8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066680"/>
            <a:ext cx="28195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52680" y="1828800"/>
            <a:ext cx="3962520" cy="4648320"/>
            <a:chOff x="3352680" y="1828800"/>
            <a:chExt cx="3962520" cy="4648320"/>
          </a:xfrm>
        </p:grpSpPr>
        <p:sp>
          <p:nvSpPr>
            <p:cNvPr id="137" name=""/>
            <p:cNvSpPr/>
            <p:nvPr/>
          </p:nvSpPr>
          <p:spPr>
            <a:xfrm>
              <a:off x="3352680" y="1981080"/>
              <a:ext cx="3962520" cy="449604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tive 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COT &amp; Market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iance Fun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SE Certification and 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col Revisions and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umentation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kehold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Commun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R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O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 Services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Warehou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Appl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yber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1828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12EC-EB5C-4857-910E-0E746BBE6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rocess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1371600"/>
            <a:ext cx="2057400" cy="1676520"/>
            <a:chOff x="2438280" y="1371600"/>
            <a:chExt cx="2057400" cy="1676520"/>
          </a:xfrm>
        </p:grpSpPr>
        <p:sp>
          <p:nvSpPr>
            <p:cNvPr id="141" name=""/>
            <p:cNvSpPr/>
            <p:nvPr/>
          </p:nvSpPr>
          <p:spPr>
            <a:xfrm>
              <a:off x="32004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137160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ail Supp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43200" y="2057400"/>
              <a:ext cx="175248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 Sche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/LSE Sett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3505320"/>
            <a:ext cx="2057400" cy="1676160"/>
            <a:chOff x="380880" y="3505320"/>
            <a:chExt cx="2057400" cy="1676160"/>
          </a:xfrm>
        </p:grpSpPr>
        <p:sp>
          <p:nvSpPr>
            <p:cNvPr id="145" name=""/>
            <p:cNvSpPr/>
            <p:nvPr/>
          </p:nvSpPr>
          <p:spPr>
            <a:xfrm>
              <a:off x="106668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350532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" y="4191120"/>
              <a:ext cx="1752480" cy="9903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oice / Bi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L Ru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62320" y="3505320"/>
            <a:ext cx="1752480" cy="6094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lesale /R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y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371600"/>
            <a:ext cx="2057400" cy="1676520"/>
            <a:chOff x="304920" y="1371600"/>
            <a:chExt cx="2057400" cy="1676520"/>
          </a:xfrm>
        </p:grpSpPr>
        <p:sp>
          <p:nvSpPr>
            <p:cNvPr id="150" name=""/>
            <p:cNvSpPr/>
            <p:nvPr/>
          </p:nvSpPr>
          <p:spPr>
            <a:xfrm>
              <a:off x="304920" y="1371600"/>
              <a:ext cx="144756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olesale Supp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2057400"/>
              <a:ext cx="175284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 Sche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 Sche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olesale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nual Validation L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/Resource Sett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343400" y="1371600"/>
            <a:ext cx="2514600" cy="1676520"/>
            <a:chOff x="4343400" y="1371600"/>
            <a:chExt cx="2514600" cy="1676520"/>
          </a:xfrm>
        </p:grpSpPr>
        <p:sp>
          <p:nvSpPr>
            <p:cNvPr id="154" name=""/>
            <p:cNvSpPr/>
            <p:nvPr/>
          </p:nvSpPr>
          <p:spPr>
            <a:xfrm>
              <a:off x="4343400" y="1371600"/>
              <a:ext cx="182880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ail Registration D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2057400"/>
              <a:ext cx="205740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X Set Transa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ket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ception Research &amp; Clean 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ail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nual Validation L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578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81680" y="1371600"/>
            <a:ext cx="2057400" cy="1676520"/>
            <a:chOff x="6781680" y="1371600"/>
            <a:chExt cx="2057400" cy="1676520"/>
          </a:xfrm>
        </p:grpSpPr>
        <p:sp>
          <p:nvSpPr>
            <p:cNvPr id="158" name=""/>
            <p:cNvSpPr/>
            <p:nvPr/>
          </p:nvSpPr>
          <p:spPr>
            <a:xfrm>
              <a:off x="6781680" y="137160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86600" y="2057400"/>
              <a:ext cx="175248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 Fe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patch Transactio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 Instru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74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19520" y="4114800"/>
            <a:ext cx="1752480" cy="1523880"/>
            <a:chOff x="2819520" y="4114800"/>
            <a:chExt cx="1752480" cy="1523880"/>
          </a:xfrm>
        </p:grpSpPr>
        <p:sp>
          <p:nvSpPr>
            <p:cNvPr id="162" name=""/>
            <p:cNvSpPr/>
            <p:nvPr/>
          </p:nvSpPr>
          <p:spPr>
            <a:xfrm>
              <a:off x="2819520" y="4191120"/>
              <a:ext cx="1752480" cy="14475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FE Calcul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eca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&amp;D Lo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er Read Loa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imated R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 Meter P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mple Meter P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file Load &amp;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6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19720" y="3505320"/>
            <a:ext cx="2209680" cy="1676160"/>
            <a:chOff x="4419720" y="3505320"/>
            <a:chExt cx="2209680" cy="1676160"/>
          </a:xfrm>
        </p:grpSpPr>
        <p:sp>
          <p:nvSpPr>
            <p:cNvPr id="165" name=""/>
            <p:cNvSpPr/>
            <p:nvPr/>
          </p:nvSpPr>
          <p:spPr>
            <a:xfrm>
              <a:off x="4419720" y="3505320"/>
              <a:ext cx="182880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C Data Wareh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6920" y="4191120"/>
              <a:ext cx="1752480" cy="9903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oads &amp; Refre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C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COT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858000" y="3505320"/>
            <a:ext cx="2057400" cy="1676160"/>
            <a:chOff x="6858000" y="3505320"/>
            <a:chExt cx="2057400" cy="1676160"/>
          </a:xfrm>
        </p:grpSpPr>
        <p:sp>
          <p:nvSpPr>
            <p:cNvPr id="169" name=""/>
            <p:cNvSpPr/>
            <p:nvPr/>
          </p:nvSpPr>
          <p:spPr>
            <a:xfrm>
              <a:off x="6858000" y="350532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COT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91120"/>
              <a:ext cx="1752480" cy="9903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ounting &amp;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act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0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DEC8-F509-42DF-99F5-71B752172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57200" y="1219320"/>
            <a:ext cx="3809880" cy="3276360"/>
            <a:chOff x="457200" y="1219320"/>
            <a:chExt cx="3809880" cy="3276360"/>
          </a:xfrm>
        </p:grpSpPr>
        <p:sp>
          <p:nvSpPr>
            <p:cNvPr id="174" name=""/>
            <p:cNvSpPr/>
            <p:nvPr/>
          </p:nvSpPr>
          <p:spPr>
            <a:xfrm>
              <a:off x="457200" y="1219320"/>
              <a:ext cx="198108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 Oper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2133720"/>
              <a:ext cx="3047760" cy="23619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SE Resource Disp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&amp; Weather 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gestion Manage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OM Determination &amp; Dispat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Bal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79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67080" y="1143000"/>
            <a:ext cx="4114800" cy="3352680"/>
            <a:chOff x="4267080" y="1143000"/>
            <a:chExt cx="4114800" cy="3352680"/>
          </a:xfrm>
        </p:grpSpPr>
        <p:sp>
          <p:nvSpPr>
            <p:cNvPr id="178" name=""/>
            <p:cNvSpPr/>
            <p:nvPr/>
          </p:nvSpPr>
          <p:spPr>
            <a:xfrm>
              <a:off x="4267080" y="1143000"/>
              <a:ext cx="1981440" cy="76212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057400"/>
              <a:ext cx="3352680" cy="243828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connection 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act Negotiation &amp;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ilitating Regional Planning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Benefit 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C and CM Zone 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gestion Management Z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C Deter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R Re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nual Transmission 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44F1-4F36-4387-A691-185186C2CE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1981080" cy="7617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133720"/>
            <a:ext cx="3047760" cy="335268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 and 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and Unit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 Implementation Follow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E6CA-F993-4113-BDE1-D35EB9806D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1219320"/>
            <a:ext cx="3809880" cy="3657600"/>
            <a:chOff x="457200" y="1219320"/>
            <a:chExt cx="3809880" cy="3657600"/>
          </a:xfrm>
        </p:grpSpPr>
        <p:sp>
          <p:nvSpPr>
            <p:cNvPr id="187" name=""/>
            <p:cNvSpPr/>
            <p:nvPr/>
          </p:nvSpPr>
          <p:spPr>
            <a:xfrm>
              <a:off x="457200" y="1219320"/>
              <a:ext cx="198108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ole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2133720"/>
              <a:ext cx="3047760" cy="274320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 Sche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SE Sche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ttlement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eca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&amp;D Lo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 Notif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 Guides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38480" y="1219320"/>
            <a:ext cx="4724640" cy="3657600"/>
            <a:chOff x="4038480" y="1219320"/>
            <a:chExt cx="4724640" cy="3657600"/>
          </a:xfrm>
        </p:grpSpPr>
        <p:sp>
          <p:nvSpPr>
            <p:cNvPr id="191" name=""/>
            <p:cNvSpPr/>
            <p:nvPr/>
          </p:nvSpPr>
          <p:spPr>
            <a:xfrm>
              <a:off x="4038480" y="1219320"/>
              <a:ext cx="198144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ole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2133720"/>
              <a:ext cx="3962520" cy="274320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MR Contr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OM Agre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tion Adequa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Improv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le Specification Improvements (XML, ED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munication Protocol Improv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7E5D-4F22-4F20-B7C9-3E5685AFBB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4:07:44Z</dcterms:created>
  <dc:creator>Marty</dc:creator>
  <dc:description/>
  <dc:language>en-US</dc:language>
  <cp:lastModifiedBy>Marty</cp:lastModifiedBy>
  <dcterms:modified xsi:type="dcterms:W3CDTF">2004-10-06T16:30:33Z</dcterms:modified>
  <cp:revision>3</cp:revision>
  <dc:subject/>
  <dc:title>Allocation of ERCOT Fee </dc:title>
</cp:coreProperties>
</file>