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425-9087-4AD7-9C96-3E9AA062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01C-5839-4811-8989-650393F0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0C6-E93C-4848-BA78-76019F84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B78-AFC9-417C-B63F-AC7025DE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32E-1871-4ECB-AFEE-0C891FD9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FDF-B607-44E7-9979-A713D33F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1F4-1F27-47DE-8EF0-0CCBBC92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771-9B4A-43C6-B17B-5B64EE17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FD0-E9EE-42C7-B8DC-0EE305CF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051-9A9B-4651-B535-5800AD32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FE2-BBBD-4C10-B4BC-9A4FC847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36D-5E1A-4239-BF4E-B11FF410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D6D3-977F-4AEF-8838-61EF6F178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cot.com/Participants/PublicMarketInfo/PublicMarketInformation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Participants/PublicMarketInfo/ESIIDStat.htm" TargetMode="External"/><Relationship Id="rId2" Type="http://schemas.openxmlformats.org/officeDocument/2006/relationships/hyperlink" Target="http://www.ercot.com/Participants/PublicMarketInfo/ESIIDStat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Participants/PublicMarketInfo/ESIIDStat.htm" TargetMode="External"/><Relationship Id="rId2" Type="http://schemas.openxmlformats.org/officeDocument/2006/relationships/hyperlink" Target="http://www.ercot.com/Participants/PublicMarketInfo/ESIIDStat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thly ESIID Consumption Data Loading Report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R Protocol Compliance Verifica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ily Public Load Estimation Cou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1F1-ED00-4D2D-98AA-AF90299888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R Protocol Compliance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R Protocol Compliance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Active IDR profiled ESIIDs by MRE by Trad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if IDR data is loaded (origin = ‘M’ or ‘G’) for ESIIDs defined above for specified Trad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e 1 chart in an Exce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R Protocol Compliance Verification Cha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provides MREs and their corresponding data loading percentages for 30 trade 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076-2022-4D2E-B585-F652B8C46C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ily Public Load Estimation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ily Public Load Estimation 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ed daily during Data Aggregation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shed in conjunction with Settlement Statements for trade dates run in Data Aggregation two nights p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s counts by Active ESIID and percentages of usage data loaded by MRE by trad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s produced for each trade date and include both NIDR and IDR mete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ed based on SCR 7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ed throug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COT website a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ercot.com/Participants/PublicMarketInfo/PublicMarketInformatio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L in Report Explorer/Public f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87E-A08F-4296-A1FA-840A294CCB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ily Public Load Estimation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3459240"/>
            <a:ext cx="57150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ROLL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-2079" b="58355"/>
          <a:stretch/>
        </p:blipFill>
        <p:spPr>
          <a:xfrm>
            <a:off x="304920" y="1219320"/>
            <a:ext cx="883908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10412" r="0" b="53147"/>
          <a:stretch/>
        </p:blipFill>
        <p:spPr>
          <a:xfrm>
            <a:off x="304920" y="3962520"/>
            <a:ext cx="8610480" cy="2361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90920" y="5029200"/>
            <a:ext cx="1066680" cy="76320"/>
          </a:xfrm>
          <a:prstGeom prst="leftArrow">
            <a:avLst>
              <a:gd name="adj1" fmla="val 50000"/>
              <a:gd name="adj2" fmla="val 3494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0CE-FDEC-448D-B60A-C7707AA9A4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ily Public Load Estimation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14100"/>
          <a:stretch/>
        </p:blipFill>
        <p:spPr>
          <a:xfrm>
            <a:off x="228600" y="1295280"/>
            <a:ext cx="8763120" cy="5410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267080" y="6019920"/>
            <a:ext cx="838440" cy="75960"/>
          </a:xfrm>
          <a:prstGeom prst="leftArrow">
            <a:avLst>
              <a:gd name="adj1" fmla="val 50000"/>
              <a:gd name="adj2" fmla="val 2759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401-19A7-48C0-B486-23D84656C2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ily Public Load Estimation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ily Public Load Estimation 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Active NIDR profiled ESIIDs by MRE for Trad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rmine if NIDR data was loaded for ESII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rmine if ESIID was profiled with Historical usage or Default Profile for those ESIIDs without NIDR usage data loaded for trade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Active IDR profiled ESIIDs by MRE for Trad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rmine if IDR data was loaded (origin = ‘M’ or ‘G’) for ESI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rmine if ESIID was profiled with Historical usage or Default Profile for those ESIIDs without NIDR usage data loaded for trade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e 1 chart in a PDF file and a CSV file for each trad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COT/MRE Count Report – provides MREs and their corresponding Active ESIID counts and usage data loading percentages for trade date (both broken down by Actual, Historical and Default c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B1A-B720-4D5A-B756-DB728CC079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they comp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76320" y="1447920"/>
            <a:ext cx="327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umption Data Lo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thly PD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DR and I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percentages of Active ESIIDs by profiled meter type with usage loaded by MRE by Trade Date in grap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DR - percentages for trade dates from data used in data aggre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R - percentages for 07/01/2003 – current calculated after data agg/settlements and usage data lo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R - 1st trade date MRE is out of compliance reported in 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S requested report in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going maintenance to accommodate market changes and data range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447920"/>
            <a:ext cx="3200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Estimation 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ily PDF and CSV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DR and I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unts and percenta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Active ESIIDs by profiled meter type by MRE by Trade Date for actual, historical and default data used in data aggregation in ch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nts and percentages for each trade date run in batch two nights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 725 public 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1447920"/>
            <a:ext cx="3048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toco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ily xls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ntage of Active ESIIDs by IDR profiled meter type with usage loaded by MRE by Trade Date in ch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d only when running True Up Settlements/Re-Sett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ntages for minimum True Up trade date in that day’s batch run + 2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col requi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D1C-077F-43D2-93B3-BDA0151F0E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nd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DR Consumption Data Loading percentage data and IDR Consumption Data Loading percentage data (bar graph) provided daily through the Public Load Estimation Count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R Protocol Compliance provides 30 days (minimum True Up Settlement + 29 days) of trade date percentages every day that True Ups ar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1148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lusive Inform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R Consumption Data Loading Report provides the first trade date that the MRE/Market falls out of com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Load Estimation Counts Report provides counts of Active ESIIDs for Actual, Historical, and Default data used for each trade date settlement everyday (the detail behind the percent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CB0-4DC8-452B-808B-C55CF7275B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 and Sugg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utilizes the Monthly ESIID Consumption Data Loading Reports and for what purp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rket could utilize the Daily Public Load Estimation Report and the IDR Protocol Compliance Verifications in place of the Monthly ESIID Data Consumption Loading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615-25A9-42CA-995E-31B7429781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803-7E81-4FBF-93AA-8F39676AA5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thly ESIID Consumption Data Loading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nthly ESIID Consumption Data Loading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ed at the end of the month after the batch process compl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s percentages of usage data loaded by MRE by trad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s produced for both NIDR and IDR mete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ed based on RMS request in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ed throug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COT websit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ercot.com/Participants/PublicMarketInfo/ESIIDStat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ML in Report Explorer/Public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60F-B964-4672-A1B1-74DB508535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53147"/>
          <a:stretch/>
        </p:blipFill>
        <p:spPr>
          <a:xfrm>
            <a:off x="152280" y="1600200"/>
            <a:ext cx="8839440" cy="4038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thly ESIID Consumption Data Loading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809880"/>
            <a:ext cx="990360" cy="228600"/>
          </a:xfrm>
          <a:prstGeom prst="leftArrow">
            <a:avLst>
              <a:gd name="adj1" fmla="val 50000"/>
              <a:gd name="adj2" fmla="val 1083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46A-2F93-449B-BA74-FDC20D1F9E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14100"/>
          <a:stretch/>
        </p:blipFill>
        <p:spPr>
          <a:xfrm>
            <a:off x="228600" y="1295280"/>
            <a:ext cx="8763120" cy="5410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95680" y="5181480"/>
            <a:ext cx="838440" cy="152640"/>
          </a:xfrm>
          <a:prstGeom prst="leftArrow">
            <a:avLst>
              <a:gd name="adj1" fmla="val 50000"/>
              <a:gd name="adj2" fmla="val 13732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thly ESIID Consumption Data Loading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5BF-59C8-4B24-B253-C658C6E144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thly ESIID Consumption Data Loading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R Consumption Data Loading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s percentages of usage data loaded by MRE by trade date from 07/01/2003 to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lculated at the end of the batch process: after data aggregation/settlements and usage data loading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rmine Active IDR profiled ESIIDs by MRE by Trad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rmine if IDR data is loaded (origin = ‘M’ or ‘G’) for ESIIDs defined above for specified Trad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e 1 chart and 3 graphs in a PD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74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DR Data Completeness Char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– provides the first trade date MRE had less than 90% of data loaded; provides the first trade date Market had less than 99% of data loa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 of IDR Data Loaded by MRE (Graph 1: 0-100%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– displays a line graph for all MREs for the percentage of IDR data loaded by trade d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 of IDR Data Loaded by MRE (Graph 2: 90-100%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– displays a line graph for all MREs for the percentage of IDR data loaded by trad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 of Actual IDR Data Loaded from Batch Proces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– displays a bar graph for each MRE for 3 specified trade dates that were run in the previous night’s b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DBE-672E-49E3-8E90-E3047278F2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thly ESIID Consumption Data Loading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IDR Consumption Data Loading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s percentages of usage data loaded by MRE by trade date from the data aggregation trade date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Active NIDR profiled ESIIDs by MRE for trade dates that were run in the previous night’s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if NIDR data is loaded for ESIIDs defined above for specified Trad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e 1 graph in a PD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% of Actual Non-IDR Data Loaded from Batch Proc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displays a bar graph for each MRE for 3 specified trade dates that were run in the previous night’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C5D-F07D-450E-85F9-3F5D3F22C3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R Protocol Compliance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R Protocol Compliance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ed same day, but prior to running a True Up Settlement or Resettlement of a True Up Sett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s percentages of IDR usage data loaded by MRE by trade date from minimum True Up trade date to be settled plus 29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d by ERCOT to determine if IDR data is compliant to run True Up Settlements and True Up Resett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ed based on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ed throug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COT website a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ercot.com/Participants/PublicMarketInfo/ESIIDStat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L in Report Explorer/Public f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F7F-F200-464B-8C3B-79DD1802EA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53147"/>
          <a:stretch/>
        </p:blipFill>
        <p:spPr>
          <a:xfrm>
            <a:off x="152280" y="1600200"/>
            <a:ext cx="8839440" cy="4038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R Protocol Compliance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358128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636-5E05-4A4B-888D-CC319C95D9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0" b="14100"/>
          <a:stretch/>
        </p:blipFill>
        <p:spPr>
          <a:xfrm>
            <a:off x="228600" y="1295280"/>
            <a:ext cx="8763120" cy="5410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19720" y="533412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R Protocol Compliance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517-4778-47D3-91DF-CCFF645F67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ashbaugh</cp:lastModifiedBy>
  <cp:lastPrinted>2002-09-24T18:27:58Z</cp:lastPrinted>
  <dcterms:modified xsi:type="dcterms:W3CDTF">2004-09-14T19:19:13Z</dcterms:modified>
  <cp:revision>551</cp:revision>
  <dc:subject/>
  <dc:title>PowerPoint Presentation</dc:title>
</cp:coreProperties>
</file>