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2EB-12DF-40F4-8CF8-0F13CA50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B65-84E3-4797-B3D9-2AA5DE70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700-9301-449F-A505-56F775C1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EDA-1E25-4052-A48E-6BB28706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EA2-522B-442A-94D8-70345F3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3EF-232E-45FA-8A69-F72F9B57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918-D296-4771-AC0B-E9E71B7A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F95-C1DE-4BF1-852C-40F11973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2BE-9282-48D0-876D-CAB1F073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768-E61F-4051-BEC2-AA12BF6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D8D-F83F-4DF2-8B36-F077EA8E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357-DA6B-48B1-AE0B-07293E07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3998-4440-4640-9FCE-74EBB7BD4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732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BC7-6F74-4A69-9F92-857069630A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Been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ed 14 MPs over a three week period in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T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 with MPs to finalize requirements on June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worked with internal ERCOT departments to assist in defin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ntinue th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08B-A227-47BC-B712-5A0F1EE284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have focused around the following top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/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Sub-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 Response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 Clos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ing Monitoring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Unifi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ing 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2B1-5E59-462A-B2F3-60B0031C8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Next Ste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 submitted to proceed with implementing requirements gathered from SCR 7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prioritized by PRS fo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0DC-1DF0-4123-9373-C23E80AC9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64D-B0EA-4B91-857F-D4611A27E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kbergman</cp:lastModifiedBy>
  <cp:lastPrinted>2002-09-24T18:27:58Z</cp:lastPrinted>
  <dcterms:modified xsi:type="dcterms:W3CDTF">2004-08-05T18:14:57Z</dcterms:modified>
  <cp:revision>278</cp:revision>
  <dc:subject>RMS</dc:subject>
  <dc:title>ERCOT RMS Update 10-16-03</dc:title>
</cp:coreProperties>
</file>