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B41-186E-4D48-80B7-D6004C3B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688-950E-4DB9-9288-E05564E9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752-EF37-4244-BEE7-E164BA6B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1C8-FDB1-4BF8-BB46-8E9906F7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E10-14ED-413E-BD2F-BE44EC5F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BE8-E590-4D77-8953-09D2081D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6D5-67E5-4BCB-B3FF-CB1019A9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078-7063-4150-A3FB-29BED9F2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90E-A203-4E48-8596-95F7DF7F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7CD-73BC-4F2C-813C-5AD7B073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731-9A89-44DA-9EE1-6E952350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866-A4EB-4E9D-BF57-8A81A42A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E65D-E629-4E3E-B0A9-742A3F002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xas Market Link – TML Ph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DDC-B8D5-434A-9DD7-4B6B07FAD0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Phase II in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ccessful release on 7/31/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Find ESII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Find Transac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 Data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Side” transaction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Service Ord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ESI ID search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d Usability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Factors engineered screen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displayed at summary &amp; detai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downloa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232-696F-4F47-9B6D-C5E0D9CEA3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Phase II outstanding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of 10 market impacting defects identified related to requirements of TML Phase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of these will be corrected on 8/28 Retail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13 month search through current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page display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of these will be corrected on 9/25 Retail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of 9 digit zip code – Find ESI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67_03F &amp; 867_04 Transaction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 of message upon time out of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of these will be determined upon analysis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permissions creation for Withdraw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 screen verbiage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accuracy in identification of error ESI ID in list –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ESI ID list (multiple), upon ESI ID not found, link is inacc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27C-CF1B-47EF-918F-C7DFA816A6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Phase II outstanding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Identified Enhancements related to TML Phase II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hange the “Apt/Suite #” to “Address Line 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Place the address overflow on a separate line in the Find ESI ID details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Process for Enhancement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R is written and assigned a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itization and ranking process fo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itization and ranking teams assign the enhancement SIRs to a target release date based upon resource availability and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238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nhancements are those items NOT in requirements, but identified as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335-09FC-4241-B001-27242D95E1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L Phase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sale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 requirements 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L Retail Enhancemen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-Term [TML Phase II]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level requirements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5D1-8DF3-455E-80D4-DE6EF64D1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2A7-1ADC-4E26-89AD-09562CE4A4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8-05T13:45:07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