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BBE-44E8-40DD-AF4E-5ACB6768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147-F72A-448E-8A01-A6CB422E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6E2A-F5E4-432A-ACCA-F0697C25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C42-36D0-4DDA-A43D-B767418A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648-71E4-4F88-A007-6E3B8F65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6623-331D-4FC6-BE5D-0C656FAD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AFA9-FB19-4FAA-AF59-3D0CF93B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29A2-D3A1-49CB-9928-66FB589A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6D82-D4BC-4602-8EC7-408EE9AF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72B-FAE9-4F01-8B2C-17D2EB5E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81DF-D944-4B33-AA5E-CE8C59A2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653-DE27-450B-B516-AF3AC22E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2030-2950-4BCC-A3D2-BFBB3C0FC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514600"/>
            <a:ext cx="8153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une 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 Data Extract Variance Repo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738-6126-44B0-B1B2-FAF3094098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CR DEV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of 79 Competitive Retailers Reported Numbers by the due date for June (07/02/0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for August RMS (July Reports) are due by August 3, 200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s for next mon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CRs 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will break numbers out by TD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C4B-B02F-4F06-B375-AA53380C7C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4920" y="1371600"/>
          <a:ext cx="8458200" cy="4876920"/>
        </p:xfrm>
        <a:graphic>
          <a:graphicData uri="http://schemas.openxmlformats.org/drawingml/2006/table">
            <a:tbl>
              <a:tblPr/>
              <a:tblGrid>
                <a:gridCol w="2365200"/>
                <a:gridCol w="1602000"/>
                <a:gridCol w="1628640"/>
                <a:gridCol w="1432080"/>
                <a:gridCol w="1430280"/>
              </a:tblGrid>
              <a:tr h="1171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6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2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A2A1-1EFF-4EDD-A89E-94CA6E97F1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1523880"/>
          <a:ext cx="8534160" cy="4724640"/>
        </p:xfrm>
        <a:graphic>
          <a:graphicData uri="http://schemas.openxmlformats.org/drawingml/2006/table">
            <a:tbl>
              <a:tblPr/>
              <a:tblGrid>
                <a:gridCol w="2387520"/>
                <a:gridCol w="1614600"/>
                <a:gridCol w="1644480"/>
                <a:gridCol w="1442880"/>
                <a:gridCol w="1444680"/>
              </a:tblGrid>
              <a:tr h="113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8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,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13,3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4,3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1,8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,7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1,0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,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27,4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2,4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2,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,5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10,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3,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128,2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B610-7EE8-43B9-86DE-A2E42878A3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447920"/>
          <a:ext cx="8458200" cy="4800600"/>
        </p:xfrm>
        <a:graphic>
          <a:graphicData uri="http://schemas.openxmlformats.org/drawingml/2006/table">
            <a:tbl>
              <a:tblPr/>
              <a:tblGrid>
                <a:gridCol w="2365200"/>
                <a:gridCol w="1602000"/>
                <a:gridCol w="1628640"/>
                <a:gridCol w="1432080"/>
                <a:gridCol w="1430280"/>
              </a:tblGrid>
              <a:tr h="11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925A-448E-43FF-9C2F-0135BC90E7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U Energy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04920" y="1447920"/>
          <a:ext cx="8458200" cy="4724280"/>
        </p:xfrm>
        <a:graphic>
          <a:graphicData uri="http://schemas.openxmlformats.org/drawingml/2006/table">
            <a:tbl>
              <a:tblPr/>
              <a:tblGrid>
                <a:gridCol w="2365200"/>
                <a:gridCol w="1602000"/>
                <a:gridCol w="1628640"/>
                <a:gridCol w="1432080"/>
                <a:gridCol w="1430280"/>
              </a:tblGrid>
              <a:tr h="113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,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,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,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4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,9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95D-5E2B-40C9-847B-FC6E95B3A2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04920" y="1447920"/>
          <a:ext cx="8458200" cy="4724280"/>
        </p:xfrm>
        <a:graphic>
          <a:graphicData uri="http://schemas.openxmlformats.org/drawingml/2006/table">
            <a:tbl>
              <a:tblPr/>
              <a:tblGrid>
                <a:gridCol w="2365200"/>
                <a:gridCol w="1602000"/>
                <a:gridCol w="1628640"/>
                <a:gridCol w="1432080"/>
                <a:gridCol w="1430280"/>
              </a:tblGrid>
              <a:tr h="113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,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,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,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4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,9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39B9-444A-4905-9740-80562957CD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1371600"/>
          <a:ext cx="8534160" cy="4800600"/>
        </p:xfrm>
        <a:graphic>
          <a:graphicData uri="http://schemas.openxmlformats.org/drawingml/2006/table">
            <a:tbl>
              <a:tblPr/>
              <a:tblGrid>
                <a:gridCol w="2387520"/>
                <a:gridCol w="1614600"/>
                <a:gridCol w="1644480"/>
                <a:gridCol w="1442880"/>
                <a:gridCol w="1444680"/>
              </a:tblGrid>
              <a:tr h="11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D85-4708-4438-9032-A2C193DEE5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04920" y="1447920"/>
          <a:ext cx="8458200" cy="4724280"/>
        </p:xfrm>
        <a:graphic>
          <a:graphicData uri="http://schemas.openxmlformats.org/drawingml/2006/table">
            <a:tbl>
              <a:tblPr/>
              <a:tblGrid>
                <a:gridCol w="2365200"/>
                <a:gridCol w="1602000"/>
                <a:gridCol w="1628640"/>
                <a:gridCol w="1432080"/>
                <a:gridCol w="1430280"/>
              </a:tblGrid>
              <a:tr h="113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101,8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2,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24,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5,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10,5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,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62,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5,6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9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250,8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50,8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54,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79,0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3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,1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2,8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,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12,0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,2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128,5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4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992-9D0B-45FF-BD4B-69326BB2F8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08-17T22:54:01Z</dcterms:modified>
  <cp:revision>273</cp:revision>
  <dc:subject/>
  <dc:title>PowerPoint Presentation</dc:title>
</cp:coreProperties>
</file>