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DE8-88B4-4616-AEDF-50A557FE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8C1D-6CD6-4D69-A831-A5350DF9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320-7736-4932-A99D-A5218906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591-DD86-4389-BEA3-C7B7F4AC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4E4B-4780-44C6-9EA4-9CAEFD01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E89-0DC2-490B-B215-13772BCB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FB3-3771-4F3E-BE0D-DBB1D627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01F8-0113-46B3-8EB5-D40999DE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7BD-C454-47BD-9E2C-77C95E6A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B545-476B-4054-8089-28DBCA5E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A4F-8CC0-438D-8EF8-93F5DA4B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8A7A-CE01-4D07-A8BE-EAFC1100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EA23-8083-46F0-987E-FCDD20D57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ttlement Variance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718-A338-494B-91D9-193C7D604B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196-43DE-45BE-AD59-335AC6C929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uly 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923-7C2C-41F4-9769-C804C1F2B0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of 79 Competitive Retailers Reported Numbers by the due date for July (08/02/0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September RMS (August Reports) are due by September 2, 200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 for next mon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CRs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CE1-F404-49AB-8623-3649703092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1371600"/>
          <a:ext cx="8458200" cy="4800600"/>
        </p:xfrm>
        <a:graphic>
          <a:graphicData uri="http://schemas.openxmlformats.org/drawingml/2006/table">
            <a:tbl>
              <a:tblPr/>
              <a:tblGrid>
                <a:gridCol w="2365200"/>
                <a:gridCol w="1602000"/>
                <a:gridCol w="1628640"/>
                <a:gridCol w="1432080"/>
                <a:gridCol w="1430280"/>
              </a:tblGrid>
              <a:tr h="11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,6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2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,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,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,4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6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,2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4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128,5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4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622B-104D-45F5-B13A-7225D4EBA9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4920" y="1371600"/>
          <a:ext cx="8381880" cy="4800600"/>
        </p:xfrm>
        <a:graphic>
          <a:graphicData uri="http://schemas.openxmlformats.org/drawingml/2006/table">
            <a:tbl>
              <a:tblPr/>
              <a:tblGrid>
                <a:gridCol w="2344680"/>
                <a:gridCol w="1585800"/>
                <a:gridCol w="1614600"/>
                <a:gridCol w="1419120"/>
                <a:gridCol w="1417680"/>
              </a:tblGrid>
              <a:tr h="11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C36-0D7D-4060-B317-F754E7BF22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04920" y="1371600"/>
          <a:ext cx="8534160" cy="4876920"/>
        </p:xfrm>
        <a:graphic>
          <a:graphicData uri="http://schemas.openxmlformats.org/drawingml/2006/table">
            <a:tbl>
              <a:tblPr/>
              <a:tblGrid>
                <a:gridCol w="2387520"/>
                <a:gridCol w="1614600"/>
                <a:gridCol w="1644480"/>
                <a:gridCol w="1442880"/>
                <a:gridCol w="1444680"/>
              </a:tblGrid>
              <a:tr h="117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,4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9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6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128,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6A8-06EB-4483-90E8-F3E43A626A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lectric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371600"/>
          <a:ext cx="8610480" cy="4876920"/>
        </p:xfrm>
        <a:graphic>
          <a:graphicData uri="http://schemas.openxmlformats.org/drawingml/2006/table">
            <a:tbl>
              <a:tblPr/>
              <a:tblGrid>
                <a:gridCol w="2408040"/>
                <a:gridCol w="1630440"/>
                <a:gridCol w="1658880"/>
                <a:gridCol w="1455840"/>
                <a:gridCol w="1457280"/>
              </a:tblGrid>
              <a:tr h="117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9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8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5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,4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2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,5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DA3-85ED-4722-B97A-BF07AAF6EF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371600"/>
          <a:ext cx="8458200" cy="4800600"/>
        </p:xfrm>
        <a:graphic>
          <a:graphicData uri="http://schemas.openxmlformats.org/drawingml/2006/table">
            <a:tbl>
              <a:tblPr/>
              <a:tblGrid>
                <a:gridCol w="2365200"/>
                <a:gridCol w="1602000"/>
                <a:gridCol w="1628640"/>
                <a:gridCol w="1432080"/>
                <a:gridCol w="1430280"/>
              </a:tblGrid>
              <a:tr h="11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2A6-0C30-4DF9-80F2-52C08D272D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371600"/>
          <a:ext cx="8534160" cy="4800600"/>
        </p:xfrm>
        <a:graphic>
          <a:graphicData uri="http://schemas.openxmlformats.org/drawingml/2006/table">
            <a:tbl>
              <a:tblPr/>
              <a:tblGrid>
                <a:gridCol w="2387520"/>
                <a:gridCol w="1614600"/>
                <a:gridCol w="1644480"/>
                <a:gridCol w="1442880"/>
                <a:gridCol w="1444680"/>
              </a:tblGrid>
              <a:tr h="11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b2b2b2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52E-436C-495F-844B-13D4908E8E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08-11T01:35:22Z</dcterms:modified>
  <cp:revision>353</cp:revision>
  <dc:subject/>
  <dc:title>PowerPoint Presentation</dc:title>
</cp:coreProperties>
</file>