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ABF-E657-444E-BD61-D4C7D69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AD7-B1B9-4423-9620-48BA295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576-99CF-4A67-B854-3EB176DB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60F-FF29-4D09-BE09-AFB92A89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367-C12D-4AC0-8F37-74286B9D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BC4-F723-49F3-849C-3AD9EA6B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E26-C595-485B-A630-2ED3AEA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F8B-E05C-4B41-9CEA-9A2A4EB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BB5-519A-492B-BCE4-7DBBD971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8A0-912A-42C6-BCA6-1AA740E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9BF-4987-40C5-B046-8F09818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41A-4994-4AAE-BFEB-5989CEFE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C06C-02B5-455F-B558-3711ECB4B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lement Varian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1D9-6136-479D-9763-BA913746EB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6F0-1AA3-4D5E-BCDC-37D18BD7E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3886200"/>
            <a:ext cx="1295280" cy="10666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476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76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91160" y="2057400"/>
            <a:ext cx="227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9718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029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5867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tch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502920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4960" y="5791320"/>
            <a:ext cx="129852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67400" y="4038480"/>
            <a:ext cx="267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ttling June 28-30, 2003 as of August 12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74760" y="502920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74760" y="5799240"/>
            <a:ext cx="6010200" cy="830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6024600" cy="83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940-DDE2-4334-9E0E-BFDDD22E8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Month Deadlines for DEV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371600"/>
          <a:ext cx="5029200" cy="5335560"/>
        </p:xfrm>
        <a:graphic>
          <a:graphicData uri="http://schemas.openxmlformats.org/drawingml/2006/table">
            <a:tbl>
              <a:tblPr/>
              <a:tblGrid>
                <a:gridCol w="986040"/>
                <a:gridCol w="2101680"/>
                <a:gridCol w="19414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Aggregation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-Up 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Requ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16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4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/3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1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12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/29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/2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1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3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20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0F5-DDD2-4F3B-88B6-D4B1FF6143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71680" y="1600200"/>
          <a:ext cx="8001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00200"/>
                    <a:ext cx="8001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08/03/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95D-A96F-4AFF-AD50-B5AD59F15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707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 continually working to resolve any ESI IDs that are responded to, but are also reviewing in detail the ESIID statuses, to verify that the status/issue have been marked resolved when changes have been comple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325520"/>
          <a:ext cx="8674200" cy="31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25520"/>
                    <a:ext cx="867420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55E-DA13-4254-9622-0DD69F9117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4572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for Conside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508040"/>
            <a:ext cx="85345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s continue to submit variances for months for which settlement has passed and for recent months.  ERCOT will continue to work issues per DEV Manual timeline – basic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responses by monitoring party may cause issues to extend beyond the 75 day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ter of the DEV FT issue is the owner of the issue, and should work with the Monitoring party to gain response/agre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DEV Service History Spreadsheet will be implemented in August to standardize responses, helping with ease of agreement interpretation and more speedy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171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 “Monitoring responses causing Variance Type changes will not be accepted” will be discussed at the DEV workshop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4F0-4F6D-4D0D-89A6-F762F017B0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4EC-BB5A-4362-A8AE-DE441F78B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05T19:07:26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