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0F5-F1A5-41E0-9D2F-A1E5FDE9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E01-234E-4E27-9923-77C748B6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D00-1A17-4E2B-8879-1D71BB25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600-FA2A-48DC-9752-C6BA19BF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F1E-182E-47BF-A3AC-621FB501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FC4-44D6-472F-8E22-A89C8C34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D23-19F2-41DB-977A-A82B9E1B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C83-5298-4C75-9F8E-9793A737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824-6952-4E68-8350-7A460A25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1B5-CF34-4F50-B04A-47E1990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306-697D-41C1-8FCE-A91BACEA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3B1-42D3-4B33-9601-83192926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4093-CE86-46DE-9B19-05AFFACDF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30002 – MIM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dget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29C-F7BC-4FD6-8017-EFD3BEE78A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30002 MIMO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3048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54864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4956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ved Capital Bu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vers 2003 &amp; 2004 total project bu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vers both Mid Term and Long Term Solutions to Sta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uals to-date plus forecasted funds through October 31, 2004  stabilization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uals to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,886,887.80 – amount incurred as of 7/20/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487-9E88-4464-8450-341612D12F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FCD-6291-4237-BA32-32817442E1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8-06T15:09:54Z</dcterms:modified>
  <cp:revision>366</cp:revision>
  <dc:subject/>
  <dc:title>PowerPoint Presentation</dc:title>
</cp:coreProperties>
</file>