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C48-6754-454D-9303-2643BE37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286-F5FA-47B7-865F-EBA158EF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148-7978-4C16-94FA-90B54DAA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F0D-D8A7-4F48-9F54-479D7133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505-22DA-4D0F-9550-9C5F0121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65A-5D69-4ADE-8A32-EBD7E04B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0B2-4F7F-4B60-9C7A-A0824B2C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89CD-0B20-46EA-B130-2E39119C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4B1-5599-4DF0-B726-DFDD9FCB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225-C633-4AAB-B702-ECAEA3DE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63D-FA80-49A0-9F80-2383481D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17CA-86C8-4599-ADFF-20CAF110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8F01-7922-494F-A9BD-AFE5A0E06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tail Market Gui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DDE-6004-40C1-9BC3-DE076EDA14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3240" y="448920"/>
            <a:ext cx="718020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l Market Guid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tail Market Guide is a reference document for market participants to use as a “roadmap” to locate information concerning market structure, market rules and market decisions that are necessary for participating in the competitive deregulated retail electric market in Tex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98F-194B-40FD-83A2-D4A2BBFA57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l Market Guid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the change control log - RMS has reviewed the following number of changes this past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724280" y="1600200"/>
          <a:ext cx="3048120" cy="4703760"/>
        </p:xfrm>
        <a:graphic>
          <a:graphicData uri="http://schemas.openxmlformats.org/drawingml/2006/table">
            <a:tbl>
              <a:tblPr/>
              <a:tblGrid>
                <a:gridCol w="1905120"/>
                <a:gridCol w="1143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04 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 04 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 04 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04 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 04 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 04 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g 04 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08F-04F3-44E1-9FF0-DC62A13CE0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3240" y="448920"/>
            <a:ext cx="718020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l Market Guid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ments in progr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ibility of maintaining the guides has officially transitioned to Market Rules as of Tuesday Aug.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will be to make RMG change process consistent with the change processes of the other "Guides." See, e.g., section 1 of the Operating Gui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will be to have changes follow similar timeline of all other guide changes (monthly reports to TAC, instead of quarterl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ervices is working with Market Rules to review transition and draft communication for the mar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will be provided at RMS on August 1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the communication to the mar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FA3-B878-4C4C-B204-9A038F2F80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5AD-A29B-44BC-9225-9F2720057B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8-05T19:22:00Z</dcterms:modified>
  <cp:revision>3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