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948488" cy="9359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48000" cy="936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9621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3040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91540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96216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60041-CDCC-4DB2-94B4-9C7A410B8D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rket Participants feel that Portal reliability needs to be impro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arket Participants have a relatively dim view of ERCOT’s spending pract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erceptions may improve with targeted messaging efforts explaining role of MPs in setting spending priorities via committee 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arket Participants have a relatively dim view of ERCOT’s spending pract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erceptions may improve with targeted messaging efforts explaining role of MPs in setting spending priorities via committee 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arket Participants perceive a need for improvement in ERCOT’s performance with respect to specific functional are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oard member opinions not consistent with other market participant groups – Dialogue with the market needed to develop consensus regarding ERCOT’s ro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aff deemed to be performing well, particularly with regard to ensuring non-discriminatory access to the gri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erceived need for improvement with regard to settl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RCOT staff and systems providing data in a timely and accurate fash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ettlements bill considered timely and accurate, but people still have issu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255D-560A-4649-AD66-0E01EFF6D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B30C-EFAD-47E1-83F7-7E83671B9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92DA-B2D7-491E-825C-797E55388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09DA-95E1-46E8-92CE-8485F53DF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8A1D-4F85-4CE6-A963-C3D72758C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5AB3-2DA0-407F-8B48-19AF85F3F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5ACE-FB69-4B12-88B8-AA5495874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0E61-B6AB-467E-8808-C1BCC919D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F579-F582-458D-B7FB-A0136112C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F80C-02E8-4BA6-8B76-49F4B60F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9D86-4F7E-4F51-916A-107C7DBF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B884-77ED-4BB2-9E44-CA5BF57D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960" y="6458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7F1D3-6F7F-46F3-B1D2-904076F5E9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380880"/>
            <a:ext cx="0" cy="5943600"/>
          </a:xfrm>
          <a:prstGeom prst="line">
            <a:avLst/>
          </a:prstGeom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380880"/>
            <a:ext cx="0" cy="5943600"/>
          </a:xfrm>
          <a:prstGeom prst="line">
            <a:avLst/>
          </a:prstGeom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373880" y="380880"/>
            <a:ext cx="932040" cy="40176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rcRect l="0" t="0" r="6704" b="0"/>
          <a:stretch/>
        </p:blipFill>
        <p:spPr>
          <a:xfrm>
            <a:off x="800280" y="228600"/>
            <a:ext cx="6362640" cy="65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1066680"/>
            <a:ext cx="8381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6095880"/>
            <a:ext cx="79628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Prepared by      Opinion Dynamics Corporation      May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124080" y="1600200"/>
            <a:ext cx="2676600" cy="4114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rcRect l="23802" t="0" r="9058" b="0"/>
          <a:stretch/>
        </p:blipFill>
        <p:spPr>
          <a:xfrm>
            <a:off x="304920" y="123840"/>
            <a:ext cx="868680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04920" y="83808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  <a:ea typeface="Times New Roman"/>
              </a:rPr>
              <a:t>Overview of Areas for Improv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1371600"/>
            <a:ext cx="8686800" cy="53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ortal reli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pending priorit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ystems and tools for communicating with the marke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Website navi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EMMS and grid ops deci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T Technical Helpde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Functional Perform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congestion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data extra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mplementation of system chan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ettlement dispute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870680" y="63244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Find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-304920" y="685800"/>
          <a:ext cx="8382240" cy="559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04920" y="685800"/>
                    <a:ext cx="8382240" cy="55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304920" y="838080"/>
            <a:ext cx="8839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  <a:ea typeface="Times New Roman"/>
              </a:rPr>
              <a:t>ERCOT Portal</a:t>
            </a:r>
            <a:br>
              <a:rPr sz="3200"/>
            </a:br>
            <a:r>
              <a:rPr b="0" lang="en-US" sz="2000" spc="-1" strike="noStrike">
                <a:solidFill>
                  <a:srgbClr val="006699"/>
                </a:solidFill>
                <a:latin typeface="Arial"/>
                <a:ea typeface="Times New Roman"/>
              </a:rPr>
              <a:t>Level of Agreement with Statements About ERCOT IT Systems/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870680" y="63244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Find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00200" y="57913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ortal is effec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57913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ortal is rel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1905120" y="1317600"/>
          <a:ext cx="7619760" cy="508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317600"/>
                    <a:ext cx="7619760" cy="50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304920" y="868320"/>
            <a:ext cx="8839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  <a:ea typeface="Times New Roman"/>
              </a:rPr>
              <a:t>ERCOT Spending Pract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  <a:ea typeface="Times New Roman"/>
              </a:rPr>
              <a:t>(10 point scale, means show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870680" y="63244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Find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236232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ding Funds Equitab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3657600"/>
            <a:ext cx="2057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ding Funds on Things that are Important to Your Comp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487692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ding Funds Cost Effective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1905120" y="1447920"/>
          <a:ext cx="7619760" cy="498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447920"/>
                    <a:ext cx="7619760" cy="49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7870680" y="63244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Find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335268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vigation of the Web S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419112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fulness of IT Help De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525780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derstanding EM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944640"/>
            <a:ext cx="8229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  <a:ea typeface="Times New Roman"/>
              </a:rPr>
              <a:t>Communications: Room for Improvement</a:t>
            </a:r>
            <a:br>
              <a:rPr sz="3200"/>
            </a:br>
            <a:r>
              <a:rPr b="0" lang="en-US" sz="1800" spc="-1" strike="noStrike">
                <a:solidFill>
                  <a:srgbClr val="006699"/>
                </a:solidFill>
                <a:latin typeface="Arial"/>
                <a:ea typeface="Times New Roman"/>
              </a:rPr>
              <a:t>(10 point scale, means show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24382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id ops decis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1905120" y="1317600"/>
          <a:ext cx="7619760" cy="508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317600"/>
                    <a:ext cx="7619760" cy="50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304920" y="868320"/>
            <a:ext cx="8839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  <a:ea typeface="Times New Roman"/>
              </a:rPr>
              <a:t>ERCOT Functional 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  <a:ea typeface="Times New Roman"/>
              </a:rPr>
              <a:t>(10 point scale, means show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870680" y="63244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Find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4282920"/>
            <a:ext cx="2057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ly and Effective Implementation of Systems Chan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518148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ly Resolution of Settlements Dispu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2378160"/>
            <a:ext cx="20574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viding Data Extracts with Necessary Cont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3200400"/>
            <a:ext cx="2209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ing Congestion Management iss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219320" y="1295280"/>
            <a:ext cx="733104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COT Response Coordination 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Tasked by the ERCOT Officer Team 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Coordinate with ERCOT Executive M’gmt and HR&amp;G on prior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Task cross functional internal teams assigned to: evaluate, recommend change, establish objectives, tracking mechanism and draft market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Ensure coordination, consistency and action takes place addressing priority areas that “Need Attentio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Update HR&amp;G within 90 days and then as reques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33520" y="1295280"/>
            <a:ext cx="8016840" cy="48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COT  Response Coordination 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6699"/>
                </a:solidFill>
                <a:uFillTx/>
                <a:latin typeface="Arial"/>
              </a:rPr>
              <a:t>Gary Stroud</a:t>
            </a: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1" lang="en-US" sz="2000" spc="-1" strike="noStrike" u="sng">
                <a:solidFill>
                  <a:srgbClr val="006699"/>
                </a:solidFill>
                <a:uFillTx/>
                <a:latin typeface="Arial"/>
              </a:rPr>
              <a:t>Richard Gruber</a:t>
            </a: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       </a:t>
            </a:r>
            <a:r>
              <a:rPr b="1" lang="en-US" sz="2000" spc="-1" strike="noStrike" u="sng">
                <a:solidFill>
                  <a:srgbClr val="006699"/>
                </a:solidFill>
                <a:uFillTx/>
                <a:latin typeface="Arial"/>
              </a:rPr>
              <a:t>Mark Walker</a:t>
            </a: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       </a:t>
            </a:r>
            <a:r>
              <a:rPr b="1" lang="en-US" sz="2000" spc="-1" strike="noStrike" u="sng">
                <a:solidFill>
                  <a:srgbClr val="006699"/>
                </a:solidFill>
                <a:uFillTx/>
                <a:latin typeface="Arial"/>
              </a:rPr>
              <a:t>Larry Gri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Representation that brings a diverse perspective of the various audienc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Market Particip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Regulators and Legislat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ERCOT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Will strive to keep all audiences informed and aligned to our common purpose – Make the Texas Electric Market Better</a:t>
            </a: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533520" y="1295280"/>
            <a:ext cx="8016840" cy="48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COT  Response Coordination 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Initial meeting focused on high level analysis and categories of items that Need Atten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Commun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To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Delivered survey results to ERCOT management team (Directors and Managers) 6/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Begun scoping out specific approach appropriate for items or groups of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Begun identifying team lead candidates</a:t>
            </a: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04920" y="1143000"/>
            <a:ext cx="88390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  <a:ea typeface="Times New Roman"/>
              </a:rPr>
              <a:t>Background and Context</a:t>
            </a:r>
            <a:br>
              <a:rPr sz="3200"/>
            </a:br>
            <a:r>
              <a:rPr b="0" lang="en-US" sz="1700" spc="-1" strike="noStrike">
                <a:solidFill>
                  <a:srgbClr val="006699"/>
                </a:solidFill>
                <a:latin typeface="Arial"/>
                <a:ea typeface="Times New Roman"/>
              </a:rPr>
              <a:t>Market Participant Opinions Regarding</a:t>
            </a:r>
            <a:br>
              <a:rPr sz="1700"/>
            </a:br>
            <a:r>
              <a:rPr b="0" lang="en-US" sz="1700" spc="-1" strike="noStrike">
                <a:solidFill>
                  <a:srgbClr val="006699"/>
                </a:solidFill>
                <a:latin typeface="Arial"/>
                <a:ea typeface="Times New Roman"/>
              </a:rPr>
              <a:t>ERCOT Staff’s Role In Developing Market Rul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870680" y="63244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Find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555480" y="2532240"/>
          <a:ext cx="8207280" cy="2954160"/>
        </p:xfrm>
        <a:graphic>
          <a:graphicData uri="http://schemas.openxmlformats.org/drawingml/2006/table">
            <a:tbl>
              <a:tblPr/>
              <a:tblGrid>
                <a:gridCol w="3276360"/>
                <a:gridCol w="1981440"/>
                <a:gridCol w="1676160"/>
                <a:gridCol w="127332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 staff should 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articipat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 market rules develop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 staff should only 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dministe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e market ru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br>
                        <a:rPr sz="1600"/>
                      </a:b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decid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ard Member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=1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6d7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6d7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6d7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6d7ff">
                        <a:alpha val="50000"/>
                      </a:srgbClr>
                    </a:solidFill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ittee Member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=11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Participant Staff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=30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6d7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6d7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6d7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6d7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04920" y="838080"/>
            <a:ext cx="8839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  <a:ea typeface="Times New Roman"/>
              </a:rPr>
              <a:t>Background and Context</a:t>
            </a:r>
            <a:br>
              <a:rPr sz="3200"/>
            </a:br>
            <a:r>
              <a:rPr b="0" lang="en-US" sz="2000" spc="-1" strike="noStrike">
                <a:solidFill>
                  <a:srgbClr val="006699"/>
                </a:solidFill>
                <a:latin typeface="Arial"/>
                <a:ea typeface="Times New Roman"/>
              </a:rPr>
              <a:t>Market Participants’ Understanding of ERCOT’s Committee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870680" y="63244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Find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914400" y="1752480"/>
          <a:ext cx="7238880" cy="482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752480"/>
                    <a:ext cx="7238880" cy="48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914400"/>
            <a:ext cx="8839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  <a:ea typeface="Times New Roman"/>
              </a:rPr>
              <a:t>Response Rate</a:t>
            </a:r>
            <a:br>
              <a:rPr sz="3200"/>
            </a:br>
            <a:r>
              <a:rPr b="0" lang="en-US" sz="2000" spc="-1" strike="noStrike">
                <a:solidFill>
                  <a:srgbClr val="006699"/>
                </a:solidFill>
                <a:latin typeface="Arial"/>
                <a:ea typeface="Times New Roman"/>
              </a:rPr>
              <a:t>429 completed surveys from a sample of 1,157 Market Participants (37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85800" y="2075040"/>
          <a:ext cx="8077320" cy="4020840"/>
        </p:xfrm>
        <a:graphic>
          <a:graphicData uri="http://schemas.openxmlformats.org/drawingml/2006/table">
            <a:tbl>
              <a:tblPr/>
              <a:tblGrid>
                <a:gridCol w="5791320"/>
                <a:gridCol w="2286000"/>
              </a:tblGrid>
              <a:tr h="126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600"/>
                      </a:b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 Board Members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6d7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600"/>
                      </a:b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1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6d7ff">
                        <a:alpha val="50000"/>
                      </a:srgbClr>
                    </a:solidFill>
                  </a:tcPr>
                </a:tc>
              </a:tr>
              <a:tr h="114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600"/>
                      </a:b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ittee Member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600"/>
                      </a:b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11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1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600"/>
                      </a:b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Participant Staf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6d7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600"/>
                      </a:b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30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6d7ff">
                        <a:alpha val="50000"/>
                      </a:srgbClr>
                    </a:solidFill>
                  </a:tcPr>
                </a:tc>
              </a:tr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assification of respondent based on self-selected descriptions – QA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04920" y="838080"/>
            <a:ext cx="8839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  <a:ea typeface="Times New Roman"/>
              </a:rPr>
              <a:t>Background and Context</a:t>
            </a:r>
            <a:br>
              <a:rPr sz="3200"/>
            </a:br>
            <a:r>
              <a:rPr b="0" lang="en-US" sz="2000" spc="-1" strike="noStrike">
                <a:solidFill>
                  <a:srgbClr val="006699"/>
                </a:solidFill>
                <a:latin typeface="Arial"/>
                <a:ea typeface="Times New Roman"/>
              </a:rPr>
              <a:t>Market Participants’ Understanding of ERCOT’s Committee Structure (cont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870680" y="63244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Find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990720" y="1752480"/>
          <a:ext cx="7238880" cy="482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752480"/>
                    <a:ext cx="7238880" cy="48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73200" y="2120760"/>
            <a:ext cx="779760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91440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  <a:ea typeface="Times New Roman"/>
              </a:rPr>
              <a:t>By Market Participant Firm 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242120" y="632448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esponse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0" y="1682640"/>
          <a:ext cx="8915400" cy="479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82640"/>
                    <a:ext cx="8915400" cy="479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94464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  <a:ea typeface="Times New Roman"/>
              </a:rPr>
              <a:t>Overview of Perceived Streng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752480"/>
            <a:ext cx="8153280" cy="34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       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Performance of ERCOT staff, officers and 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director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Timeliness and accuracy of da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       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Providing effective train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       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Mean responses of 6.5 or above are favorable 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ratings, 7.5 and above are extremely favorable 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ratings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870680" y="63244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Find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04920" y="868320"/>
            <a:ext cx="883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99"/>
                </a:solidFill>
                <a:latin typeface="Arial"/>
                <a:ea typeface="Times New Roman"/>
              </a:rPr>
              <a:t>ERCOT Staff Performance: Corporate Objectiv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  <a:ea typeface="Times New Roman"/>
              </a:rPr>
              <a:t>(10 point scale, means show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870680" y="63244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Find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3079800"/>
            <a:ext cx="1981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suring Reliability/Adequacy of Gr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828800" y="1295280"/>
          <a:ext cx="7620120" cy="508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95280"/>
                    <a:ext cx="7620120" cy="50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304920" y="2089080"/>
            <a:ext cx="2057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discriminatory access to transmission/ distrib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3962520"/>
            <a:ext cx="2057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urate accounting of electric production &amp; deliv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4876920"/>
            <a:ext cx="2057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ly information about customer’s choice of R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04920" y="838080"/>
            <a:ext cx="8839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  <a:ea typeface="Times New Roman"/>
              </a:rPr>
              <a:t>ERCOT Staff 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  <a:ea typeface="Times New Roman"/>
              </a:rPr>
              <a:t>(10 point scale, means show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870680" y="63244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Find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828800" y="1523880"/>
          <a:ext cx="7543800" cy="503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523880"/>
                    <a:ext cx="7543800" cy="503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609480" y="533412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ist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213372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titu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281952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y expert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3902040"/>
            <a:ext cx="19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ponsiveness to Market Particip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342900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verall Perform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4481640"/>
            <a:ext cx="205740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agement of ERCOT organiz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fficers &amp; Directors onl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33520" y="838080"/>
            <a:ext cx="8381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  <a:ea typeface="Times New Roman"/>
              </a:rPr>
              <a:t>ERCOT Staff Performance: Functional Areas</a:t>
            </a:r>
            <a:br>
              <a:rPr sz="3200"/>
            </a:br>
            <a:r>
              <a:rPr b="0" lang="en-US" sz="1800" spc="-1" strike="noStrike">
                <a:solidFill>
                  <a:srgbClr val="006699"/>
                </a:solidFill>
                <a:latin typeface="Arial"/>
                <a:ea typeface="Times New Roman"/>
              </a:rPr>
              <a:t>(10 point scale, means show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70680" y="63244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Find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905120" y="1295280"/>
          <a:ext cx="7495920" cy="499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295280"/>
                    <a:ext cx="7495920" cy="49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380880" y="198108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ket Participant 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266688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R Perform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312408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 Tes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36576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ail Transaction Proces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26708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id 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464832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tlements and Bil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5197320"/>
            <a:ext cx="1676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tlements Dispute Resol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4920" y="838080"/>
            <a:ext cx="8839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  <a:ea typeface="Times New Roman"/>
              </a:rPr>
              <a:t>Timeliness &amp; Accuracy of Data</a:t>
            </a:r>
            <a:br>
              <a:rPr sz="3200"/>
            </a:br>
            <a:r>
              <a:rPr b="0" lang="en-US" sz="1800" spc="-1" strike="noStrike">
                <a:solidFill>
                  <a:srgbClr val="006699"/>
                </a:solidFill>
                <a:latin typeface="Arial"/>
                <a:ea typeface="Times New Roman"/>
              </a:rPr>
              <a:t>(10 point scale, means show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70680" y="63244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Find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828800" y="1368360"/>
          <a:ext cx="7543800" cy="503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368360"/>
                    <a:ext cx="7543800" cy="503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609480" y="30160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tlements Bi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362592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mission Congestion Righ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438768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ewable Energy Cred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53020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Extra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233028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ered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  <a:ea typeface="Times New Roman"/>
              </a:rPr>
              <a:t>Effectiveness of Training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(10 point scale, means show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4:23:39Z</dcterms:created>
  <dc:creator>ODC</dc:creator>
  <dc:description/>
  <dc:language>en-US</dc:language>
  <cp:lastModifiedBy>kbergman</cp:lastModifiedBy>
  <cp:lastPrinted>2004-05-07T21:00:52Z</cp:lastPrinted>
  <dcterms:modified xsi:type="dcterms:W3CDTF">2004-08-05T11:39:23Z</dcterms:modified>
  <cp:revision>502</cp:revision>
  <dc:subject/>
  <dc:title>PowerPoint Presentation</dc:title>
</cp:coreProperties>
</file>