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677E-3E83-4FAA-AD25-44F1130B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699E-D760-40AE-A10B-60E3D106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48C0-B4C9-43CD-93FF-FA944296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2F44-316B-4FD8-912C-BC63DA92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568-F064-44BF-BBF8-6D616810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05C3-7F8A-4CED-8364-E9656652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6C0-F164-4342-86F2-D2CC973E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B444-3989-4ECE-BCE5-19EB530D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7023-5CAB-48F7-875C-0E59B354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B817-E40C-4170-A151-67BA5C68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D14-21E1-43D5-BBED-A00AAD74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E5C7-CF51-479A-B4FD-A88E74DE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1002-FAFB-48AE-B79A-F951D65CD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26200" y="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15920" y="0"/>
          <a:ext cx="9144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0"/>
                    <a:ext cx="9144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58840" y="258840"/>
            <a:ext cx="87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5 Market Test Time Line - Approved 06/30/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3032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3032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80272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6384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7332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686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402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260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8812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5024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3604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692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2514600"/>
            <a:ext cx="243828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ight V2.0-01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ew C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68560" y="571500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41600" y="57150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30760" y="5715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02000" y="571500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23040" y="5715000"/>
            <a:ext cx="45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49640" y="5715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56040" y="571500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87800" y="5715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12040" y="57150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98200" y="571500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07320" y="571500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41920" y="5715000"/>
            <a:ext cx="4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8320" y="5638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16280" y="5334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6040" y="1676520"/>
            <a:ext cx="124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/21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ck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66160" y="16002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/18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514600" y="190476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163400">
            <a:off x="1864440" y="1865880"/>
            <a:ext cx="156960" cy="1143000"/>
          </a:xfrm>
          <a:custGeom>
            <a:avLst/>
            <a:gdLst>
              <a:gd name="textAreaLeft" fmla="*/ 0 w 156960"/>
              <a:gd name="textAreaRight" fmla="*/ 56520 w 156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32520" y="205740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Wk.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2057400"/>
            <a:ext cx="265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410080" y="3505320"/>
            <a:ext cx="763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13200">
            <a:off x="5979240" y="3543480"/>
            <a:ext cx="152280" cy="12938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3840"/>
              <a:gd name="textAreaBottom" fmla="*/ 1260360 h 12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411480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05 Flight Not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/04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495680"/>
            <a:ext cx="12189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53480" y="2971800"/>
            <a:ext cx="124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/22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ck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3080" y="371808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 Wk.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5181480"/>
            <a:ext cx="304812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ight V2.0-1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ew CRs &amp; Possible V2.1 Rel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13200">
            <a:off x="7998480" y="4493160"/>
            <a:ext cx="81000" cy="1143000"/>
          </a:xfrm>
          <a:custGeom>
            <a:avLst/>
            <a:gdLst>
              <a:gd name="textAreaLeft" fmla="*/ 0 w 81000"/>
              <a:gd name="textAreaRight" fmla="*/ 29160 w 810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71280" y="5029200"/>
            <a:ext cx="113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ight Not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/03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52080" y="472428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Wk.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705360" y="3124080"/>
            <a:ext cx="533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2240" y="281952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/16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4267080"/>
            <a:ext cx="3124440" cy="5335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ight V2.0-07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ew C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276720"/>
            <a:ext cx="29718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 V2.0-04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w C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65720" y="2438280"/>
            <a:ext cx="124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/22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ck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47120" y="220968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/17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648320" y="251424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45280" y="281952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Wk.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64040" y="2895480"/>
            <a:ext cx="188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9400" y="3308400"/>
            <a:ext cx="1058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05 F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2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838080" y="3581280"/>
            <a:ext cx="838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8686800" y="4419720"/>
            <a:ext cx="76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05920" y="3689280"/>
            <a:ext cx="838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/16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08400" y="4130640"/>
            <a:ext cx="133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/21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ck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163400">
            <a:off x="3921480" y="2630880"/>
            <a:ext cx="157320" cy="1143000"/>
          </a:xfrm>
          <a:custGeom>
            <a:avLst/>
            <a:gdLst>
              <a:gd name="textAreaLeft" fmla="*/ 0 w 157320"/>
              <a:gd name="textAreaRight" fmla="*/ 56880 w 157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18:24:03Z</dcterms:created>
  <dc:creator>00206072</dc:creator>
  <dc:description/>
  <dc:language>en-US</dc:language>
  <cp:lastModifiedBy>Ann Shang</cp:lastModifiedBy>
  <cp:lastPrinted>2004-08-03T14:08:18Z</cp:lastPrinted>
  <dcterms:modified xsi:type="dcterms:W3CDTF">2004-08-05T13:14:27Z</dcterms:modified>
  <cp:revision>7</cp:revision>
  <dc:subject/>
  <dc:title>No Slide Title</dc:title>
</cp:coreProperties>
</file>