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8F284-11A6-4279-8C5E-76802C31B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38276-6F47-4D7B-A697-004BB0096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B6606-56A6-4F96-871E-82398F290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16FDD-D7C5-485E-B1AF-B38F54F2D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05D6C-2A0B-4152-870B-D0CD358DE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17A45-1A5D-478F-873D-D0C02E7C0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D9E1F-0EC5-47C2-91E8-AFDA502C6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8DC34-3252-4FB2-B2F5-3C70E8657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06921-EFCB-4DF1-84FF-0893EB026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8DE63-570D-4798-A79D-F04ACAD68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87C2-6513-47F8-9EAA-4462F5820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2BD39-6560-4330-B8D5-5100E1C9E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6DB3-7148-4F10-8123-3907B4538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ERCOT Business Projects</a:t>
            </a:r>
            <a:br>
              <a:rPr sz="4000"/>
            </a:br>
            <a:r>
              <a:rPr b="0" lang="en-US" sz="4000" spc="-1" strike="noStrike">
                <a:solidFill>
                  <a:srgbClr val="000000"/>
                </a:solidFill>
                <a:latin typeface="Times New Roman"/>
              </a:rPr>
              <a:t>2005</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52E480F-5192-45F1-98CC-D3A624F6618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63240" y="448920"/>
            <a:ext cx="7180200" cy="617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Business Projects for 2005   </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will be submitting these through our PMO office to be brought with all ERCOT projects to PRS on 8/27</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ebel 7.x Migration/Update (PR40066_03) (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I Upgrade/Replacement (PR40066_06) (1.1)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com Improvements (New) (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ing Website Enhancements (PR40019) (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5 SIR Enhancements (ETS/DA/DW/TS/CARR/TML) (1.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l TML Improvements (Mid-term, PRR312)  (New) (2.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Staff Access to Data Warehouse Services (2.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 retail XML transaction format to MPs (PR30133) (3.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 Replacement (using DW and reporting tools) (New) (3.3)</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B2DC64-942F-4E7C-804B-56AC147E40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63240" y="448920"/>
            <a:ext cx="7180200" cy="617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jects RMS Sponsored Not Initiated   </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S may want to support at PRS as a 2005 Prior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40034 – TX SET V2.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40038 – Mass customer transi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40037 – MSP competitive metering phase 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40039 – Day-ahead market (cross impact to M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734 – CSA Extra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736 – TML ESI ID Transaction Fla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737 – Estimated Meter Read Repor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R### – Retail Variance Management System</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52AF19-1343-4240-8312-E60E53B4D7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8120" y="456840"/>
            <a:ext cx="5611680" cy="617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Prioritization Process</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447560"/>
            <a:ext cx="7848720" cy="5105160"/>
          </a:xfrm>
          <a:prstGeom prst="rect">
            <a:avLst/>
          </a:prstGeom>
          <a:noFill/>
          <a:ln w="0">
            <a:noFill/>
          </a:ln>
        </p:spPr>
        <p:txBody>
          <a:bodyPr lIns="90000" rIns="90000" tIns="46800" bIns="46800" anchor="t">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ority categories are high, medium, and low, with subcategories of high, medium, and low, which result in the following prioriti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High (1.1), High-Medium (1.2), High-Low (1.3), Medium-High (2.1), Medium-Medium (2.2), Medium-Low (2.3), Low-High (3.1), Low-Medium (3.2), Low-Low (3.3)</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High</a:t>
            </a:r>
            <a:r>
              <a:rPr b="0" lang="en-US" sz="1400" spc="-1" strike="noStrike">
                <a:solidFill>
                  <a:srgbClr val="000000"/>
                </a:solidFill>
                <a:latin typeface="Times New Roman"/>
              </a:rPr>
              <a:t> – Critical to continued operations and reliability of the market, or in response to legal requirements.  (Assumes that current services or functions provided are below acceptable level.)</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edium</a:t>
            </a:r>
            <a:r>
              <a:rPr b="0" lang="en-US" sz="1400" spc="-1" strike="noStrike">
                <a:solidFill>
                  <a:srgbClr val="000000"/>
                </a:solidFill>
                <a:latin typeface="Times New Roman"/>
              </a:rPr>
              <a:t> – Important to improve service or efficiency of operations of the market.  (Assumes that the current services or functions provided are tolerable but not up to the desired state or targe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Low</a:t>
            </a:r>
            <a:r>
              <a:rPr b="0" lang="en-US" sz="1400" spc="-1" strike="noStrike">
                <a:solidFill>
                  <a:srgbClr val="000000"/>
                </a:solidFill>
                <a:latin typeface="Times New Roman"/>
              </a:rPr>
              <a:t> – Recommended to further automate operations or improve efficiencies of services currently provided by the market.  (Assumes that the current services or functions provided are acceptable but action is needed to prevent degradation of services.) </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ubcategories (H/M/L) prioritized the projects within the category in terms of the value/impact to the market.</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E478BC-6B11-418A-9591-59AA9E6DCB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rPr>
              <a:t>Thank You</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0AA5979-7E83-47F3-A752-757AED142868}"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bergman</cp:lastModifiedBy>
  <cp:lastPrinted>2002-09-24T18:27:58Z</cp:lastPrinted>
  <dcterms:modified xsi:type="dcterms:W3CDTF">2004-08-05T18:39:13Z</dcterms:modified>
  <cp:revision>3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8340335</vt:r8>
  </property>
  <property fmtid="{D5CDD505-2E9C-101B-9397-08002B2CF9AE}" pid="3" name="_AuthorEmail">
    <vt:lpwstr>kwariner@ercot.com</vt:lpwstr>
  </property>
  <property fmtid="{D5CDD505-2E9C-101B-9397-08002B2CF9AE}" pid="4" name="_AuthorEmailDisplayName">
    <vt:lpwstr>Wariner, Kerry</vt:lpwstr>
  </property>
  <property fmtid="{D5CDD505-2E9C-101B-9397-08002B2CF9AE}" pid="5" name="_EmailSubject">
    <vt:lpwstr>RMS March 04.ppt</vt:lpwstr>
  </property>
  <property fmtid="{D5CDD505-2E9C-101B-9397-08002B2CF9AE}" pid="6" name="_PreviousAdHocReviewCycleID">
    <vt:r8>-1263327933</vt:r8>
  </property>
  <property fmtid="{D5CDD505-2E9C-101B-9397-08002B2CF9AE}" pid="7" name="_ReviewingToolsShownOnce">
    <vt:lpwstr/>
  </property>
</Properties>
</file>