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C0CFA-2813-4BB3-B9D2-B037F2400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5499-ADD9-4B20-9BA4-1F6D23D7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B22DC-3496-4FF6-8411-1A6E4A968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26186-9940-4567-AA30-58EE162BC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3933-FBDA-49D8-B51D-89454ACB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156D9-CC31-469C-89FF-6395E1A75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3883-EAE2-4F7C-8DE3-6C55DFA8C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8E860-7209-493A-A996-5DEF285B9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29CED-B8E1-447C-8FB8-C39553989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DD50-79C2-4EFE-BDAE-83ED27EB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84BE-CA54-4171-A768-6F474C82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C4353-C43E-430A-846B-E561D3018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77E7-9DA5-4168-9717-EB58DE1F5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Working Group</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ugust 5,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6" name=""/>
          <p:cNvSpPr/>
          <p:nvPr/>
        </p:nvSpPr>
        <p:spPr>
          <a:xfrm>
            <a:off x="533520" y="2590920"/>
            <a:ext cx="8381880" cy="3576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R 509 - ADR Changes, ERCOT and other Market Participants comments were reviewed.  Compromise language was written and submitted by ERCOT.  PRS  reviewed on July 23 and passed.  Special thanks to DeAnn Walker for her leadership through this process.</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FE - COPS and RMS will co-host a UFE work session.  The intent for this work session will be to discuss UFE operational aspects.  We would like to use this time for a brain storming 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8" name=""/>
          <p:cNvSpPr/>
          <p:nvPr/>
        </p:nvSpPr>
        <p:spPr>
          <a:xfrm>
            <a:off x="380880" y="1523880"/>
            <a:ext cx="8382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COPS Protocol Review Task Force will begin reviewing Protocol Chapter 9, Settlement and Billing on August 20, 2004 (Conference call).  This review will include looking at the current settlement timeline for opportunities to enhance the market process. We will begin with the ERCOT white paper submitted to TNT in 2003.  Please add yourself to the COPS exploder if you wish to receive notice of discuss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0" name=""/>
          <p:cNvSpPr/>
          <p:nvPr/>
        </p:nvSpPr>
        <p:spPr>
          <a:xfrm>
            <a:off x="380880" y="1523880"/>
            <a:ext cx="838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recommends that TAC modify their procedures to formally create a Commercial Operations Subcommitte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MA4</cp:lastModifiedBy>
  <dcterms:modified xsi:type="dcterms:W3CDTF">2004-08-03T16:54:32Z</dcterms:modified>
  <cp:revision>87</cp:revision>
  <dc:subject/>
  <dc:title>Point-to-Point</dc:title>
</cp:coreProperties>
</file>