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20287-9391-4F33-B890-E893C8DED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148B-C7F0-4C97-AC6A-1826BFB59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78A92-0B9B-42A1-A0E4-B32EF19E9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1AA05-44E2-40D8-99B6-CCFA0A00E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D099-C5F3-45CF-9351-5CFF983D9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A8442-56E4-49A1-BCD9-09C031CA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84272-5B88-42C9-B030-FE427F41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13E6-141B-4046-A4FE-A367F4BE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5EC02-F49D-47CF-9B98-B92AE5F6D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9DD8-7EF1-4574-ADB2-DAB81FBC4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4E98-C74F-44EE-AC63-57FAC5C36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7A8C-1BD6-4C20-92F7-ADF9E7250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613D-ECD8-4495-9BF8-6CB085CD6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a:t>
            </a:r>
            <a:r>
              <a:rPr b="0" lang="en-US" sz="3600" spc="-1" strike="noStrike" u="sng">
                <a:solidFill>
                  <a:srgbClr val="000000"/>
                </a:solidFill>
                <a:uFillTx/>
                <a:latin typeface="Times New Roman"/>
              </a:rPr>
              <a:t>urrent Market Release</a:t>
            </a:r>
            <a:br>
              <a:rPr sz="3600"/>
            </a:b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4C0B0D2-D934-4FD1-B92E-C478128BF40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ight 0504 Updat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14891F6-7D35-4D44-9DE5-4FD6216B0D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ght 0504 Update</a:t>
            </a:r>
            <a:endParaRPr b="0" lang="en-US" sz="3200" spc="-1" strike="noStrike">
              <a:solidFill>
                <a:srgbClr val="000000"/>
              </a:solidFill>
              <a:latin typeface="Times New Roman"/>
            </a:endParaRPr>
          </a:p>
        </p:txBody>
      </p:sp>
      <p:sp>
        <p:nvSpPr>
          <p:cNvPr id="47"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ouncemen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3:30 on Thursday July 15th, ERCOT received and successfully processed the last transaction for Flight 0504.  This flight of testing, while the most vigorous to date, also proved to be our must successfu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9779A0-686A-4350-AD17-EBE030FB96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ght 0504 Update</a:t>
            </a:r>
            <a:endParaRPr b="0" lang="en-US" sz="3200" spc="-1" strike="noStrike">
              <a:solidFill>
                <a:srgbClr val="000000"/>
              </a:solidFill>
              <a:latin typeface="Times New Roman"/>
            </a:endParaRPr>
          </a:p>
        </p:txBody>
      </p:sp>
      <p:sp>
        <p:nvSpPr>
          <p:cNvPr id="49"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s:</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3) new Competitive Retailers tested their systems to enter the retail market </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tal of 86 Competitive Retailer systems were tested </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ght (8) TDSPs (including 1 MOU/EC) supported flight testing and tested their systems </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28,669 transactions were passed between trading partners during the execution of the scripts required for testing V2.0 (not including pre-flight scripts)</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ere 26 Stacking scripts and 12 non-Stacking scripts tested</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 started on schedule on 5/17/04 and the scheduled timeline of testing was a total of 10 weeks</a:t>
            </a:r>
            <a:endParaRPr b="0" lang="en-US" sz="2000" spc="-1" strike="noStrike">
              <a:solidFill>
                <a:srgbClr val="000000"/>
              </a:solidFill>
              <a:latin typeface="Times New Roman"/>
            </a:endParaRPr>
          </a:p>
          <a:p>
            <a:pPr lvl="2" marL="1257480" indent="-343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light ended 8 days early with the completion of the last Stacking script on 7/1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B835F8-ABA5-4F78-8199-4DB476C53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ight 0504 Update</a:t>
            </a:r>
            <a:endParaRPr b="0" lang="en-US" sz="3200" spc="-1" strike="noStrike">
              <a:solidFill>
                <a:srgbClr val="000000"/>
              </a:solidFill>
              <a:latin typeface="Times New Roman"/>
            </a:endParaRPr>
          </a:p>
        </p:txBody>
      </p:sp>
      <p:sp>
        <p:nvSpPr>
          <p:cNvPr id="51" name="PlaceHolder 2"/>
          <p:cNvSpPr>
            <a:spLocks noGrp="1"/>
          </p:cNvSpPr>
          <p:nvPr>
            <p:ph/>
          </p:nvPr>
        </p:nvSpPr>
        <p:spPr>
          <a:xfrm>
            <a:off x="609480" y="1295280"/>
            <a:ext cx="7848720" cy="5105520"/>
          </a:xfrm>
          <a:prstGeom prst="rect">
            <a:avLst/>
          </a:prstGeom>
          <a:noFill/>
          <a:ln w="0">
            <a:noFill/>
          </a:ln>
        </p:spPr>
        <p:txBody>
          <a:bodyPr lIns="90000" rIns="90000" tIns="46800" bIns="46800" anchor="t">
            <a:normAutofit fontScale="98000"/>
          </a:bodyPr>
          <a:p>
            <a:pPr marL="372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mparison to past flights:</a:t>
            </a:r>
            <a:endParaRPr b="0" lang="en-US" sz="1800" spc="-1" strike="noStrike">
              <a:solidFill>
                <a:srgbClr val="000000"/>
              </a:solidFill>
              <a:latin typeface="Times New Roman"/>
            </a:endParaRPr>
          </a:p>
          <a:p>
            <a:pPr marL="372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Flight 3801 - V1.3</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s = 6940</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end date - 9/5/01</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 end date 9/21/01</a:t>
            </a:r>
            <a:endParaRPr b="0" lang="en-US" sz="1800" spc="-1" strike="noStrike">
              <a:solidFill>
                <a:srgbClr val="000000"/>
              </a:solidFill>
              <a:latin typeface="Times New Roman"/>
            </a:endParaRPr>
          </a:p>
          <a:p>
            <a:pPr marL="372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Flight 1001 - V1.4</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s = 12350</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end date - 11/23/01</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 end date - 12/03/01</a:t>
            </a:r>
            <a:endParaRPr b="0" lang="en-US" sz="1800" spc="-1" strike="noStrike">
              <a:solidFill>
                <a:srgbClr val="000000"/>
              </a:solidFill>
              <a:latin typeface="Times New Roman"/>
            </a:endParaRPr>
          </a:p>
          <a:p>
            <a:pPr marL="372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Flight V1.5 - V1.5</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s ~ 23000</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end date - 4/7/03</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 end date - 4/7/03</a:t>
            </a:r>
            <a:endParaRPr b="0" lang="en-US" sz="1800" spc="-1" strike="noStrike">
              <a:solidFill>
                <a:srgbClr val="000000"/>
              </a:solidFill>
              <a:latin typeface="Times New Roman"/>
            </a:endParaRPr>
          </a:p>
          <a:p>
            <a:pPr marL="372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Flight 0504 - V2.0</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s = 28,669</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end date - 7/23/04</a:t>
            </a:r>
            <a:endParaRPr b="0" lang="en-US" sz="1800" spc="-1" strike="noStrike">
              <a:solidFill>
                <a:srgbClr val="000000"/>
              </a:solidFill>
              <a:latin typeface="Times New Roman"/>
            </a:endParaRPr>
          </a:p>
          <a:p>
            <a:pPr marL="372960" indent="-37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 end date - 7/16/04</a:t>
            </a:r>
            <a:endParaRPr b="0" lang="en-US" sz="1800" spc="-1" strike="noStrike">
              <a:solidFill>
                <a:srgbClr val="000000"/>
              </a:solidFill>
              <a:latin typeface="Times New Roman"/>
            </a:endParaRPr>
          </a:p>
          <a:p>
            <a:pPr marL="372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77C5160-1084-41CC-AB6D-3326274EB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5800820-58B1-4053-899F-F3C85578760C}"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08-05T18:55:22Z</dcterms:modified>
  <cp:revision>3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