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D8D0-7442-4D26-95B5-6EB47BD10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CE9B-1336-4FE4-BD3E-EF7105D2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D603-AE7E-4745-A282-47567FEEE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7626-2CBA-4AFB-B5C3-6C8F42BD1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924D-BCDE-4CCD-B3DC-2FD69FEE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F9C1-897E-4BC5-95AC-156BC189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0374-84DD-4290-A576-6206837E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99C2-1834-46E6-9D16-6C150B5B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9ACC-44F2-4E26-97CA-111F08C6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2623-35F9-4571-A0D0-3FDA8B4C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3C2E-173E-4D71-8784-6ED8D310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B678-0D80-4D42-9F06-4D425829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C71D-828B-4F63-B4DD-65D136E2F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73200" y="2120760"/>
            <a:ext cx="7797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RCOT Supporting Repo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C065-9FDF-48FA-8586-CDBA5CC8F28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rak Issue Sta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342900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3 Day-to-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4 Day-to-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Extract Variances (D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Initiated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1E24-E886-4B91-AE6C-780B243E22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ra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00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Day to Day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08-2-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34080" y="1371600"/>
            <a:ext cx="3105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ESI IDs worked on 2003 issues = 324,6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28600" y="1371600"/>
          <a:ext cx="5410080" cy="501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5410080" cy="50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5791320" y="3962520"/>
            <a:ext cx="3047760" cy="23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574 New and In Progress Non-ERCOT issues, 15 are resolved and awaiting other party resolution check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are for the year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ber of ESI IDs not trac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7DEF-3D3E-400D-8037-DF9CFAD0340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ra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00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Day to Day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08-02-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1447920"/>
            <a:ext cx="3276360" cy="21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363 New &amp; In Progress, 191 are resolved and awaiting other party resolution check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ESI IDs worked to date since January 1, 2004 = 148,07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24640" y="4343400"/>
            <a:ext cx="321444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2,469 New &amp; In Progress, 307 are resolved and awaiting other party resolution check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ber of ESI IDs not track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28600" y="1460520"/>
          <a:ext cx="5168880" cy="501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60520"/>
                    <a:ext cx="5168880" cy="50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941D-4CB1-4E84-98A1-D7F1C48E5D7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rak Data Extract Varia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08-02-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07960" y="1447920"/>
          <a:ext cx="7988400" cy="447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1447920"/>
                    <a:ext cx="7988400" cy="44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2133720" y="6172200"/>
            <a:ext cx="6019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o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Of the 775 New &amp; In Progress ERCOT Issues, 82 are resolved and awaiting other party resolution check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0796-24C0-4BEC-9D6D-BDA7BFE6E05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rak ERCOT Initiated Issue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08-02-04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1981080"/>
            <a:ext cx="3124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800600"/>
            <a:ext cx="69339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are issue initiated by ERCOT to the TDSP or CR as a result of one of the following projec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 Protection Period and 814.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67 Received on Canceled Service or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new issue types to support Energy Aggregation Management Department issue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447920"/>
          <a:ext cx="8128080" cy="290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128080" cy="29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2404-0565-47C7-9EAA-EE18959887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73200" y="2120760"/>
            <a:ext cx="7797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1ED8-1308-4C81-8FD2-48126F18ED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ssing 867 Report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B491-29FB-4F61-96A6-0C265B34BE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219320"/>
            <a:ext cx="8610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867 Re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867 Report will provide TDSPs information about Service Orders in a scheduled state for which ERCOT has not received an 867 completing transaction at least seven days after the scheduled meter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ekly report provided to the TDSP via the ERCOT Por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ats Summar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04920" y="2971800"/>
          <a:ext cx="8547120" cy="306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971800"/>
                    <a:ext cx="854712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2F3E-7F60-422F-93EB-79645C9EAC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464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F076-11C6-4F2D-8E9D-DC241ABC49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86800" cy="475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2CBB-BA7C-434B-84E4-05AEBBA1F8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295280"/>
            <a:ext cx="9144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962520"/>
            <a:ext cx="8077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D891-5539-4180-8802-59482E9054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1143000"/>
            <a:ext cx="8763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eriodically receives 867_03 Finals and 867_04s for service orders that are Canceled in ERCOT systems.  The Service Order Statuses that are considered Canceled are:  Canceled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manually or concurrent processing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celed by Customer Request, Canceled by Customer Objection, Canceled Permit Not Received, Canceled with Exception, Unexecutable and Rejected by TDSP.   This can indicate an out-of-sync condition between the TDSP and ERC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Mechanism for Handling 867 RCSO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RCOT produces 867RCSO data each Friday and submits a report file to each TDSP and CR via the ERCOT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TDSPs review the FasTrak line items and take one of the following a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ancell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o further action is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omplet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y will initiate a day-to-day FasTrak issue and work with ERCOT to get ERCOT systems changed to complete.  Completion of canceled service orders will require the approval of the CR initiating the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te: For Cancel by Customer Objection, the TDSP will honor the cancel in their syste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67s received on Canceled Service 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EC39-67A2-4A00-807D-409C6BA1DA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67s received on Canceled Service 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7800" y="1752480"/>
            <a:ext cx="3733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July 30, 2004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s on FasTrak from 11/7/0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ugh 4/23/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s to Portal Report sta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/30/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53080" y="4495680"/>
            <a:ext cx="2362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July 30, 2004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s only data submitted via FasTrak 11/7/03 through 4/23/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52880" y="1371600"/>
            <a:ext cx="304920" cy="2438280"/>
          </a:xfrm>
          <a:custGeom>
            <a:avLst/>
            <a:gdLst>
              <a:gd name="textAreaLeft" fmla="*/ 0 w 304920"/>
              <a:gd name="textAreaRight" fmla="*/ 110160 w 30492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4343400"/>
            <a:ext cx="304920" cy="2209680"/>
          </a:xfrm>
          <a:custGeom>
            <a:avLst/>
            <a:gdLst>
              <a:gd name="textAreaLeft" fmla="*/ 0 w 304920"/>
              <a:gd name="textAreaRight" fmla="*/ 110160 w 30492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3876840" cy="2602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28600" y="4495680"/>
            <a:ext cx="6095880" cy="196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939A-9FB9-4C7A-8A1E-00174DD8F4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67s received on Canceled Service 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moved the 867RCSO report from a FasTrak Initiated issue to an automated weekly portal report to the TDSP and the CR on April 30,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Next Ste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continues sending weekly 867RCSO report to TDSPs and CRs via a Portal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to summarize data provided to the TDSPs for reporting to RMS for the next few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CB5D-D798-4A8E-8680-44C1C0808A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bergman</cp:lastModifiedBy>
  <cp:lastPrinted>2002-09-24T18:27:58Z</cp:lastPrinted>
  <dcterms:modified xsi:type="dcterms:W3CDTF">2004-08-05T18:11:48Z</dcterms:modified>
  <cp:revision>3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98340335</vt:r8>
  </property>
  <property fmtid="{D5CDD505-2E9C-101B-9397-08002B2CF9AE}" pid="3" name="_AuthorEmail">
    <vt:lpwstr>kwariner@ercot.com</vt:lpwstr>
  </property>
  <property fmtid="{D5CDD505-2E9C-101B-9397-08002B2CF9AE}" pid="4" name="_AuthorEmailDisplayName">
    <vt:lpwstr>Wariner, Kerry</vt:lpwstr>
  </property>
  <property fmtid="{D5CDD505-2E9C-101B-9397-08002B2CF9AE}" pid="5" name="_EmailSubject">
    <vt:lpwstr>RMS March 04.ppt</vt:lpwstr>
  </property>
  <property fmtid="{D5CDD505-2E9C-101B-9397-08002B2CF9AE}" pid="6" name="_PreviousAdHocReviewCycleID">
    <vt:r8>-1263327933</vt:r8>
  </property>
  <property fmtid="{D5CDD505-2E9C-101B-9397-08002B2CF9AE}" pid="7" name="_ReviewingToolsShownOnce">
    <vt:lpwstr/>
  </property>
</Properties>
</file>