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0F9-0CFF-4EE5-8B0A-C85DBED2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FAF-3CBF-42F0-A269-7AD5F847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908-9B55-43AB-BEC0-EA11ACEA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315-59BA-409B-AFE3-13F51231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62A-C413-4A93-BC4C-F478A21C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C99-1A1E-4F98-85D9-5F83BD86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6BC-E6D4-4C1F-84A3-9581E3DE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152D-9D1F-4EDD-89CE-519AA070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FBE-C90A-48A1-B6F5-3EB942E1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9E0-AE49-49A2-B7E3-A9087236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0DC0-4DC7-476B-B81C-32927701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DE7-7564-4437-BACF-E713F0ED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86D1-4AE8-48AB-9915-1F048C2AF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Research Sampling (LR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2/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301-27F9-4677-91B8-AC0B8808F4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initiated by ERCOT/PUCT/Market in 2Q2003 with a 1.3 priority (PUCT Order 255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RS project to collect and assimilate IDR information from TDSPs to create/update ERCOT settlement load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RS project to distribute IDR information to CRs and qualified MUNI/Co-Ops MASKING customer relat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to work with Market to establish economically feasible method to develop LRS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working with the Market to determine sample points, replacement points, sampling procedures and processes, and data transmission/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to start-up LRS project in production 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E31-E54F-46F8-BA9B-66BBED33AC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600200"/>
            <a:ext cx="8001000" cy="1522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429000"/>
            <a:ext cx="8001000" cy="1522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181480"/>
            <a:ext cx="8001000" cy="152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29528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4569c"/>
                </a:solidFill>
                <a:latin typeface="Garamond"/>
              </a:rPr>
              <a:t>October 2003 – February 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12408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4569c"/>
                </a:solidFill>
                <a:latin typeface="Garamond"/>
              </a:rPr>
              <a:t>February 2004 – Ma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876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54569c"/>
                </a:solidFill>
                <a:latin typeface="Garamond"/>
              </a:rPr>
              <a:t>May 2004 – October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4572000"/>
            <a:ext cx="106668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05/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DSPs starts ordering ID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6172200"/>
            <a:ext cx="152424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07/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 internal ERCOT testing of LRS solu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5721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08/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 Pilot for TDS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53402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5334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2590920"/>
            <a:ext cx="144756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02/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tall Load Research Software at ERC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3452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5812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3772080"/>
            <a:ext cx="1523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04/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DSPs validate samples and send installation schedu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5334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3809880"/>
            <a:ext cx="1524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05/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 receiving sample point installation data from TDS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205740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10/03-12/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DSP and CR surveys completed and results publish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981080"/>
            <a:ext cx="106704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10/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ck off meeting with Mark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1981080"/>
            <a:ext cx="144792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12/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TP Replacement technology agreed for data transportation mechanis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4191120"/>
            <a:ext cx="137160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04/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gn and select TDSPs samp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4572000"/>
            <a:ext cx="167616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05/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 Development for LRS solution at ERC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7732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3962520"/>
            <a:ext cx="144756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02/04-3/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 Handshake t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2590920"/>
            <a:ext cx="144792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10/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rchases LRS solution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1981080"/>
            <a:ext cx="144792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01/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LRS hardware set up comp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07360" y="1752480"/>
            <a:ext cx="144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6041880"/>
            <a:ext cx="167652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05/04-07/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Internal Business and System Tes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5334120"/>
            <a:ext cx="0" cy="70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62485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09/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 Pilot for C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5334120"/>
            <a:ext cx="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5486400"/>
            <a:ext cx="137160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10/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gration from Pilot to Produc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6095880"/>
            <a:ext cx="137160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10/31/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gration Complete, Go Liv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2819520"/>
            <a:ext cx="137160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12/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DSP Handshake test 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A96-DD88-49B6-8725-E76300031C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rket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P Installation update as of 8/2/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progress in LRS IDR installation has been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Ps will start submitting IDR data automatically to ERCOT once in Pi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will be working with each TDSP on any Pilo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320" y="2362320"/>
            <a:ext cx="9043920" cy="19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128-8166-4498-8A82-469E5F3E49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ket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SPs to start Pilot at the beginning of Aug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SPs have been working with ERCOT on any sample point replacements that are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COT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d ERCOT internal tes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months of system and business process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 Defects found and corr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 additional enhancements to LRS requirements tra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systems are up in Pilot and ERCOT business and IT teams will be monitoring through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LRS materials can be found on the ERCOT LRS web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rcot.com/Participants/loadresearchsampling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465-7250-496F-9192-D2672DFA4A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S PROJECT OUT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s are planned to start Pilot testing in Sept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s planning for a 1 week outage of the LRS system in October to transition the Pilot data to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s planning to have all systems up in the Production Environment by end of Octo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22E6-13AF-403D-BE0C-4777B2AF70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6FD-2A6F-4B8D-A428-4A10A73FA6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wariner</dc:creator>
  <dc:description/>
  <dc:language>en-US</dc:language>
  <cp:lastModifiedBy>kbergman</cp:lastModifiedBy>
  <cp:lastPrinted>2002-09-24T18:27:58Z</cp:lastPrinted>
  <dcterms:modified xsi:type="dcterms:W3CDTF">2004-08-05T19:08:08Z</dcterms:modified>
  <cp:revision>277</cp:revision>
  <dc:subject>RMS</dc:subject>
  <dc:title>ERCOT RMS Update 10-16-03</dc:title>
</cp:coreProperties>
</file>