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535-0CD4-4DD9-B3D3-912C3911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B23-FB1D-444E-B549-DAA6E408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941-1C6A-4F80-B3CB-BA25EEAA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BE40-32D0-416B-A0D5-ABEF1A7F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7A5-2574-4B15-9B77-E11F7785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18E-1E15-449E-992B-1EBAD66A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9A9-EB97-4873-9136-D6261EA0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EE5-2886-4F22-AFA2-6487B3EE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184-2547-42B2-ABB6-A20C3A01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EF99-63CC-4BF9-A858-61A3AE56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1570-7C86-4D3A-BE25-8176FD2B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99F-94C9-419C-9193-6C08309D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20C6-83ED-48AB-8949-744A7DDE6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R 727 Phase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56B-9A80-474C-9F8D-B72982C7D7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27 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4560" y="1447920"/>
            <a:ext cx="757872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viously Suggested Mod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diting Capabilitie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EDIUM-to be included in S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ality to provide Market Participants with the ability to confirm the accuracy of their SCR 727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 DEWG mee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ily database counts or monthly – requirement consid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imilar to Siebel extracts (full database dump) and incrementals to get to a current state – solution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resh of databases on a scheduled basis – requirement consid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61B7-C94E-4594-8A0B-C36ADCA816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27 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4560" y="1447920"/>
            <a:ext cx="7578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viously Suggested Mod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age for Backdated LSE Relationship Changes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RGENT-to be included in 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ality to provide LSEs with usage that was loaded in ERCOT systems prior to the LSE relationship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 DEWG meeting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sh a list of file names/include a number in the file name or table name for load order (preferred inside zip file)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HIGH-to be included in 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apture the actual date that a particular trade date was run for data aggregation – will be addressed through COPs Committee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grammatic web services interface to extract all data for ESIIDs at anytim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EDIUM-to be included in 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ility to tie a database change back to the source of the change (i.e. FasTrak issue, batch processing)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MEDIUM-to be included in 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2625-5E2A-4DD4-A518-AED0192E80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27 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447920"/>
            <a:ext cx="838188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necessity of each mod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would be the value of this functionality and how often would MPs use it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content will be contained in the new data request(s) or new functionality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n would this data be made available on an ongoing basis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would MPs request and get approval for this d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o would make requests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 would the data be made availabl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 information that describes how this new functionality will wor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 new functionality not mentioned above along with requirements definitio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7982-1F84-4293-9AF5-17F63267C7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ED9-0FFF-4B9A-B42B-3BFBA29BEE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1447920"/>
            <a:ext cx="792504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27 Extract status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of the SCR 727 Ex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previously suggested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MP suggested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27 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3B01-E5AF-4ED7-9EF0-0489A42850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27 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1752480"/>
            <a:ext cx="708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4560" y="1447920"/>
            <a:ext cx="75787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 727 Extract Status to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es of extract files produced from snapshots of Production Lodestar for Historical and Increment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ly extract files started 12/03/2003 produced from Data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ly extract files contain data archived from Production Lodestar for Day 1 4:00:00 AM – Day 2 03:59:59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F5A-4627-436E-8596-FA71BA948A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2193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243828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43828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464832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4648320"/>
            <a:ext cx="45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5920" y="2438280"/>
            <a:ext cx="45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763120" y="2438280"/>
            <a:ext cx="1440" cy="129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3733920"/>
            <a:ext cx="18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3808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27 Extract Creation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295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SE Relationship Updates and Usage Transa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5029200"/>
            <a:ext cx="228600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 7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IID EX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029200"/>
            <a:ext cx="320040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DES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CH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 times that fall betw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evious Day 04:00:00 AM – Current Day 03:59:59 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5029200"/>
            <a:ext cx="220968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 7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IID EX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ED TO 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0800" y="5943600"/>
            <a:ext cx="2362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osting date is dependent on when t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roduction of the extract files are 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2362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K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5812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DES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228600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828800"/>
            <a:ext cx="175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4648320"/>
            <a:ext cx="1828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y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362320" y="40384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5486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32004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2666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E5A0-5416-4211-A97C-BE8163F021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12193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243828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243828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464832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4648320"/>
            <a:ext cx="45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05920" y="2438280"/>
            <a:ext cx="45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763120" y="2438280"/>
            <a:ext cx="1440" cy="129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3733920"/>
            <a:ext cx="18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808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27 Extract Creation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295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14_20 Transa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04920" y="1981080"/>
            <a:ext cx="8458200" cy="3886200"/>
            <a:chOff x="304920" y="1981080"/>
            <a:chExt cx="8458200" cy="3886200"/>
          </a:xfrm>
        </p:grpSpPr>
        <p:sp>
          <p:nvSpPr>
            <p:cNvPr id="88" name=""/>
            <p:cNvSpPr/>
            <p:nvPr/>
          </p:nvSpPr>
          <p:spPr>
            <a:xfrm>
              <a:off x="3886200" y="4572000"/>
              <a:ext cx="2286000" cy="9144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CR 7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SIID EXTRA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920" y="4572000"/>
              <a:ext cx="3200400" cy="9144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ODEST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RCH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dd times that fall betwe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revious Day 04:00:00 AM – Current Day 03:59:59 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77120" y="4572000"/>
              <a:ext cx="2209680" cy="9144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CR 7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SIID EXTRA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OSTED TO POR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00800" y="5562720"/>
              <a:ext cx="23623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Posting date is dependent on when th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production of the extract files are comple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95880" y="426708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1480" y="342900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2438280"/>
              <a:ext cx="2361960" cy="9144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RKE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TICIP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29400" y="2438280"/>
              <a:ext cx="1981080" cy="9144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ODEST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86200" y="2438280"/>
              <a:ext cx="1828800" cy="9144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EB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920" y="1981080"/>
              <a:ext cx="1752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y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24080" y="2895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15000" y="28954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920" y="3809880"/>
              <a:ext cx="1828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y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0120" y="3352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828440" y="358128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28800" y="3581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05320" y="5029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72200" y="5029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74A-4FD7-420D-B601-49092F7F6D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27 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560" y="1447920"/>
            <a:ext cx="757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tion of the SCR 727 Ex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Delivery 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7B09-7C7D-49BE-BE12-021ED8B6AA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27 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1F2-DD02-4FD9-8DA8-490F1AA02F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 727 Phase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28600" y="1919160"/>
            <a:ext cx="8839080" cy="4699080"/>
            <a:chOff x="228600" y="1919160"/>
            <a:chExt cx="8839080" cy="4699080"/>
          </a:xfrm>
        </p:grpSpPr>
        <p:sp>
          <p:nvSpPr>
            <p:cNvPr id="112" name=""/>
            <p:cNvSpPr/>
            <p:nvPr/>
          </p:nvSpPr>
          <p:spPr>
            <a:xfrm>
              <a:off x="380880" y="1936800"/>
              <a:ext cx="14828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y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:00 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05120" y="1936800"/>
              <a:ext cx="14824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y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:00 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5320" y="1936800"/>
              <a:ext cx="14824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y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:00 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1936800"/>
              <a:ext cx="14824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y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:00 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85200" y="1919160"/>
              <a:ext cx="14824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y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9:00 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5800" y="3308400"/>
              <a:ext cx="800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" y="4298760"/>
              <a:ext cx="2057400" cy="131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ad Lodestar Source data into Data Archive for Inserts/Deletes between 04:00:00 AM – 03:59:59 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066680" y="3384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00200" y="5794200"/>
              <a:ext cx="205740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nal Source to Archive Auditing Proc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590920" y="34603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76720" y="4527360"/>
              <a:ext cx="205740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R 727 Extract process kicks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267080" y="338436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791320" y="34603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6920" y="5746680"/>
              <a:ext cx="205740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R 727 Extracts posted to MP Reports Folder on T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67480" y="4527360"/>
              <a:ext cx="160020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R 727 Extract target delivery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8229600" y="338436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80880" y="1371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Delivery Tim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6A4-FDD0-46AF-A0FE-AA06594D0E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27 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4560" y="1447920"/>
            <a:ext cx="75787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viously Suggested Mod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ical Data Request/Initial Data Load –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apability will be provided as a part of the migration of the extract from the Data Archive to the EDW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ality to coordinate providing the SCR 727 extracts to new Market Particip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ality to create dimensional table extracts for new Market Particip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DEWG meeting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mensional data dump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 to entire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unctionality to create a current (as of request date) complete extract – this is to be included as a part of the auditing 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fresh of databases on a scheduled basis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– this is to be included as a part of the auditing 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343-7AA3-4210-BD30-A48643B03D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ashbaugh</cp:lastModifiedBy>
  <cp:lastPrinted>2002-09-24T18:27:58Z</cp:lastPrinted>
  <dcterms:modified xsi:type="dcterms:W3CDTF">2004-08-11T20:19:57Z</dcterms:modified>
  <cp:revision>435</cp:revision>
  <dc:subject/>
  <dc:title>PowerPoint Presentation</dc:title>
</cp:coreProperties>
</file>