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gif" ContentType="image/gif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4D1E4-D377-4C02-A23C-67C2721C5D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8105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855720" y="3170520"/>
            <a:ext cx="8105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39A77-4A39-40A6-8D5F-8606C8B9B4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55720" y="31705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009040" y="31705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AF343-BB34-4E16-B932-6A6F036744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596400" y="15937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336720" y="15937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855720" y="31705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596400" y="31705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336720" y="31705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F4425-59F7-4E1E-9E8E-9EB877BDF2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94CEE-A46B-466C-B565-7934BB6D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55720" y="1593720"/>
            <a:ext cx="810576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460BE-7ED3-4A7E-B4B9-C363C72A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810576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8F496-18C0-4AA5-A734-AA255657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57B7E-D440-460F-8ED4-FFAC0DF3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16371-61F2-45F6-B474-58140CE1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286000" y="0"/>
            <a:ext cx="68580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788F0-AFFD-42BB-9D81-7F31776E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55720" y="31705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BE780-86C2-45AF-95F0-8A100743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855720" y="1593720"/>
            <a:ext cx="810576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BECFF-219F-491E-B81B-BC329ED59C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09040" y="31705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5C644-8559-4C13-ACB6-2313E243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55720" y="3170520"/>
            <a:ext cx="8105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47611-3BC3-4F42-A110-A5F35802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8105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55720" y="3170520"/>
            <a:ext cx="8105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0FE8D-09CC-43E9-82E3-B5C07983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55720" y="31705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09040" y="31705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A88BF-B800-40B3-871D-D7A24600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96400" y="15937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36720" y="15937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55720" y="31705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96400" y="31705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36720" y="3170520"/>
            <a:ext cx="26096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97A5B-021A-42C1-B784-FC9EBE461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810576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56109-E8AC-4F04-9C22-ED0CCF7174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B90C3-EE2D-4FA9-B639-7A6BFCDE53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BBA91-298A-4713-AB09-632D7D882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2286000" y="0"/>
            <a:ext cx="68580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E5B7B-A109-4D83-AA1E-830DC10CBA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55720" y="31705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C9A05-04EE-4BE0-B3C8-1FEE03B42B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09040" y="31705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1F41B-635D-40BB-9E10-02CE73D82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5572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09040" y="1593720"/>
            <a:ext cx="39553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5720" y="3170520"/>
            <a:ext cx="8105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497E8-FD69-4F43-9F62-591517E1DC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06c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5720" y="1593720"/>
            <a:ext cx="810576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2362320" cy="6859080"/>
            <a:chOff x="0" y="0"/>
            <a:chExt cx="2362320" cy="6859080"/>
          </a:xfrm>
        </p:grpSpPr>
        <p:graphicFrame>
          <p:nvGraphicFramePr>
            <p:cNvPr id="3" name=""/>
            <p:cNvGraphicFramePr/>
            <p:nvPr/>
          </p:nvGraphicFramePr>
          <p:xfrm>
            <a:off x="0" y="0"/>
            <a:ext cx="2362320" cy="1271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0"/>
                      <a:ext cx="2362320" cy="127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" name=""/>
            <p:cNvSpPr/>
            <p:nvPr/>
          </p:nvSpPr>
          <p:spPr>
            <a:xfrm>
              <a:off x="258840" y="1506600"/>
              <a:ext cx="142920" cy="1317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03200" y="1514520"/>
              <a:ext cx="243000" cy="201600"/>
            </a:xfrm>
            <a:custGeom>
              <a:avLst/>
              <a:gdLst/>
              <a:ahLst/>
              <a:rect l="l" t="t" r="r" b="b"/>
              <a:pathLst>
                <a:path w="153" h="151">
                  <a:moveTo>
                    <a:pt x="0" y="0"/>
                  </a:moveTo>
                  <a:lnTo>
                    <a:pt x="0" y="98"/>
                  </a:lnTo>
                  <a:lnTo>
                    <a:pt x="17" y="98"/>
                  </a:lnTo>
                  <a:lnTo>
                    <a:pt x="36" y="102"/>
                  </a:lnTo>
                  <a:lnTo>
                    <a:pt x="51" y="116"/>
                  </a:lnTo>
                  <a:lnTo>
                    <a:pt x="58" y="133"/>
                  </a:lnTo>
                  <a:lnTo>
                    <a:pt x="58" y="150"/>
                  </a:lnTo>
                  <a:lnTo>
                    <a:pt x="152" y="149"/>
                  </a:lnTo>
                  <a:lnTo>
                    <a:pt x="152" y="131"/>
                  </a:lnTo>
                  <a:lnTo>
                    <a:pt x="150" y="114"/>
                  </a:lnTo>
                  <a:lnTo>
                    <a:pt x="147" y="100"/>
                  </a:lnTo>
                  <a:lnTo>
                    <a:pt x="143" y="88"/>
                  </a:lnTo>
                  <a:lnTo>
                    <a:pt x="138" y="70"/>
                  </a:lnTo>
                  <a:lnTo>
                    <a:pt x="133" y="57"/>
                  </a:lnTo>
                  <a:lnTo>
                    <a:pt x="125" y="47"/>
                  </a:lnTo>
                  <a:lnTo>
                    <a:pt x="116" y="35"/>
                  </a:lnTo>
                  <a:lnTo>
                    <a:pt x="102" y="24"/>
                  </a:lnTo>
                  <a:lnTo>
                    <a:pt x="88" y="15"/>
                  </a:lnTo>
                  <a:lnTo>
                    <a:pt x="66" y="7"/>
                  </a:lnTo>
                  <a:lnTo>
                    <a:pt x="39" y="1"/>
                  </a:ln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16200000">
              <a:off x="11880" y="1449720"/>
              <a:ext cx="249480" cy="250920"/>
            </a:xfrm>
            <a:prstGeom prst="triangle">
              <a:avLst>
                <a:gd name="adj" fmla="val 49995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99880" y="1143000"/>
              <a:ext cx="289080" cy="230040"/>
            </a:xfrm>
            <a:prstGeom prst="triangle">
              <a:avLst>
                <a:gd name="adj" fmla="val 49995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00040" y="1712880"/>
              <a:ext cx="149400" cy="51451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77920" y="1770120"/>
              <a:ext cx="245880" cy="198360"/>
            </a:xfrm>
            <a:custGeom>
              <a:avLst/>
              <a:gdLst/>
              <a:ahLst/>
              <a:rect l="l" t="t" r="r" b="b"/>
              <a:pathLst>
                <a:path w="155" h="149">
                  <a:moveTo>
                    <a:pt x="154" y="0"/>
                  </a:moveTo>
                  <a:lnTo>
                    <a:pt x="154" y="97"/>
                  </a:lnTo>
                  <a:lnTo>
                    <a:pt x="136" y="97"/>
                  </a:lnTo>
                  <a:lnTo>
                    <a:pt x="117" y="101"/>
                  </a:lnTo>
                  <a:lnTo>
                    <a:pt x="102" y="115"/>
                  </a:lnTo>
                  <a:lnTo>
                    <a:pt x="94" y="132"/>
                  </a:lnTo>
                  <a:lnTo>
                    <a:pt x="94" y="148"/>
                  </a:lnTo>
                  <a:lnTo>
                    <a:pt x="0" y="148"/>
                  </a:lnTo>
                  <a:lnTo>
                    <a:pt x="0" y="129"/>
                  </a:lnTo>
                  <a:lnTo>
                    <a:pt x="1" y="112"/>
                  </a:lnTo>
                  <a:lnTo>
                    <a:pt x="4" y="99"/>
                  </a:lnTo>
                  <a:lnTo>
                    <a:pt x="8" y="87"/>
                  </a:lnTo>
                  <a:lnTo>
                    <a:pt x="13" y="70"/>
                  </a:lnTo>
                  <a:lnTo>
                    <a:pt x="18" y="57"/>
                  </a:lnTo>
                  <a:lnTo>
                    <a:pt x="26" y="47"/>
                  </a:lnTo>
                  <a:lnTo>
                    <a:pt x="36" y="35"/>
                  </a:lnTo>
                  <a:lnTo>
                    <a:pt x="49" y="24"/>
                  </a:lnTo>
                  <a:lnTo>
                    <a:pt x="64" y="15"/>
                  </a:lnTo>
                  <a:lnTo>
                    <a:pt x="86" y="7"/>
                  </a:lnTo>
                  <a:lnTo>
                    <a:pt x="113" y="1"/>
                  </a:lnTo>
                  <a:lnTo>
                    <a:pt x="131" y="0"/>
                  </a:lnTo>
                  <a:lnTo>
                    <a:pt x="154" y="0"/>
                  </a:lnTo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662040" y="1708200"/>
              <a:ext cx="247680" cy="254160"/>
            </a:xfrm>
            <a:prstGeom prst="triangle">
              <a:avLst>
                <a:gd name="adj" fmla="val 49995"/>
              </a:avLst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2360" y="1770120"/>
              <a:ext cx="142920" cy="129960"/>
            </a:xfrm>
            <a:prstGeom prst="rect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76120" y="1963800"/>
              <a:ext cx="142920" cy="489420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85920" y="1373040"/>
              <a:ext cx="144360" cy="54849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24320" y="6612840"/>
              <a:ext cx="959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d006c"/>
                  </a:solidFill>
                  <a:latin typeface="Tahoma"/>
                </a:rPr>
                <a:t>© ERCOT 2004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3C41-1032-4308-9506-573B9007E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8EFB-7F51-45DF-82B7-F34C123AC91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AACE-6463-498F-8DD6-1F648313C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19807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06c"/>
                </a:solidFill>
                <a:latin typeface="Tahoma"/>
              </a:rPr>
              <a:t>2003 and 2004 Fleet Deployment and Settlements</a:t>
            </a:r>
            <a:br>
              <a:rPr sz="3200"/>
            </a:br>
            <a:r>
              <a:rPr b="1" lang="en-US" sz="3200" spc="-1" strike="noStrike">
                <a:solidFill>
                  <a:srgbClr val="0d006c"/>
                </a:solidFill>
                <a:latin typeface="Tahoma"/>
              </a:rPr>
              <a:t>WMS Meeting</a:t>
            </a:r>
            <a:br>
              <a:rPr sz="3200"/>
            </a:br>
            <a:r>
              <a:rPr b="1" lang="en-US" sz="3200" spc="-1" strike="noStrike">
                <a:solidFill>
                  <a:srgbClr val="0d006c"/>
                </a:solidFill>
                <a:latin typeface="Tahoma"/>
              </a:rPr>
              <a:t>August 19, 2004</a:t>
            </a:r>
            <a:endParaRPr b="1" lang="en-US" sz="32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80880" y="4648320"/>
            <a:ext cx="8382240" cy="16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06c"/>
                </a:solidFill>
                <a:latin typeface="Tahoma"/>
              </a:rPr>
              <a:t>Ino Gonzalez</a:t>
            </a:r>
            <a:endParaRPr b="1" lang="en-US" sz="3200" spc="-1" strike="noStrike">
              <a:solidFill>
                <a:srgbClr val="0d006c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06c"/>
                </a:solidFill>
                <a:latin typeface="Tahoma"/>
              </a:rPr>
              <a:t>ERCOT Settlements</a:t>
            </a:r>
            <a:endParaRPr b="1" lang="en-US" sz="2800" spc="-1" strike="noStrike">
              <a:solidFill>
                <a:srgbClr val="0d006c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d006c"/>
                </a:solidFill>
                <a:latin typeface="Tahoma"/>
              </a:rPr>
              <a:t>igonzalez@ercot.com</a:t>
            </a:r>
            <a:endParaRPr b="1" lang="en-US" sz="1800" spc="-1" strike="noStrike">
              <a:solidFill>
                <a:srgbClr val="0d006c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d006c"/>
                </a:solidFill>
                <a:latin typeface="Tahoma"/>
              </a:rPr>
              <a:t>www.ercot.com</a:t>
            </a:r>
            <a:endParaRPr b="1" lang="en-US" sz="18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0E074-E436-442C-AE0D-377EF542B18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5040" y="1980720"/>
            <a:ext cx="785808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06c"/>
                </a:solidFill>
                <a:latin typeface="Tahoma"/>
              </a:rPr>
              <a:t>Fleet Deployment Settlement Process</a:t>
            </a:r>
            <a:br>
              <a:rPr sz="3200"/>
            </a:br>
            <a:endParaRPr b="1" lang="en-US" sz="32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8605440" y="64450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06c"/>
                </a:solidFill>
                <a:latin typeface="Tahoma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9E308-DCC1-4937-BF6C-4FB2495DB2D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06c"/>
                </a:solidFill>
                <a:latin typeface="Tahoma"/>
              </a:rPr>
              <a:t>What are Fleet Instructions?</a:t>
            </a: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51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SE 1 --- decrease generation in the North Zone by 100 MW for interval ending 9:15.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SE 2 --- increase generation in the Houston Zone by 100 MW for interval ending 9:15.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/Decrease Generation ERCOT-Wide by 100 MW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e output of plant 1 at or below 450 MW.  [This is not a fleet instruction.]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8557920" y="64166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06c"/>
                </a:solidFill>
                <a:latin typeface="Tahoma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ACBA5-D3A3-4BDD-A45A-116DC7E83A9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06c"/>
                </a:solidFill>
                <a:latin typeface="Tahoma"/>
              </a:rPr>
              <a:t>High Level ---What is being done by the ERCOT Settlements Group</a:t>
            </a:r>
            <a:r>
              <a:rPr b="1" lang="en-US" sz="3600" spc="-1" strike="noStrike">
                <a:solidFill>
                  <a:srgbClr val="0d006c"/>
                </a:solidFill>
                <a:latin typeface="Tahoma"/>
              </a:rPr>
              <a:t>?</a:t>
            </a:r>
            <a:endParaRPr b="1" lang="en-US" sz="36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7520" y="1733040"/>
            <a:ext cx="7677360" cy="531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ZIDUPADJ’S and ZIDDNADJ’s to reflect the Fleet Instruction to ensure URC is calculated correctly.  [Done before the Initial is run.]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the QSE followed the “Fleet Instruction”.  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y which type of units were moved in order to follow the Fleet Instruction.  (assume economic dispatch.)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d import unit fuel type payments* (premium) to the QSE for following “fleet instruction”.  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*  QSEs received Balancing Energy Payments via the Resource Imbalance 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8577000" y="64450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06c"/>
                </a:solidFill>
                <a:latin typeface="Tahoma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4B100-426B-4208-B324-92562E9B34A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06c"/>
                </a:solidFill>
                <a:latin typeface="Tahoma"/>
              </a:rPr>
              <a:t>Additional Fleet Settlement Information</a:t>
            </a: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4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d006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06c"/>
                </a:solidFill>
                <a:latin typeface="Tahoma"/>
              </a:rPr>
              <a:t>For more detail information on the Fleet Settlement process, please review the “ERCOT Fleet Settlement Procedures” located at:</a:t>
            </a: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d006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06c"/>
                </a:solidFill>
                <a:latin typeface="Tahoma"/>
              </a:rPr>
              <a:t>http://www.ercot.com/Participants/MarketBulletins.htm</a:t>
            </a:r>
            <a:endParaRPr b="1" lang="en-US" sz="20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8596080" y="64832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06c"/>
                </a:solidFill>
                <a:latin typeface="Tahoma"/>
              </a:rPr>
              <a:t>1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3D18-BAA2-4DD3-A8A0-266D20A4694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06c"/>
                </a:solidFill>
                <a:latin typeface="Tahoma"/>
              </a:rPr>
              <a:t>QUESTIONS, DISCUSSION </a:t>
            </a: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866960" y="1873080"/>
            <a:ext cx="2589120" cy="28958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670720" y="2232000"/>
            <a:ext cx="2145960" cy="236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B3629-1FB0-4C52-B331-32060A7D0920}" type="slidenum">
              <a:t>14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06c"/>
                </a:solidFill>
                <a:latin typeface="Tahoma"/>
              </a:rPr>
              <a:t>Fleet Cost Summary</a:t>
            </a: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422360" y="1593720"/>
          <a:ext cx="6789600" cy="47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2360" y="1593720"/>
                    <a:ext cx="678960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8550720" y="64450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06c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96866-4C72-46D7-A98A-91435B7393E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06c"/>
                </a:solidFill>
                <a:latin typeface="Tahoma"/>
              </a:rPr>
              <a:t>Fleet MWh Summary</a:t>
            </a: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87560" y="1593720"/>
          <a:ext cx="7592760" cy="47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7560" y="1593720"/>
                    <a:ext cx="759276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8598240" y="659124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06c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4B64D-CB5E-4C1A-9EAE-F6F3F85D040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06c"/>
                </a:solidFill>
                <a:latin typeface="Tahoma"/>
              </a:rPr>
              <a:t>Fleet MWh Summary</a:t>
            </a: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044720" y="1593720"/>
          <a:ext cx="7735680" cy="485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4720" y="1593720"/>
                    <a:ext cx="773568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8703000" y="648324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06c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DA708-7845-479B-BA16-B7AEC10B82C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06c"/>
                </a:solidFill>
                <a:latin typeface="Tahoma"/>
              </a:rPr>
              <a:t>Location of Deployment</a:t>
            </a: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020600" y="1650960"/>
          <a:ext cx="3759480" cy="425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0600" y="1650960"/>
                    <a:ext cx="3759480" cy="42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915080" y="1679400"/>
          <a:ext cx="3981240" cy="4235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15080" y="1679400"/>
                    <a:ext cx="3981240" cy="42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8712720" y="639756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06c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431EA-6019-46D6-896D-325D1C79994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06c"/>
                </a:solidFill>
                <a:latin typeface="Tahoma"/>
              </a:rPr>
              <a:t>Percent Fleet Deployment by Location</a:t>
            </a: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228680" y="4038480"/>
          <a:ext cx="6172200" cy="229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8680" y="4038480"/>
                    <a:ext cx="6172200" cy="22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187280" y="1593720"/>
          <a:ext cx="6242400" cy="2368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1593720"/>
                    <a:ext cx="6242400" cy="23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8388720" y="643572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06c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C8E24-3CA3-4D33-BCC0-40461F4D980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440" y="1980720"/>
            <a:ext cx="77533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06c"/>
                </a:solidFill>
                <a:latin typeface="Tahoma"/>
              </a:rPr>
              <a:t>2004 Plant Deployment and Settlements</a:t>
            </a:r>
            <a:br>
              <a:rPr sz="3200"/>
            </a:br>
            <a:endParaRPr b="1" lang="en-US" sz="3200" spc="-1" strike="noStrike">
              <a:solidFill>
                <a:srgbClr val="0d006c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8398080" y="64072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06c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E8C1D-1303-486E-971D-6CA2B3C27D6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06c"/>
                </a:solidFill>
                <a:latin typeface="Tahoma"/>
              </a:rPr>
              <a:t>Plant Cost Summary</a:t>
            </a: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025640" y="1593720"/>
          <a:ext cx="7842240" cy="474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5640" y="1593720"/>
                    <a:ext cx="7842240" cy="47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8550720" y="645480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06c"/>
                </a:solidFill>
                <a:latin typeface="Tahoma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18D9F-6105-46DB-B886-AAA8792C5CE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06c"/>
                </a:solidFill>
                <a:latin typeface="Tahoma"/>
              </a:rPr>
              <a:t>2004 Plant Summary</a:t>
            </a:r>
            <a:endParaRPr b="1" lang="en-US" sz="4000" spc="-1" strike="noStrike">
              <a:solidFill>
                <a:srgbClr val="0d006c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42920" y="1593720"/>
          <a:ext cx="7731360" cy="468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593720"/>
                    <a:ext cx="7731360" cy="46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8569800" y="64450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06c"/>
                </a:solidFill>
                <a:latin typeface="Tahoma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E58F8-3BA2-4917-8396-22EE5D1CCF8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5T22:29:49Z</dcterms:created>
  <dc:creator/>
  <dc:description/>
  <dc:language>en-US</dc:language>
  <cp:lastModifiedBy/>
  <dcterms:modified xsi:type="dcterms:W3CDTF">2004-08-19T12:34:14Z</dcterms:modified>
  <cp:revision>398</cp:revision>
  <dc:subject/>
  <dc:title>GENERATION INTERCONNE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38199940</vt:r8>
  </property>
  <property fmtid="{D5CDD505-2E9C-101B-9397-08002B2CF9AE}" pid="3" name="_ReviewingToolsShownOnce">
    <vt:lpwstr/>
  </property>
</Properties>
</file>