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245-086F-446F-92C1-F8C75112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487-1610-4B0D-8A03-C6093036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EC3-E60C-465F-AB9F-6C2244B7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124-4847-4100-B369-E461B8AA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EDB-54B8-4035-A6FF-830FDD83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A30-C947-47EF-845A-6156E9AC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FDB-52D7-4273-B536-57290789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FAC-FEB8-4EA3-BF53-2622375D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1A5-E566-4896-92F9-844D84FE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49A-0213-45F8-9BE6-1A861CC2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C9A-9A94-48B5-A4E1-EB2DB8ED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962-657B-44AC-88E7-BBC544EE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ABA2-8A24-48FE-9112-ED1B1790D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5 – Methodologies for Determining AS Requiremen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Ad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EG &amp; DREG Requiremen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44880" y="1374840"/>
          <a:ext cx="1952640" cy="51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4880" y="1374840"/>
                    <a:ext cx="195264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5 - In addition to the prev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ur 0600 – Examine each period around 0600 of month for delta frequency over minutes.  Convert this frequency error to a MW ramping requirement by multiplying times bias.  Add this to the 0600 -0700 requi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ur 2200: Same for 2200-23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ck Review – 2004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ion – mean of historic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ive reserve – 2300 M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spin – flow chart – if expected temperature &gt; 95 or &lt; 30 purchase Nonspin equal to largest unit. Etc.(+ Other condi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ck Review – 2004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ment reserve – calculate sum of requirements –minus resource plan available.  If insufficient procure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balancing down requirement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amount of frequency deviation during periods of high frequency will be analyzed for the seaso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5 Recommended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ion – Old: re-evaluate monthly by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month.  Look at current &amp; equivalent month 1 year ago.  Calculate mean and standard deviation of deployments.  Select amount to cover 2.5 standard deviations. (98.8% of time will not exhaust reg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: Analyze 0600 &amp; 2200 for ramp rate required.  Add this additional ramp rate requirement to n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5 Recommended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ve reserve requirement – no change (2300 M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spin reserve – no change (&gt;9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ment reserve – New replacement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Regulation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09480" y="1905120"/>
          <a:ext cx="7620120" cy="42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62012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1661400" y="613728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= 60.85, Std dev = 372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3520" y="457200"/>
          <a:ext cx="7848360" cy="567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84836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im Result – Hourly requi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435400" y="1498680"/>
          <a:ext cx="4279680" cy="51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1498680"/>
                    <a:ext cx="4279680" cy="51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&amp; 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600200" y="1066680"/>
          <a:ext cx="6629400" cy="550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6680"/>
                    <a:ext cx="662940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23:26:09Z</dcterms:created>
  <dc:creator>ERCOT</dc:creator>
  <dc:description/>
  <dc:language>en-US</dc:language>
  <cp:lastModifiedBy>aboren</cp:lastModifiedBy>
  <dcterms:modified xsi:type="dcterms:W3CDTF">2004-08-13T21:10:30Z</dcterms:modified>
  <cp:revision>7</cp:revision>
  <dc:subject/>
  <dc:title>2003 – Methodologies for Determining AS Requirements</dc:title>
</cp:coreProperties>
</file>