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B7E6-F86F-48DD-917E-70F100D60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7026-FA86-440D-9F47-7A288B567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930B-2744-4283-AB43-EF6D59286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C149-859A-423B-BA78-038B4DA90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00C8-6A02-4813-91F7-373654BF5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7AD8-AAA3-46A2-8E68-E713AA2A0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6B9F-04AD-4FC5-B31C-805DE28E1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9F9A-8B22-4D99-8536-E42775489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BDC0-81A5-447C-B92E-E3730A133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C993-D9E4-4B61-B10A-2D2129CFA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146F-7427-462E-A6BE-079E67F48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894A-6D23-41FF-BB1F-F8CEE507A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0FDB0-6303-4B89-884B-1F241FF0D8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8160" y="914400"/>
            <a:ext cx="9105840" cy="5533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anuary CPS1 133.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90600" y="266760"/>
            <a:ext cx="8362800" cy="632448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R525 Sensitiv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648320" y="3429000"/>
            <a:ext cx="26668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a QSE is 10% of ERCOT, its CPS1 score crosses 100 at a SCE value of +36.1 MW’s when ERCOT’s Frequency is +.03 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6553080" y="3429000"/>
            <a:ext cx="106704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 flipV="1">
            <a:off x="2285640" y="3123720"/>
            <a:ext cx="24382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285640" y="4800600"/>
            <a:ext cx="24382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"/>
          <p:cNvGrpSpPr/>
          <p:nvPr/>
        </p:nvGrpSpPr>
        <p:grpSpPr>
          <a:xfrm>
            <a:off x="685800" y="1143000"/>
            <a:ext cx="8000280" cy="5333760"/>
            <a:chOff x="685800" y="1143000"/>
            <a:chExt cx="8000280" cy="5333760"/>
          </a:xfrm>
        </p:grpSpPr>
        <p:pic>
          <p:nvPicPr>
            <p:cNvPr id="66" name="" descr=""/>
            <p:cNvPicPr/>
            <p:nvPr/>
          </p:nvPicPr>
          <p:blipFill>
            <a:blip r:embed="rId1"/>
            <a:stretch/>
          </p:blipFill>
          <p:spPr>
            <a:xfrm>
              <a:off x="685800" y="1143000"/>
              <a:ext cx="5096880" cy="533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" descr=""/>
            <p:cNvPicPr/>
            <p:nvPr/>
          </p:nvPicPr>
          <p:blipFill>
            <a:blip r:embed="rId2"/>
            <a:stretch/>
          </p:blipFill>
          <p:spPr>
            <a:xfrm>
              <a:off x="5743800" y="1143000"/>
              <a:ext cx="2942280" cy="5333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mary Frequency Respon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8160" y="838080"/>
            <a:ext cx="9105840" cy="55342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ebruary CPS1 137.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8160" y="914400"/>
            <a:ext cx="9105840" cy="55339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rch CPS1 122.3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8160" y="914400"/>
            <a:ext cx="9105840" cy="55339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ril CPS1 115.9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8160" y="914400"/>
            <a:ext cx="9105840" cy="55339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y CPS1 110.7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838080"/>
            <a:ext cx="9105840" cy="55342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une CPS1 123.6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838080"/>
            <a:ext cx="9105840" cy="553428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uly CPS1 143.6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9080" y="195120"/>
            <a:ext cx="9105840" cy="646776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ning – 1% M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4400" y="190440"/>
            <a:ext cx="9115200" cy="647712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vening – 1% M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4T04:12:17Z</dcterms:created>
  <dc:creator>sniemeyer</dc:creator>
  <dc:description/>
  <dc:language>en-US</dc:language>
  <cp:lastModifiedBy>aboren</cp:lastModifiedBy>
  <dcterms:modified xsi:type="dcterms:W3CDTF">2004-08-09T18:06:53Z</dcterms:modified>
  <cp:revision>5</cp:revision>
  <dc:subject/>
  <dc:title>PowerPoint Presentation</dc:title>
</cp:coreProperties>
</file>