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13464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963600" y="13464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85440"/>
            <a:ext cx="46753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5480" y="5949720"/>
            <a:ext cx="51850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11628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963600" y="911628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D021C6-89C9-41DE-9078-3884C91D3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480" y="3908880"/>
            <a:ext cx="5185080" cy="52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ITIONS AND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Budg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f capital budget has NOT been approved: $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f capital budget has been approved: $$ of capital budget approval, in as much detail as is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Foreca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tal forecast numbers to date, based on current understanding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cludes change request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f this presentation is to execute a Change Request, the Total Forecast should differ from the Approved Budget by the amount of the C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o D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tal of dollars that have been committed to be sp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cluding amounts from POs already issued for HW, SW and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cluding labor costs for labor/contract already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excluding labor costs for labor/contract that is expected, but not yet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to D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llar amounts that have hit the books with Finance &amp;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E542C18A-162F-4FEB-BB7A-45EA838214C8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1916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RCOT Project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5360" y="1038240"/>
            <a:ext cx="4191120" cy="259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75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lution will allow Transmission Providers (TSPs) to remotely and securely access STNET network study cases in the EMS component of the Market Operations Testing Environment (MOTE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75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SPs will thus be able to work in conjunction with ERCOT modeling engineers to tune the network model, enhancing its effici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75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phase of the project involves prototyping for technical feasibility and security assurance, hardware sizing validation, and definition of rollout scop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75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procurement has been ini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prototyping has begun on existing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8640" y="3727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19520" y="4500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65520" y="5818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14000" y="44280"/>
            <a:ext cx="31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-30129 Remote Access to Study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19520" y="2887560"/>
            <a:ext cx="4343400" cy="269424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ct dependency on the successful re-delivery of EMP 2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TE environment unavailable for 5 weeks, due to EMP 2.2 testing in iTest, with MOTE serving to support 2.1.1 testing; this causes a gap in the delivery sche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ource and environment constraints may affect delivery sche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otyping may identify lack of technical feasibility and/or security concerns, which would require an alternate technical approach. It may also identify additional hardware needs to support full rollout, necessitating additional investment or a more limited scale roll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2600" y="338040"/>
            <a:ext cx="210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M: Should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 Mgr: Gonzalez-Per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5360" y="4046400"/>
          <a:ext cx="4194360" cy="2194200"/>
        </p:xfrm>
        <a:graphic>
          <a:graphicData uri="http://schemas.openxmlformats.org/drawingml/2006/table">
            <a:tbl>
              <a:tblPr/>
              <a:tblGrid>
                <a:gridCol w="2059200"/>
                <a:gridCol w="1066680"/>
                <a:gridCol w="1068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Completion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/Software Procu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0/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E Environment Build-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7/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03/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 2.2 Install in MOTE and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05/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/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997360" y="331920"/>
            <a:ext cx="176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 Lead: Wilker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67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2300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2600" y="371952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5652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80440" y="299880"/>
            <a:ext cx="18720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87880" y="6570720"/>
            <a:ext cx="24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Date: 08/06/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 </cp:lastModifiedBy>
  <cp:lastPrinted>1999-12-01T22:56:09Z</cp:lastPrinted>
  <dcterms:modified xsi:type="dcterms:W3CDTF">2004-08-09T23:14:06Z</dcterms:modified>
  <cp:revision>6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8627991</vt:r8>
  </property>
  <property fmtid="{D5CDD505-2E9C-101B-9397-08002B2CF9AE}" pid="3" name="_AuthorEmail">
    <vt:lpwstr>bshoulders@ercot.com</vt:lpwstr>
  </property>
  <property fmtid="{D5CDD505-2E9C-101B-9397-08002B2CF9AE}" pid="4" name="_AuthorEmailDisplayName">
    <vt:lpwstr>Shoulders, Brett</vt:lpwstr>
  </property>
  <property fmtid="{D5CDD505-2E9C-101B-9397-08002B2CF9AE}" pid="5" name="_EmailSubject">
    <vt:lpwstr>Remote Access to Study Cases - follow-up info</vt:lpwstr>
  </property>
  <property fmtid="{D5CDD505-2E9C-101B-9397-08002B2CF9AE}" pid="6" name="_PreviousAdHocReviewCycleID">
    <vt:r8>1459938905</vt:r8>
  </property>
</Properties>
</file>