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73A-F663-4A27-93DB-5C736DE0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1FB-FFC0-4842-9253-E172F62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522-CDF8-4EE5-B8A7-28BB1135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D81-8DCB-467E-9681-495315EE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F18-4A18-413B-A1A9-4C3C8FC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405-E991-48FD-8863-69ACE781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33E-F9BD-4B22-944B-7891D47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4D4-6BF6-4513-87E9-695E92B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5A2-899D-468C-B76A-9F76FBD8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81E-9177-4720-A1F2-C8A4C22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57-C323-4663-998B-AD6F9B8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C44-EBE2-4A7D-9289-7B0B2D2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15C-1B97-4991-925F-5AF9A0169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RCOT COMPLI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47242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g. 1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96640" y="53341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rk Henry, ERCOT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04 UFLS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 companies short in survey have submitted plans to correct problem this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ompliance will track com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ERC Blackou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RC’s Planning Committee requested disturbance recorder information by August 31.  Compliance will work with SP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v. 0 standards – first round of comments were due yesterday; NERC functional model assignments are an issu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vision to Investig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Initial reports sent within 1 hour to ERCOT Operations, who will forward to NE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Review frequency events that should trip emergency UFLS, not L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dditional event types as developed by NERC may need to be reported within 1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Followup reports from TO’s should be sent to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or Events Under Invest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 instances of three simultaneous unit trips in June; appear to be related to directly connected transmission ev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s supply curtailments threatened due to OOME in Ju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45kV transmission event with bus failing to clear on breaker failure, remote clearing activ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m load shed for transmiss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equency, Ramp SCE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S requested tracking of all QSE’s Schedule Control Error in the periods immediately before and after 0600 and 2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 does not account for error as a percentage of total obligation (which is confident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ft PRR525 offers altern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14:31:07Z</dcterms:created>
  <dc:creator>Mark Henry</dc:creator>
  <dc:description/>
  <dc:language>en-US</dc:language>
  <cp:lastModifiedBy>mhenry</cp:lastModifiedBy>
  <dcterms:modified xsi:type="dcterms:W3CDTF">2004-08-10T15:38:19Z</dcterms:modified>
  <cp:revision>36</cp:revision>
  <dc:subject/>
  <dc:title>Compliance Report</dc:title>
</cp:coreProperties>
</file>