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22B-8614-4D38-8F50-8AFBEB7B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792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1B54-A6E7-4019-8780-ECF6B62D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028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9C9C-23D6-4698-BD57-EBD9B932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889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6880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889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6880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B2D3-6DED-4788-BF2A-52149FFA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3245-07F1-4487-83F0-8872D8CD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418D-F7B4-4F80-857C-673805DA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C11C-6251-4A7E-B1A7-AA99D04B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EBA2-DFFF-4A45-93FC-6D2C0C08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2342-1B5C-4DA3-8DE7-404BFA4A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455D-70ED-4052-95EC-7764B3B2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FA54-9337-41A0-A5DF-6ED68815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39BA-6490-42A2-8B55-A1B2431E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028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5E82-D16F-4604-956B-CA68984F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792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D937-887D-4EF1-97F5-F04C6C9D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09480" y="4030920"/>
            <a:ext cx="792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B0B8-5E54-44B1-AB39-976D78D9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028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208D-C947-482E-9B90-1EA7BBCD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8896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68800" y="15235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0948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8896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68800" y="4030920"/>
            <a:ext cx="255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FFE1-567B-4DCA-AECE-7114949B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893F-5B3C-4C8D-B99E-6F7F14E5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D79F-8615-4300-A14F-9F4D526E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CF3F-C15B-4F2F-B5F0-A1134F9E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5776-0470-4B1A-B8B6-D52C62FC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8FCC-C384-4DE4-B8FC-238B18BD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86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028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0280" y="40309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4D90-89F3-40DC-9278-A6050997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0280" y="1523520"/>
            <a:ext cx="3867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4030920"/>
            <a:ext cx="7925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7955-EA92-46FF-9DED-FB3B3019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339A-036C-460D-BEEA-D7BAB60C4AD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5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0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5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E014-EC5E-4602-99E2-905C36D3F05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24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761760"/>
            <a:ext cx="6629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Non-Transmission Alternatives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to Reduce Local Congestion Cost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50292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ill Bojorquez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une 3, 2004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33EC-B4F1-4D81-9A2D-70E4FB6CF2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Miscellaneous comments from RMR Task Force meeting attendees: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577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e should not be interfering with the Market.  Bilateral agreements for non-T solutions should be stop gap measures onl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3577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e should review the market design before considering the LT contract option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3577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RCOT should look at the best alternatives – if it means placing generation in the Valley in lieu of transmission to the Valley – ERCOT should consider i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3577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erchant transmission options would also require significant market design and regulatory changes – do not consider at this tim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3577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 one is opposed to conservation, but it is very difficult to incorporate in Protocols as an alternative to transmission, requires LT implementation, and may delay completing the rules and Protocol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CB75-AA36-423F-875C-0F170238D0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25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Decision tree on issues relating to non-Transmission alternatives</a:t>
            </a:r>
            <a:br>
              <a:rPr sz="2000"/>
            </a:b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1895400"/>
            <a:ext cx="2511720" cy="1704960"/>
          </a:xfrm>
          <a:prstGeom prst="diamond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2. What i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mechanism fo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implementing non-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“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local congestion”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ost reduction</a:t>
            </a: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1752480"/>
            <a:ext cx="2057400" cy="1979640"/>
          </a:xfrm>
          <a:prstGeom prst="diamond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1. Should non-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lternativ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considere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reduce loca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ongestion cost</a:t>
            </a: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?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1680" y="4648320"/>
            <a:ext cx="1371600" cy="5331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Modify protocols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remove non-T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lternatives review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90960" y="3591000"/>
            <a:ext cx="19051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Market Design Changes,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.g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- Locational ICA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- Locational Reserv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- Scarcity Pricing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- or Others?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09680" y="2514600"/>
            <a:ext cx="5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Y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76720" y="1905120"/>
            <a:ext cx="1247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ilatera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ontract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it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RCO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1" idx="2"/>
            <a:endCxn id="232" idx="0"/>
          </p:cNvCxnSpPr>
          <p:nvPr/>
        </p:nvCxnSpPr>
        <p:spPr>
          <a:xfrm flipV="1" rot="10800000">
            <a:off x="1256760" y="3731760"/>
            <a:ext cx="1080" cy="91692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1295280" y="3809880"/>
            <a:ext cx="5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N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0" idx="3"/>
            <a:endCxn id="239" idx="1"/>
          </p:cNvCxnSpPr>
          <p:nvPr/>
        </p:nvCxnSpPr>
        <p:spPr>
          <a:xfrm flipV="1">
            <a:off x="5178600" y="2743920"/>
            <a:ext cx="444960" cy="3960"/>
          </a:xfrm>
          <a:prstGeom prst="bentConnector3">
            <a:avLst>
              <a:gd name="adj1" fmla="val 49959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990720" y="1295280"/>
            <a:ext cx="533160" cy="2286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STAR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2"/>
            <a:endCxn id="231" idx="0"/>
          </p:cNvCxnSpPr>
          <p:nvPr/>
        </p:nvCxnSpPr>
        <p:spPr>
          <a:xfrm flipV="1" rot="10800000">
            <a:off x="1256760" y="1523520"/>
            <a:ext cx="1080" cy="22932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2666880" y="4790520"/>
            <a:ext cx="2514600" cy="10954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rough ERCOT committee structure, select and evaluate preferred market design alternative and develop recommendations and protocol chang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22840" y="2014560"/>
            <a:ext cx="2206800" cy="1460520"/>
          </a:xfrm>
          <a:prstGeom prst="diamond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3. What is mechanism to obtain bilateral contracts?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290080" y="2138040"/>
            <a:ext cx="625320" cy="2584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“A”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46880" y="4239360"/>
            <a:ext cx="2358720" cy="2191320"/>
          </a:xfrm>
          <a:prstGeom prst="diamond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4. Should bilateral contracts be used to solve current/ST problems?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31" idx="3"/>
            <a:endCxn id="230" idx="1"/>
          </p:cNvCxnSpPr>
          <p:nvPr/>
        </p:nvCxnSpPr>
        <p:spPr>
          <a:xfrm>
            <a:off x="2286000" y="2742840"/>
            <a:ext cx="381600" cy="5400"/>
          </a:xfrm>
          <a:prstGeom prst="bentConnector3">
            <a:avLst>
              <a:gd name="adj1" fmla="val 4995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9" idx="3"/>
            <a:endCxn id="243" idx="2"/>
          </p:cNvCxnSpPr>
          <p:nvPr/>
        </p:nvCxnSpPr>
        <p:spPr>
          <a:xfrm flipV="1">
            <a:off x="7829280" y="2267640"/>
            <a:ext cx="461160" cy="477000"/>
          </a:xfrm>
          <a:prstGeom prst="bentConnector3">
            <a:avLst>
              <a:gd name="adj1" fmla="val 5000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30" idx="2"/>
            <a:endCxn id="242" idx="0"/>
          </p:cNvCxnSpPr>
          <p:nvPr/>
        </p:nvCxnSpPr>
        <p:spPr>
          <a:xfrm flipH="1" rot="16200000">
            <a:off x="3284280" y="4237560"/>
            <a:ext cx="1276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42" idx="3"/>
            <a:endCxn id="244" idx="1"/>
          </p:cNvCxnSpPr>
          <p:nvPr/>
        </p:nvCxnSpPr>
        <p:spPr>
          <a:xfrm flipV="1">
            <a:off x="5181120" y="5334840"/>
            <a:ext cx="36612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4" idx="0"/>
            <a:endCxn id="239" idx="2"/>
          </p:cNvCxnSpPr>
          <p:nvPr/>
        </p:nvCxnSpPr>
        <p:spPr>
          <a:xfrm flipV="1">
            <a:off x="6725880" y="3479040"/>
            <a:ext cx="1080" cy="75636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6781680" y="4038480"/>
            <a:ext cx="5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Y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4" idx="2"/>
            <a:endCxn id="232" idx="2"/>
          </p:cNvCxnSpPr>
          <p:nvPr/>
        </p:nvCxnSpPr>
        <p:spPr>
          <a:xfrm flipV="1" rot="16200000">
            <a:off x="3364200" y="3073680"/>
            <a:ext cx="1254960" cy="5469480"/>
          </a:xfrm>
          <a:prstGeom prst="bentConnector3">
            <a:avLst>
              <a:gd name="adj1" fmla="val -10989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6781680" y="6448320"/>
            <a:ext cx="5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N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18480" y="1828800"/>
            <a:ext cx="124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RPG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articipatio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290080" y="3052440"/>
            <a:ext cx="625320" cy="2584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“B”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39" idx="3"/>
            <a:endCxn id="254" idx="2"/>
          </p:cNvCxnSpPr>
          <p:nvPr/>
        </p:nvCxnSpPr>
        <p:spPr>
          <a:xfrm>
            <a:off x="7829280" y="2744280"/>
            <a:ext cx="461160" cy="438840"/>
          </a:xfrm>
          <a:prstGeom prst="bentConnector3">
            <a:avLst>
              <a:gd name="adj1" fmla="val 5000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6" name=""/>
          <p:cNvSpPr/>
          <p:nvPr/>
        </p:nvSpPr>
        <p:spPr>
          <a:xfrm>
            <a:off x="6918480" y="320040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RF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176C-2F9A-4BD9-B0EB-4BB576AB59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28600" y="4114800"/>
            <a:ext cx="2209680" cy="2286000"/>
          </a:xfrm>
          <a:prstGeom prst="rect">
            <a:avLst/>
          </a:prstGeom>
          <a:solidFill>
            <a:srgbClr val="ffffff"/>
          </a:solidFill>
          <a:ln w="76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81080" y="1651680"/>
            <a:ext cx="2511720" cy="1824840"/>
          </a:xfrm>
          <a:prstGeom prst="diamond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5. Should the RFP &amp; resulting bilateral contracts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for &gt;1 year?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32004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Y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91520" y="4699080"/>
            <a:ext cx="1295280" cy="5331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fine short-term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option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429680" y="3606840"/>
            <a:ext cx="1218960" cy="8380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velop limited,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treamlined RFP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tocols and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cedu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71840" y="22860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N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Decision tree on issues relating to non-Transmission alternatives </a:t>
            </a: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(cont.)</a:t>
            </a:r>
            <a:br>
              <a:rPr sz="1800"/>
            </a:b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1240920"/>
            <a:ext cx="625320" cy="2584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”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81480" y="1100160"/>
            <a:ext cx="2895840" cy="5414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olution proposals presented to RPGs;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RCOT negotiates contract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10080" y="5486400"/>
            <a:ext cx="1552680" cy="9907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Issue RFPs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leading to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ilateral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ontracts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ith ERCO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81080" y="1104840"/>
            <a:ext cx="1143000" cy="533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ddres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ppropri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icy issu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1066680"/>
            <a:ext cx="1600200" cy="6098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velop 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tocols &amp; procedu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86320" y="4495680"/>
            <a:ext cx="1600200" cy="8384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velop detaile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RFP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tocols &amp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cedu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14920" y="3657600"/>
            <a:ext cx="1143000" cy="6094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ddress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ppropri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icy issu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2435400"/>
            <a:ext cx="625320" cy="2584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”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58" idx="2"/>
            <a:endCxn id="270" idx="0"/>
          </p:cNvCxnSpPr>
          <p:nvPr/>
        </p:nvCxnSpPr>
        <p:spPr>
          <a:xfrm flipH="1" rot="16200000">
            <a:off x="4532040" y="2002680"/>
            <a:ext cx="359640" cy="2950560"/>
          </a:xfrm>
          <a:prstGeom prst="bentConnector3">
            <a:avLst>
              <a:gd name="adj1" fmla="val 5000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64" idx="6"/>
            <a:endCxn id="267" idx="1"/>
          </p:cNvCxnSpPr>
          <p:nvPr/>
        </p:nvCxnSpPr>
        <p:spPr>
          <a:xfrm>
            <a:off x="1387080" y="1371240"/>
            <a:ext cx="594360" cy="108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67" idx="3"/>
            <a:endCxn id="268" idx="1"/>
          </p:cNvCxnSpPr>
          <p:nvPr/>
        </p:nvCxnSpPr>
        <p:spPr>
          <a:xfrm>
            <a:off x="3123720" y="1371240"/>
            <a:ext cx="229320" cy="108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68" idx="3"/>
            <a:endCxn id="265" idx="1"/>
          </p:cNvCxnSpPr>
          <p:nvPr/>
        </p:nvCxnSpPr>
        <p:spPr>
          <a:xfrm>
            <a:off x="4952520" y="1371240"/>
            <a:ext cx="229320" cy="108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1" idx="6"/>
            <a:endCxn id="258" idx="1"/>
          </p:cNvCxnSpPr>
          <p:nvPr/>
        </p:nvCxnSpPr>
        <p:spPr>
          <a:xfrm flipV="1">
            <a:off x="1310760" y="2563560"/>
            <a:ext cx="67068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0" idx="2"/>
            <a:endCxn id="269" idx="0"/>
          </p:cNvCxnSpPr>
          <p:nvPr/>
        </p:nvCxnSpPr>
        <p:spPr>
          <a:xfrm flipV="1" rot="10800000">
            <a:off x="6185880" y="4266720"/>
            <a:ext cx="1080" cy="22932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66" idx="0"/>
          </p:cNvCxnSpPr>
          <p:nvPr/>
        </p:nvCxnSpPr>
        <p:spPr>
          <a:xfrm flipV="1" rot="10800000">
            <a:off x="6185880" y="5333760"/>
            <a:ext cx="1080" cy="15300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2600280" y="4186800"/>
            <a:ext cx="220968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7160" indent="-2271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40458c"/>
                </a:solidFill>
                <a:uFillTx/>
                <a:latin typeface="Tahoma"/>
              </a:rPr>
              <a:t>PROTOCOLS &amp; PROCEDURE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249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Contractual Provisions</a:t>
            </a:r>
            <a:br>
              <a:rPr sz="1000"/>
            </a:b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&amp; Approval Proces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249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Evaluation Proces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249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Payment &amp; Settlemen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249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Options Included in Specific RFP (T, G &amp; DSM)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249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Enhancement of</a:t>
            </a:r>
            <a:br>
              <a:rPr sz="1000"/>
            </a:b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ERCOT Capabilitie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467480" y="2819520"/>
            <a:ext cx="1143000" cy="5331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ddres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ppropria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icy issu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8" idx="3"/>
            <a:endCxn id="280" idx="0"/>
          </p:cNvCxnSpPr>
          <p:nvPr/>
        </p:nvCxnSpPr>
        <p:spPr>
          <a:xfrm>
            <a:off x="4492440" y="2563920"/>
            <a:ext cx="3547080" cy="25596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80" idx="2"/>
            <a:endCxn id="261" idx="0"/>
          </p:cNvCxnSpPr>
          <p:nvPr/>
        </p:nvCxnSpPr>
        <p:spPr>
          <a:xfrm flipV="1" rot="10800000">
            <a:off x="8038440" y="3352320"/>
            <a:ext cx="1080" cy="25488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1" idx="2"/>
            <a:endCxn id="260" idx="0"/>
          </p:cNvCxnSpPr>
          <p:nvPr/>
        </p:nvCxnSpPr>
        <p:spPr>
          <a:xfrm flipV="1" rot="10800000">
            <a:off x="8038440" y="4444560"/>
            <a:ext cx="1080" cy="25488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84" name=""/>
          <p:cNvSpPr/>
          <p:nvPr/>
        </p:nvSpPr>
        <p:spPr>
          <a:xfrm>
            <a:off x="7391520" y="5486400"/>
            <a:ext cx="1295280" cy="9907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Issue RFPs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leading to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ilateral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ontracts</a:t>
            </a:r>
            <a:br>
              <a:rPr sz="1200"/>
            </a:b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ith ERCO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60" idx="2"/>
            <a:endCxn id="284" idx="0"/>
          </p:cNvCxnSpPr>
          <p:nvPr/>
        </p:nvCxnSpPr>
        <p:spPr>
          <a:xfrm flipV="1" rot="10800000">
            <a:off x="8038440" y="5231880"/>
            <a:ext cx="1080" cy="25488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>
            <a:off x="266760" y="4186440"/>
            <a:ext cx="220968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7160" indent="-2271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40458c"/>
                </a:solidFill>
                <a:uFillTx/>
                <a:latin typeface="Tahoma"/>
              </a:rPr>
              <a:t>POLICY ISSUE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249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Options to be Considered as non-T (DSM, Existing Gen, New Gen) 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249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Gap vs. LT Use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249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Use of Non-T to</a:t>
            </a:r>
            <a:br>
              <a:rPr sz="1000"/>
            </a:b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Replace or Defer T 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249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Market Power at End</a:t>
            </a:r>
            <a:br>
              <a:rPr sz="1000"/>
            </a:b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of Initial Contract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249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Cost/Benefit of RFP Process 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marL="227160" indent="-227160">
              <a:lnSpc>
                <a:spcPct val="100000"/>
              </a:lnSpc>
              <a:spcBef>
                <a:spcPts val="249"/>
              </a:spcBef>
              <a:buClr>
                <a:srgbClr val="40458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RFP issuance mandatory or at ERCOT discretion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85C7-24B5-48B0-8781-6752007C6E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tocol 6.5.9 includes requirement to consider certain non-transmission alternatives in RMR exit strategy develop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R 492 includes requirement to consider certain non-transmission alternatives to address high local congestion cos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e market participant has identified a possible non-transmission alternative to a current RMR uni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fore developing a process to implement these Protocol requirements, several policy issues need to be address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D765-AD56-4D51-9A5F-C5FB71152B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Overarching Issue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3577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hould bilateral contracts or market design changes be used, as needed, to provide incentives for solutions that lower local congestion costs, including reducing requirements for RMR resource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3577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hould ERCOT be involved in &gt;1 year contracts with generators or demand-side optio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3577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hould non-transmission alternatives be considered as long-term solutions or just to fill gap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3577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hat is the approval process/authority for contrac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3577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RCOT role in RFP/contracting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valuation of bidders’ financial statu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onitoring of siting/permitting process for gener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2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wer/DSM contract enforcem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3577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ow to avoid unintended consequenc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BA26-81D8-40DD-A0F0-21963C8D41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urrent Alternatives to RMR and OOM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dispatch and reconfiguration through operator instruction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medial Actions Plans (RAP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pecial Protection Schemes (SPS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w or upgraded transmission (or dynamic re-rating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dbfd"/>
                </a:solidFill>
                <a:latin typeface="Tahoma"/>
              </a:rPr>
              <a:t>Load response, including conservation and load management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dbfd"/>
                </a:solidFill>
                <a:latin typeface="Tahoma"/>
              </a:rPr>
              <a:t>Alternative existing generation options, including short-term (emergency) gener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dbfd"/>
                </a:solidFill>
                <a:latin typeface="Tahoma"/>
              </a:rPr>
              <a:t>New generation or incremental additions/ modifications to existing gener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983A-DD24-4CD3-97A2-F7D707627C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Other Alternatives to RMR and OOM(?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dbfd"/>
                </a:solidFill>
                <a:latin typeface="Tahoma"/>
              </a:rPr>
              <a:t>Redispatch and reconfiguration through operator instruction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dbfd"/>
                </a:solidFill>
                <a:latin typeface="Tahoma"/>
              </a:rPr>
              <a:t>Remedial Actions Plans (RAP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dbfd"/>
                </a:solidFill>
                <a:latin typeface="Tahoma"/>
              </a:rPr>
              <a:t>Special Protection Schemes (SPS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dbfd"/>
                </a:solidFill>
                <a:latin typeface="Tahoma"/>
              </a:rPr>
              <a:t>New or upgraded transmission (or dynamic re-rating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ad response, including conservation and load management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ternative existing generation options, including short-term (emergency) gener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w generation or incremental additions/ modifications to existing gener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F324-390E-41AB-85EA-1A291A314A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Issues: Load response, including conservation and load managemen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w to mitigate market power over time (no cost basis at end of initial contrac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w to ensure reliability over time (e.g., load “behind” contract decides to switch to firm servi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w to define and measure conservation and load management (as opposed to dispatchable demand and interruptible load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74E2-AA29-4A39-8044-506815FD9E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Issues: Existing generation options and short-term (emergency) generatio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w to mitigate market power over time (may result in higher cost RMR unit at end of contrac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w to avoid creating an incentive for proliferation of new contracts with ERCO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s this a viable option to reduce OOM servi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20B7-5ACB-4EDE-8687-869577014C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Issues: New generation or incremental additions/modifications to existing generatio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w to mitigate market power over time (may result in higher cost RMR unit at end of contrac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tentially significant intrusion on market operation and market’s generation siting signa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w to avoid creating an incentive for proliferation of new contracts with ERCO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8761-6830-41A5-8C21-A17756565B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Other issue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at is likelihood of receiving sufficient bids that would justify issuing an RF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at is minimum level of expected cost savings that would justify issuing an RFP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D742-3CA1-4D18-A167-394BDCAFA9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5:12:14Z</dcterms:created>
  <dc:creator>William H. Dunn, Jr.</dc:creator>
  <dc:description/>
  <dc:language>en-US</dc:language>
  <cp:lastModifiedBy>ashang</cp:lastModifiedBy>
  <dcterms:modified xsi:type="dcterms:W3CDTF">2004-06-16T12:54:33Z</dcterms:modified>
  <cp:revision>67</cp:revision>
  <dc:subject/>
  <dc:title>Transmission and Non-Transmission Alternatives to Reliability Must-Run (RMR) Resour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34057296</vt:r8>
  </property>
  <property fmtid="{D5CDD505-2E9C-101B-9397-08002B2CF9AE}" pid="3" name="_AuthorEmail">
    <vt:lpwstr>dwoodfin@ercot.com</vt:lpwstr>
  </property>
  <property fmtid="{D5CDD505-2E9C-101B-9397-08002B2CF9AE}" pid="4" name="_AuthorEmailDisplayName">
    <vt:lpwstr>Woodfin, Dan</vt:lpwstr>
  </property>
  <property fmtid="{D5CDD505-2E9C-101B-9397-08002B2CF9AE}" pid="5" name="_EmailSubject">
    <vt:lpwstr>TAC Decision Tree</vt:lpwstr>
  </property>
  <property fmtid="{D5CDD505-2E9C-101B-9397-08002B2CF9AE}" pid="6" name="_PreviousAdHocReviewCycleID">
    <vt:r8>756714284</vt:r8>
  </property>
  <property fmtid="{D5CDD505-2E9C-101B-9397-08002B2CF9AE}" pid="7" name="_ReviewingToolsShownOnce">
    <vt:lpwstr/>
  </property>
</Properties>
</file>