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F01-49EB-4260-A0A3-8DB73CF5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18A-15F0-46FC-B136-B7D9925F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5BE-0193-4888-A3B3-686277C2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C9EC-6086-4BC5-ABE0-4F1BA796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B0C1-307F-4CE3-95EA-1F50291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4AF-A1BC-42A5-83F0-B4CC3672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E8F-E1A2-43B1-9357-7114A8E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1EA-7E76-4005-85EB-9CB0AEC3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670-7079-4316-8E48-676F8D9F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D10-87E8-4893-8CE6-E40F806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F251-52C8-44FA-9991-D0B6CFBD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F72-A38C-4125-AC63-70AA4E90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38080" y="1066680"/>
            <a:ext cx="6937560" cy="5580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15840" bIns="15840" anchor="ctr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52280" y="152280"/>
          <a:ext cx="175284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7528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FD51-9EB5-4AFF-9B77-49F814D171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981080"/>
            <a:ext cx="81532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AM Ballpark Cost Estim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 to W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Jim Galvi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ne 8,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B71-D3C6-432D-9EE0-3AE7D3AE2E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llpark Cost Est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00200"/>
            <a:ext cx="37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– Credit/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- Market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- IT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do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1430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1600200"/>
            <a:ext cx="1447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$100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$2.4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00"/>
                </a:solidFill>
                <a:uFillTx/>
                <a:latin typeface="Arial"/>
              </a:rPr>
              <a:t>Incl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$2.5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8680" y="54864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1600200"/>
            <a:ext cx="1447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2 F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1 F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1 F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ff99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$400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128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ne-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69000" y="121932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n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8C3-B854-4055-B558-6A87CDD6AD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ing:  Who pays for projec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 project list re-priorit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dit:  What credit policy will be in pl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rent credit poli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ed collateral for ADAM on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virtual bidding be allow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how will we identify Virtual Bid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h must transact on business days, decision to run weekend and holiday markets on business day prior or on actual d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 ADAM schedule characteristic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9CA-80D9-4EFB-B0FD-A11259F7F640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5334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 of ADAM White Pa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dit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lpark Cost Esti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58E-AC25-4231-8FE5-842BCED1D5F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 of ADAM White Pa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SE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QSEs make bids and of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QSEs responsible for physical sche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” is a day ahead energy service for 1 – 24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 clears one time per algorithms set forth in the pa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 clears prior to Day Ahead Ancillary Services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ket clears prior to Day Ahead RUC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specification on when it clears versus Bilateral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redit or settlement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0DF-DAB4-4DAC-935B-6444F0BF08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it Assumptions - 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0600" y="4724280"/>
            <a:ext cx="9023040" cy="916920"/>
            <a:chOff x="120600" y="4724280"/>
            <a:chExt cx="9023040" cy="916920"/>
          </a:xfrm>
        </p:grpSpPr>
        <p:sp>
          <p:nvSpPr>
            <p:cNvPr id="52" name=""/>
            <p:cNvSpPr/>
            <p:nvPr/>
          </p:nvSpPr>
          <p:spPr>
            <a:xfrm>
              <a:off x="120600" y="4724280"/>
              <a:ext cx="11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ilater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60480" y="4724280"/>
              <a:ext cx="144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.P.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their 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76960" y="4724280"/>
              <a:ext cx="144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.P.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their 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42440" y="4724280"/>
              <a:ext cx="144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.P.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their 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94640" y="4724280"/>
              <a:ext cx="144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.P.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t their ow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20" y="1371600"/>
            <a:ext cx="9096480" cy="580680"/>
            <a:chOff x="2520" y="1371600"/>
            <a:chExt cx="9096480" cy="580680"/>
          </a:xfrm>
        </p:grpSpPr>
        <p:sp>
          <p:nvSpPr>
            <p:cNvPr id="58" name=""/>
            <p:cNvSpPr/>
            <p:nvPr/>
          </p:nvSpPr>
          <p:spPr>
            <a:xfrm>
              <a:off x="2520" y="1371600"/>
              <a:ext cx="269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roduct(s), Price Discovery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Clearing and Sett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89920" y="1398600"/>
              <a:ext cx="1253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Backstop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7280" y="1371600"/>
              <a:ext cx="146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unterparty/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Underwriter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606560" y="1371600"/>
              <a:ext cx="122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os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Paramet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22000" y="1398600"/>
              <a:ext cx="1377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ffffff"/>
                  </a:solidFill>
                  <a:uFillTx/>
                  <a:latin typeface="Arial"/>
                </a:rPr>
                <a:t>Administra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075120" y="2411280"/>
            <a:ext cx="9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Q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lo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590920"/>
            <a:ext cx="2362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cillary Serv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lancing Ener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gestion Man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38280"/>
            <a:ext cx="228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$1,000 price c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no trading lim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y 47 days fr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de 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llateral required 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credit polic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2411280"/>
            <a:ext cx="138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kruptcy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360" y="24112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436840"/>
            <a:ext cx="228600" cy="137304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3040"/>
              <a:gd name="textAreaBottom" fmla="*/ 133740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DD4-862C-40E1-91F0-B3CB62CD8D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dit Assumptions - A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2514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nterparty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erwriter(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os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stop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ministrato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QSEs trading during day related to short p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price c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llar trading limits based on credit lim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teral required per ERCOT credit poli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kruptcy – Chapter 11/Chapter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3716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9900"/>
                </a:solidFill>
                <a:uFillTx/>
                <a:latin typeface="Arial"/>
              </a:rPr>
              <a:t>ADAM – Assumptions</a:t>
            </a:r>
            <a:r>
              <a:rPr b="1" lang="en-US" sz="1400" spc="-1" strike="noStrike" u="sng">
                <a:solidFill>
                  <a:srgbClr val="ff99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4C4-76AF-4B00-8D9B-4163C42294B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coming Credit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t Validation prior to clearing using credit limits and collater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 “Cash” 1-3 days after clearing (statements sent out the day of clearing, payments due 1-3 days l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 Pays allocated among the Day Ahead Market Participants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t Working Group may recommend additional items for consid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7C7-0F4E-4109-9255-913D33579E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1280" y="1295280"/>
            <a:ext cx="175284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200400"/>
            <a:ext cx="49528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4572000"/>
            <a:ext cx="12952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72000"/>
            <a:ext cx="1371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362320" y="152388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74320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057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1905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52388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05740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7339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90920" y="37339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37339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4800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AD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4724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EM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313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M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1905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SE Energy Sche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346480"/>
            <a:ext cx="206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Schedules of Sales &amp; Purch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ds &amp; Off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650560" y="42084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191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4D2-3C11-442F-BFDF-2B3754680D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dit Validation prior to clea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actions are all within z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ds/Offers/Settlements with QS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requirements designed to make transition from zonal to nodal mark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 submitted by Market Particip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to post resul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to 3 business day cash settlemen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oices due ERCOT collected on due date, invoices due Market Participants paid next 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-pays absorbed by Market Participants participating in AD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2C1-102F-43F9-B9B0-4B6142DFDDB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752480"/>
            <a:ext cx="3657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– Credit/Fi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- Market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 - IT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 contin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2952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4B3-4F4B-4A09-A8E2-485E065142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21:11:05Z</dcterms:created>
  <dc:creator>kwariner</dc:creator>
  <dc:description/>
  <dc:language>en-US</dc:language>
  <cp:lastModifiedBy>ashang</cp:lastModifiedBy>
  <dcterms:modified xsi:type="dcterms:W3CDTF">2004-06-09T12:34:21Z</dcterms:modified>
  <cp:revision>250</cp:revision>
  <dc:subject/>
  <dc:title>Wholesale Market Status approx $ 15 billion YT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1945180</vt:r8>
  </property>
  <property fmtid="{D5CDD505-2E9C-101B-9397-08002B2CF9AE}" pid="3" name="_AuthorEmail">
    <vt:lpwstr>jgalvin@ercot.com</vt:lpwstr>
  </property>
  <property fmtid="{D5CDD505-2E9C-101B-9397-08002B2CF9AE}" pid="4" name="_AuthorEmailDisplayName">
    <vt:lpwstr>Galvin, Jim</vt:lpwstr>
  </property>
  <property fmtid="{D5CDD505-2E9C-101B-9397-08002B2CF9AE}" pid="5" name="_EmailSubject">
    <vt:lpwstr>Call-In for June 9th Special WMS Meeting</vt:lpwstr>
  </property>
  <property fmtid="{D5CDD505-2E9C-101B-9397-08002B2CF9AE}" pid="6" name="_ReviewingToolsShownOnce">
    <vt:lpwstr/>
  </property>
</Properties>
</file>