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63A-B953-4CBD-A3B8-60A6B07D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F9F-9769-4BF9-929C-94554A7B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F70-5533-4413-93D3-81AB2481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912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1400" y="170496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912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1400" y="4069080"/>
            <a:ext cx="263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3196-B792-43D8-916C-946B80FD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FEE-1A87-4AEB-81C8-CB76D9E0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98A-1333-4793-93E8-6A20CA5A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28F6-4465-401F-B7E7-820F4339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CC5-60F4-4160-B465-D748310E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FB7A-A806-4A0B-9FF9-6F84A717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11C-9286-4557-88EC-DDA6DC4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3280" y="406908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C4C-7312-48FD-A6BF-6EFA8E7D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3280" y="1704960"/>
            <a:ext cx="398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69080"/>
            <a:ext cx="816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B7B-0AD5-4EBC-AE5E-5CCA784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228600"/>
            <a:ext cx="86310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126200" y="306360"/>
            <a:ext cx="1600200" cy="86220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9F4-392E-4804-A72C-75F842A8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79160" y="1185840"/>
            <a:ext cx="66373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8960" y="1224000"/>
            <a:ext cx="863136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3280" y="526572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17680" y="177624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8600" y="1928880"/>
            <a:ext cx="8169120" cy="200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es RMR Exi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rontera Altern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liminary Economic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0600" y="5692680"/>
            <a:ext cx="262512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n Wood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r, Resourc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53720" y="4443480"/>
            <a:ext cx="16668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COT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/3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 Alternatives: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d RMR Contract with Bates (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ynchronous Tie with CFE and emergency service contract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type of arrangement with Frontera to forego option of selling to CFE and make available for OOM (more info on Prerequisites sli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Upgrades (2009?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articipa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requisites for Frontera Option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grades necessary to allow release of Bates 1 on 69kV system must be comple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ly scheduled to be complete Dec ’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changes must be implemented to allow settlement of any special contract 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erformance obligations and criteria must be met by Front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market model to forecast for each hou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lancing Energy Market Pr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urly production level in bilateral/balancing energy market for Frontera and Ba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processing data in order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lculate OOMC and OOME (net of balancing energy) for Fronte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R Costs (net of BENA credit) for Bate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ar analyzed 2005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cases each year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s RMR as i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es without RMR and ret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Frontera agreed to make plant available for OOM, such that Bates could be released from RMR contract, the cost basis exists for ERCOT market to save uplift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es forecast uneconomic uplift is comparable to 2003 historic upli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1960" y="1417680"/>
            <a:ext cx="8169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OME and OOMC payment to Frontera may change due to load level and shape, bilateral schedule, and fuel pr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ulations assume that Frontera is self-committed whenever it is economic in the Balancing Energy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ulations did not incorporate planned transmission ou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RCOT switches to nodal market, OOME and OOMC pricing may no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assumes Frontera is not under an RM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m of arrangement and analysis against other options needs to be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9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7680" y="1775880"/>
            <a:ext cx="8169120" cy="45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1960" y="1417680"/>
            <a:ext cx="8169120" cy="502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ution of non-transmission policy issues and protoco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against other options needs to b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148986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4960"/>
            <a:ext cx="816912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4:08:10Z</dcterms:created>
  <dc:creator>dwoodfin</dc:creator>
  <dc:description/>
  <dc:language>en-US</dc:language>
  <cp:lastModifiedBy>ashang</cp:lastModifiedBy>
  <dcterms:modified xsi:type="dcterms:W3CDTF">2004-06-16T12:55:09Z</dcterms:modified>
  <cp:revision>64</cp:revision>
  <dc:subject/>
  <dc:title>Defau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92579385</vt:r8>
  </property>
  <property fmtid="{D5CDD505-2E9C-101B-9397-08002B2CF9AE}" pid="3" name="_AuthorEmail">
    <vt:lpwstr>bbojorquez@ercot.com</vt:lpwstr>
  </property>
  <property fmtid="{D5CDD505-2E9C-101B-9397-08002B2CF9AE}" pid="4" name="_AuthorEmailDisplayName">
    <vt:lpwstr>Bojorquez, Bill</vt:lpwstr>
  </property>
  <property fmtid="{D5CDD505-2E9C-101B-9397-08002B2CF9AE}" pid="5" name="_EmailSubject">
    <vt:lpwstr>Today's Presentations</vt:lpwstr>
  </property>
  <property fmtid="{D5CDD505-2E9C-101B-9397-08002B2CF9AE}" pid="6" name="_PreviousAdHocReviewCycleID">
    <vt:r8>-1803893956</vt:r8>
  </property>
  <property fmtid="{D5CDD505-2E9C-101B-9397-08002B2CF9AE}" pid="7" name="_ReviewingToolsShownOnce">
    <vt:lpwstr/>
  </property>
</Properties>
</file>