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A3EF-55DA-4D13-98BD-F19099483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24DB-E92A-40EA-8998-14E6953D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9398-8389-49AF-A488-DC41EACF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C032-B81C-41B2-B44C-680B8AA2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2C90-54CD-4D78-A9B6-070349A9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66CB-BDE8-40A5-919E-D8C081C0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72C8-B90B-4FF9-BFE8-03B7BC2C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08E4-8737-475D-B441-63441CED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98DB-5A6C-4BC8-A491-BC3995B3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1443-EDD8-4C70-AD91-AF0394FF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5FBB-9521-43E8-BE48-183DCE1C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C52E-ED7D-4B28-92CA-CC0AC0BC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7363-E7DA-4938-9614-AB4A394D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9894-6EEB-4B84-A241-566D0380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F715-5732-4C24-B212-CA2A3CC1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141C-B9E3-4162-A16B-E77228D0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22A6-490D-4514-AACD-4AA2258F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219D-DA83-4EB6-A8CC-D4A02FC3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2752-5593-47D6-B642-12AB8170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1B94-B49C-4CAB-A53C-9728BC8C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1C71-0D72-4F33-9C0C-A4777306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92BC-21DF-4508-AED4-F9827415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25CB-CF9A-4D5B-AEC5-5D02304E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DBA6-9737-4241-9457-93743099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0DD7-5AAF-4F2D-BAFC-AA5D5AB82B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0D6C-B933-477A-8640-17FE545152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60f"/>
                </a:solidFill>
                <a:latin typeface="Arial"/>
              </a:rPr>
              <a:t>A Non-Transmission Alternative</a:t>
            </a:r>
            <a:br>
              <a:rPr sz="4000"/>
            </a:br>
            <a:r>
              <a:rPr b="0" lang="en-US" sz="4000" spc="-1" strike="noStrike">
                <a:solidFill>
                  <a:srgbClr val="f1b60f"/>
                </a:solidFill>
                <a:latin typeface="Arial"/>
              </a:rPr>
              <a:t>to the Bates RMR Contract</a:t>
            </a:r>
            <a:endParaRPr b="0" lang="en-US" sz="40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Greg Ramon &amp; Juan Vill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ECO Energy, Inc (Frontera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MS Meeting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June 17, 200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1b60f"/>
                </a:solidFill>
                <a:uFillTx/>
                <a:latin typeface="Arial"/>
              </a:rPr>
              <a:t>“</a:t>
            </a:r>
            <a:r>
              <a:rPr b="0" lang="en-US" sz="4200" spc="-1" strike="noStrike" u="sng">
                <a:solidFill>
                  <a:srgbClr val="f1b60f"/>
                </a:solidFill>
                <a:uFillTx/>
                <a:latin typeface="Arial"/>
              </a:rPr>
              <a:t>The Concept”</a:t>
            </a:r>
            <a:br>
              <a:rPr sz="4200"/>
            </a:br>
            <a:r>
              <a:rPr b="0" lang="en-US" sz="3200" spc="-1" strike="noStrike">
                <a:solidFill>
                  <a:srgbClr val="f1b60f"/>
                </a:solidFill>
                <a:latin typeface="Arial"/>
              </a:rPr>
              <a:t>A Non-Transmission Alternative to Bates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ly J.L. Bates is under RMR Status at a projected cost of $26 Million for 2005 (after BEN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ntera is a 450 MW modern Combine Cycle facility that already dispatches efficiently under present ERCOT market conditions as an intermediate plant (Typically 16 hr/day);  located immediately adjacent to the J.L. Bates Pl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der this proposed Non-Transmission Alternative, Frontera would receive OOM deployments only as needed when it’s not running to replace the existing Bates RMR; implementation should yield significant sav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“</a:t>
            </a:r>
            <a:r>
              <a:rPr b="0" lang="en-US" sz="4200" spc="-1" strike="noStrike" u="sng">
                <a:solidFill>
                  <a:srgbClr val="f1b60f"/>
                </a:solidFill>
                <a:uFillTx/>
                <a:latin typeface="Arial"/>
              </a:rPr>
              <a:t>The Situation”</a:t>
            </a:r>
            <a:br>
              <a:rPr sz="4200"/>
            </a:br>
            <a:r>
              <a:rPr b="0" lang="en-US" sz="3200" spc="-1" strike="noStrike">
                <a:solidFill>
                  <a:srgbClr val="f1b60f"/>
                </a:solidFill>
                <a:latin typeface="Arial"/>
              </a:rPr>
              <a:t>A Non-Transmission Alternative to Bates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ntera has a 138 kV tie with Mexico that allows 150 MW of transfer (either CT at Frontera could go to Mexi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iability criteria dictates ERCOT to plan for an N-1 contingency – Due to the Mexican tie, ERCOT cannot count on either of Frontera’s units for OOM deployment during an emergenc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a result, ERCOT Pays Bates $Millions yearly for RMR to maintain reliability in case of a potential emerg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ntera has taken the initiative and approached ERCOT after identifying the sit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COT has confirmed through studies that Frontera is a technically and economically viable alternative to the Bates RM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“</a:t>
            </a:r>
            <a:r>
              <a:rPr b="0" lang="en-US" sz="4200" spc="-1" strike="noStrike" u="sng">
                <a:solidFill>
                  <a:srgbClr val="f1b60f"/>
                </a:solidFill>
                <a:uFillTx/>
                <a:latin typeface="Arial"/>
              </a:rPr>
              <a:t>The Alternative”</a:t>
            </a:r>
            <a:br>
              <a:rPr sz="4200"/>
            </a:br>
            <a:r>
              <a:rPr b="0" lang="en-US" sz="3200" spc="-1" strike="noStrike">
                <a:solidFill>
                  <a:srgbClr val="f1b60f"/>
                </a:solidFill>
                <a:latin typeface="Arial"/>
              </a:rPr>
              <a:t>A Non-Transmission Alternative to Bates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ntera agrees to Lock-out its tie with Mexico, to forego all sales into Mexico for an agreed upon term, and thus would make the entire plant available to ERCO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ntera agrees to meet certain ERCOT operational and notification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return, ERCOT and Frontera agree to a sharing of the savings from continuing on with a Bates RM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aring plan would represent savings net of the Frontera OOM pay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“</a:t>
            </a:r>
            <a:r>
              <a:rPr b="0" lang="en-US" sz="4200" spc="-1" strike="noStrike" u="sng">
                <a:solidFill>
                  <a:srgbClr val="f1b60f"/>
                </a:solidFill>
                <a:uFillTx/>
                <a:latin typeface="Arial"/>
              </a:rPr>
              <a:t>The Benefits”</a:t>
            </a:r>
            <a:br>
              <a:rPr sz="4200"/>
            </a:br>
            <a:r>
              <a:rPr b="0" lang="en-US" sz="3200" spc="-1" strike="noStrike">
                <a:solidFill>
                  <a:srgbClr val="f1b60f"/>
                </a:solidFill>
                <a:latin typeface="Arial"/>
              </a:rPr>
              <a:t>A Non-Transmission Alternative to Bates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b60f"/>
                </a:solidFill>
                <a:latin typeface="Arial"/>
              </a:rPr>
              <a:t>Timing: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ntera can be implemented January 2005, pending expediting of AEP’s 69 kV upgr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b60f"/>
                </a:solidFill>
                <a:latin typeface="Arial"/>
              </a:rPr>
              <a:t>Saving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potentially significant amount of savings in uplifted charges to loads has been confirmed by ERCOT mode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b60f"/>
                </a:solidFill>
                <a:latin typeface="Arial"/>
              </a:rPr>
              <a:t>Reduction in Environmental Impact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Significant Reduction of NOx and S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mission levels (on the order of 70 to 85% reductions according calculations performed based on information provided on EPA filing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b60f"/>
                </a:solidFill>
                <a:latin typeface="Arial"/>
              </a:rPr>
              <a:t>Reduction in Capital Expens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ponement or cancellation of capital expenditures on DC Tie with Mexico (Estimated at $35 to $40 Mill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tential postponement of bulk transmission upgrades in the Rio Grand Valley  (345 KV Valley Loo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“</a:t>
            </a:r>
            <a:r>
              <a:rPr b="0" lang="en-US" sz="4200" spc="-1" strike="noStrike" u="sng">
                <a:solidFill>
                  <a:srgbClr val="f1b60f"/>
                </a:solidFill>
                <a:uFillTx/>
                <a:latin typeface="Arial"/>
              </a:rPr>
              <a:t>The Challenges”</a:t>
            </a:r>
            <a:br>
              <a:rPr sz="4200"/>
            </a:br>
            <a:r>
              <a:rPr b="0" lang="en-US" sz="3200" spc="-1" strike="noStrike">
                <a:solidFill>
                  <a:srgbClr val="f1b60f"/>
                </a:solidFill>
                <a:latin typeface="Arial"/>
              </a:rPr>
              <a:t>A Non-Transmission Alternative to Bates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ew Non-Transmission Alternative PRR Must be Approved by Board this </a:t>
            </a:r>
            <a:r>
              <a:rPr b="0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August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to allow ERCOT implementation for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COT Evaluation of 2005 RMR Contracts begins this Septemb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b60f"/>
                </a:solidFill>
                <a:latin typeface="Arial"/>
              </a:rPr>
              <a:t>What needs to be do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dite “Frontera Specific” Protocol Revisions for ERCOT Authorization, Funding, and Implementation.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“Frontera Specific” RMR Alternative Contra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ve through WMS, RMR TF, PRS,TAC, and Bo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1b60f"/>
                </a:solidFill>
                <a:latin typeface="Arial"/>
              </a:rPr>
              <a:t>Expediting Transmission Upgr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y; Needed for end of 2004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igh expedited construction and cost savings of implementing Frontera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1b60f"/>
                </a:solidFill>
                <a:uFillTx/>
                <a:latin typeface="Arial"/>
              </a:rPr>
              <a:t>“</a:t>
            </a:r>
            <a:r>
              <a:rPr b="0" lang="en-US" sz="4200" spc="-1" strike="noStrike" u="sng">
                <a:solidFill>
                  <a:srgbClr val="f1b60f"/>
                </a:solidFill>
                <a:uFillTx/>
                <a:latin typeface="Arial"/>
              </a:rPr>
              <a:t>Specific Request”</a:t>
            </a:r>
            <a:br>
              <a:rPr sz="4200"/>
            </a:br>
            <a:r>
              <a:rPr b="0" lang="en-US" sz="3200" spc="-1" strike="noStrike">
                <a:solidFill>
                  <a:srgbClr val="f1b60f"/>
                </a:solidFill>
                <a:latin typeface="Arial"/>
              </a:rPr>
              <a:t>A Non-Transmission Alternative to Bates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40640" indent="-4406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C is looking to WMS for recommendation on how to proc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0640" indent="-4406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least 4 Types of Policy Directions &amp; Protocol Changes associated with the Frontera Propo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79760" indent="-372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 Do not develop a non-transmission alternative to the Bates RMR con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79760" indent="-372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 Market Design Change (e.g. locational IC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79760" indent="-372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 Creation of an RFP process, standard contracts,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79760" indent="-372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4) Evaluation of non-transmission alternatives within the regional planning processes with minim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 changes (e.g. billing &amp; settle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1b60f"/>
                </a:solidFill>
                <a:uFillTx/>
                <a:latin typeface="Arial"/>
              </a:rPr>
              <a:t>“</a:t>
            </a:r>
            <a:r>
              <a:rPr b="0" lang="en-US" sz="4200" spc="-1" strike="noStrike" u="sng">
                <a:solidFill>
                  <a:srgbClr val="f1b60f"/>
                </a:solidFill>
                <a:uFillTx/>
                <a:latin typeface="Arial"/>
              </a:rPr>
              <a:t>Specific Request”</a:t>
            </a:r>
            <a:br>
              <a:rPr sz="4200"/>
            </a:br>
            <a:r>
              <a:rPr b="0" lang="en-US" sz="3200" spc="-1" strike="noStrike">
                <a:solidFill>
                  <a:srgbClr val="f1b60f"/>
                </a:solidFill>
                <a:latin typeface="Arial"/>
              </a:rPr>
              <a:t>A Non-Transmission Alternative to Bates</a:t>
            </a:r>
            <a:endParaRPr b="0" lang="en-US" sz="3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ntera suggests that the WMS consider that our proposal fits in the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teg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queness of propo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non-transmission altern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ing Frontera generation alternative is unique in ERCOT for RMR Exit Strate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150 MW CT is essentially new capacity to ERCOT for planning purpo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QUESTIONS?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20:56:47Z</dcterms:created>
  <dc:creator>jcvilla</dc:creator>
  <dc:description/>
  <dc:language>en-US</dc:language>
  <cp:lastModifiedBy>ashang</cp:lastModifiedBy>
  <dcterms:modified xsi:type="dcterms:W3CDTF">2004-06-16T12:56:04Z</dcterms:modified>
  <cp:revision>141</cp:revision>
  <dc:subject/>
  <dc:title>Market Solution</dc:title>
</cp:coreProperties>
</file>