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0063-42AE-493B-9600-24FD5C12D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4AE5-3CAF-4358-98BC-365ED480E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7082-091E-491C-B53A-CEE643C93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9321-74CC-4408-A77E-C66188F08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ECC4A-49F8-4B6D-AF63-31A183E20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1B8D9-373E-4CB6-B254-E5F483BA2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3BCC5-E127-4DDE-8588-41C597D9A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8B8EC-DDB5-4F21-A896-FC7FD5B60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E3E4D-19F8-4EC2-BD34-06D21F309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E847E-9ECC-49C3-86B5-56C75E0FF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046BD-B972-436C-BDD5-68F4667D8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7E96-5715-4714-B459-B71024419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5EFFB-10FB-4A1A-92DA-BC58B90C5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70705-13C9-4953-A69C-8E3DF57FB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4146E-A679-4CD8-B0C9-E11DB2105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62AE2-53DA-4F1D-933D-2888C29AC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66DFD-6BC7-4E5C-9E49-526C88AA1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4C5B-824C-42D0-89D2-609E1D81F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1DC0-A53E-4CB1-9BDC-94405B22B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3D84-CFC3-486F-B85E-9D46118EE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B31D-1033-4F5A-9598-88269A7B3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C9A1-6AD4-4FC1-96B8-C0D105670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5CF5-2D2A-48E6-B48E-8071716A6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0A3F-C2BE-4915-A7B4-AD42AFAF7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B7410-DC61-45BF-A1CA-46E2C126224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7086600" y="0"/>
          <a:ext cx="2057400" cy="1006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86600" y="0"/>
                    <a:ext cx="2057400" cy="100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1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2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5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95FE8-F6AE-468E-8474-DF8309B5970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7086600" y="0"/>
          <a:ext cx="2057400" cy="1006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86600" y="0"/>
                    <a:ext cx="2057400" cy="100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MMS R4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ARF Addendu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yan Aldridge, ERCO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lesale Market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5-20-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ckgrou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R’s 413, 491, and 423 will be developed in EMMS Release 4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se PRR’s require ERCOT to collect additional information on each Resource within ERCO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s presentation is to discuss the data collection process and timelin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R’s 413 and 491 (RPR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2017800"/>
            <a:ext cx="8345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Resource Information terms and defini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Lead Ti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– Minimum time, in minutes, until the Resource is available for Balancing Energy deploy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Minimum Up Ti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– Minimum time, in minutes, that an instruction must be for.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instructed, this is the minimum length of time that the instruction must be fo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Minimum Down Ti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– Minimum time, in minutes, from disconnect/shut down until the unit can come back on.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s is the minimum amount of time a unit requires between shutting down and being instructed back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R 423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2017800"/>
            <a:ext cx="826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w Resource Information terms and definitions (con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Qualifying Facilit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– A qualifying cogenerator or qualifying small power producer according to regulatory qualification criteria as defined in PUR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will be a yes or no answ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cess for collec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endum form will be sent out from ERCOT Client Services on June 1, 2004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m will be sent to Resources within ERCO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m will be due on August 1, 2004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ed WMS Approv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ERCOT does not receive information by the August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eadline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RCOT Client Services will attempt to obtain the information from each Resource that has not supplied information or has responded incorrectly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ERCOT has not received information by the implementation date of EMMS R4, tentatively planned for Nov 2004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RCOT will take all Resources with the same Fuel Type Categories and take th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inimum value for Lead Tim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inimum value for Minimum Up Time, an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ximum value for Minimum Down Tim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s process will only be used one tim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r example, ERCOT will not keep a running account of the minimum values amongst all Resourc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mbined Cycle &gt; 90 MW Resource does not supply information or has supplied incorrect information that has not been corrected by the implementation date of EMMS R4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COT will take all of the other Combined Cycle &gt; 90 MW Resources that did supply correct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COT will input t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nimum value for Lead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nimum value for Minimum Up Time, 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nimum value for Minimum Dow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ow to Change this inform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change this information after the implementation date of EMMS R4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should use the NCI (Notice of Change of Inform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form should be sent to ERCOT Legal for appr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approved, ERCOT has 3 days to implement the NCI within the ERCOT system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RCOT is looking for the following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MS approval for information collection methodolo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MS approval for methodology to reconcile any outstanding form by the implementation date of EMMS R4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4T18:22:08Z</dcterms:created>
  <dc:creator>raldridge</dc:creator>
  <dc:description/>
  <dc:language>en-US</dc:language>
  <cp:lastModifiedBy>raldridge</cp:lastModifiedBy>
  <dcterms:modified xsi:type="dcterms:W3CDTF">2004-05-12T21:56:24Z</dcterms:modified>
  <cp:revision>11</cp:revision>
  <dc:subject/>
  <dc:title>EMMS R4  GARF Addendu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036694836</vt:r8>
  </property>
  <property fmtid="{D5CDD505-2E9C-101B-9397-08002B2CF9AE}" pid="3" name="_AuthorEmail">
    <vt:lpwstr>rchudgar@ercot.com</vt:lpwstr>
  </property>
  <property fmtid="{D5CDD505-2E9C-101B-9397-08002B2CF9AE}" pid="4" name="_AuthorEmailDisplayName">
    <vt:lpwstr>Chudgar, Raj</vt:lpwstr>
  </property>
  <property fmtid="{D5CDD505-2E9C-101B-9397-08002B2CF9AE}" pid="5" name="_EmailSubject">
    <vt:lpwstr>EMMS R4 Addendum Presentation v2.ppt</vt:lpwstr>
  </property>
</Properties>
</file>