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962-FCD7-4211-BF4F-0F0BF8FC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ED4-46CF-406B-85F7-4370A6C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EFA-D214-4C3B-8272-AAE8CB79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3E4-D7E3-4E86-BD71-5F79BF21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514-C3C3-4713-8772-5CF66E92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3F9-DEC3-4A4E-97ED-4E82BD5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CA5-5DF6-44CC-8AA7-CA01756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AE5-EA33-4CBB-98EA-BF2B9CB0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E67-34AB-461D-83C2-FD4102B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EB1-CC3E-4772-8B7F-7A50074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EBB-D214-4EAD-835D-F8A67D7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57A-BA28-46CB-89A7-635C5A2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DE4-7CAA-4742-951A-214171581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Working Group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6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295280"/>
            <a:ext cx="8382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held April 28, 2004 – 30 Attend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S approved scope document on April 28, requests TAC approval of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Forces identi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S Operating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ing ADAM in Zonal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ite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s and Disputes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R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R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R 509 Remanded from 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nn Walker, CNP to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 scheduled for 5/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MA4</cp:lastModifiedBy>
  <dcterms:modified xsi:type="dcterms:W3CDTF">2004-05-03T21:17:05Z</dcterms:modified>
  <cp:revision>70</cp:revision>
  <dc:subject/>
  <dc:title>Point-to-Point</dc:title>
</cp:coreProperties>
</file>