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62FFB-B6E3-48F8-85CE-31959DA68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8541-60FC-43C3-8511-FC84C138C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2A950-6751-4F38-B140-036865247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10D4D-8BDC-40D2-894B-3B54AADEE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7A2A-23B9-4947-B5DA-3536921D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56F7-E878-471F-8D70-D0BA49074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3ECA3-B1ED-4FB8-ABDB-758F03DCF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043FE-2749-4A80-82C4-0DA03BE7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FBE6-A065-45E6-A2A5-3209E005D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921A-8B32-4E9A-B1FE-6AC052D0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0314-5DE5-47AF-8F7C-9A8B20F0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DECD-B8F7-45E9-92B2-062823892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3688-1476-4C0C-A9CE-6A3F7AF7E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ercot/"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tail Market Subcommittee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6,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MS Procedures Revision </a:t>
            </a:r>
            <a:endParaRPr b="0" lang="en-US" sz="3200" spc="-1" strike="noStrike">
              <a:solidFill>
                <a:srgbClr val="000000"/>
              </a:solidFill>
              <a:latin typeface="Times New Roman"/>
            </a:endParaRPr>
          </a:p>
        </p:txBody>
      </p:sp>
      <p:sp>
        <p:nvSpPr>
          <p:cNvPr id="46" name=""/>
          <p:cNvSpPr/>
          <p:nvPr/>
        </p:nvSpPr>
        <p:spPr>
          <a:xfrm>
            <a:off x="380880" y="1295280"/>
            <a:ext cx="8382240" cy="470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MS Procedures were last revised April 4, 2002</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review of those procedures, performed at the request of the TAC Chair, identified the need for revision</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sions include minor clean-up for naming/capitalization and removing a list of specific standing RMS working groups</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mmendations to add, delete of modify standing or ad hoc working groups will continue to be brought to TAC for approval</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nding RMS working groups are identified and provide links to activities on the RMS ERCOT website</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nge would reduce the need for future revisions to Procedures</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MS approved proposed revisions on April 14, requests TAC approval of s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81080" y="-3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inked Service Address Issue Update</a:t>
            </a:r>
            <a:endParaRPr b="0" lang="en-US" sz="3200" spc="-1" strike="noStrike">
              <a:solidFill>
                <a:srgbClr val="000000"/>
              </a:solidFill>
              <a:latin typeface="Times New Roman"/>
            </a:endParaRPr>
          </a:p>
        </p:txBody>
      </p:sp>
      <p:sp>
        <p:nvSpPr>
          <p:cNvPr id="48" name=""/>
          <p:cNvSpPr/>
          <p:nvPr/>
        </p:nvSpPr>
        <p:spPr>
          <a:xfrm>
            <a:off x="380880" y="1295280"/>
            <a:ext cx="8153640" cy="5156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ed service address issue presented at April 8 TAC meeting</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et meetings held April 8 and April 21; additional meeting date(s) to be determined pending completion of action items</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identify and address problems created to date</a:t>
            </a:r>
            <a:endParaRPr b="0" lang="en-US" sz="2000" spc="-1" strike="noStrike">
              <a:solidFill>
                <a:srgbClr val="000000"/>
              </a:solidFill>
              <a:latin typeface="Times New Roman"/>
            </a:endParaRPr>
          </a:p>
          <a:p>
            <a:pPr lvl="2" marL="91440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ailed data provided to market, address matching methodology documented, preliminary analysis performed, baseline data revision need identified and iteration(s) currently underway </a:t>
            </a:r>
            <a:endParaRPr b="0" lang="en-US" sz="2000" spc="-1" strike="noStrike">
              <a:solidFill>
                <a:srgbClr val="000000"/>
              </a:solidFill>
              <a:latin typeface="Times New Roman"/>
            </a:endParaRPr>
          </a:p>
          <a:p>
            <a:pPr lvl="2" marL="91440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liminary analysis suggests potential inadvertent enrollments needing additional review of up to ~2,500 ESIs (from mismatch population of &gt; 575,000) </a:t>
            </a:r>
            <a:endParaRPr b="0" lang="en-US" sz="2000" spc="-1" strike="noStrike">
              <a:solidFill>
                <a:srgbClr val="000000"/>
              </a:solidFill>
              <a:latin typeface="Times New Roman"/>
            </a:endParaRPr>
          </a:p>
          <a:p>
            <a:pPr lvl="2" marL="91440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osed resolution process for inadvertent enrollments not yet established (considering use of FasTrak tool for visibility and tra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3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inked Service Address Issue Update</a:t>
            </a:r>
            <a:endParaRPr b="0" lang="en-US" sz="3200" spc="-1" strike="noStrike">
              <a:solidFill>
                <a:srgbClr val="000000"/>
              </a:solidFill>
              <a:latin typeface="Times New Roman"/>
            </a:endParaRPr>
          </a:p>
        </p:txBody>
      </p:sp>
      <p:sp>
        <p:nvSpPr>
          <p:cNvPr id="50" name=""/>
          <p:cNvSpPr/>
          <p:nvPr/>
        </p:nvSpPr>
        <p:spPr>
          <a:xfrm>
            <a:off x="380880" y="1295280"/>
            <a:ext cx="8153640" cy="239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establish the proper one-to-one linkage between an ESI and a service address to prevent future problems.</a:t>
            </a:r>
            <a:endParaRPr b="0" lang="en-US" sz="2000" spc="-1" strike="noStrike">
              <a:solidFill>
                <a:srgbClr val="000000"/>
              </a:solidFill>
              <a:latin typeface="Times New Roman"/>
            </a:endParaRPr>
          </a:p>
          <a:p>
            <a:pPr lvl="2" marL="1028880" indent="-11448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COT system fix moved into production</a:t>
            </a:r>
            <a:endParaRPr b="0" lang="en-US" sz="2000" spc="-1" strike="noStrike">
              <a:solidFill>
                <a:srgbClr val="000000"/>
              </a:solidFill>
              <a:latin typeface="Times New Roman"/>
            </a:endParaRPr>
          </a:p>
          <a:p>
            <a:pPr lvl="2" marL="1028880" indent="-11448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mple 814_20s being processed to confirm efficacy of fix</a:t>
            </a:r>
            <a:endParaRPr b="0" lang="en-US" sz="2000" spc="-1" strike="noStrike">
              <a:solidFill>
                <a:srgbClr val="000000"/>
              </a:solidFill>
              <a:latin typeface="Times New Roman"/>
            </a:endParaRPr>
          </a:p>
          <a:p>
            <a:pPr lvl="2" marL="1028880" indent="-114480">
              <a:lnSpc>
                <a:spcPct val="100000"/>
              </a:lnSpc>
              <a:spcBef>
                <a:spcPts val="12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DSPs to submit correction 814_20s on coordinated schedule (anticipated to occur ~mid-M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133360" y="-36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CR 732 Briefing</a:t>
            </a:r>
            <a:endParaRPr b="0" lang="en-US" sz="3200" spc="-1" strike="noStrike">
              <a:solidFill>
                <a:srgbClr val="000000"/>
              </a:solidFill>
              <a:latin typeface="Times New Roman"/>
            </a:endParaRPr>
          </a:p>
        </p:txBody>
      </p:sp>
      <p:sp>
        <p:nvSpPr>
          <p:cNvPr id="52" name=""/>
          <p:cNvSpPr/>
          <p:nvPr/>
        </p:nvSpPr>
        <p:spPr>
          <a:xfrm>
            <a:off x="380880" y="1295280"/>
            <a:ext cx="8382240" cy="5156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rak is an on-line tool, developed by ERCOT, that has evolved into the primary retail transaction issue resolution tool.  It is used to register, communicate and track through resolution various market transaction issues or exceptions</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rak has, through practical necessity, been used for purposes well outside those initially envisioned when the tool was created</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MS identified a need to revisit market business requirements associated with retail transaction issue resolution activities to identify potential enhancements to FasTrak</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R 732 creates a project team (2 ERCOT FTEs over 3 months) to develop detailed system requirements for an enhanced FasTrak process (a separate project would be required to proceed further)</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COT plans to host 3 meetings in May to gather requirements</a:t>
            </a:r>
            <a:endParaRPr b="0" lang="en-US" sz="2000" spc="-1" strike="noStrike">
              <a:solidFill>
                <a:srgbClr val="000000"/>
              </a:solidFill>
              <a:latin typeface="Times New Roman"/>
            </a:endParaRPr>
          </a:p>
          <a:p>
            <a:pPr lvl="1" marL="457200">
              <a:lnSpc>
                <a:spcPct val="10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C input and feedback is welco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tachments/Document Links</a:t>
            </a:r>
            <a:endParaRPr b="0" lang="en-US" sz="3200" spc="-1" strike="noStrike">
              <a:solidFill>
                <a:srgbClr val="000000"/>
              </a:solidFill>
              <a:latin typeface="Times New Roman"/>
            </a:endParaRPr>
          </a:p>
        </p:txBody>
      </p:sp>
      <p:sp>
        <p:nvSpPr>
          <p:cNvPr id="54" name=""/>
          <p:cNvSpPr/>
          <p:nvPr/>
        </p:nvSpPr>
        <p:spPr>
          <a:xfrm>
            <a:off x="380880" y="1295280"/>
            <a:ext cx="8153640" cy="34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Proposed RMS Procedures revision</a:t>
            </a:r>
            <a:r>
              <a:rPr b="0" lang="en-US" sz="1600" spc="-1" strike="noStrike" u="sng">
                <a:solidFill>
                  <a:srgbClr val="ccccff"/>
                </a:solidFill>
                <a:uFillTx/>
                <a:latin typeface="Arial"/>
                <a:hlinkClick r:id="rId1"/>
              </a:rPr>
              <a:t> </a:t>
            </a:r>
            <a:r>
              <a:rPr b="0" lang="en-US" sz="1600" spc="-1" strike="noStrike">
                <a:solidFill>
                  <a:srgbClr val="000000"/>
                </a:solidFill>
                <a:latin typeface="Arial"/>
              </a:rPr>
              <a:t>http://www.ercot.com/calendar/2004calendar/AttachAPR04/RMS04142004-8.doc</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MS ERCOT internet website http://www.ercot.com/Participants/Committees/rms_comm.htm</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 732 and related impact statement, comments  http://www.ercot.com/ProtocolRevisions/SCRRevfilesystem.cfm?action=viewfolder&amp;path=../ercotpublicweb/market/ftp/SystemChangeRequests/732SCR_Enhancements_to_FasTrak_Proce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dhamilton</cp:lastModifiedBy>
  <dcterms:modified xsi:type="dcterms:W3CDTF">2004-04-29T20:16:13Z</dcterms:modified>
  <cp:revision>66</cp:revision>
  <dc:subject/>
  <dc:title>Point-to-Point</dc:title>
</cp:coreProperties>
</file>