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5976-7188-4C89-84CA-0F814B00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79E9-0D39-4C18-8C61-E9F14857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0B72-5A32-4D04-9329-A8621BF9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EB73-14AB-4C7B-AF06-AC13F95E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2FC8-B303-4AEB-8F61-EC1B03CE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EFEF-1CFA-4382-A9E1-4FE53EFD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DB0-930A-44C3-9763-DD53E4B0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D76-6C59-4855-A20A-CE5F5EDB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C3F8-C025-46EA-A7D1-D2079290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779-9066-4C2D-833A-0C9BC456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45B-A4FB-4C96-86F0-6D7949A3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EDF6-5AB9-4A05-8389-DF70A213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2E06-56A6-4233-B702-F79F772F2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Protocol Revision </a:t>
            </a:r>
            <a:br>
              <a:rPr sz="5400"/>
            </a:b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Subcommitte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esentation to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June 3,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07 – RMR Process Enhancemen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ovides clarification of RMR decision timeline and generator responsi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ddresses eligible costs related to capital expenditures allowed and not allo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ovides a single process for all generation shut downs, regardless of whether they ask for RMR status or n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view conducted at TAC’s instr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fective July 1, 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computer system impacts, may require future consultant time, no operations imp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PRR 507 – RMR Process Enhanc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760" y="4343400"/>
            <a:ext cx="4038480" cy="30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4440" y="4648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13640" y="4648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32800" y="4648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760" y="1981080"/>
            <a:ext cx="2895480" cy="1219320"/>
          </a:xfrm>
          <a:prstGeom prst="wedgeRectCallout">
            <a:avLst>
              <a:gd name="adj1" fmla="val -49287"/>
              <a:gd name="adj2" fmla="val 139712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or provides notice 90 days prior to ceasing operations (60 days on RMR renew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4440" y="5715000"/>
            <a:ext cx="1752480" cy="990720"/>
          </a:xfrm>
          <a:prstGeom prst="wedgeRectCallout">
            <a:avLst>
              <a:gd name="adj1" fmla="val 24819"/>
              <a:gd name="adj2" fmla="val -11875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initial needs assess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39720" y="3352680"/>
            <a:ext cx="2895840" cy="685800"/>
          </a:xfrm>
          <a:prstGeom prst="wedgeRectCallout">
            <a:avLst>
              <a:gd name="adj1" fmla="val -15078"/>
              <a:gd name="adj2" fmla="val 87268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or prepares pricing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06760" y="5715000"/>
            <a:ext cx="1752480" cy="990720"/>
          </a:xfrm>
          <a:prstGeom prst="wedgeRectCallout">
            <a:avLst>
              <a:gd name="adj1" fmla="val 49458"/>
              <a:gd name="adj2" fmla="val -12035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final needs assess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3886200"/>
            <a:ext cx="1306440" cy="1214280"/>
          </a:xfrm>
          <a:prstGeom prst="diamond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e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40320" y="5675400"/>
            <a:ext cx="259092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or c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59240" y="2743200"/>
            <a:ext cx="2057400" cy="30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90200" y="3048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26080" y="2025720"/>
            <a:ext cx="26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od faith negot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t available for O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2286000"/>
            <a:ext cx="1768320" cy="1214280"/>
          </a:xfrm>
          <a:prstGeom prst="diamond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reement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07360" y="3505320"/>
            <a:ext cx="0" cy="22096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21360" y="5105520"/>
            <a:ext cx="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21360" y="6172200"/>
            <a:ext cx="1218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121360" y="304812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3640" y="33894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51400" y="53341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05720" y="37339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99920" y="16365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M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407360" y="182880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07360" y="1828800"/>
            <a:ext cx="5331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18760" y="18432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10 – Remove PIP 134 &amp; 158 Boxed Languag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IP 134 – Required distribution of System and Zonal load forecast through messaging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IP 158 – Added info to dispatch instru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onsistent low pri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ffective July 1,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o imp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12 – OOMC &amp; OOME of LaaR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Urgent Status previously gran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manded by TAC to clarify settlement calculation and verifiable cost language related to La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ffective July 1,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o computer system, staffing, business function or operations imp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13 – Verification of Operational Model after Recurring Local Conges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Urgent Stat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pecifies communication between ERCOT and TDSPs when local congestion occurs on a repeated ba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mmunications are to ascertain whether the operational model is corr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fective upon ERCOT staff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mpacts control room operators slightly, operations requires 0.5 FTE for analysis purposes, no impacts to computer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19 – ERCOT &amp; TDSP Acceptance of Customer Cancellation of Switch Reques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Urgent Status – MIMO inte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larifies “business” days instead of calendar days related to ERCOT/TDSP cancel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nforms to actual market op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fective July 1, 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computer system, staffing, business function or operations imp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s with Rejection Recommend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R 495 – Effective of Short Payments Owed on E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R 498 – Exclusion of Payment for Black Start Service from Short Payment Oblig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R 508 – Date of Congestion Zone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s Withdraw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R 503 – Section 8 Coordination of Resource Outage Due to TS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R 516 – Curtailment Prioritization for Wind Gener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50680" y="228600"/>
            <a:ext cx="56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commended TAC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3680" y="1060560"/>
            <a:ext cx="8396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rgenc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502 – Aggregation of CCGTs Providing 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 519 – ERCOT/TDSP – Customer Switch Requ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 513 – Verification of Operational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prov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476 (Ramp Rate Adheren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499 (Eliminate Fuel Shortage Noti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00 (OOME Down Payments – Verifiable Co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01 (A/S Revision to Down Balancing Require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02 (Aggregation of CCGTs Providing R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04 (Resource Derating Clarific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07 (RMR Process Enhanceme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10 (Remove PIP 134 &amp; 158 Boxed Langu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12 (OOMC/OOME of Laa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13 (Verification of Operational Mod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19 (ERCOT/TDSP – Customer Switch Reques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50680" y="228600"/>
            <a:ext cx="56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commended TAC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3680" y="1060560"/>
            <a:ext cx="72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ffirm Rej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495 (EFX of Short Payment on E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498 (Exclusion of Black Start from Short-Pa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08 (Date of Congestion Zone Chang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PRS 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3 PRR for Urgent Stat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1 PRRs for Appro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3 PRRs for Re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 PRRs Withdra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ote that a PRR substantially revising Section 21 was submitted June 2 – initial review will be at the June PRS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476 – Ramp Rate Adherence During Local Conges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Urgent Status previously gra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larifies that ERCOT dispatch instructions will adhere to, and not exceed the ramp rates in a QSE’s Resource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fective upon determination of system requirements and scheduling – earliest implementation would be EMMS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MMS 3 incorporates ramp rate and SCADA data into dispatch instructions, PRR 499 refines that for adh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mpact analysis depends on market input f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499 – Eliminate Fuel Shortage Noti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liminates reference to “fuel curtailments” as a reason for either an Operational Condition Notice or an Advis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tains ERCOT’s ability to issue an emergency notice for reasons including fuel short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fective July 1, 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computer system impacts, staffing or business function impacts, does impact Operating Guides, operating procedures and training, no credit imp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00 – OOME Down Payments –Verifiable Co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pplies verifiable cost recovery to OOME and ZOOME Down pay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pecifically adds “fixed energy rates” from PPAs as a verifiable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fective July 1, 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quires 1 unbudgeted FTE for settlement; minor business function impacts to add new process; no operational imp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01 – A/S Revision to Down Balancing Requir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hanges Protocols to account for Regulation Down as part of the Down Balancing requi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RCOT comments raise three iss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s recommended, PRR 501 does not integrate with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§4.5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counting for BES Down “will be impossible” because Regulation is portfolio based and BES is z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ncerned that OOMC instructions could cause over-commitment of un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01 – A/S Revision to Down Balancing Requir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RCOT has submitted language in comments to TAC addressing the conce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S recommendation – Effective approximately 1 month after BOD approv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perations risk cited – may be a “slight increase in the risk of running out of Down Balancing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other impacts on computer systems, staffing or business pract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02 – Aggregation of CCGTs Providing RR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Urgent Status – Received at May P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llows RRS obligations awarded to CCGTs to be aggregated for all units in a block for compliance purp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R results from CEDI TF meeting on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fective upon system implementation; could be EMMS 4(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mputer system impacts, no staffing impacts, some impact on training and monitoring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04 – Resource Derating Clarific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efines “material” derating as a reduction of 10% of capability or 10 M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apability is the lesser of seasonal net capability or the asset registration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fective July 1, 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computer system impacts, no staffing impacts, provides potential operations improvement, minor business function imp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3:13:47Z</dcterms:created>
  <dc:creator>i013996</dc:creator>
  <dc:description/>
  <dc:language>en-US</dc:language>
  <cp:lastModifiedBy>i013996</cp:lastModifiedBy>
  <dcterms:modified xsi:type="dcterms:W3CDTF">2004-06-02T23:05:43Z</dcterms:modified>
  <cp:revision>21</cp:revision>
  <dc:subject/>
  <dc:title>Protocol Revision  Subcommittee</dc:title>
</cp:coreProperties>
</file>