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06790-BA67-4D0A-974C-BA5007105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0F318-18BD-4138-9447-36749D1B7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84322-E381-4F63-BAE1-6D141A433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F0D95-D912-42F6-8BF9-CB256DEA1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A0DB2-10C0-4AA2-954A-81F743216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D0D80-7593-45E6-96C5-7D03648CB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4B276-55CC-41F8-A0DE-EB9C7E2C8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074CA-241E-4585-9AC4-C93CF4195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B4240-1CD5-47E6-B6CE-98AA3796E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B3167-7C98-42A4-955B-2A8AD61B9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8411D-04B9-42D8-B909-D015533E5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7C846-179B-4084-8A2A-B136E0629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EB530-9622-4307-988D-12F75E1398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cuss broad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cuss proposed goal stat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cuss Scope of Consultant Ac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cuss allocation alterna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cuss billing determinant op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I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R/Non-ID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W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W dem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tail Transactions (eg number of switches, move ins, etc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mise Ty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ile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combination of the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illing Determinant Alternatives: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tail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CP or simil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les of Transmission (May include miles with voltage modifi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Whs of load on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ber of transactions (eg number of switches, move ins, etc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illing Determinant Alternatives: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ransmission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B7 Author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ommission may authorize an independent organization that is certified under this section to charge a reasonable and competitively neutral rate to wholesale buyers and sellers to cover the independent organization's cost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ard Requ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r. Harder moved to ask TAC to present to the Board, before March 2005, a fee allocation methodology or methodologies which would focus on the four elements set forth in Senate Bill 7. As part of that analysis ERCOT should hire a third-party to conduct a cost-allocation study, at a cost of no more than $100,000. Mr. Veiseh seconded the motion. The motion passed by a vote of 9 to 2 (Ms. McClellan and Mr. Hayslip opposed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838080" y="1401840"/>
            <a:ext cx="7391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1827000"/>
            <a:ext cx="800100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855720"/>
                <a:tab algn="l" pos="1254240"/>
                <a:tab algn="l" pos="2651040"/>
                <a:tab algn="l" pos="4114800"/>
                <a:tab algn="l" pos="585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Sec. 39.151. ESSENTIAL ORGANIZATIONS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855720"/>
                <a:tab algn="l" pos="1254240"/>
                <a:tab algn="l" pos="2651040"/>
                <a:tab algn="l" pos="4114800"/>
                <a:tab algn="l" pos="585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(a)  A power region must establish one or more independent organizations to perform the following functio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tabLst>
                <a:tab algn="l" pos="0"/>
                <a:tab algn="l" pos="457200"/>
                <a:tab algn="l" pos="855720"/>
                <a:tab algn="l" pos="1254240"/>
                <a:tab algn="l" pos="2651040"/>
                <a:tab algn="l" pos="4114800"/>
                <a:tab algn="l" pos="585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(1)  ensure access to the transmission and distribution systems for all buyers and sellers of electricity on nondiscriminatory term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tabLst>
                <a:tab algn="l" pos="0"/>
                <a:tab algn="l" pos="457200"/>
                <a:tab algn="l" pos="855720"/>
                <a:tab algn="l" pos="1254240"/>
                <a:tab algn="l" pos="2651040"/>
                <a:tab algn="l" pos="4114800"/>
                <a:tab algn="l" pos="585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(2)  ensure the reliability and adequacy of the regional electrical network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tabLst>
                <a:tab algn="l" pos="0"/>
                <a:tab algn="l" pos="457200"/>
                <a:tab algn="l" pos="855720"/>
                <a:tab algn="l" pos="1254240"/>
                <a:tab algn="l" pos="2651040"/>
                <a:tab algn="l" pos="4114800"/>
                <a:tab algn="l" pos="585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(3)  ensure that information relating to a customer's choice of retail electric provider is conveyed in a timely manner to the persons who need that information;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tabLst>
                <a:tab algn="l" pos="0"/>
                <a:tab algn="l" pos="457200"/>
                <a:tab algn="l" pos="855720"/>
                <a:tab algn="l" pos="1254240"/>
                <a:tab algn="l" pos="2651040"/>
                <a:tab algn="l" pos="4114800"/>
                <a:tab algn="l" pos="585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(4)  ensure that electricity production and delivery are accurately accounted for among the generators and wholesale buyers and sellers in the reg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ur El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posed Princi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cus fee allocation methodology on the four elements of ERCOT respon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ilize traditional utility rate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st of service, cost allocation, rate desig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ider other market approaches to allo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 transparency of ERCOT expendi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t better information about co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tore ERCOT fiscal credi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rove stakeholder monitoring of costs/expendit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ountability for Market Participant impacts on ERCOT co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e Consistency and stability (Total fee, allocatio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act on Market Seg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ognition of “Community Benefit” conce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retroac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posed Goal Stat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tilizing principles of utility rate design, establish an ERCOT administration fee allocation that is fair, transparent, efficient, and where all market participants share equivalent incentives for efficient operations of ERCOT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any transition to a new fee structure, the implementation plan for the new structure must respect potential adverse impacts and ensure competitive neutrality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[1]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[1]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ators suggested the addition of the phrase “between and within market segments” at the end of this senten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cope of Consultant Activitie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lternativ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ernative 1:  Identify cost drivers in order to appropriately allocate the costs of ERCOT into buckets and billing determinants defined by TAC and provide recommendations for any suggested alternatives (examples: other ISO alternatives that may fit ERCOT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ernative 2:  Review ERCOT’s data collection and data management processes to determine their ability to do detailed cost allocations.  Identify gaps in those abilities.  Provide recommendations to resolve gap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ernative 3: Provide recommendations of the buckets that could be used for allocation of costs and identify billing determina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ernative 4: Do 2 and 3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llocation of System Administration Fee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Alternative Bucke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olesale/Retail (Carve out non-ERCOT prior to alloca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olesale/Competitive Retail and NOIE Retail (Carve out non-ERCOT prior to alloca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ket Seg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olesale/Retail (Either 1 or 2 above)/Transmi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f the above plus PU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f the above plus REC program participa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illing Determinant Alternatives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olesale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ources by MWh outp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ources by MW capac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ly schedules by MWh (includes resources and trad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ber of schedules submit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ber of Resource Me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y combination of the ab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30T08:52:40Z</dcterms:created>
  <dc:creator>LAPR</dc:creator>
  <dc:description/>
  <dc:language>en-US</dc:language>
  <cp:lastModifiedBy>LAPR</cp:lastModifiedBy>
  <dcterms:modified xsi:type="dcterms:W3CDTF">2004-08-03T16:47:06Z</dcterms:modified>
  <cp:revision>9</cp:revision>
  <dc:subject/>
  <dc:title>Slide 1</dc:title>
</cp:coreProperties>
</file>