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F3558-0300-466C-87CB-451B82844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5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0D2F2-8E88-479C-A36B-F97FF5A41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5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480" y="17524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480" y="39020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E8C08-4C28-4D52-B01D-92CAE181C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5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5920" y="17524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17524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5920" y="390204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390204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3B5E9-E450-4C94-B1ED-9BB85801D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36484-2E57-4F72-80D9-5C43F6ABA8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5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935CF-7B90-4E5A-9AB2-7564151860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5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2C1D5-6729-421E-90C6-0C5CEDA1C6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5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480" y="17524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283A5-9B53-41F4-823D-3F17C6000B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5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97AD0-4A38-4680-90D8-4B7EB5E8DA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550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F92E4-CDB5-479E-94C9-1A3042FA8B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5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480" y="17524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00244-9BCE-43B1-B72E-9890E2484E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5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E6845-701C-4F09-93D0-97B05330E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5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7524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480" y="39020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B5714-A78D-44E5-B7EE-7684FF3211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5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7524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D3BAB-9462-44F9-AF9B-2B2C35A957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5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1D4B4-DD49-480A-9254-9DDA0B0A50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5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7524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480" y="39020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D98DE-CD1E-4A80-8D84-2520DC4B8F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5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5920" y="17524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4280" y="17524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5920" y="390204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4280" y="390204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1C63A-A3C8-4D15-8CE5-E614CC93BA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5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9EBC1-1E84-4ABA-9686-F0D22BC67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5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480" y="17524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54FD8-B86E-453F-B1A4-1DA6E53D9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5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74FAD-E939-42A8-AC9E-3738F4DC1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550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33EC2-4A0A-4E95-B736-BDBC474F8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5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7524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6D15E-ADB1-4F82-AD51-2A05839BF7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5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480" y="17524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480" y="39020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C56FF-3974-478A-B2F1-001FD75DE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5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480" y="17524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A4328-9ED3-48FF-BA24-78C71A888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5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903E-47EF-4175-A677-E2B02BBA5C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1828800" cy="914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AFA4-B577-4E27-BB52-ED1DB577C6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5956200"/>
            <a:ext cx="1676520" cy="901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4.wmf"/><Relationship Id="rId1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RCOT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C Mee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ugust 6, 200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3049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otential ERCOT Bill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447920"/>
            <a:ext cx="76197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fied scheduling entities – settlement a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 (Corporate only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serving ent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 service provi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 mark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655308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liminary - Unaud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RCOT </a:t>
            </a:r>
            <a:br>
              <a:rPr sz="6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al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4 Revenue Requi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523880"/>
            <a:ext cx="44956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4 Revenue Requirements - $132.9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87.5 million operating exp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b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 licenses &amp; mainte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ultants &amp; contr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55 million capital exp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33 million debt fu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22 million revenue fu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3.4 million debt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9.8 million inte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3.6 million princi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% MWH 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876920" y="1905120"/>
          <a:ext cx="3938400" cy="4306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76920" y="1905120"/>
                    <a:ext cx="3938400" cy="43066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6705720" y="2438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$0.44 / MW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 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610480" cy="1468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9480" y="5334120"/>
            <a:ext cx="792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No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 ERCOT System Administration Fee without Debt Borrowing assumes all other variables affecting the fee, except debt borrowing, are held consta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4 Revenue Requirement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tion of the System Administration F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1523880"/>
          <a:ext cx="84582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4582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ee Allocation Discus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8600" y="3049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mpact to ERCOT Cost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447920"/>
            <a:ext cx="7086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islativ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design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ology inves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ilities ow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and growth and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urce growth and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655308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liminary - Unaud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" y="3049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mpact to ERCOT Cost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523880"/>
            <a:ext cx="7391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utes and liti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reliability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recovery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security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storage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obsolesc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factors for labor, debt and other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655308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liminary - Unaud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38080" y="1523880"/>
            <a:ext cx="7391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participant credit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participant bankrupt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meter points and frequency of meter r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retail switches requiring post card no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 control requirements (SAS70, etc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655308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liminary - Unaud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3049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mpact to ERCOT Cost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38080" y="1523880"/>
            <a:ext cx="7391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oversight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de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sched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ESI 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655308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liminary - Unaud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3049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mpact to ERCOT Cost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RCOT </a:t>
            </a:r>
            <a:br>
              <a:rPr sz="6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e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" y="3049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ther Consider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447920"/>
            <a:ext cx="76197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s i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C rule i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cial (credit) risk im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impacts and potential reconfiguration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ential barriers to market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655308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liminary - Unaud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3049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ther Consider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447920"/>
            <a:ext cx="76197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tlement with the Q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50-60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ly low administrative effort to monitor prefer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ing the number of entities with which ERCOT has financial relationship impacts cost to monitor and assess cre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655308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liminary - Unaud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8600" y="3049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ther Consider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1447920"/>
            <a:ext cx="76197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ct on total cost to the ERCOT 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mplicated budget and fee approval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investment in system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-area network administration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ERCOT ESI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655308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liminary - Unaud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ther ISO’s Fe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828800"/>
            <a:ext cx="8305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I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Area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o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illary Services and Real-time Energy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I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ing System Control and Disp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ility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655308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liminary - Unaud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2120" y="1447920"/>
            <a:ext cx="76197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YI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ing, System Control and Disp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J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Transmission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ion and Frequency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y, Resource, and Obligatio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Service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655308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liminary - Unaud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ther ISO’s Fe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00200" y="655308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liminary - Unaud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286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ERCOT Do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1523880"/>
            <a:ext cx="6705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B 7 requir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rvices provi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ganizational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00200" y="655308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liminary - Unaud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286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B 7 Requirem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600200"/>
            <a:ext cx="8077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. 39.151. ESSENTIAL ORGANIZATION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)  A power region must establish one or more independent organizations to perform the following fun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)  ensure access to the transmission and distribution systems for all buyers and sellers of electricity on nondiscriminatory term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2)  ensure the reliability and adequacy of the regional electrical networ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)  ensure that information relating to a customer's choice of retail electric provider is conveyed in a timely manner to the persons who need that information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4)  ensure that electricity production and delivery are accurately accounted for among the generators and wholesale buyers and sellers in the reg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rvices Provid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523880"/>
            <a:ext cx="83822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and resource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ized retail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oversight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sett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ewable energy and transmission congestion rights admin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655308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liminary - Unaud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ational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295280"/>
          <a:ext cx="838188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3818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523880" y="23623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TE=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23623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TE=1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14479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TE=5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23623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TE=1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91320" y="23623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TE=1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urrent Fee Struc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752480"/>
            <a:ext cx="8381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“postage stamp” fee (one fee charged to all QSEs serving lo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Revenue Requirement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ng Exp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t Service (principal and inter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nue (Fee) Funded Capital Expendi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655308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liminary - Unaud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urrent Fee Structur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752480"/>
            <a:ext cx="8381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tainty of System Admin Fe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ds cleared through ERCOT (collection from paying entities, followed by payment to entities ow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event of a short-pay, System Admin Fee is collected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ilitates access to capital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655308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liminary - Unaud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urrent ERCOT Bill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67652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than 95% of ERCOT revenue requirements recovered from QSE’s through the ERCOT System Administration Fee – a flat fee per MW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represents WAN, Non-ERCOT LSE, and other small income sources such as transmission system map 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655308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liminary - Unaud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13:17:44Z</dcterms:created>
  <dc:creator>mpetterson</dc:creator>
  <dc:description/>
  <dc:language>en-US</dc:language>
  <cp:lastModifiedBy>mpetterson</cp:lastModifiedBy>
  <cp:lastPrinted>2004-08-05T20:16:01Z</cp:lastPrinted>
  <dcterms:modified xsi:type="dcterms:W3CDTF">2004-08-06T13:49:56Z</dcterms:modified>
  <cp:revision>332</cp:revision>
  <dc:subject/>
  <dc:title>PowerPoint Presentation</dc:title>
</cp:coreProperties>
</file>