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29F43CDB-F9DA-41D5-9141-4EE773D96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Rob Connell, Richard Gruber, Glen Wingred, Jill Prince and teams for all of their help on the 2.0 conver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BB8A-41C6-4AE7-A5E8-50ACAE2F5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3200" y="274680"/>
            <a:ext cx="6019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9589-7198-471E-8882-B3D0A0244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43200" y="274680"/>
            <a:ext cx="6019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6E09-D005-41C1-A05B-8AEBBFC44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3200" y="274680"/>
            <a:ext cx="6019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693E-8C42-412D-A839-A95D3FA73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43200" y="274680"/>
            <a:ext cx="6019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8FD4-2E59-4BCB-848D-B0AA0849B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43200" y="274680"/>
            <a:ext cx="6019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A077-CBEB-4E5E-B174-A900B8A0A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743200" y="274680"/>
            <a:ext cx="6019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358A-F87E-4954-BB6C-5B6F4CC7B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43200" y="274680"/>
            <a:ext cx="6019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D898-0D1D-495D-A1F1-21B1BFAA7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743200" y="274680"/>
            <a:ext cx="6019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F9EF-EDCB-443C-80C6-C7C924259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43200" y="274680"/>
            <a:ext cx="6019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9DCF-ABC1-4DFD-95A2-0F26BAF4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743200" y="274680"/>
            <a:ext cx="6019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C32F-A025-437E-94BB-E265D9F4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3200" y="274680"/>
            <a:ext cx="6019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A877-96EA-4327-A005-D7EFA874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43200" y="274680"/>
            <a:ext cx="6019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80E47-630C-457D-A230-66BDC7AEC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0"/>
            <a:ext cx="2133720" cy="129528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RM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Upd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04920" y="1219320"/>
            <a:ext cx="86868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371600" y="1905120"/>
            <a:ext cx="64008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August 5,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380520" y="249228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Retail Market Subcommittee</a:t>
            </a:r>
            <a:br>
              <a:rPr sz="5400"/>
            </a:b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Update to TA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666520" y="75960"/>
            <a:ext cx="6324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MS Items</a:t>
            </a:r>
            <a:br>
              <a:rPr sz="4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gration to Version 2.0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371600" y="1905120"/>
            <a:ext cx="64008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cessful Market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 effort by all Market particip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ration experienced very few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ion issues have been easily mana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666520" y="75960"/>
            <a:ext cx="6324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MS Items</a:t>
            </a:r>
            <a:br>
              <a:rPr sz="4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5 Market Test Flight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71600" y="1905120"/>
            <a:ext cx="64008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2.0-010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esting New Market Participants in TX Set Version 2.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457200">
              <a:lnSpc>
                <a:spcPct val="80000"/>
              </a:lnSpc>
              <a:spcBef>
                <a:spcPts val="400"/>
              </a:spcBef>
              <a:buClr>
                <a:srgbClr val="008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nectivity to start Dec 17, 2004 (to avoid Christmas/New Ye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457200">
              <a:lnSpc>
                <a:spcPct val="80000"/>
              </a:lnSpc>
              <a:spcBef>
                <a:spcPts val="400"/>
              </a:spcBef>
              <a:buClr>
                <a:srgbClr val="008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n 21, 2005 – Mar 18, 2005 (8 weeks for scrip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457200">
              <a:lnSpc>
                <a:spcPct val="80000"/>
              </a:lnSpc>
              <a:spcBef>
                <a:spcPts val="400"/>
              </a:spcBef>
              <a:buClr>
                <a:srgbClr val="008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2.0-040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esting New Market Participants in TX Set Version 2.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457200">
              <a:lnSpc>
                <a:spcPct val="80000"/>
              </a:lnSpc>
              <a:spcBef>
                <a:spcPts val="400"/>
              </a:spcBef>
              <a:buClr>
                <a:srgbClr val="008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nectivity to start Mar 18,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457200">
              <a:lnSpc>
                <a:spcPct val="80000"/>
              </a:lnSpc>
              <a:spcBef>
                <a:spcPts val="400"/>
              </a:spcBef>
              <a:buClr>
                <a:srgbClr val="008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r 22, 2005 – Jun 17, 2005 (8 weeks for scrip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457200">
              <a:lnSpc>
                <a:spcPct val="80000"/>
              </a:lnSpc>
              <a:spcBef>
                <a:spcPts val="400"/>
              </a:spcBef>
              <a:buClr>
                <a:srgbClr val="008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2.0-070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esting New Market Participants in TX Set Version 2.0 or perhaps a     new release on TX Set Version 2.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457200">
              <a:lnSpc>
                <a:spcPct val="80000"/>
              </a:lnSpc>
              <a:spcBef>
                <a:spcPts val="400"/>
              </a:spcBef>
              <a:buClr>
                <a:srgbClr val="008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nectivity to start Jun 17,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457200">
              <a:lnSpc>
                <a:spcPct val="80000"/>
              </a:lnSpc>
              <a:spcBef>
                <a:spcPts val="400"/>
              </a:spcBef>
              <a:buClr>
                <a:srgbClr val="008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ul 22, 2005 – Sep 16, 2005 (8 weeks for scrip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457200">
              <a:lnSpc>
                <a:spcPct val="80000"/>
              </a:lnSpc>
              <a:spcBef>
                <a:spcPts val="400"/>
              </a:spcBef>
              <a:buClr>
                <a:srgbClr val="008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2.0-100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esting New Market Participants in TX Set Version 2.0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457200">
              <a:lnSpc>
                <a:spcPct val="80000"/>
              </a:lnSpc>
              <a:spcBef>
                <a:spcPts val="400"/>
              </a:spcBef>
              <a:buClr>
                <a:srgbClr val="008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nectivity to start Sep 16,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457200">
              <a:lnSpc>
                <a:spcPct val="80000"/>
              </a:lnSpc>
              <a:spcBef>
                <a:spcPts val="400"/>
              </a:spcBef>
              <a:buClr>
                <a:srgbClr val="008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t 21, 2005 – Dec 16, 2005 (8 weeks for scrip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457200">
              <a:lnSpc>
                <a:spcPct val="80000"/>
              </a:lnSpc>
              <a:spcBef>
                <a:spcPts val="400"/>
              </a:spcBef>
              <a:buClr>
                <a:srgbClr val="008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457200">
              <a:lnSpc>
                <a:spcPct val="80000"/>
              </a:lnSpc>
              <a:spcBef>
                <a:spcPts val="400"/>
              </a:spcBef>
              <a:buClr>
                <a:srgbClr val="008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66520" y="75960"/>
            <a:ext cx="6324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MS Items</a:t>
            </a:r>
            <a:br>
              <a:rPr sz="4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ail Market Guide Revision 2004-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71600" y="1905120"/>
            <a:ext cx="64008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33520" y="159984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DSP Request Canc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ation from Transaction Improvement Task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ng Market into compliance with MIM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ved Dec 11, 2003 in RMS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371600" y="1905120"/>
            <a:ext cx="64008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80880" y="15998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DSP Invoice Disput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ation from 867/810 taskforce to 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ved June 10, 2004 in RMS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es a standard dispute process for retail invo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8728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l TDSP Invoice Dispu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8728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l TDSP Invoice Dispute Process Tariff Re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8728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ute Spreadsh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76320"/>
            <a:ext cx="63248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MS Items</a:t>
            </a:r>
            <a:br>
              <a:rPr sz="4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ail Market Guide Revision 2004-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371600" y="1905120"/>
            <a:ext cx="64008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6840" y="182880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onnect/Reconnect Process Gu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section added:  </a:t>
            </a:r>
            <a:r>
              <a:rPr b="0" lang="en-US" sz="2400" spc="-1" strike="noStrike">
                <a:solidFill>
                  <a:srgbClr val="000000"/>
                </a:solidFill>
                <a:latin typeface="Albertus"/>
              </a:rPr>
              <a:t>§VII.D Field Service Exce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section added:  </a:t>
            </a:r>
            <a:r>
              <a:rPr b="0" lang="en-US" sz="2400" spc="-1" strike="noStrike">
                <a:solidFill>
                  <a:srgbClr val="000000"/>
                </a:solidFill>
                <a:latin typeface="Albertus"/>
              </a:rPr>
              <a:t>§VII.F Force Maje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section added:  </a:t>
            </a:r>
            <a:r>
              <a:rPr b="0" lang="en-US" sz="2400" spc="-1" strike="noStrike">
                <a:solidFill>
                  <a:srgbClr val="000000"/>
                </a:solidFill>
                <a:latin typeface="Albertus"/>
              </a:rPr>
              <a:t>§VIII.B Other Char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76320"/>
            <a:ext cx="63248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MS Items</a:t>
            </a:r>
            <a:br>
              <a:rPr sz="4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ail Market Guide Revision 2004-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371600" y="1905120"/>
            <a:ext cx="64008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761760" y="1828800"/>
            <a:ext cx="746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MS email vote approved susp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34PRR submitted, requested urgent 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tember TAC appro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tember Board susp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76320"/>
            <a:ext cx="63248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MS Items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mmendation to Suspend 2004 Annual Vali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5495-B5C9-4898-BF80-4DF070BA67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4T14:01:50Z</dcterms:created>
  <dc:creator>CF48</dc:creator>
  <dc:description/>
  <dc:language>en-US</dc:language>
  <cp:lastModifiedBy>Kristy Tyra</cp:lastModifiedBy>
  <dcterms:modified xsi:type="dcterms:W3CDTF">2004-08-03T20:55:58Z</dcterms:modified>
  <cp:revision>22</cp:revision>
  <dc:subject/>
  <dc:title>RMS Report to TAC 6/3/04</dc:title>
</cp:coreProperties>
</file>