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DAE-B8CF-46F8-AE6E-204C99AB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2F9-82D3-4807-9671-9DAECE65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1EE-48E0-45A4-BFC7-6E148A29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05F-69C5-4BD2-941E-440B0F4D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0D6F-8DFD-49E5-844C-9D402724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021C-1FA5-40A4-BD3C-AF00D766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626F-F4BE-41F4-944A-75E8E9BD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C070-DC54-42EC-B029-771770F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D574-3642-4112-8EEC-B1C2C020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0578-D9A1-4659-A1A8-8D59CD59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EA4A-932E-4E39-9AF3-4027D41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B90-CDB3-4BF2-A3D8-CB8BDB3F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9080-5D92-40D8-BBA9-33D90331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ADA0-8480-41E0-95F0-1B29892B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22D5-587A-44B0-A585-4FE31078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CFD4-56B1-44A2-8382-E00F058D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C211-3781-442F-9FBC-110B9969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40D-E74D-4CF7-95DA-C3E42ADB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AA5-5BDC-454B-B1B1-844F11C3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89A-0702-4511-92B1-34E98638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31A-09B8-4E91-8577-54CF626E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D2B-C74D-4AC4-978C-513A784E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DA1-FFFA-4A56-AABA-0CAD2AE2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312-462A-4E8C-9737-00AF50FD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B8F-B094-4ED9-A0A8-DCA56052B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24DA-A2A4-4D32-9E4B-AA48C5518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Day Ahead Market RFP Te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Timel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7/28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FP Releas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8/3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am Meeting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cu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rocess overvie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view RFP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quirements – TNT White Paper, TNM Protocols Section 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imeline/mileston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Evaluation Criteria/weight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emo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8/11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otice of Intent to Bid\Submit ques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8/16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am Meeting  9:30 to 2:00  (Austin Met Center, Room 168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view questions/respons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Bidder’s Conferenc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mend RFP?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view criteria weighting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8/18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spond to Questions (Bidder’s Conferenc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8/20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mend RFP if need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9/10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mit Proposal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9/13- 9/14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am Meeting  9:30 to 4:00  (Austin Met Center, Room 168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view Proposa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ank proposals (short list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9/21- 9/22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idder Presentations  9:30 to 4:00  (Austin – offsite – to be announced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view presentation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rced ranking within each criteria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commend bidde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0/1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nal selection (begin contract negotiation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0/15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contracts with bidd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/1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mplementation begi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n the afternoon of July 7, 2004, TXU QSE received unit specific Local Balancing instructions to back down the following generating units as a part of ERCOT Operations local congestion management for th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ost contingency overload of Jewett – Watson Chapel 138 kV Line for the loss of the Gibbons Creek – Twin Oak double circuit 345 kV Line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prox. 1,100 MW of Martin Lake generation (lignite/coal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prox. 225 MW of TNP One (lignite/coal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prox. 300+ MW of Stryker (ga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issued on average 1,700 MW of unit specific down instructions (average generation shift factor impact of 2.2%) and approximately 300 MW of unit specific up instruction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f all units responded as ERCOT requested, these instructions represented roughly $189,000 of Local Congestion managemen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review of the daily ERCOT Operation Congestion Reports since their inception on June 18, 2004 through July 27, 2004 (i.e. a 40 day period) indicates that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e constraint has become active 17 times on 15 different day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MS is having the Operational review group discuss What, if any, Curtailment Threshold criteria should be used by ERCOT to determine the minimum generation shift factor that a generator must have on a post contingency overloaded line before unit specific up and down instructions are issued to QSEs for Local Congestion management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1:57:05Z</dcterms:created>
  <dc:creator>BHELTON</dc:creator>
  <dc:description/>
  <dc:language>en-US</dc:language>
  <cp:lastModifiedBy>Bob Helton</cp:lastModifiedBy>
  <dcterms:modified xsi:type="dcterms:W3CDTF">2004-08-04T22:27:34Z</dcterms:modified>
  <cp:revision>11</cp:revision>
  <dc:subject/>
  <dc:title>WMS UPDATE</dc:title>
</cp:coreProperties>
</file>