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231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87E5-8A57-4C94-B107-0F79D10D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545-D15F-4110-99B6-15E94AA4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64B-885A-475F-9A45-76680A52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5CE7-5EF7-4C5D-AED2-21548DB7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B01-8441-4F45-8E2D-C9EC2C71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082-B95D-4E2E-885F-25A81774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6E79-0CE2-4CBA-A3ED-92ADA2B0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E309-4BCA-429D-9122-5C049EBD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9E30-C1A6-453E-934F-0EE45878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03A-BC7D-4AD3-9144-5C48EAFC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9E9-6ABD-41A9-9C3B-BAAD27A7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597-B807-4248-9EA7-573DA18F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890B-F937-4012-8B13-D4F263002AB0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35F1-EDE9-40AB-9968-1CB86492FF8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218960" cy="10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436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45964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4191120" cy="404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41403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AC Updat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50920" y="4653000"/>
            <a:ext cx="71056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rip Dogget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acilitator, Texas Nodal Tea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ugust 5, 2004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July 28 Voting (cont.)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1440000"/>
          <a:ext cx="8101080" cy="4505040"/>
        </p:xfrm>
        <a:graphic>
          <a:graphicData uri="http://schemas.openxmlformats.org/drawingml/2006/table">
            <a:tbl>
              <a:tblPr/>
              <a:tblGrid>
                <a:gridCol w="4968720"/>
                <a:gridCol w="313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o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97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0000"/>
                    </a:solidFill>
                  </a:tcPr>
                </a:tc>
              </a:tr>
              <a:tr h="40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adopt the language 6.6.8.1.10(2) on steps for ERCOT when SCED does not solve, as revised, for incorporation in Round 1 and consideration in Round 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approve the language in Section 6.6.8.1.11 on excessive dispatches as submitted by Shams Siddiqi and revised by the group for incorporation in the Round 1 black-line and consideration in Round 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he motion was approved by unanimous voice vote with abstentions from LCRA and BTU. </a:t>
                      </a: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ll seven segments were present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he motion was approved by unanimous voice vote. </a:t>
                      </a: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ll seven segments were present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474-015C-4EAE-A78F-0A580C865B0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A1948-CF03-466F-9C0C-A4DA631D5C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st Benefit Study Updat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RCOT Protocol Develop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ments from Economis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parison of Texas Nodal Market to other Nodal Marke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uly 28 Vot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CD4-93F0-4F65-AA02-7C203BC7F49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175F0-2CE0-4EE7-8DE1-9891826F11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ost Benefit Study Updat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412640"/>
            <a:ext cx="79246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nergy Impact Assessment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Will compare simulations of generation economic dispat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Average shift factors will be used to represent a zonal market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Actual unit specific shift factors will be used to calculate LMPs for dispatch in the nodal mod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Will use short run marginal costs (variable costs only) – no fixed costs are inclu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No bidding behavior, pricing strategy, bilateral contracts, market power or gaming is model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mplementation Impacts Assessment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Initial results of the survey of market participant’s will be reviewed in August.  There were 46 responses received. The deadline was extended in an effort to gather additional respons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KEMA is coordinating with ERCOT staff to determine what additional equipment is needed for improvements to the State Estimator.  Estimates will be shared with ROS and TA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chedul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Modeling has been slower than anticipa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The original schedule allowed for a 2 month review process to allow for CBCG, TNT, TAC and Board review of both the draft and final re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Review process will be shortened to maintain our September 22 milestone to preview CB results.  New schedule will be distributed short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Challenges to run multiple iterations to achieve a positive net benefit before the November 1 filing date will be addressed in a future Open Meet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5920-3574-4BBC-AC46-552D3B39F55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2971C-345E-48AC-BEEB-B5DB1DF6C7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RCOT Protocol Developmen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arted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Round of Review July 6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orking long days with meetings 3-4 days per week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art of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Round likely to be delayed to account for slower than anticipated review and allow consideration of Economists’ comment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4A9-3252-41C4-A38D-7EB54B7FFEB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4F34A-A25B-4577-83C4-663C4E8ABB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conomists’ Comment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412640"/>
            <a:ext cx="7924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lanning a two day workshop between Round 1 and Round 2 with all three Economists present.  Based on our Protocol review progress, we anticipate having the workshop in early September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ior to the workshop, TNT will have a planning meeting to define goals for the workshop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llowing the workshop, TNT will have several General Sessions to decide how to respond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fter evaluating the efficacy of Round 1 review, and considering the additional time required to address Economists’ comments, we will evaluate the impact on our timeline. 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16B-CE15-447F-B51B-B3AF00DF1A3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C33A3-E029-4B00-98CC-D124610D4D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omparison of TN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to Other Nodal Market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413000"/>
            <a:ext cx="792468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PUCT Market Oversight Division (MOD) asked that TNT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velop a comparison of the Texas Nodal Market to other nodal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clude adequate explanations of why TNT approved market design elements that vary from practices in other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uring the Open Meeting on July 28, the Commission decided this comparison is not necessary at this time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6E4-39EE-4F98-99C1-DE66D8B0E6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76802-689A-4639-938A-490D11F72F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July 28 Voting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68360" y="1440000"/>
          <a:ext cx="8101080" cy="4776480"/>
        </p:xfrm>
        <a:graphic>
          <a:graphicData uri="http://schemas.openxmlformats.org/drawingml/2006/table">
            <a:tbl>
              <a:tblPr/>
              <a:tblGrid>
                <a:gridCol w="4968720"/>
                <a:gridCol w="313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o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97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0000"/>
                    </a:solidFill>
                  </a:tcPr>
                </a:tc>
              </a:tr>
              <a:tr h="43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adopt the language in Section 4.10 (Planning Charter) as submitted by TXU as a wholesale replacement for the Round 1 black-line and consideration in Round 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adopt TXU’s revised language in Section 4.9.6.4 on recovery times for ICCP/RTU communication failures for incorporation in the Round 1 black-line and consideration in Round 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pproved by a ballot vote of 91.7% in favor and 8.3% oppos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pproved by a unanimous  voice vote with no abstentions.  All seven segments were presen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8E31-86F3-4C74-9336-513C7CA07C5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7A7E8-6E81-476A-B01D-40614A81B7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July 28 Voting (cont.)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8360" y="1440000"/>
          <a:ext cx="8101080" cy="4154400"/>
        </p:xfrm>
        <a:graphic>
          <a:graphicData uri="http://schemas.openxmlformats.org/drawingml/2006/table">
            <a:tbl>
              <a:tblPr/>
              <a:tblGrid>
                <a:gridCol w="4968720"/>
                <a:gridCol w="313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o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97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0000"/>
                    </a:solidFill>
                  </a:tcPr>
                </a:tc>
              </a:tr>
              <a:tr h="369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take the boxed language in Section 6.6.8.1.10(4) on NSA Ranking &amp; Screening for incorporation in the Round 1 black-line and consideration in Round 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accept the boxed language in Section 6.2 on DC Tie Schedules for incorporation in Round 1 and consideration in Round 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pproved by a unanimous  voice vote with one abstention by PSEG.  All seven segments were presen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pproved by a unanimous voice vote.  All seven segments were present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451-8E4A-4B27-8919-1ED0011F1C7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51C79-86D4-46C5-BEAB-19BD42B55B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July 28 Voting (cont.)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440000"/>
          <a:ext cx="8101080" cy="4379760"/>
        </p:xfrm>
        <a:graphic>
          <a:graphicData uri="http://schemas.openxmlformats.org/drawingml/2006/table">
            <a:tbl>
              <a:tblPr/>
              <a:tblGrid>
                <a:gridCol w="4932360"/>
                <a:gridCol w="3168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o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97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0000"/>
                    </a:solidFill>
                  </a:tcPr>
                </a:tc>
              </a:tr>
              <a:tr h="39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adopt the boxed language in Section 4.9.1 on reverting to monthly updates of Network Operational Model for incorporation in Round 1 and consideration in Round 2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on to adopt the language in Section 4.9.1 on pseudo-devices, as amended, for incorporation in Round 1 and consideration in Round 2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pproved by a unanimous voice vote.  All seven segments were present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he motion failed by a ballot vote of 11.1% in favor and 88.9% opposed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CA2-C20C-4757-AFE6-460D775658B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DCDF3-CBCF-4437-85D7-0524345BDE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p Doggett</cp:lastModifiedBy>
  <dcterms:modified xsi:type="dcterms:W3CDTF">2004-08-03T23:50:45Z</dcterms:modified>
  <cp:revision>2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  <property fmtid="{D5CDD505-2E9C-101B-9397-08002B2CF9AE}" pid="4" name="_AdHocReviewCycleID">
    <vt:r8>1158982017</vt:r8>
  </property>
  <property fmtid="{D5CDD505-2E9C-101B-9397-08002B2CF9AE}" pid="5" name="_AuthorEmail">
    <vt:lpwstr>tdoggett@ercot.com</vt:lpwstr>
  </property>
  <property fmtid="{D5CDD505-2E9C-101B-9397-08002B2CF9AE}" pid="6" name="_AuthorEmailDisplayName">
    <vt:lpwstr>Doggett, Trip</vt:lpwstr>
  </property>
  <property fmtid="{D5CDD505-2E9C-101B-9397-08002B2CF9AE}" pid="7" name="_EmailSubject">
    <vt:lpwstr>TNT TAC Update</vt:lpwstr>
  </property>
  <property fmtid="{D5CDD505-2E9C-101B-9397-08002B2CF9AE}" pid="8" name="_PreviousAdHocReviewCycleID">
    <vt:r8>-120547955</vt:r8>
  </property>
</Properties>
</file>