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19F-65FC-4AE5-93AB-BFC8773B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46C-85ED-420F-90D0-61009664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628-0E16-4B0C-AC4E-3438D881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567-9818-4B57-9C82-B70BC4B2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F2A-7E1C-45A5-B6F0-F15E98B1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21E-05AC-4498-B3F1-6B2401EE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951-AAC0-4E5C-8B84-AD397D35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A4E-E25C-4AE5-8C85-3179EDB3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29A-EF53-4293-9545-248D5BF3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7D8-14FB-4ED8-9BFD-A208A877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EBB-A6B9-41BA-B275-05F30E5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F4B-A20B-4828-84B3-9EF7ACE6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26DF-52F6-4A1B-80BF-777567CE1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Protocol Revision 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Subcommitte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029200"/>
            <a:ext cx="7925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RCOT Technical Advisory Committee August 5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50680" y="15228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ff"/>
                </a:solidFill>
                <a:latin typeface="Arial"/>
              </a:rPr>
              <a:t>Recommended TA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1960" y="3997440"/>
            <a:ext cx="85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Appro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7 (Reduce Annual TCRs Sold to 40% from 6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20 (Resource Plan Performance Metr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21 (Add Fleet/Zonal OOME Instructions for SCE Cal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22 (Collateral Requirements &amp; Credit Chang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29 (Calculating Final REC Purchasing Requir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Urgent Stat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3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RS 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5 PRRs for Appr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 PRRs Withdra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coming PRR Highl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ystem Prioritization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gust 27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7 – Reduce Annual TCRs Sold to 40% from 60%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duces available annual TCRs, making more available monthly and reducing BENA attributable to TC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impacts to ERCOT budgets, staffing, computer systems, operations or business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September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0 – Resource Plan Performance Metr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stablishes performance metrics for ERCOT to monitor QSE compliance to Protoc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asks needed to implement the PRR have been incorporated into ERCOT compliance; no other ERCOT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September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1 – Add Fleet/Zonal OOME Instruction for SCE Calcul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justs EMMS 4 to recognize fleet/zonal instructions in calculation of 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light budget impact; computer impacts; no other ERCOT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2 – Collateral Requirements &amp; Credit Chang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mproves ERCOT ability to use collateral and offset amounts/liabilities due to ERCOT in bankrupt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djusts collateral requirements for known or estimated potential liabilities related to short-pay oblig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RCOT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September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29 – Calculating Final REC Purchasing Requir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vises Protocols to allow for recalculation of previous year’s Final REC requi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mends calculation of Final REC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light budget impact; software changes for RECs; no other ERCOT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Board appro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ithdrawn PR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00 – OOME Down Payment Verifiable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05 – Elimination of OOME Down Pay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Upcoming PRRs Of No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409 – Voltage Support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09 – ADR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18 – Clarification of Requirements Relating to Retail Trans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23 – PRR S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3:13:47Z</dcterms:created>
  <dc:creator>i013996</dc:creator>
  <dc:description/>
  <dc:language>en-US</dc:language>
  <cp:lastModifiedBy>i013996</cp:lastModifiedBy>
  <dcterms:modified xsi:type="dcterms:W3CDTF">2004-08-05T16:01:34Z</dcterms:modified>
  <cp:revision>33</cp:revision>
  <dc:subject/>
  <dc:title>Protocol Revision  Subcommittee</dc:title>
</cp:coreProperties>
</file>