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B5A7-22C7-4B6A-9EFE-1D3F5296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9AAD-71B6-4D2F-A04D-F74B4D4E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2D44-B787-4D8C-B840-627684F2D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DD9A-DFD3-4427-81FE-A8C2E10E2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F8DF-7B96-4427-8FB2-818D1E91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FCA7-06A4-465B-AFF1-8782CD99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3F44-55EC-441B-9047-8CA0F580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B499-13C5-45E0-BFF4-D21BFA06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E9A4-43F0-4AB2-AE96-DFA06604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051A-CEBE-4E96-9ABE-5EA9994D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12F5-3295-49F0-9A19-161F6B70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AACE-5B8B-47DC-807F-F95FD331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A96E-80BF-4635-A14D-A45FE0266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858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010280" y="0"/>
            <a:ext cx="1828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0"/>
          <a:ext cx="91440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80640" y="318960"/>
            <a:ext cx="89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TPT Adopted Flight Schedules for 4 Test Flights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295280"/>
            <a:ext cx="784872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2.0-010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esting New Market Participants in TX SET Version 2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vity to start Dec 17, 2004 (to avoid Christmas/New Yea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 21, 2005 - Mar 18, 2005 (8 weeks for scrip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2.0-040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Testing New Market Participants in TX SET Version 2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vity to start March 18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ril 22, 2005 - June 17, 2005 (8 weeks for scrip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2.0-070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esting New Market Participants in TX SET Version 2.0 or perhaps a new release of TX SET Version 2.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vity to start June 17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22, 2005 - Sept. 16, 2005 (8 weeks for scrip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2.0-100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esting New Market Participants in TX SET Version 2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vity to start September 16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ct. 21, 2005 - Dec. 16, 2005 (8 weeks for scrip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17:17:51Z</dcterms:created>
  <dc:creator>REI</dc:creator>
  <dc:description/>
  <dc:language>en-US</dc:language>
  <cp:lastModifiedBy>Larry Grimm</cp:lastModifiedBy>
  <cp:lastPrinted>2004-06-23T18:10:34Z</cp:lastPrinted>
  <dcterms:modified xsi:type="dcterms:W3CDTF">2004-08-03T18:29:16Z</dcterms:modified>
  <cp:revision>79</cp:revision>
  <dc:subject/>
  <dc:title>No Slide Title</dc:title>
</cp:coreProperties>
</file>