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8A07-49F0-484B-8BC4-AD75F9B8C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1D0E-7B78-4416-A8EC-67E7D8AA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EEE1-0EF5-4F88-B87D-B340A50A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71F-1164-4C05-87BA-2807C9C1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AA0-B773-4206-B9F8-0E4FA92C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64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2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1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64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92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C95-4E41-400A-8C5E-957E7EB9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EF1-6609-425A-9840-DA535330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BFA6-665E-4C9F-A267-F36B4AB2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04760" y="304560"/>
            <a:ext cx="6553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9EB4-0CE5-4045-87C8-17449896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2270-D15D-485C-BD08-9DE80399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396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0746-1335-4E17-B378-A8C8FFAC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396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160" y="39085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8158-D2D6-4E11-9EC5-A610E9D7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Times New Roman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5961-ED43-46EE-AE7F-FD2EDE4E4237}" type="datetime">
              <a:rPr b="0" lang="en-US" sz="1400" spc="-1" strike="noStrike">
                <a:solidFill>
                  <a:srgbClr val="ffffff"/>
                </a:solidFill>
                <a:latin typeface="Arial Narrow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7502-B5A8-4BD9-9856-428A707217D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1218960" cy="1066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" name=""/>
          <p:cNvSpPr/>
          <p:nvPr/>
        </p:nvSpPr>
        <p:spPr>
          <a:xfrm>
            <a:off x="68436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459640" y="6248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297000"/>
            <a:ext cx="4191120" cy="4046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47242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00"/>
              </a:buClr>
              <a:buFont typeface="Times New Roman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1640" y="304920"/>
            <a:ext cx="4140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AC Updat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50920" y="4653000"/>
            <a:ext cx="71056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rip Dogget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cilitator, Texas Nodal Tea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July 8, 200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Dr. Oren’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mmen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r. Oren reviewed his issues via teleconference on June 28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is paper includes approximately 41 issues from the following white papers: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MCG Concept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H-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aRU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HaRU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al-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R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id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ket Mit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03E-9E52-4ADD-8B72-1D4DBC2D4EE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43A70-52E0-436E-9A0B-41B40F3CE8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otomac Economic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mmen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e received comments on June 24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ncludes approximately 12 issues such as: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ket Imple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cillary Services Procurement an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liability Unit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ricing during short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Zones and Hu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R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id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H-D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ket Mit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321-D352-4C5C-8F1C-06B6BF8C5DB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2306B-1E27-4CB1-A66A-8C3E8EF672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conomists’ Commen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449360"/>
            <a:ext cx="79246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e PUCT Market Oversight Division (MOD) has asked that TNT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ive full consideration to the economists’ com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eigh the different perspectives that each expert br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Impartially draw conclusions about what would work best for the Texas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ke adjustments where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here TNT disagrees with the comments, MOD asks that we document the reason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D would support a reasonable delay in the filing of the protocols to provide additional time for stakeholders to thoroughly consider and act on the comment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32E-2A66-44DF-A3DE-EF39DC06B3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A78CB-677C-401C-8C59-7640CB2ABD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conomists’ Commen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412640"/>
            <a:ext cx="7924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3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TNT will proceed with the first round of Protocol review, scheduled to end August 4. 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3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We will schedule two weeks between Round 1 and Round 2 to address the Economists’ comments.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3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Round 2 schedule revised to begin August 30 instead of August 16.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3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We hope to have a two day workshop with all three economists present, followed by TNT General Sessions to decide how to respond.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836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 Narrow"/>
              </a:rPr>
              <a:t>After evaluating the efficacy of Round 1 review, and considering the additional time required to address economists’ comments, we will evaluate the impact on our timeline.  </a:t>
            </a: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2D9F-3341-4575-A704-E4D48C355C8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E4E966-FFA3-4667-9882-9A12282488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st Benefit Study Updat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RCOT Protocol Develop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ents from Economis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686-FA40-4E0A-8611-6C0EC56BC5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51F18-F970-4A06-928B-2C708B5E18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st Benefit Study - Accomplishmen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CA and KEMA reviewed progress at the June 2 meet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ssumption memo on implementation cost assessment has been releas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ket Participant Survey has  been release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511-5610-4C39-9BEB-81457A67BA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st Benefit Study –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 Date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Key dates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Next CBCG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ly 2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BCG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gust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BCG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gust 26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BCG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CBCG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ptember 2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 TNT Meeting to preview CB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tober 14, 2004 – Tentative PUCT workshop on CB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31A-4F25-400B-AE2C-CF9FF6935A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st Benefit Study –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RCOT and MP Survey Detail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rket Participant Surve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date was June 25t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imately 40 responses have been recei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ent Services and KEMA are performing point follow-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 of missing respondents is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RCOT Interviews and System Invento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going for past three 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 receive a formal update at July 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8456-9176-4D59-AAF5-C483F3FF985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56837-C906-4A38-AC8D-98C7D9E1AD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st Benefit Study –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Modeling Progres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firmed with TCA that there are no known data items from outside parties necessary for the mode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~10,000 constraints will be modeled as result of TCA’s analysis using the power flow models, the contingencies and the MUST applic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UCT Staff has reiterated their understanding that the qualitative assessment of the backcasting study will  thoroughly address inefficiencies caused by the zonal model’s portfolio unit commitment and dispatch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420-8601-4408-AF94-7A1C8A7AEE7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1A529-5BFB-431E-AB09-D3C7FF2B79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RCOT Protocol Developmen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rafts were sent to stakeholders on June 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rt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Round of Review July 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rt of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Narrow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Round of Review delayed from August 16 to August 30 to allow more time to consider Economist’s comm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197-80DC-4BA7-8244-6CB12B34685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100F6-891D-47F1-A02E-F955BB1849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conomists’ Commen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ents received from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r. Frank Wolak – Independent Econom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r. Shmuel Oren – PUCT Staff, Senior Advisor to M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otomac Economics, Ltd. – PUCT Staff, Market Moni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455-CEEA-4708-BF88-D2979BB89D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512B2-3F2D-4614-A9B0-467F4BB78A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4c65"/>
            </a:gs>
            <a:gs pos="100000">
              <a:srgbClr val="1d1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304560"/>
            <a:ext cx="65530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Dr. Frank Wolak’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omments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376280"/>
            <a:ext cx="792468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r. Wolak met with us on May 26, June 7, and June 16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viewed four major areas where the TNT market design differs from nodal markets elsewhere in the US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Market Mitig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liability Unit Commi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ncillary Services Procurement an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RR Alloc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Other questions o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RR Mitigation R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 post pric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newable Resource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We expect an addendum to his paper by July 1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163-6C20-40A7-B02E-BA11559308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E94BB-AD92-4872-9D71-3202053C1C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p Doggett</cp:lastModifiedBy>
  <dcterms:modified xsi:type="dcterms:W3CDTF">2004-07-01T01:35:49Z</dcterms:modified>
  <cp:revision>2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