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948488" cy="9359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48000" cy="936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621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3040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91540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9621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4CF5-3C83-4145-A18F-2DA5614DB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aff deemed to be performing well, particularly with regard to ensuring non-discriminatory access to the gri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rket deems CSRs to be performing very well in all areas – in particular the attitude and willingness to resolve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ceived need for improvement with regard to sett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rket is generally pleased with communications from ERCOT staf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umbers driven by Market Participant Sta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RCOT is effectively communicating information needed by the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RCOT staff and systems providing data in a timely and accurate fash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ttlements bill considered timely and accurate, but people still have iss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rket Participants feel that Portal reliability needs to be impro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arket Participants have a relatively dim view of ERCOT’s spending pract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erceptions may improve with targeted messaging efforts explaining role of MPs in setting spending priorities via committee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arket Participants have a relatively dim view of ERCOT’s spending pract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erceptions may improve with targeted messaging efforts explaining role of MPs in setting spending priorities via committee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arket Participants perceive a need for improvement in ERCOT’s performance with respect to specific functional are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ard member opinions not consistent with other market participant groups – Dialogue with the market needed to develop consensus regarding ERCOT’s ro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3F3E-55D4-4081-AB55-FE18FC615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523F-B6F4-49BF-BD34-CD67AF3D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8C73-8C49-415E-A3EE-7546BCE13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C04E-DF58-405E-8088-D87E375E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DCE1-5B9D-451B-A5DD-FF367722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42D2-9FB2-432B-9FE9-ECE74ED2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4696-C4E3-43DC-B8FB-7FF19301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6489-C503-4E4A-BB8C-35655358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99B8-29DC-4336-B844-86E97FFD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0AE1-AC37-47EF-A494-D5497D8D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F4B7-5271-41A0-8796-9F0E05DA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D52D-BCE2-4400-B841-A66B42DD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960" y="6458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1AFE-10BC-4DC7-B18B-61CEB5C6F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380880"/>
            <a:ext cx="0" cy="5943600"/>
          </a:xfrm>
          <a:prstGeom prst="line">
            <a:avLst/>
          </a:prstGeom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380880"/>
            <a:ext cx="0" cy="5943600"/>
          </a:xfrm>
          <a:prstGeom prst="line">
            <a:avLst/>
          </a:prstGeom>
          <a:ln w="255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373880" y="380880"/>
            <a:ext cx="932040" cy="401760"/>
          </a:xfrm>
          <a:prstGeom prst="rect">
            <a:avLst/>
          </a:prstGeom>
          <a:ln w="0">
            <a:noFill/>
          </a:ln>
        </p:spPr>
      </p:pic>
      <p:pic>
        <p:nvPicPr>
          <p:cNvPr id="8" name="ercot%20copy" descr=""/>
          <p:cNvPicPr/>
          <p:nvPr/>
        </p:nvPicPr>
        <p:blipFill>
          <a:blip r:embed="rId3"/>
          <a:srcRect l="0" t="0" r="6704" b="0"/>
          <a:stretch/>
        </p:blipFill>
        <p:spPr>
          <a:xfrm>
            <a:off x="800280" y="228600"/>
            <a:ext cx="6362640" cy="6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066680"/>
            <a:ext cx="8381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6095880"/>
            <a:ext cx="79628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repared by      Opinion Dynamics Corporation      May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ercot%20CenterArt" descr=""/>
          <p:cNvPicPr/>
          <p:nvPr/>
        </p:nvPicPr>
        <p:blipFill>
          <a:blip r:embed="rId1"/>
          <a:stretch/>
        </p:blipFill>
        <p:spPr>
          <a:xfrm>
            <a:off x="3124080" y="1600200"/>
            <a:ext cx="2676600" cy="4114800"/>
          </a:xfrm>
          <a:prstGeom prst="rect">
            <a:avLst/>
          </a:prstGeom>
          <a:ln w="0">
            <a:noFill/>
          </a:ln>
        </p:spPr>
      </p:pic>
      <p:pic>
        <p:nvPicPr>
          <p:cNvPr id="55" name="ercot%20copy" descr=""/>
          <p:cNvPicPr/>
          <p:nvPr/>
        </p:nvPicPr>
        <p:blipFill>
          <a:blip r:embed="rId2"/>
          <a:srcRect l="23802" t="0" r="9058" b="0"/>
          <a:stretch/>
        </p:blipFill>
        <p:spPr>
          <a:xfrm>
            <a:off x="304920" y="123840"/>
            <a:ext cx="86868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868320"/>
            <a:ext cx="88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99"/>
                </a:solidFill>
                <a:latin typeface="Arial"/>
                <a:ea typeface="Times New Roman"/>
              </a:rPr>
              <a:t>ERCOT Staff Performance: Corporate Objectiv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(10 point scale, means show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079800"/>
            <a:ext cx="198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suring Reliability/Adequacy of Gr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828800" y="1295280"/>
          <a:ext cx="7620120" cy="50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95280"/>
                    <a:ext cx="762012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304920" y="208908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discriminatory access to transmission/ distrib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396252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urate accounting of electric production &amp;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487692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ly information about customer’s choice of R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838080"/>
            <a:ext cx="883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ERCOT Staff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(10 point scale, means show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828800" y="1523880"/>
          <a:ext cx="7543800" cy="503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523880"/>
                    <a:ext cx="7543800" cy="50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609480" y="53341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ist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21337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28195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y expert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390204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ponsiveness to Market Particip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342900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all Perform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4481640"/>
            <a:ext cx="20574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ment of ERCOT organiz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fficers &amp; Directors on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838080"/>
            <a:ext cx="883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ERCOT Staff Performance: CS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(10 point scale, means show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489888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ly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529596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wledge/ Industry Expert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43657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ponse accura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27432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ion of inqui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32767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209556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itude/Willingness to resolve probl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38098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all expec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828800" y="1241280"/>
          <a:ext cx="7620120" cy="50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41280"/>
                    <a:ext cx="762012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3520" y="838080"/>
            <a:ext cx="8381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ERCOT Staff Performance: Functional Areas</a:t>
            </a:r>
            <a:br>
              <a:rPr sz="3200"/>
            </a:b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(10 point scale, means show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600200" y="1371600"/>
          <a:ext cx="7543800" cy="503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371600"/>
                    <a:ext cx="7543800" cy="50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380880" y="198108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t Participant 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26668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Te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304812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ail Transaction Proces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37339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42670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id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464832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tlements and Bi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5197320"/>
            <a:ext cx="1676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tlements Dispute Resol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04920" y="838080"/>
            <a:ext cx="883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(10 point scale, means show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3760" y="29718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ount of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3760" y="441972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rity of ERCOT Staff’s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3760" y="2073240"/>
            <a:ext cx="19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ten Commun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7440" y="37339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bal Commun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828800" y="1371600"/>
          <a:ext cx="7620120" cy="50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371600"/>
                    <a:ext cx="762012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293760" y="53341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l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600200" y="1216080"/>
          <a:ext cx="7543800" cy="503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216080"/>
                    <a:ext cx="7543800" cy="50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533520" y="94464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Communications: Functional Areas</a:t>
            </a:r>
            <a:br>
              <a:rPr sz="3200"/>
            </a:b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(10 point scale, means show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21337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t 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28954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Chan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350532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gress on Market Pro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44197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d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51814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1360" y="611028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04920" y="838080"/>
            <a:ext cx="883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Timeliness &amp; Accuracy of Data</a:t>
            </a:r>
            <a:br>
              <a:rPr sz="3200"/>
            </a:b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(10 point scale, means show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828800" y="1368360"/>
          <a:ext cx="7543800" cy="503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368360"/>
                    <a:ext cx="7543800" cy="50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09480" y="30160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tlements Bi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362592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mission Congestion R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438768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ewable Energy Cred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53020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Extr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23302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ere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Effectiveness of Training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(10 point scale, means show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04920" y="8380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Overview of Areas for Impro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1447920"/>
            <a:ext cx="8153280" cy="52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ortal re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pending prior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ystems and tools for communicating with the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arke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Website navi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M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T Technical Helpde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unctional Perform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ongestion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ata extr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ettlement dispute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-304920" y="685800"/>
          <a:ext cx="8382240" cy="559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04920" y="685800"/>
                    <a:ext cx="8382240" cy="55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04920" y="838080"/>
            <a:ext cx="8839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ERCOT Portal</a:t>
            </a:r>
            <a:br>
              <a:rPr sz="3200"/>
            </a:br>
            <a:r>
              <a:rPr b="0" lang="en-US" sz="2000" spc="-1" strike="noStrike">
                <a:solidFill>
                  <a:srgbClr val="006699"/>
                </a:solidFill>
                <a:latin typeface="Arial"/>
                <a:ea typeface="Times New Roman"/>
              </a:rPr>
              <a:t>Level of Agreement with Statements About ERCOT IT Systems/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57913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rtal is effe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57913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rtal is rel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914400"/>
            <a:ext cx="8839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Response Rate</a:t>
            </a:r>
            <a:br>
              <a:rPr sz="3200"/>
            </a:br>
            <a:r>
              <a:rPr b="0" lang="en-US" sz="2000" spc="-1" strike="noStrike">
                <a:solidFill>
                  <a:srgbClr val="006699"/>
                </a:solidFill>
                <a:latin typeface="Arial"/>
                <a:ea typeface="Times New Roman"/>
              </a:rPr>
              <a:t>429 completed surveys from a sample of 1,157 Market Participants (37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2075040"/>
          <a:ext cx="8077320" cy="4020840"/>
        </p:xfrm>
        <a:graphic>
          <a:graphicData uri="http://schemas.openxmlformats.org/drawingml/2006/table">
            <a:tbl>
              <a:tblPr/>
              <a:tblGrid>
                <a:gridCol w="5791320"/>
                <a:gridCol w="2286000"/>
              </a:tblGrid>
              <a:tr h="12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600"/>
                      </a:b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Board Members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7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600"/>
                      </a:b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1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7ff">
                        <a:alpha val="50000"/>
                      </a:srgbClr>
                    </a:solidFill>
                  </a:tcPr>
                </a:tc>
              </a:tr>
              <a:tr h="114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600"/>
                      </a:b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ittee Member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600"/>
                      </a:b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11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1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600"/>
                      </a:b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Participant Staff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7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600"/>
                      </a:b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=30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7ff">
                        <a:alpha val="50000"/>
                      </a:srgbClr>
                    </a:solidFill>
                  </a:tcPr>
                </a:tc>
              </a:tr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ssification of respondent based on self-selected descriptions – QA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1905120" y="1317600"/>
          <a:ext cx="7619760" cy="50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317600"/>
                    <a:ext cx="761976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304920" y="868320"/>
            <a:ext cx="883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ERCOT Spending Pract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(10 point scale, means show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236232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ding Funds Equitab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3657600"/>
            <a:ext cx="2057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ding Funds on Things that are Important to Your Comp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487692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ding Funds Cost Effective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1523880" y="1139760"/>
          <a:ext cx="7543800" cy="503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139760"/>
                    <a:ext cx="7543800" cy="50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533520" y="94464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Communications: Room for Improvement</a:t>
            </a:r>
            <a:br>
              <a:rPr sz="3200"/>
            </a:b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(10 point scale, means show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24066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acts of PR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41590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id ops deci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312408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behind schedule for systems cha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49053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systems are 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1360" y="5958000"/>
            <a:ext cx="8321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19494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cating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1905120" y="1447920"/>
          <a:ext cx="7619760" cy="49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447920"/>
                    <a:ext cx="761976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236232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vigation of the Web 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365760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fulness of IT Help De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48769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derstanding EM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94464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Communications: Room for Improvement</a:t>
            </a:r>
            <a:br>
              <a:rPr sz="3200"/>
            </a:b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(10 point scale, means show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1905120" y="1317600"/>
          <a:ext cx="7619760" cy="50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317600"/>
                    <a:ext cx="761976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304920" y="868320"/>
            <a:ext cx="8839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ERCOT Functional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  <a:ea typeface="Times New Roman"/>
              </a:rPr>
              <a:t>(10 point scale, means show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428292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ly and Effective Implementation of Systems Chan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518148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ly Resolution of Settlements Disp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2378160"/>
            <a:ext cx="20574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ding Data Extracts with Necessary Cont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3200400"/>
            <a:ext cx="220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ing Congestion Management iss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09480" y="1990800"/>
            <a:ext cx="8153640" cy="35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Market perceived areas of </a:t>
            </a:r>
            <a:r>
              <a:rPr b="0" lang="en-US" sz="2600" spc="-1" strike="noStrike" u="sng">
                <a:solidFill>
                  <a:srgbClr val="006699"/>
                </a:solidFill>
                <a:uFillTx/>
                <a:latin typeface="Arial"/>
              </a:rPr>
              <a:t>strength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Performance toward core mis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Systems are providing timely and accurate da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ERCOT staff’s performa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09480" y="1990800"/>
            <a:ext cx="8153640" cy="35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Market perceived </a:t>
            </a:r>
            <a:r>
              <a:rPr b="0" lang="en-US" sz="2600" spc="-1" strike="noStrike" u="sng">
                <a:solidFill>
                  <a:srgbClr val="006699"/>
                </a:solidFill>
                <a:uFillTx/>
                <a:latin typeface="Arial"/>
              </a:rPr>
              <a:t>need for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600" spc="-1" strike="noStrike" u="sng">
                <a:solidFill>
                  <a:srgbClr val="006699"/>
                </a:solidFill>
                <a:uFillTx/>
                <a:latin typeface="Arial"/>
              </a:rPr>
              <a:t>system improvements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 with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ERCOT.com navig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Data extracts (content breadth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Portal availability and usefuln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09480" y="1990800"/>
            <a:ext cx="8153640" cy="38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Market perceived </a:t>
            </a:r>
            <a:r>
              <a:rPr b="0" lang="en-US" sz="2600" spc="-1" strike="noStrike" u="sng">
                <a:solidFill>
                  <a:srgbClr val="006699"/>
                </a:solidFill>
                <a:uFillTx/>
                <a:latin typeface="Arial"/>
              </a:rPr>
              <a:t>communication gaps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 i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Impacts of PRR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Systems chan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Spending priorit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Grid operations decision process &amp; Understanding of EM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Conclusions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  <a:ea typeface="Times New Roman"/>
              </a:rPr>
              <a:t>(con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09480" y="1990800"/>
            <a:ext cx="8153640" cy="32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Possible specific areas for strategic consideration by ERCOT Boar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Role of committees in setting spending priorities and introducing market chang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Defining and communicating expectations regarding ERCOT staff’s role in rules change pro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10666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Conclusions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  <a:ea typeface="Times New Roman"/>
              </a:rPr>
              <a:t>(con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430640" y="1981080"/>
            <a:ext cx="6552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ERCOT Response Coordination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Acting of Feedback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19320" y="1295280"/>
            <a:ext cx="733104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Response Coordination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Tasked by the ERCOT Officer Team 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Coordinate with ERCOT Executive M’gmt and HR&amp;G on prior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Task cross functional internal teams assigned to: evaluate, recommend change, establish objectives, tracking mechanism and draft market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Ensure coordination, consistency and action takes place addressing priority areas that “Need Attentio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Update HR&amp;G within 90 days and then as reques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9144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By Market Participant Firm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42120" y="632448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esponse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1682640"/>
          <a:ext cx="8915400" cy="479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82640"/>
                    <a:ext cx="8915400" cy="479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33520" y="1295280"/>
            <a:ext cx="8016840" cy="48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 Response Coordination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99"/>
                </a:solidFill>
                <a:uFillTx/>
                <a:latin typeface="Arial"/>
              </a:rPr>
              <a:t>Gary Stroud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  </a:t>
            </a:r>
            <a:r>
              <a:rPr b="1" lang="en-US" sz="2000" spc="-1" strike="noStrike" u="sng">
                <a:solidFill>
                  <a:srgbClr val="006699"/>
                </a:solidFill>
                <a:uFillTx/>
                <a:latin typeface="Arial"/>
              </a:rPr>
              <a:t>Richard Gruber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       </a:t>
            </a:r>
            <a:r>
              <a:rPr b="1" lang="en-US" sz="2000" spc="-1" strike="noStrike" u="sng">
                <a:solidFill>
                  <a:srgbClr val="006699"/>
                </a:solidFill>
                <a:uFillTx/>
                <a:latin typeface="Arial"/>
              </a:rPr>
              <a:t>Mark Walker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       </a:t>
            </a:r>
            <a:r>
              <a:rPr b="1" lang="en-US" sz="2000" spc="-1" strike="noStrike" u="sng">
                <a:solidFill>
                  <a:srgbClr val="006699"/>
                </a:solidFill>
                <a:uFillTx/>
                <a:latin typeface="Arial"/>
              </a:rPr>
              <a:t>Larry Gri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Representation that brings a diverse perspective of the various audienc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Market Particip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Regulators and Legislat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ERCOT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Will strive to keep all audiences informed and aligned to our common purpose – Make the Texas Electric Market Better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533520" y="1295280"/>
            <a:ext cx="801684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 Response Coordination T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Initial meeting focused on high level analysis and categories of items that Need Atten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Commun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To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Delivered survey results to ERCOT management team (Directors and Managers) 6/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Begun scoping out specific approach appropriate for items or groups of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Begun identifying team lead candidates</a:t>
            </a: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99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279240" y="2438280"/>
            <a:ext cx="282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Arial"/>
              </a:rPr>
              <a:t>Questions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94464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Survey Approach: 10 point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1959120"/>
            <a:ext cx="8153280" cy="44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Many questions based on a 10 point scale: 1-3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= very negative response, 8-10 = very positive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respon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 u="sng">
                <a:solidFill>
                  <a:srgbClr val="006699"/>
                </a:solidFill>
                <a:uFillTx/>
                <a:latin typeface="Arial"/>
              </a:rPr>
              <a:t>Mean responses will trend toward the middle of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 u="sng">
                <a:solidFill>
                  <a:srgbClr val="006699"/>
                </a:solidFill>
                <a:uFillTx/>
                <a:latin typeface="Arial"/>
              </a:rPr>
              <a:t>a 10 point scale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 – only those with passionate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opinion are likely to provide a rating in top or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bottom 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In general, mean responses of 6.5 or above are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favorable ratings, 7.5 and above are extremely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positive respons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1143000"/>
            <a:ext cx="88390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Background and Context</a:t>
            </a:r>
            <a:br>
              <a:rPr sz="3200"/>
            </a:br>
            <a:r>
              <a:rPr b="0" lang="en-US" sz="1700" spc="-1" strike="noStrike">
                <a:solidFill>
                  <a:srgbClr val="006699"/>
                </a:solidFill>
                <a:latin typeface="Arial"/>
                <a:ea typeface="Times New Roman"/>
              </a:rPr>
              <a:t>Market Participant Opinions Regarding</a:t>
            </a:r>
            <a:br>
              <a:rPr sz="1700"/>
            </a:br>
            <a:r>
              <a:rPr b="0" lang="en-US" sz="1700" spc="-1" strike="noStrike">
                <a:solidFill>
                  <a:srgbClr val="006699"/>
                </a:solidFill>
                <a:latin typeface="Arial"/>
                <a:ea typeface="Times New Roman"/>
              </a:rPr>
              <a:t>ERCOT Staff’s Role In Developing Market Ru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555480" y="2532240"/>
          <a:ext cx="8207280" cy="2954160"/>
        </p:xfrm>
        <a:graphic>
          <a:graphicData uri="http://schemas.openxmlformats.org/drawingml/2006/table">
            <a:tbl>
              <a:tblPr/>
              <a:tblGrid>
                <a:gridCol w="3276360"/>
                <a:gridCol w="1981440"/>
                <a:gridCol w="1676160"/>
                <a:gridCol w="127332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staff should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articipat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 market rules develop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staff should only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dminist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market ru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br>
                        <a:rPr sz="1600"/>
                      </a:b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cid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ard Member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=1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7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7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7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7ff">
                        <a:alpha val="50000"/>
                      </a:srgbClr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ittee Member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=11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Participant Staff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=30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7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7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7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7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838080"/>
            <a:ext cx="8839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Background and Context</a:t>
            </a:r>
            <a:br>
              <a:rPr sz="3200"/>
            </a:br>
            <a:r>
              <a:rPr b="0" lang="en-US" sz="2000" spc="-1" strike="noStrike">
                <a:solidFill>
                  <a:srgbClr val="006699"/>
                </a:solidFill>
                <a:latin typeface="Arial"/>
                <a:ea typeface="Times New Roman"/>
              </a:rPr>
              <a:t>Market Participants’ Understanding of ERCOT’s Committee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914400" y="1752480"/>
          <a:ext cx="7238880" cy="482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52480"/>
                    <a:ext cx="723888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4920" y="838080"/>
            <a:ext cx="8839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Background and Context</a:t>
            </a:r>
            <a:br>
              <a:rPr sz="3200"/>
            </a:br>
            <a:r>
              <a:rPr b="0" lang="en-US" sz="2000" spc="-1" strike="noStrike">
                <a:solidFill>
                  <a:srgbClr val="006699"/>
                </a:solidFill>
                <a:latin typeface="Arial"/>
                <a:ea typeface="Times New Roman"/>
              </a:rPr>
              <a:t>Market Participants’ Understanding of ERCOT’s Committee Structure (con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990720" y="1752480"/>
          <a:ext cx="7238880" cy="482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723888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Color 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94464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Times New Roman"/>
              </a:rPr>
              <a:t>Overview of Perceived Streng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752480"/>
            <a:ext cx="815328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Performance of ERCOT staff, officers and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director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Personalized contact with Market Participants--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particularly CSR conta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Timeliness and accuracy of da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00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       </a:t>
            </a:r>
            <a:r>
              <a:rPr b="0" lang="en-US" sz="2600" spc="-1" strike="noStrike">
                <a:solidFill>
                  <a:srgbClr val="006699"/>
                </a:solidFill>
                <a:latin typeface="Arial"/>
              </a:rPr>
              <a:t>Providing effective training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870680" y="63244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4:23:39Z</dcterms:created>
  <dc:creator>ODC</dc:creator>
  <dc:description/>
  <dc:language>en-US</dc:language>
  <cp:lastModifiedBy>rgruber</cp:lastModifiedBy>
  <cp:lastPrinted>2004-05-07T21:00:52Z</cp:lastPrinted>
  <dcterms:modified xsi:type="dcterms:W3CDTF">2004-06-09T18:24:46Z</dcterms:modified>
  <cp:revision>500</cp:revision>
  <dc:subject/>
  <dc:title>PowerPoint Presentation</dc:title>
</cp:coreProperties>
</file>