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2C2E-C993-41AB-A276-9EF0483E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DF5-4077-48F7-9220-E09F0271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A89-D1E0-41DB-9739-C2BE7DA3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4F92-F4F2-42C2-8E37-92A5083C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4F4-5BD8-47E9-90C5-BAC78346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9B13-9389-4C12-BCF8-E1D0E4A3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DDE9-2043-4264-8803-42DC5CBC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C48-FFB4-4F10-89C6-F90F2FD5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345-9AA1-41E7-8057-A3FE1712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15F-09F1-4A10-A4B5-955FFC6B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037-234D-4D3B-B8D2-F26E5E14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CE2B-CD0E-418A-AFD8-5BA3F338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1352-11DC-4C64-B851-E8B1F8FEE2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Protocol Revision </a:t>
            </a:r>
            <a:br>
              <a:rPr sz="5400"/>
            </a:b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Subcommitte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esentation to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RCOT Technical Advisory Committe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July 8, 200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s Withdraw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494 – Revise Forecasted Load Profile Post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511 – Clarification of PCR Elig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SCR System Prioritiz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CR 734 – CSA Report for CRs (1.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CR 735 – RRS Calculation for Hydro Units in Sychronous Condenser Mode (1.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o credit implications for either SC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50680" y="228600"/>
            <a:ext cx="564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Recommended TAC 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2040" y="1060560"/>
            <a:ext cx="8122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prov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479 (IDR Optional Removal Threshol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1 (A/S Revision to Down Balancing Require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14 (12 Month Window for Non-IDR Scal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15 (Disclosure of Local Conges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ffirm Rej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R 505 (Elimination of OOME Down Payme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R Priorit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 734  (CSA for C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 735  (RRS Calculation for Hydro – Sync Condens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RS Summa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4 PRRs for Appro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 PRRs for Rej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 PRRs Withdra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 SCRs Priorit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479 – IDR Optional Removal Threshol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manded by TAC to look at the difference between new and existing customers as well as other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reviewed the RMS-approved recommen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mended PRR allows IDR removals for settlement when the load is less than 150 kW/k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ests apply for new and existing custom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ustomer requesting removal can’t request new IDR installation for 12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479 – IDR Optional Removal Threshol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mended PRR provides that IDR used to separate NOIE load from CR load are exempt from the IDR requirement for purposes of retail customer settl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ior PRR allowed IDR removal without the 150 kW/kVa pro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OPC commented that the amended PRR was more restrictive than the original considered by T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479 – IDR Optional Removal Threshol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ome computer impacts possible; no staffing impact if approved per PRS recommendation; no credit impa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ffective upon system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01 – A/S Revision to Down Balancing Requiremen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R revised Down Balancing Requirement to account for Reg Down oblig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manded by TAC to consider ERCOT com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S recommendation incorporates ERCOT com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ome impact on documentation required; no other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upon update docu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14 – 12 Month Window for Non-IDR Scal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hanges timeframe used in data aggregation for non-IDR estimation when an Operating Day is not present in ERCOT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hange from 6 months to 12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light Lodestar impact; no other imp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upon system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 515 – Disclosure of Local Conges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ovides for disclosure of information for each unit receiving an OOMC deployment/OOME Dispatch Instru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lso discloses the transmission studies and transmission elements leading to OOM/RMR u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inimal staffing and business function impacts; some computer system imp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ffective upon system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PRRs with Rejection Recommend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RR 505 – Elimination of OOME Down Pay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03:13:47Z</dcterms:created>
  <dc:creator>i013996</dc:creator>
  <dc:description/>
  <dc:language>en-US</dc:language>
  <cp:lastModifiedBy>i013996</cp:lastModifiedBy>
  <dcterms:modified xsi:type="dcterms:W3CDTF">2004-07-08T16:51:00Z</dcterms:modified>
  <cp:revision>27</cp:revision>
  <dc:subject/>
  <dc:title>Protocol Revision  Subcommittee</dc:title>
</cp:coreProperties>
</file>