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CFA-2E4D-418C-A7AE-CEFA126F7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4B19-B39C-4128-87CA-D49333D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598F-6706-4B6C-A77E-D8BF39A8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7E7-1BD8-49FB-8463-6A0C6AF3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940A-4B0F-436E-9374-2237595C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BA6-EE8D-4293-AD65-5DDA5EA3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DF3B-77D1-471A-9077-8C02F0A37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4201-0BDE-4285-9EFB-EA43F418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A947-46DE-4079-981D-8A61909F2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842D-5CAC-4368-B983-7E8675B7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E523-B29D-498D-9C3C-1E0809F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7DB-C5A2-4731-81AB-C8D4CA74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A26E-AD4A-40B8-82F9-2E48CEA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F4DF-A5A9-40F5-8BFC-70DFA55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2A5A-40DC-44CD-A051-5068291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ACAD-06A6-473A-8A35-60248AD9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C6A6-61E9-4094-8237-ABBF1E487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E8F-2648-4028-B734-398020E2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A0E4-9D10-4271-9DFF-E4488327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9CD-AE00-42F8-AFA6-DC07DAC2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2D87-1458-4AD3-8551-5E5D9779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1C2-F836-4F85-9A37-62A64A7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828-C016-4A71-BED7-1C055E0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F2A-1963-445B-9FCF-196257A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729D-C9F4-4244-BDA3-4AC4C952A1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A6B9-8B44-454D-BF73-B60361B4FD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D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recommends that both credit and auction engine development for ADAM be completed by a 3rd party with the contingency that the issue of the collection of short pays be addressed. 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 motion was approved 3.25 (11) to 1.75 (4) with 6 abstentions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Staff is drafting a RFP for WMS inpu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SCR 735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ERCOT clearing engine does not account for hydro units operating in synchronous condenser mo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SCR would modify the clearing engine to allocate RRS according to the ERCOT Operating Guides to hydro units operating in synchronous condenser mod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CMW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perational approach to the McCamey Area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’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05 CSC determin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Hub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xt Mtg 8/11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ahoma"/>
              </a:rPr>
              <a:t>RMR Exit Strategy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WMS recommended that EROCT develop a PRR that allows for non-transmission alternatives to be considere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ERCOT will have the ability to obtain bilateral contracts for the service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Regional Planning Groups will review and comment on the proposal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ecff"/>
                </a:solidFill>
                <a:latin typeface="Tahoma"/>
              </a:rPr>
              <a:t>Ultimate approval will be by the ERCOT Board</a:t>
            </a: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Draft PRR out for WMS review with comments due 7/1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MS UPDAT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Additional Ite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wo day advance schedulin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ERCOT Staff and Stakeholders are reviewing how best to create the ability to submit schedules prior to the day-ahead require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01:57:05Z</dcterms:created>
  <dc:creator>BHELTON</dc:creator>
  <dc:description/>
  <dc:language>en-US</dc:language>
  <cp:lastModifiedBy>Bob Helton</cp:lastModifiedBy>
  <dcterms:modified xsi:type="dcterms:W3CDTF">2004-07-07T18:59:52Z</dcterms:modified>
  <cp:revision>22</cp:revision>
  <dc:subject/>
  <dc:title>WM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230595</vt:r8>
  </property>
  <property fmtid="{D5CDD505-2E9C-101B-9397-08002B2CF9AE}" pid="3" name="_AuthorEmail">
    <vt:lpwstr>BHELTON@anpower.com</vt:lpwstr>
  </property>
  <property fmtid="{D5CDD505-2E9C-101B-9397-08002B2CF9AE}" pid="4" name="_AuthorEmailDisplayName">
    <vt:lpwstr>Helton, Bob</vt:lpwstr>
  </property>
  <property fmtid="{D5CDD505-2E9C-101B-9397-08002B2CF9AE}" pid="5" name="_EmailSubject">
    <vt:lpwstr>WMS update</vt:lpwstr>
  </property>
  <property fmtid="{D5CDD505-2E9C-101B-9397-08002B2CF9AE}" pid="6" name="_PreviousAdHocReviewCycleID">
    <vt:r8>2011689915</vt:r8>
  </property>
</Properties>
</file>