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3F3E-1EF3-4889-A7F9-BAE02A906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E554-2B2C-4CF7-A657-BCB8BA061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E524-439A-4A48-AF3D-2A3B4C679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8B15-9842-4398-A002-2028C16B3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A6D5-169D-47D1-9B4B-79D7BF91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E855-AB35-41F4-8028-B000A744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9982-3F99-4571-AA3A-8779F7E4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A646-3607-48C1-B451-FBBCB214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743200" y="274680"/>
            <a:ext cx="6019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D773-89CD-4741-9F18-92D64A2D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A771-F3CE-4FFC-BB60-B4646260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52D3-AFB9-4144-ABF5-0B4165E0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970D-1FDF-4C72-9AB7-4CDBB01C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43200" y="274680"/>
            <a:ext cx="6019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1EE5-12A0-4B45-94EB-F1FDAABA2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0"/>
            <a:ext cx="2133720" cy="129528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RM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Upd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1219320"/>
            <a:ext cx="86868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July 8,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380520" y="24922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Retail Market Subcommittee</a:t>
            </a:r>
            <a:br>
              <a:rPr sz="5400"/>
            </a:b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Update to TA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66520" y="7596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ting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4920" y="2057400"/>
            <a:ext cx="6629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rmation of RMS Chair and Vice Chair for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ir – Tommy Weathersb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ce-chair – Amy McDona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MGRR 2004-006 – Retail Market Guide Revis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dural change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 control form enhan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fication procedure im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s published quarter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MS approval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666520" y="7596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ting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4920" y="2057400"/>
            <a:ext cx="6629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R 734 – CSA Report for C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s CRs with the ability to retrieve CSA data via ERCOT por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MGRR 2004-007 – Disconnect Reconnect Process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s that TAC made for R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-consid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s that were discussed at RMS meeting  resulting in an e-mail v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maining issues for Reconnect/Disconnect task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66520" y="7596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maining issues  for the Disconnect/Reconnect task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95280" y="1599840"/>
            <a:ext cx="6400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 and Disabled – New language is being developed to provide for TDSP Field exception to mitigated disconnection if the TDSP is made aware that a disconnect would worsen an ill or disabled situ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Business Days versus 5 calendar days – REPs must submit a move out to terminate service. Consideration for obligation to serve language continues to be developed and will be approved lat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ing consistent reporting for all market participants to comply with PUCT requirem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col and Texas SET changes must be developed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66520" y="75960"/>
            <a:ext cx="6324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MS Discussion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1905120"/>
            <a:ext cx="6400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5280" y="182880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 Coordination team (MIMO) is progressing through market test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ation calendar is comple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hanges by Market Participants to market reports and extracts are being communicat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st Flight 0504 is on time and expected to complete as schedul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R #479 – IDR Optional Removal Threshold was approved by RMS with two votes again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7814-CD8E-4588-8519-043FF581AF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4:01:50Z</dcterms:created>
  <dc:creator>CF48</dc:creator>
  <dc:description/>
  <dc:language>en-US</dc:language>
  <cp:lastModifiedBy>CF48</cp:lastModifiedBy>
  <dcterms:modified xsi:type="dcterms:W3CDTF">2004-07-07T21:10:29Z</dcterms:modified>
  <cp:revision>19</cp:revision>
  <dc:subject/>
  <dc:title>RMS Report to TAC 6/3/04</dc:title>
</cp:coreProperties>
</file>