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87149-7199-4A07-9774-F3CCFA07A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DAC92-666C-4059-BF6E-CEB505B0C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DC1F4-F199-4287-B527-7A25DEA6E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D4BBD-C5D8-4482-B7DF-8A432C536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6F7BA-FBA4-4251-AFC7-FC9578CE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AFBBC-1496-477B-B8EB-3E200E33A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83F9E-93C8-4217-9379-6B5CE341D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C9938-6859-4AFF-9733-003C145C75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36C0-E499-4D52-AB6E-D179A96A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B4BC5-9375-49AF-BFE1-1605BBC3C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768EE-ED4E-469E-B1B7-015C9F89C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471D-A405-43C0-B8A5-9A3CA91A3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72BB-4C6D-4721-95BD-01A6275B87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152280" y="76320"/>
            <a:ext cx="1828800" cy="982440"/>
          </a:xfrm>
          <a:prstGeom prst="rect">
            <a:avLst/>
          </a:prstGeom>
          <a:ln w="0">
            <a:noFill/>
          </a:ln>
        </p:spPr>
      </p:pic>
      <p:sp>
        <p:nvSpPr>
          <p:cNvPr id="6" name=""/>
          <p:cNvSpPr/>
          <p:nvPr/>
        </p:nvSpPr>
        <p:spPr>
          <a:xfrm>
            <a:off x="0" y="984240"/>
            <a:ext cx="9144000" cy="82440"/>
          </a:xfrm>
          <a:prstGeom prst="rect">
            <a:avLst/>
          </a:prstGeom>
          <a:gradFill rotWithShape="0">
            <a:gsLst>
              <a:gs pos="0">
                <a:srgbClr val="00475e"/>
              </a:gs>
              <a:gs pos="100000">
                <a:srgbClr val="0099cc"/>
              </a:gs>
            </a:gsLst>
            <a:lin ang="5400000"/>
          </a:gradFill>
          <a:ln w="0">
            <a:noFill/>
          </a:ln>
        </p:spPr>
        <p:style>
          <a:lnRef idx="0"/>
          <a:fillRef idx="0"/>
          <a:effectRef idx="0"/>
          <a:fontRef idx="minor"/>
        </p:style>
        <p:txBody>
          <a:bodyPr wrap="none" lIns="81360" rIns="81360" tIns="39960" bIns="39960" anchor="ctr">
            <a:noAutofit/>
          </a:bodyPr>
          <a:p>
            <a:pPr>
              <a:spcBef>
                <a:spcPts val="137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Commercial Operations Working Group</a:t>
            </a:r>
            <a:br>
              <a:rPr sz="4400"/>
            </a:br>
            <a:r>
              <a:rPr b="1" lang="en-US" sz="4400" spc="-1" strike="noStrike">
                <a:solidFill>
                  <a:srgbClr val="3333cc"/>
                </a:solidFill>
                <a:latin typeface="Times New Roman"/>
              </a:rPr>
              <a:t> Update to TAC</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1295280" y="46483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July 8, 200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6" name=""/>
          <p:cNvSpPr/>
          <p:nvPr/>
        </p:nvSpPr>
        <p:spPr>
          <a:xfrm>
            <a:off x="533520" y="2590920"/>
            <a:ext cx="8381880" cy="3591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400" spc="-1" strike="noStrike">
                <a:solidFill>
                  <a:srgbClr val="3333cc"/>
                </a:solidFill>
                <a:latin typeface="Times New Roman"/>
              </a:rPr>
              <a:t>Meeting held June 23, 2004 </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ved PRR 509 - ADR Changes, PRS will review on July 23</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e COPS Protocol Task Force will begin reviewing Protocol Chapter 9, Settlement and Billing.  This review will include looking at the current settlement timeline for opportunities to enhance the market process.</a:t>
            </a:r>
            <a:endParaRPr b="0" lang="en-US" sz="2400" spc="-1" strike="noStrike">
              <a:solidFill>
                <a:srgbClr val="000000"/>
              </a:solidFill>
              <a:latin typeface="Times New Roman"/>
            </a:endParaRPr>
          </a:p>
          <a:p>
            <a:pPr lvl="1" marL="457200">
              <a:lnSpc>
                <a:spcPct val="100000"/>
              </a:lnSpc>
              <a:spcBef>
                <a:spcPts val="1500"/>
              </a:spcBef>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cope documents are still being review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48" name=""/>
          <p:cNvSpPr/>
          <p:nvPr/>
        </p:nvSpPr>
        <p:spPr>
          <a:xfrm>
            <a:off x="380880" y="1066680"/>
            <a:ext cx="8382240" cy="6311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Settlement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omas Martin / Kenneth Ragsdal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ultiple Ancillary Market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odify Due Dates of QSE Invoice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tail for OOME Instructed Deviation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vestigate 15 min Resource Plan (EMMS 4.0)</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mplementation of PRR 451</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Data and Data Presentation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eonard Stanfield / Bill Kettlewell</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ssing Data Need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leanup of Data Present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pute Logg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0"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Operating Guide and Communications TF</a:t>
            </a:r>
            <a:r>
              <a:rPr b="1" lang="en-US" sz="2400" spc="-1" strike="noStrike">
                <a:solidFill>
                  <a:srgbClr val="000000"/>
                </a:solidFill>
                <a:latin typeface="Times New Roman"/>
              </a:rPr>
              <a:t>	</a:t>
            </a:r>
            <a:r>
              <a:rPr b="1" lang="en-US" sz="2400" spc="-1" strike="noStrike">
                <a:solidFill>
                  <a:srgbClr val="000000"/>
                </a:solidFill>
                <a:latin typeface="Times New Roman"/>
              </a:rPr>
              <a:t>Judy Briscoe / Ted Hailu</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munication Templates</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age Tracking</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uide Creation</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Ps Protocols and Review TF</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eAnn Walker / Jennifer Garcia</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ispute Proces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ttlement Timeline</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D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rket Protocols – Settlement Impa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PS Update </a:t>
            </a:r>
            <a:endParaRPr b="0" lang="en-US" sz="3200" spc="-1" strike="noStrike">
              <a:solidFill>
                <a:srgbClr val="000000"/>
              </a:solidFill>
              <a:latin typeface="Times New Roman"/>
            </a:endParaRPr>
          </a:p>
        </p:txBody>
      </p:sp>
      <p:sp>
        <p:nvSpPr>
          <p:cNvPr id="52" name=""/>
          <p:cNvSpPr/>
          <p:nvPr/>
        </p:nvSpPr>
        <p:spPr>
          <a:xfrm>
            <a:off x="380880" y="1523880"/>
            <a:ext cx="8382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R 509</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R Timel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ay 27  -   Overview of PRR to C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ne 14  -   Draft of PRR sent to C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ne 23  -   COPs considers PR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ly 1     -  Submit draft PRR to P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uly 23   -  PRS Meeting</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4T11:17:23Z</dcterms:created>
  <dc:creator>cpsc600</dc:creator>
  <dc:description/>
  <dc:language>en-US</dc:language>
  <cp:lastModifiedBy>Larry Grimm</cp:lastModifiedBy>
  <dcterms:modified xsi:type="dcterms:W3CDTF">2004-06-30T14:12:19Z</dcterms:modified>
  <cp:revision>79</cp:revision>
  <dc:subject/>
  <dc:title>Point-to-Point</dc:title>
</cp:coreProperties>
</file>