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DC18E-3169-44A1-A226-DB397612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580C7-873A-4E43-8E5B-050A0C4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B4F6-9CE7-4FC0-A48A-69EA01AD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A2DFB-43E9-43F5-87EB-7A3AD49B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BDAEF-1850-4CA9-BB23-A9B5A3A2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D0DB7-4F3C-4064-931A-D26C516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CAA34-163A-433E-BDD7-B238C38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B803F-62EB-4167-BACF-1A22526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3EA7-EDDD-40FD-AE27-463A888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3D297-1C60-4A06-9308-39760328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F19CF-11A9-4FA2-9AA0-CF923CA3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34283-14D9-4928-8286-5802DC2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2362320" cy="12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36232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1160" y="1143000"/>
            <a:ext cx="904320" cy="5715000"/>
            <a:chOff x="11160" y="1143000"/>
            <a:chExt cx="904320" cy="5715000"/>
          </a:xfrm>
        </p:grpSpPr>
        <p:sp>
          <p:nvSpPr>
            <p:cNvPr id="5" name=""/>
            <p:cNvSpPr/>
            <p:nvPr/>
          </p:nvSpPr>
          <p:spPr>
            <a:xfrm>
              <a:off x="258840" y="1506600"/>
              <a:ext cx="142920" cy="13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6440" y="151128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0"/>
                  </a:moveTo>
                  <a:lnTo>
                    <a:pt x="0" y="98"/>
                  </a:lnTo>
                  <a:lnTo>
                    <a:pt x="17" y="98"/>
                  </a:lnTo>
                  <a:lnTo>
                    <a:pt x="36" y="102"/>
                  </a:lnTo>
                  <a:lnTo>
                    <a:pt x="51" y="116"/>
                  </a:lnTo>
                  <a:lnTo>
                    <a:pt x="58" y="133"/>
                  </a:lnTo>
                  <a:lnTo>
                    <a:pt x="58" y="150"/>
                  </a:lnTo>
                  <a:lnTo>
                    <a:pt x="152" y="149"/>
                  </a:lnTo>
                  <a:lnTo>
                    <a:pt x="152" y="131"/>
                  </a:lnTo>
                  <a:lnTo>
                    <a:pt x="150" y="114"/>
                  </a:lnTo>
                  <a:lnTo>
                    <a:pt x="147" y="100"/>
                  </a:lnTo>
                  <a:lnTo>
                    <a:pt x="143" y="88"/>
                  </a:lnTo>
                  <a:lnTo>
                    <a:pt x="138" y="70"/>
                  </a:lnTo>
                  <a:lnTo>
                    <a:pt x="133" y="57"/>
                  </a:lnTo>
                  <a:lnTo>
                    <a:pt x="125" y="47"/>
                  </a:lnTo>
                  <a:lnTo>
                    <a:pt x="116" y="35"/>
                  </a:lnTo>
                  <a:lnTo>
                    <a:pt x="102" y="24"/>
                  </a:lnTo>
                  <a:lnTo>
                    <a:pt x="88" y="15"/>
                  </a:lnTo>
                  <a:lnTo>
                    <a:pt x="66" y="7"/>
                  </a:lnTo>
                  <a:lnTo>
                    <a:pt x="39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11880" y="1449720"/>
              <a:ext cx="249480" cy="250920"/>
            </a:xfrm>
            <a:prstGeom prst="triangle">
              <a:avLst>
                <a:gd name="adj" fmla="val 4999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880" y="1143000"/>
              <a:ext cx="289080" cy="230040"/>
            </a:xfrm>
            <a:prstGeom prst="triangle">
              <a:avLst>
                <a:gd name="adj" fmla="val 4999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040" y="1712880"/>
              <a:ext cx="149400" cy="514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7920" y="1771560"/>
              <a:ext cx="245880" cy="198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0"/>
                  </a:moveTo>
                  <a:lnTo>
                    <a:pt x="154" y="97"/>
                  </a:lnTo>
                  <a:lnTo>
                    <a:pt x="136" y="97"/>
                  </a:lnTo>
                  <a:lnTo>
                    <a:pt x="117" y="101"/>
                  </a:lnTo>
                  <a:lnTo>
                    <a:pt x="102" y="115"/>
                  </a:lnTo>
                  <a:lnTo>
                    <a:pt x="94" y="132"/>
                  </a:lnTo>
                  <a:lnTo>
                    <a:pt x="94" y="148"/>
                  </a:lnTo>
                  <a:lnTo>
                    <a:pt x="0" y="148"/>
                  </a:lnTo>
                  <a:lnTo>
                    <a:pt x="0" y="129"/>
                  </a:lnTo>
                  <a:lnTo>
                    <a:pt x="1" y="112"/>
                  </a:lnTo>
                  <a:lnTo>
                    <a:pt x="4" y="99"/>
                  </a:lnTo>
                  <a:lnTo>
                    <a:pt x="8" y="87"/>
                  </a:lnTo>
                  <a:lnTo>
                    <a:pt x="13" y="70"/>
                  </a:lnTo>
                  <a:lnTo>
                    <a:pt x="18" y="57"/>
                  </a:lnTo>
                  <a:lnTo>
                    <a:pt x="26" y="47"/>
                  </a:lnTo>
                  <a:lnTo>
                    <a:pt x="36" y="35"/>
                  </a:lnTo>
                  <a:lnTo>
                    <a:pt x="49" y="24"/>
                  </a:lnTo>
                  <a:lnTo>
                    <a:pt x="64" y="15"/>
                  </a:lnTo>
                  <a:lnTo>
                    <a:pt x="86" y="7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664200" y="1708200"/>
              <a:ext cx="247680" cy="253800"/>
            </a:xfrm>
            <a:prstGeom prst="triangle">
              <a:avLst>
                <a:gd name="adj" fmla="val 49995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2360" y="1771560"/>
              <a:ext cx="142920" cy="1303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6120" y="1963800"/>
              <a:ext cx="142920" cy="489420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920" y="1373040"/>
              <a:ext cx="144360" cy="54849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257680" y="6612480"/>
            <a:ext cx="885960" cy="24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d006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05/27/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06680" y="6669000"/>
            <a:ext cx="115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d006c"/>
                </a:solidFill>
                <a:latin typeface="Tahoma"/>
              </a:rPr>
              <a:t>© ERCOT 2004 </a:t>
            </a:r>
            <a:r>
              <a:rPr b="0" lang="en-US" sz="1000" spc="-1" strike="noStrike">
                <a:solidFill>
                  <a:srgbClr val="0d006c"/>
                </a:solidFill>
                <a:latin typeface="Tahoma"/>
              </a:rPr>
              <a:t>K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2280" y="152280"/>
          <a:ext cx="36576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36576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dt" idx="2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60" y="174600"/>
            <a:ext cx="168120" cy="605484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60" y="0"/>
            <a:ext cx="507960" cy="325440"/>
            <a:chOff x="52560" y="0"/>
            <a:chExt cx="507960" cy="325440"/>
          </a:xfrm>
        </p:grpSpPr>
        <p:sp>
          <p:nvSpPr>
            <p:cNvPr id="60" name=""/>
            <p:cNvSpPr/>
            <p:nvPr/>
          </p:nvSpPr>
          <p:spPr>
            <a:xfrm>
              <a:off x="52560" y="82800"/>
              <a:ext cx="179280" cy="16992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640" y="0"/>
              <a:ext cx="407880" cy="325440"/>
            </a:xfrm>
            <a:prstGeom prst="rightArrow">
              <a:avLst>
                <a:gd name="adj1" fmla="val 50000"/>
                <a:gd name="adj2" fmla="val 62671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52320" y="69840"/>
            <a:ext cx="8490240" cy="511200"/>
            <a:chOff x="652320" y="69840"/>
            <a:chExt cx="8490240" cy="511200"/>
          </a:xfrm>
        </p:grpSpPr>
        <p:sp>
          <p:nvSpPr>
            <p:cNvPr id="63" name=""/>
            <p:cNvSpPr/>
            <p:nvPr/>
          </p:nvSpPr>
          <p:spPr>
            <a:xfrm>
              <a:off x="652320" y="69840"/>
              <a:ext cx="8344080" cy="1634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831160" y="71280"/>
              <a:ext cx="311400" cy="509760"/>
              <a:chOff x="8831160" y="71280"/>
              <a:chExt cx="311400" cy="509760"/>
            </a:xfrm>
          </p:grpSpPr>
          <p:sp>
            <p:nvSpPr>
              <p:cNvPr id="65" name=""/>
              <p:cNvSpPr/>
              <p:nvPr/>
            </p:nvSpPr>
            <p:spPr>
              <a:xfrm>
                <a:off x="8901000" y="71280"/>
                <a:ext cx="165240" cy="17964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1160" y="169920"/>
                <a:ext cx="311400" cy="411120"/>
              </a:xfrm>
              <a:prstGeom prst="downArrow">
                <a:avLst>
                  <a:gd name="adj1" fmla="val 50000"/>
                  <a:gd name="adj2" fmla="val 66018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0" y="6283440"/>
            <a:ext cx="8488440" cy="512640"/>
            <a:chOff x="0" y="6283440"/>
            <a:chExt cx="8488440" cy="512640"/>
          </a:xfrm>
        </p:grpSpPr>
        <p:sp>
          <p:nvSpPr>
            <p:cNvPr id="68" name=""/>
            <p:cNvSpPr/>
            <p:nvPr/>
          </p:nvSpPr>
          <p:spPr>
            <a:xfrm>
              <a:off x="149400" y="6632640"/>
              <a:ext cx="8339040" cy="163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0" y="6283440"/>
              <a:ext cx="309600" cy="511200"/>
              <a:chOff x="0" y="6283440"/>
              <a:chExt cx="309600" cy="511200"/>
            </a:xfrm>
          </p:grpSpPr>
          <p:sp>
            <p:nvSpPr>
              <p:cNvPr id="70" name=""/>
              <p:cNvSpPr/>
              <p:nvPr/>
            </p:nvSpPr>
            <p:spPr>
              <a:xfrm>
                <a:off x="76320" y="6613560"/>
                <a:ext cx="164880" cy="1810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6283440"/>
                <a:ext cx="309600" cy="411120"/>
              </a:xfrm>
              <a:prstGeom prst="upArrow">
                <a:avLst>
                  <a:gd name="adj1" fmla="val 50000"/>
                  <a:gd name="adj2" fmla="val 66389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8569440" y="636480"/>
            <a:ext cx="507960" cy="6213600"/>
            <a:chOff x="8569440" y="636480"/>
            <a:chExt cx="507960" cy="6213600"/>
          </a:xfrm>
        </p:grpSpPr>
        <p:sp>
          <p:nvSpPr>
            <p:cNvPr id="73" name=""/>
            <p:cNvSpPr/>
            <p:nvPr/>
          </p:nvSpPr>
          <p:spPr>
            <a:xfrm>
              <a:off x="8908920" y="636480"/>
              <a:ext cx="168480" cy="6032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8569440" y="6526080"/>
              <a:ext cx="507960" cy="324000"/>
              <a:chOff x="8569440" y="6526080"/>
              <a:chExt cx="507960" cy="324000"/>
            </a:xfrm>
          </p:grpSpPr>
          <p:sp>
            <p:nvSpPr>
              <p:cNvPr id="75" name=""/>
              <p:cNvSpPr/>
              <p:nvPr/>
            </p:nvSpPr>
            <p:spPr>
              <a:xfrm>
                <a:off x="8897760" y="6599160"/>
                <a:ext cx="179640" cy="1684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69440" y="6526080"/>
                <a:ext cx="407880" cy="324000"/>
              </a:xfrm>
              <a:prstGeom prst="leftArrow">
                <a:avLst>
                  <a:gd name="adj1" fmla="val 50000"/>
                  <a:gd name="adj2" fmla="val 62938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DFW RMR Analysis</a:t>
            </a:r>
            <a:br>
              <a:rPr sz="3600"/>
            </a:b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TAC Briefing</a:t>
            </a:r>
            <a:br>
              <a:rPr sz="3600"/>
            </a:b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June 3, 2004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80880" y="4648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ERCOT Transmission Service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RMR REVIEW GOAL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18800" y="1638360"/>
            <a:ext cx="79405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Maintain reliable service to customers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RCOT Planning Criteria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NERC Planning Standards and Guidelines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Good Utility Practice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urrently in compliance with criteria by dispatching generation when needed to maintain security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39480" indent="-33948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Determine is TXU units qualify for RMR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Rivercrest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110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North Main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  80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Parkdale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327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Morgan Creek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136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agle Mountain 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665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-282960"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Collin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153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Total</a:t>
            </a: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         1471 MW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RECOMMENDA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009800" y="1674720"/>
            <a:ext cx="797400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May 7, 2004 Determin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Rivercrest, North Main and Morgan Creek are not required for RM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May 27, 2004 De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Collin and Parkdale generation plants are not required for RM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Eagle Mountain qualifies for RMR service</a:t>
            </a: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M is needed to increase voltage stability margin on Northwest side of DF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EM is needed to facilitate construction/maintenance of the transmission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Long term generation or 345/138 kV autotransformer outages major conc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06c"/>
                </a:solidFill>
                <a:latin typeface="Tahoma"/>
              </a:rPr>
              <a:t>RAPs to eliminate EM are not recommen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HOW MANY UNIT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1054080" y="1760400"/>
            <a:ext cx="7554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ree units exist at Eagle Moun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Unit 1: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115 MW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in-service Jul, 19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Unit 2: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175 MW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in-service Dec, 19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Unit 3: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375 MW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d006c"/>
                </a:solidFill>
                <a:latin typeface="Tahoma"/>
              </a:rPr>
              <a:t>in-service Jun, 19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Unit 3 is prefer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Units 1 and 2 being 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ERCOT will work with TXU Energy on a plan that maintains units available while minimizing RMR and OOM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NEXT STEPS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17720" y="1674720"/>
            <a:ext cx="7962840" cy="30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ERCOT to post final study results and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ERCOT to finalize RAPs for Collin and Parkd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uggestions on options to be examined for “Exit Strategies” (solutions) due Friday 6/11/0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ontinue work on Garland RMR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ERCOT to begin negotiations for RMR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ERCOT to develop RMR Exit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22:29:49Z</dcterms:created>
  <dc:creator/>
  <dc:description/>
  <dc:language>en-US</dc:language>
  <cp:lastModifiedBy/>
  <dcterms:modified xsi:type="dcterms:W3CDTF">2004-06-01T21:53:25Z</dcterms:modified>
  <cp:revision>434</cp:revision>
  <dc:subject/>
  <dc:title>GENERATION INTER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43360447</vt:r8>
  </property>
</Properties>
</file>