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882-6280-466B-80B3-0A8ED086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4F0-8BCB-4E06-902D-49AADECC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B78-16B5-4CD8-AD7B-CA5360B7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912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14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912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14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FB6-2D5B-4C2C-955D-549DB940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11A-5C74-4596-A20D-F75B5361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EF5-867E-40FF-AF15-F8EEA55D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57E-D82B-4670-9414-B22B4DD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E5E-5A18-4F87-9EBE-133720A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051-5EA4-4EF3-AECA-D47D7221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9F0-2384-4A06-A6D0-2CD3327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0E3-887E-4FA7-9021-F196233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E4A-E29A-4568-AC9F-A23B8CFC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6310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126200" y="306360"/>
            <a:ext cx="1600200" cy="86220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4E27-7969-43C7-A301-F64325952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479160" y="1185840"/>
            <a:ext cx="663732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8960" y="1224000"/>
            <a:ext cx="863136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526572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177624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8600" y="1928880"/>
            <a:ext cx="8169120" cy="200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es RMR Exi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rontera Altern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liminary Economic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0600" y="5692680"/>
            <a:ext cx="262512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 Wood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, Resource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53720" y="4443480"/>
            <a:ext cx="1666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/3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Alternatives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 RMR Contract with Bates (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nchronous Tie with CFE and emergency service contract (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type of arrangement with Frontera to forego option of selling to CFE and make available for OOM (more info on Prerequisites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Upgrades (2009?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articip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requisites for Frontera Op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s necessary to allow release of Bates 1 on 69kV system must be comple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ly scheduled to be complete Dec ’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 changes must be implemented to allow settlement of any special contract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erformance obligations and criteria must be met by Front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arket model to forecast for each hou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ancing Energy Market Pr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rly production level in bilateral/balancing energy market for Frontera and B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processing data in order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te OOMC and OOME (net of balancing energy) for Fronte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R Costs (net of BENA credit) for Bat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ar analyzed 2005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cases each year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s RMR as i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s without RMR and ret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Frontera agreed to make plant available for OOM, such that Bates could be released from RMR contract, the cost basis exists for ERCOT market to save uplift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es forecast uneconomic uplift is comparable to 2003 historic upli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1960" y="1417680"/>
            <a:ext cx="8169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OME and OOMC payment to Frontera may change due to load level and shape, bilateral schedule, and fuel p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s assume that Frontera is self-committed whenever it is economic in the Balancing Energy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s did not incorporate planned transmission ou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RCOT switches to nodal market, OOME and OOMC pricing may no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assumes Frontera is not under an RM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m of arrangement and analysis against other options needs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1960" y="1417680"/>
            <a:ext cx="8169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ution of non-transmission policy issues and protoco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against other options needs to b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4:08:10Z</dcterms:created>
  <dc:creator>dwoodfin</dc:creator>
  <dc:description/>
  <dc:language>en-US</dc:language>
  <cp:lastModifiedBy>dwoodfin</cp:lastModifiedBy>
  <dcterms:modified xsi:type="dcterms:W3CDTF">2004-05-27T20:15:37Z</dcterms:modified>
  <cp:revision>64</cp:revision>
  <dc:subject/>
  <dc:title>Defaul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92579385</vt:r8>
  </property>
  <property fmtid="{D5CDD505-2E9C-101B-9397-08002B2CF9AE}" pid="3" name="_AuthorEmail">
    <vt:lpwstr>bbojorquez@ercot.com</vt:lpwstr>
  </property>
  <property fmtid="{D5CDD505-2E9C-101B-9397-08002B2CF9AE}" pid="4" name="_AuthorEmailDisplayName">
    <vt:lpwstr>Bojorquez, Bill</vt:lpwstr>
  </property>
  <property fmtid="{D5CDD505-2E9C-101B-9397-08002B2CF9AE}" pid="5" name="_EmailSubject">
    <vt:lpwstr>Today's Presentations</vt:lpwstr>
  </property>
  <property fmtid="{D5CDD505-2E9C-101B-9397-08002B2CF9AE}" pid="6" name="_PreviousAdHocReviewCycleID">
    <vt:r8>-1803893956</vt:r8>
  </property>
  <property fmtid="{D5CDD505-2E9C-101B-9397-08002B2CF9AE}" pid="7" name="_ReviewingToolsShownOnce">
    <vt:lpwstr/>
  </property>
</Properties>
</file>