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1CC-6698-47C5-AC00-A3C140D0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031-5DF4-4A0B-8136-39ACE0D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85F-7E05-4A07-8825-15BE6D6F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358-C0B2-44B9-A273-F7CF9483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77B-0899-4A32-A53C-D08538E7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F5E-EB06-40C4-943F-E7F1DD9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AD2-08E6-4BC2-8034-F9F896F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9A1-5261-4DE1-93E1-9EBD37A7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020-3751-4149-9DD0-081901F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E70-5FA4-4366-984D-642C3B8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493-F1E8-4CCB-995D-49B0127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FE9-850B-47A0-8A2F-E8B1A0C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6BC-9DAC-4C36-A9C5-1D07920D5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une 3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7 – RMR Process Enhancem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clarification of RMR decision timeline and generator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ddresses eligible costs related to capital expenditures allowed and not a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a single process for all generation shut downs, regardless of whether they ask for RMR status or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view conducted at TAC’s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may require future consultant time, no operations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R 507 – RMR Process Enhanc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760" y="4343400"/>
            <a:ext cx="4038480" cy="30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440" y="464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364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32800" y="464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760" y="1981080"/>
            <a:ext cx="2895480" cy="1219320"/>
          </a:xfrm>
          <a:prstGeom prst="wedgeRectCallout">
            <a:avLst>
              <a:gd name="adj1" fmla="val -49287"/>
              <a:gd name="adj2" fmla="val 139712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provides notice 90 days prior to ceasing operations (60 days on RMR renew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440" y="5715000"/>
            <a:ext cx="1752480" cy="990720"/>
          </a:xfrm>
          <a:prstGeom prst="wedgeRectCallout">
            <a:avLst>
              <a:gd name="adj1" fmla="val 24819"/>
              <a:gd name="adj2" fmla="val -11875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initial needs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9720" y="3352680"/>
            <a:ext cx="2895840" cy="685800"/>
          </a:xfrm>
          <a:prstGeom prst="wedgeRectCallout">
            <a:avLst>
              <a:gd name="adj1" fmla="val -15078"/>
              <a:gd name="adj2" fmla="val 8726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prepares pricing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06760" y="5715000"/>
            <a:ext cx="1752480" cy="990720"/>
          </a:xfrm>
          <a:prstGeom prst="wedgeRectCallout">
            <a:avLst>
              <a:gd name="adj1" fmla="val 49458"/>
              <a:gd name="adj2" fmla="val -120351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final needs 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886200"/>
            <a:ext cx="1306440" cy="1214280"/>
          </a:xfrm>
          <a:prstGeom prst="diamond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40320" y="5675400"/>
            <a:ext cx="2590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or c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59240" y="2743200"/>
            <a:ext cx="2057400" cy="30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90200" y="3048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26080" y="202572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faith negot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 available for O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2286000"/>
            <a:ext cx="1768320" cy="1214280"/>
          </a:xfrm>
          <a:prstGeom prst="diamond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eemen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07360" y="3505320"/>
            <a:ext cx="0" cy="2209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21360" y="51055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21360" y="6172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121360" y="30481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3640" y="3389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51400" y="53341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05720" y="3733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99920" y="1636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407360" y="182880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07360" y="182880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8760" y="1843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0 – Remove PIP 134 &amp; 158 Boxed Languag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IP 134 – Required distribution of System and Zonal load forecast through messag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IP 158 – Added info to dispatch instru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sistent low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2 – OOMC &amp; OOME of Laa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rgent Status previously gra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manded by TAC to clarify settlement calculation and verifiable cost language related to La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computer system, staffing, business function or operations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3 – Verification of Operational Model after Recurring Local Cong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ecifies communication between ERCOT and TDSPs when local congestion occurs on a repeated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munications are to ascertain whether the operational model i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ERCOT staff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acts control room operators slightly, operations requires 0.5 FTE for analysis purposes, no impacts to computer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9 – ERCOT &amp; TDSP Acceptance of Customer Cancellation of Switch Reques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– MIMO 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rifies “business” days instead of calendar days related to ERCOT/TDSP cancel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forms to actual market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, staffing, business function or operations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 Rejection Recommend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95 – Effective of Short Payments Owed on 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98 – Exclusion of Payment for Black Start Service from Short Payment Ob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8 – Date of Congestion Zon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draw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3 – Section 8 Coordination of Resource Outage Due to T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16 – Curtailment Prioritization for Wind Gen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680" y="1060560"/>
            <a:ext cx="8396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r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502 – Aggregation of CCGTs Providing 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519 – ERCOT/TDSP – Customer Switch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 513 – Verification of Operation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76 (Ramp Rate Adher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9 (Eliminate Fuel Shortage Not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0 (OOME Down Payments – Verifiable Co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1 (A/S Revision to Down Balancing Requir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2 (Aggregation of CCGTs Providing R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4 (Resource Derating Clarific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7 (RMR Process Enhance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0 (Remove PIP 134 &amp; 158 Boxed Langua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2 (OOMC/OOME of La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3 (Verification of Operational Mod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9 (ERCOT/TDSP – Customer Switch Reque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680" y="1060560"/>
            <a:ext cx="72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irm Re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5 (EFX of Short Payment on E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98 (Exclusion of Black Start from Short-P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8 (Date of Congestion Zone Chan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 PRR for Urgent Stat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1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 PRRs for Re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PRRs With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te that a PRR substantially revising Section 21 was submitted June 2 – initial review will be at the June PRS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76 – Ramp Rate Adherence During Local Cong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previously gra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rifies that ERCOT dispatch instructions will adhere to, and not exceed the ramp rates in a QSE’s Resource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determination of system requirements and scheduling – earliest implementation would be EMMS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MMS 3 incorporates ramp rate and SCADA data into dispatch instructions, PRR 499 refines that for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mpact analysis depends on market input f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99 – Eliminate Fuel Shortage Noti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iminates reference to “fuel curtailments” as a reason for either an Operational Condition Notice or an Advis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tains ERCOT’s ability to issue an emergency notice for reasons including fuel shor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staffing or business function impacts, does impact Operating Guides, operating procedures and training, no credit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0 – OOME Down Payments –Verifiable Co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pplies verifiable cost recovery to OOME and ZOOME Down pay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ecifically adds “fixed energy rates” from PPAs as a verifiabl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quires 1 unbudgeted FTE for settlement; minor business function impacts to add new process; no operational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1 – A/S Revision to Down Balanc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anges Protocols to account for Regulation Down as part of the Down Balancing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comments raise three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s recommended, PRR 501 does not integrate with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§4.5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counting for BES Down “will be impossible” because Regulation is portfolio based and BES is z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cerned that OOMC instructions could cause over-commitment of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1 – A/S Revision to Down Balanc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RCOT has submitted language in comments to TAC addressing the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commendation – Effective approximately 1 month after BOD appro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erations risk cited – may be a “slight increase in the risk of running out of Down Balanc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other impacts on computer systems, staffing or business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2 – Aggregation of CCGTs Providing R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rgent Status – Received at May P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lows RRS obligations awarded to CCGTs to be aggregated for all units in a block for compliance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results from CEDI TF meeting on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; could be EMMS 4(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mputer system impacts, no staffing impacts, some impact on training and monitoring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4 – Resource Derating Clar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fines “material” derating as a reduction of 10% of capability or 10 M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pability is the lesser of seasonal net capability or the asset registration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July 1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computer system impacts, no staffing impacts, provides potential operations improvement, minor business function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06-02T23:05:43Z</dcterms:modified>
  <cp:revision>21</cp:revision>
  <dc:subject/>
  <dc:title>Protocol Revision  Subcommittee</dc:title>
</cp:coreProperties>
</file>