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FAA7-AD9F-4AD1-A3DF-34297E27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811D-29F1-49F6-AB75-2F8F1091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CDB2-D036-42BB-8547-27A350A4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0799-5286-48EF-B707-F2F7CF13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7207-48EF-4B60-923D-866CFC79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DFEC-343E-4385-9D7A-9EA3BB96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8930-0EE7-4F56-A876-EBD68C64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8C69-9535-4F04-AADD-2BD3C945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6CC2-7CC5-4AA4-81E9-CC243D58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28C3-1289-4578-BC0A-BE117076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869A-1FB9-4510-B41F-453DB1E4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52FE-10BE-42CB-A39D-8F643B26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14CC-CFD2-446A-BF05-3F3B2713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E9DD-7FE2-4B59-AD80-F9653F42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74A9-6D16-4584-B0A0-F833AAD1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85AC-CDD2-4CF4-B0AD-EA5B0776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2699-648A-410F-916C-F1D45688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8C80-A030-44B3-B191-9E0EE476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2D34-2EDB-4F57-8FF0-ECDBA3A7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AE4B-99A6-40C3-85EA-154A62B5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434-E311-4A53-AA68-DB873766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5E44-C3BA-4619-8B9F-C6A767F1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5EEC-DF0E-4A64-9567-AD042A95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CD40-3C56-4A14-92F5-F01B23AA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AFF6-AA40-4BDA-BE32-CC25C65181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6910-317D-4739-9DB8-1F965D9612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94940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Proposed Market Solution </a:t>
            </a: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for </a:t>
            </a:r>
            <a:br>
              <a:rPr sz="4800"/>
            </a:b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Bates RMR Exit Strategy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rontera Power St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1b60f"/>
                </a:solidFill>
                <a:latin typeface="Arial"/>
              </a:rPr>
              <a:t>Should ERCOT Delay Further Development of the Frontera Proposal?</a:t>
            </a:r>
            <a:endParaRPr b="0" lang="en-US" sz="3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queness of propo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non-transmission altern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ing Frontera generation alternative is unique in ERCOT for RMR Exit Strate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150 MW CT is essentially new capacity to ERCOT for planning purpo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ERCOT analysis is positive then delay is preventing implementation of potentially, a much more cost effective solution to the near term SW Valley congestion proble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the new PRR policy issues justify delay?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Questions?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Frontera Proposal – Presentation Outline 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ation of the Frontera alternative to the Bates RM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“market solution” (Greg Ramon, Juan Vill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COT presentation of its modeling efforts and analysis of the Frontera proposal to assess the technical and economical feasibility of the proposal (Dan Woodfi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ussion question: Does ERCOT have to delay further development of the Frontera proposal until the new PRR on non-transmission alternatives has been implemented? (Greg Ramon, Bill Bojorquez, TA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1b60f"/>
                </a:solidFill>
                <a:latin typeface="Arial"/>
              </a:rPr>
              <a:t>Frontera Plant Background</a:t>
            </a:r>
            <a:r>
              <a:rPr b="0" lang="en-US" sz="4800" spc="-1" strike="noStrike" u="sng">
                <a:solidFill>
                  <a:srgbClr val="f1b60f"/>
                </a:solidFill>
                <a:uFillTx/>
                <a:latin typeface="Arial"/>
              </a:rPr>
              <a:t> 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19807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Purchased by TECO in March 2001 in the CSW/AEP Merge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ocated in Mission, Texas  (Mc Allen Area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"/>
              </a:rPr>
              <a:t>next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to the Bates Plan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450 MW Output – GE Combined Cycle  2 x 1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ommercial Operation - May 1999/2000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C Tie with Mexico at 138 kV allows 150 MW of transfer (one CT)</a:t>
            </a:r>
            <a:r>
              <a:rPr b="0" lang="en-US" sz="21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Bates RMR Exit Strategy Background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1b60f"/>
                </a:solidFill>
                <a:uFillTx/>
                <a:latin typeface="Arial"/>
              </a:rPr>
              <a:t>Current Recommend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b60f"/>
                </a:solidFill>
                <a:latin typeface="Arial"/>
              </a:rPr>
              <a:t>Build DC Tie with Mexic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b60f"/>
                </a:solidFill>
                <a:latin typeface="Arial"/>
              </a:rPr>
              <a:t>Continue Bates RMR until DC Tie is available (Q4 - 2006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1b60f"/>
                </a:solidFill>
                <a:uFillTx/>
                <a:latin typeface="Arial"/>
              </a:rPr>
              <a:t>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b60f"/>
                </a:solidFill>
                <a:latin typeface="Arial"/>
              </a:rPr>
              <a:t>Bates modeled 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b60f"/>
                </a:solidFill>
                <a:latin typeface="Arial"/>
              </a:rPr>
              <a:t>Frontera modeled 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b60f"/>
                </a:solidFill>
                <a:latin typeface="Arial"/>
              </a:rPr>
              <a:t>One CT </a:t>
            </a:r>
            <a:r>
              <a:rPr b="0" lang="en-US" sz="2000" spc="-1" strike="noStrike" u="sng">
                <a:solidFill>
                  <a:srgbClr val="f1b60f"/>
                </a:solidFill>
                <a:uFillTx/>
                <a:latin typeface="Arial"/>
              </a:rPr>
              <a:t>out</a:t>
            </a:r>
            <a:r>
              <a:rPr b="0" lang="en-US" sz="2000" spc="-1" strike="noStrike">
                <a:solidFill>
                  <a:srgbClr val="f1b60f"/>
                </a:solidFill>
                <a:latin typeface="Arial"/>
              </a:rPr>
              <a:t> supplying to Mexico (150M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b60f"/>
                </a:solidFill>
                <a:latin typeface="Arial"/>
              </a:rPr>
              <a:t>Second CT </a:t>
            </a:r>
            <a:r>
              <a:rPr b="0" lang="en-US" sz="2000" spc="-1" strike="noStrike" u="sng">
                <a:solidFill>
                  <a:srgbClr val="f1b60f"/>
                </a:solidFill>
                <a:uFillTx/>
                <a:latin typeface="Arial"/>
              </a:rPr>
              <a:t>out</a:t>
            </a:r>
            <a:r>
              <a:rPr b="0" lang="en-US" sz="2000" spc="-1" strike="noStrike">
                <a:solidFill>
                  <a:srgbClr val="f1b60f"/>
                </a:solidFill>
                <a:latin typeface="Arial"/>
              </a:rPr>
              <a:t> on first Contingency (150MW),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b60f"/>
                </a:solidFill>
                <a:latin typeface="Arial"/>
              </a:rPr>
              <a:t>The ST </a:t>
            </a:r>
            <a:r>
              <a:rPr b="0" lang="en-US" sz="2000" spc="-1" strike="noStrike" u="sng">
                <a:solidFill>
                  <a:srgbClr val="f1b60f"/>
                </a:solidFill>
                <a:uFillTx/>
                <a:latin typeface="Arial"/>
              </a:rPr>
              <a:t>out</a:t>
            </a:r>
            <a:r>
              <a:rPr b="0" lang="en-US" sz="2000" spc="-1" strike="noStrike">
                <a:solidFill>
                  <a:srgbClr val="f1b60f"/>
                </a:solidFill>
                <a:latin typeface="Arial"/>
              </a:rPr>
              <a:t> without either CT generating (150M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b60f"/>
                </a:solidFill>
                <a:latin typeface="Arial"/>
              </a:rPr>
              <a:t>Thus Bates and the total Frontera plant is modeled out for reliability purposes and consequently the DC Tie has been identified as a  transmission solution to resolve resulting transmission problems and to allow for the removal of the Bates RMR con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Bates RMR Exit Strategy Background (Contd)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b60f"/>
                </a:solidFill>
                <a:latin typeface="Arial"/>
              </a:rPr>
              <a:t>Under this assumption and until the 345 kV loop is completed in 2008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b60f"/>
                </a:solidFill>
                <a:latin typeface="Arial"/>
              </a:rPr>
              <a:t>Bates RMR continues @ $20.0 Million/year (2004 - 200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b60f"/>
                </a:solidFill>
                <a:latin typeface="Arial"/>
              </a:rPr>
              <a:t>DC Tie with Mexico @ $ XX Million/year     (2006-200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Potential Benefits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ntera could provide immediate service in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ntera could replace Bates RMR and DC Ti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ntera may postpone the 345 kV Valley 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1b60f"/>
                </a:solidFill>
                <a:latin typeface="Arial"/>
              </a:rPr>
              <a:t>Potential Solution (How ?)</a:t>
            </a:r>
            <a:endParaRPr b="0" lang="en-US" sz="29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ntera agrees to forego sales into Mexico to change underlying assumptions – 225 MW remains in ERCOT even upon first Conting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COT and Frontera agree on technical requirements (scheduling requirements, communications, ramping rates, outage coordination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ntera runs economically - “market based solution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COT OOM Frontera OOM Vs. Bates RM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RCOT Modeling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should consider plant dispatch and schedule for transmission upgrades in the reg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ify frequency and magnitude of OOM deployment for Frontera,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potential cost of deployment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1b60f"/>
                </a:solidFill>
                <a:latin typeface="Arial"/>
              </a:rPr>
              <a:t>Potential Savings – At Least Two Options</a:t>
            </a:r>
            <a:endParaRPr b="0" lang="en-US" sz="29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1580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1b60f"/>
                </a:solidFill>
                <a:latin typeface="Arial"/>
              </a:rPr>
              <a:t>1.</a:t>
            </a:r>
            <a:r>
              <a:rPr b="0" lang="en-US" sz="2100" spc="-1" strike="noStrike">
                <a:solidFill>
                  <a:srgbClr val="f1b60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1b60f"/>
                </a:solidFill>
                <a:latin typeface="Arial"/>
              </a:rPr>
              <a:t>Sharing of Savings on Uplifted Costs (50/50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ffffff"/>
                </a:solidFill>
                <a:uFillTx/>
                <a:latin typeface="Arial"/>
              </a:rPr>
              <a:t>Example: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For Discussion Purpo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8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Bates Projected Costs: $20.0 M/y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358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rontera Forced Deployments: $10.0 M/y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358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avings: $10.0 M/yr shared 50/5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358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avings in Uplifted Costs: $5.0 M/yr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35840" indent="-35172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1b60f"/>
                </a:solidFill>
                <a:latin typeface="Arial"/>
              </a:rPr>
              <a:t>Settlements proposed to be based on </a:t>
            </a:r>
            <a:r>
              <a:rPr b="0" lang="en-US" sz="1700" spc="-1" strike="noStrike" u="sng">
                <a:solidFill>
                  <a:srgbClr val="f1b60f"/>
                </a:solidFill>
                <a:uFillTx/>
                <a:latin typeface="Arial"/>
              </a:rPr>
              <a:t>actual costs</a:t>
            </a:r>
            <a:r>
              <a:rPr b="0" lang="en-US" sz="1700" spc="-1" strike="noStrike">
                <a:solidFill>
                  <a:srgbClr val="f1b60f"/>
                </a:solidFill>
                <a:latin typeface="Arial"/>
              </a:rPr>
              <a:t> at end-of-month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1b60f"/>
                </a:solidFill>
                <a:latin typeface="Arial"/>
              </a:rPr>
              <a:t>Fixed Cost Opt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840" indent="-351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ucture a fixed price with savings to upli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84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1b60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1b60f"/>
                </a:solidFill>
                <a:latin typeface="Arial"/>
              </a:rPr>
              <a:t>Additional Potential Benefi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840" indent="-3517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oidance of DC Tie, Delay of 345 kV loop, additional Bates upgrades/mainten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20:56:47Z</dcterms:created>
  <dc:creator>jcvilla</dc:creator>
  <dc:description/>
  <dc:language>en-US</dc:language>
  <cp:lastModifiedBy>Greg Ramon</cp:lastModifiedBy>
  <dcterms:modified xsi:type="dcterms:W3CDTF">2004-05-27T17:10:39Z</dcterms:modified>
  <cp:revision>105</cp:revision>
  <dc:subject/>
  <dc:title>Market Solution</dc:title>
</cp:coreProperties>
</file>