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EB1-4FBF-4EDF-8E6F-54C877EE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7B1-A494-4297-B916-E090838B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02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DF6-2289-48E4-9F27-D8BE9D42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889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6880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889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6880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A07-F730-41B3-AEC3-854E0BFD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CAEF-AE49-448C-A73A-E3D92BB1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3766-9FB5-4AAC-91F2-96DA7556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5FCA-FDD3-4282-838E-9FA6DBDA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08C5-1378-4307-AA23-2E842C4C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D5E2-40C0-4B9A-B69A-84F09754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EBA0-F863-4ADF-868D-D28A00C2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CA03-5711-466C-809A-5B782B2B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E08-B8E0-42DE-8768-5EEE41B5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96C5-710C-42B6-AA28-41401DA7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402F-C817-458E-9E0A-9191637D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5664-00CE-4997-ADBA-BD4EB92C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5484-837D-4F06-92BB-3461470C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889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880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889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880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3342-E3C2-4D49-ABEA-0530928E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829-2EB7-4C8E-AFD3-3A155D1E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DF1-02AE-43BB-890A-BD80FE44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096-F722-40C3-9392-28180E59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72B-5AEA-4535-A9D9-970293DA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11D-F607-49A6-A0FB-BA4B183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02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8D0-522E-4470-BECD-F13E7D9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17B-64D3-4184-B2EB-5A82C5C3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BAB6-1337-4CF7-90C1-38BBD434DA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E768-50A8-408A-8B9B-F88BA20BA9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2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on-Transmission Alternative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o Reduce Local Congestion Cost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50292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ll Bojorquez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une 3, 200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946E-FB0E-4900-9B54-24CA7275F1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Miscellaneous comments from RMR Task Force meeting attendees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57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should not be interfering with the Market.  Bilateral agreements for non-T solutions should be stop gap measures on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should review the market design before considering the LT contract opti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RCOT should look at the best alternatives – if it means placing generation in the Valley in lieu of transmission to the Valley – ERCOT should consider i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rchant transmission options would also require significant market design and regulatory changes – do not consider at this 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one is opposed to conservation, but it is very difficult to incorporate in Protocols as an alternative to transmission, requires LT implementation, and may delay completing the rules and Protoco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1FD-4CE2-4280-A735-2431C8A382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Decision tree on issues relating to non-Transmission alternatives</a:t>
            </a: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1895400"/>
            <a:ext cx="2511720" cy="170496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 What i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echanism fo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implementing non-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“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local congestion”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st reduction</a:t>
            </a: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752480"/>
            <a:ext cx="2057400" cy="197964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 Should non-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lternativ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consider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duce loc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ngestion cost</a:t>
            </a: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680" y="4648320"/>
            <a:ext cx="13716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dify protocols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move non-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lternatives revie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0960" y="3591000"/>
            <a:ext cx="19051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arket Design Changes,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.g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- Locational ICA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- Locational Reserv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- Scarcity Pricin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- or Others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2514600"/>
            <a:ext cx="5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76720" y="1905120"/>
            <a:ext cx="1247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later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ntrac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it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RCO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1" idx="2"/>
            <a:endCxn id="232" idx="0"/>
          </p:cNvCxnSpPr>
          <p:nvPr/>
        </p:nvCxnSpPr>
        <p:spPr>
          <a:xfrm flipV="1" rot="10800000">
            <a:off x="1256760" y="3731760"/>
            <a:ext cx="1080" cy="91692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1295280" y="3809880"/>
            <a:ext cx="5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0" idx="3"/>
            <a:endCxn id="239" idx="1"/>
          </p:cNvCxnSpPr>
          <p:nvPr/>
        </p:nvCxnSpPr>
        <p:spPr>
          <a:xfrm flipV="1">
            <a:off x="5178600" y="2743920"/>
            <a:ext cx="444960" cy="3960"/>
          </a:xfrm>
          <a:prstGeom prst="bentConnector3">
            <a:avLst>
              <a:gd name="adj1" fmla="val 49959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990720" y="1295280"/>
            <a:ext cx="533160" cy="2286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STAR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2"/>
            <a:endCxn id="231" idx="0"/>
          </p:cNvCxnSpPr>
          <p:nvPr/>
        </p:nvCxnSpPr>
        <p:spPr>
          <a:xfrm flipV="1" rot="10800000">
            <a:off x="1256760" y="1523520"/>
            <a:ext cx="1080" cy="22932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2666880" y="4790520"/>
            <a:ext cx="2514600" cy="10954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rough ERCOT committee structure, select and evaluate preferred market design alternative and develop recommendations and protocol chang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22840" y="2014560"/>
            <a:ext cx="2206800" cy="146052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3. What is mechanism to obtain bilateral contracts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90080" y="2138040"/>
            <a:ext cx="625320" cy="2584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“A”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46880" y="4239360"/>
            <a:ext cx="2358720" cy="219132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4. Should bilateral contracts be used to solve current/ST problems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31" idx="3"/>
            <a:endCxn id="230" idx="1"/>
          </p:cNvCxnSpPr>
          <p:nvPr/>
        </p:nvCxnSpPr>
        <p:spPr>
          <a:xfrm>
            <a:off x="2286000" y="2742840"/>
            <a:ext cx="381600" cy="5400"/>
          </a:xfrm>
          <a:prstGeom prst="bentConnector3">
            <a:avLst>
              <a:gd name="adj1" fmla="val 4995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9" idx="3"/>
            <a:endCxn id="243" idx="2"/>
          </p:cNvCxnSpPr>
          <p:nvPr/>
        </p:nvCxnSpPr>
        <p:spPr>
          <a:xfrm flipV="1">
            <a:off x="7829280" y="2267640"/>
            <a:ext cx="461160" cy="47700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30" idx="2"/>
            <a:endCxn id="242" idx="0"/>
          </p:cNvCxnSpPr>
          <p:nvPr/>
        </p:nvCxnSpPr>
        <p:spPr>
          <a:xfrm flipH="1" rot="16200000">
            <a:off x="3284280" y="4237560"/>
            <a:ext cx="1276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2" idx="3"/>
            <a:endCxn id="244" idx="1"/>
          </p:cNvCxnSpPr>
          <p:nvPr/>
        </p:nvCxnSpPr>
        <p:spPr>
          <a:xfrm flipV="1">
            <a:off x="5181120" y="5334840"/>
            <a:ext cx="36612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4" idx="0"/>
            <a:endCxn id="239" idx="2"/>
          </p:cNvCxnSpPr>
          <p:nvPr/>
        </p:nvCxnSpPr>
        <p:spPr>
          <a:xfrm flipV="1">
            <a:off x="6725880" y="3479040"/>
            <a:ext cx="1080" cy="75636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6781680" y="4038480"/>
            <a:ext cx="5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4" idx="2"/>
            <a:endCxn id="232" idx="2"/>
          </p:cNvCxnSpPr>
          <p:nvPr/>
        </p:nvCxnSpPr>
        <p:spPr>
          <a:xfrm flipV="1" rot="16200000">
            <a:off x="3364200" y="3073680"/>
            <a:ext cx="1254960" cy="5469480"/>
          </a:xfrm>
          <a:prstGeom prst="bentConnector3">
            <a:avLst>
              <a:gd name="adj1" fmla="val -10989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6781680" y="6448320"/>
            <a:ext cx="5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18480" y="1828800"/>
            <a:ext cx="124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P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articip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90080" y="3052440"/>
            <a:ext cx="625320" cy="2584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“B”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39" idx="3"/>
            <a:endCxn id="254" idx="2"/>
          </p:cNvCxnSpPr>
          <p:nvPr/>
        </p:nvCxnSpPr>
        <p:spPr>
          <a:xfrm>
            <a:off x="7829280" y="2744280"/>
            <a:ext cx="461160" cy="43884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6918480" y="320040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F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418-6780-420C-A5F4-CB6B43E738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4114800"/>
            <a:ext cx="2209680" cy="228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1651680"/>
            <a:ext cx="2511720" cy="182484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5. Should the RFP &amp; resulting bilateral contracts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for &gt;1 year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32004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91520" y="4699080"/>
            <a:ext cx="129528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fine short-term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p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29680" y="3606840"/>
            <a:ext cx="1218960" cy="838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velop limited,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reamlined RFP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tocols and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ced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71840" y="2286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Decision tree on issues relating to non-Transmission alternatives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(cont.)</a:t>
            </a:r>
            <a:br>
              <a:rPr sz="1800"/>
            </a:b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240920"/>
            <a:ext cx="625320" cy="2584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”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1100160"/>
            <a:ext cx="2895840" cy="5414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olution proposals presented to RPGs;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RCOT negotiates contrac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5486400"/>
            <a:ext cx="155268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Issue RFP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leading t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lateral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ntracts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ith ERCO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1104840"/>
            <a:ext cx="114300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es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ppropri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icy issu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1066680"/>
            <a:ext cx="1600200" cy="609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velop 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tocols &amp; proced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86320" y="4495680"/>
            <a:ext cx="1600200" cy="8384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velop detail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FP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tocols &amp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ced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14920" y="3657600"/>
            <a:ext cx="1143000" cy="6094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es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ppropri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icy issu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435400"/>
            <a:ext cx="625320" cy="2584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”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58" idx="2"/>
            <a:endCxn id="270" idx="0"/>
          </p:cNvCxnSpPr>
          <p:nvPr/>
        </p:nvCxnSpPr>
        <p:spPr>
          <a:xfrm flipH="1" rot="16200000">
            <a:off x="4532040" y="2002680"/>
            <a:ext cx="359640" cy="295056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4" idx="6"/>
            <a:endCxn id="267" idx="1"/>
          </p:cNvCxnSpPr>
          <p:nvPr/>
        </p:nvCxnSpPr>
        <p:spPr>
          <a:xfrm>
            <a:off x="1387080" y="1371240"/>
            <a:ext cx="594360" cy="10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7" idx="3"/>
            <a:endCxn id="268" idx="1"/>
          </p:cNvCxnSpPr>
          <p:nvPr/>
        </p:nvCxnSpPr>
        <p:spPr>
          <a:xfrm>
            <a:off x="3123720" y="1371240"/>
            <a:ext cx="229320" cy="10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8" idx="3"/>
            <a:endCxn id="265" idx="1"/>
          </p:cNvCxnSpPr>
          <p:nvPr/>
        </p:nvCxnSpPr>
        <p:spPr>
          <a:xfrm>
            <a:off x="4952520" y="1371240"/>
            <a:ext cx="229320" cy="10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6"/>
            <a:endCxn id="258" idx="1"/>
          </p:cNvCxnSpPr>
          <p:nvPr/>
        </p:nvCxnSpPr>
        <p:spPr>
          <a:xfrm flipV="1">
            <a:off x="1310760" y="2563560"/>
            <a:ext cx="67068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0" idx="2"/>
            <a:endCxn id="269" idx="0"/>
          </p:cNvCxnSpPr>
          <p:nvPr/>
        </p:nvCxnSpPr>
        <p:spPr>
          <a:xfrm flipV="1" rot="10800000">
            <a:off x="6185880" y="4266720"/>
            <a:ext cx="1080" cy="22932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66" idx="0"/>
          </p:cNvCxnSpPr>
          <p:nvPr/>
        </p:nvCxnSpPr>
        <p:spPr>
          <a:xfrm flipV="1" rot="10800000">
            <a:off x="6185880" y="5333760"/>
            <a:ext cx="1080" cy="1530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2600280" y="4186800"/>
            <a:ext cx="220968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7160" indent="-227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40458c"/>
                </a:solidFill>
                <a:uFillTx/>
                <a:latin typeface="Tahoma"/>
              </a:rPr>
              <a:t>PROTOCOLS &amp; PROCEDUR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Contractual Provisions</a:t>
            </a:r>
            <a:br>
              <a:rPr sz="1000"/>
            </a:b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&amp; Approval Proces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Evaluation Proces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Payment &amp; Settlemen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Options Included in Specific RFP (T, G &amp; DSM)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Enhancement of</a:t>
            </a:r>
            <a:br>
              <a:rPr sz="1000"/>
            </a:b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ERCOT Capabiliti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2819520"/>
            <a:ext cx="11430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es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ppropri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icy issu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8" idx="3"/>
            <a:endCxn id="280" idx="0"/>
          </p:cNvCxnSpPr>
          <p:nvPr/>
        </p:nvCxnSpPr>
        <p:spPr>
          <a:xfrm>
            <a:off x="4492440" y="2563920"/>
            <a:ext cx="3547080" cy="25596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80" idx="2"/>
            <a:endCxn id="261" idx="0"/>
          </p:cNvCxnSpPr>
          <p:nvPr/>
        </p:nvCxnSpPr>
        <p:spPr>
          <a:xfrm flipV="1" rot="10800000">
            <a:off x="8038440" y="3352320"/>
            <a:ext cx="1080" cy="2548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1" idx="2"/>
            <a:endCxn id="260" idx="0"/>
          </p:cNvCxnSpPr>
          <p:nvPr/>
        </p:nvCxnSpPr>
        <p:spPr>
          <a:xfrm flipV="1" rot="10800000">
            <a:off x="8038440" y="4444560"/>
            <a:ext cx="1080" cy="2548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7391520" y="5486400"/>
            <a:ext cx="129528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Issue RFP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leading t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lateral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ntracts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ith ERCO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0" idx="2"/>
            <a:endCxn id="284" idx="0"/>
          </p:cNvCxnSpPr>
          <p:nvPr/>
        </p:nvCxnSpPr>
        <p:spPr>
          <a:xfrm flipV="1" rot="10800000">
            <a:off x="8038440" y="5231880"/>
            <a:ext cx="1080" cy="2548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266760" y="4186440"/>
            <a:ext cx="22096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7160" indent="-227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40458c"/>
                </a:solidFill>
                <a:uFillTx/>
                <a:latin typeface="Tahoma"/>
              </a:rPr>
              <a:t>POLICY ISSU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Options to be Considered as non-T (DSM, Existing Gen, New Gen)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Gap vs. LT Us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Use of Non-T to</a:t>
            </a:r>
            <a:br>
              <a:rPr sz="1000"/>
            </a:b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Replace or Defer T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Market Power at End</a:t>
            </a:r>
            <a:br>
              <a:rPr sz="1000"/>
            </a:b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of Initial Contrac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Cost/Benefit of RFP Process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RFP issuance mandatory or at ERCOT discre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CFB-07F5-4CA5-8064-4D069ED2DF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tocol 6.5.9 includes requirement to consider certain non-transmission alternatives in RMR exit strategy develop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R 492 includes requirement to consider certain non-transmission alternatives to address high local congestion cos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 market participant has identified a possible non-transmission alternative to a current RMR un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fore developing a process to implement these Protocol requirements, several policy issues need to be addres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37F-742C-4A44-93A7-7FE1F9A981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verarching Issu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57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ould bilateral contracts or market design changes be used, as needed, to provide incentives for solutions that lower local congestion costs, including reducing requirements for RMR resource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ould ERCOT be involved in &gt;1 year contracts with generators or demand-side op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ould non-transmission alternatives be considered as long-term solutions or just to fill ga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is the approval process/authority for contrac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RCOT role in RFP/contracting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valuation of bidders’ financial stat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nitoring of siting/permitting process for gener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wer/DSM contract enforcem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ow to avoid unintended consequen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49B-E651-42CD-9186-C37760711B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urrent Alternatives to RMR and OOM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ispatch and reconfiguration through operator instruc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medial Actions Plans (RAP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pecial Protection Schemes (SP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w or upgraded transmission (or dynamic re-rating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Load response, including conservation and load management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Alternative existing generation options, including short-term (emergency) gene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New generation or incremental additions/ modifications to existing gene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AB7-684A-46A0-9CD1-C1D414E3B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her Alternatives to RMR and OOM(?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Redispatch and reconfiguration through operator instruc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Remedial Actions Plans (RAP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Special Protection Schemes (SP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New or upgraded transmission (or dynamic re-rating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ad response, including conservation and load management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ternative existing generation options, including short-term (emergency) gene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w generation or incremental additions/ modifications to existing gene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645-AE00-4512-812B-0583F79462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ssues: Load response, including conservation and load managemen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mitigate market power over time (no cost basis at end of initial contrac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ensure reliability over time (e.g., load “behind” contract decides to switch to firm servi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define and measure conservation and load management (as opposed to dispatchable demand and interruptible load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985-81F7-4B39-9F44-7624DD83E5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ssues: Existing generation options and short-term (emergency) generat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mitigate market power over time (may result in higher cost RMR unit at end of contrac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avoid creating an incentive for proliferation of new contracts with ERCO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is a viable option to reduce OOM servi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CFE-19BE-441B-999E-1F43880DAE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Issues: New generation or incremental additions/modifications to existing genera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mitigate market power over time (may result in higher cost RMR unit at end of contrac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tentially significant intrusion on market operation and market’s generation siting sign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avoid creating an incentive for proliferation of new contracts with ERCO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8A0-26C9-4F46-A224-5A9A0081AC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her issu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likelihood of receiving sufficient bids that would justify issuing an RF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minimum level of expected cost savings that would justify issuing an RFP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81A-2305-4E97-AD20-2CE9F11831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5:12:14Z</dcterms:created>
  <dc:creator>William H. Dunn, Jr.</dc:creator>
  <dc:description/>
  <dc:language>en-US</dc:language>
  <cp:lastModifiedBy>Bill Bojorquez</cp:lastModifiedBy>
  <dcterms:modified xsi:type="dcterms:W3CDTF">2004-05-27T20:23:18Z</dcterms:modified>
  <cp:revision>67</cp:revision>
  <dc:subject/>
  <dc:title>Transmission and Non-Transmission Alternatives to Reliability Must-Run (RMR) Resou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34057296</vt:r8>
  </property>
  <property fmtid="{D5CDD505-2E9C-101B-9397-08002B2CF9AE}" pid="3" name="_AuthorEmail">
    <vt:lpwstr>dwoodfin@ercot.com</vt:lpwstr>
  </property>
  <property fmtid="{D5CDD505-2E9C-101B-9397-08002B2CF9AE}" pid="4" name="_AuthorEmailDisplayName">
    <vt:lpwstr>Woodfin, Dan</vt:lpwstr>
  </property>
  <property fmtid="{D5CDD505-2E9C-101B-9397-08002B2CF9AE}" pid="5" name="_EmailSubject">
    <vt:lpwstr>TAC Decision Tree</vt:lpwstr>
  </property>
  <property fmtid="{D5CDD505-2E9C-101B-9397-08002B2CF9AE}" pid="6" name="_PreviousAdHocReviewCycleID">
    <vt:r8>756714284</vt:r8>
  </property>
</Properties>
</file>