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ED1-49E3-42E5-A5FC-F8CC7645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62B-3B18-48E6-AE1E-6883B63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14B-CFCC-4A77-B79F-5B7F1D85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070-B839-4547-99FD-4EE649B1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DCA-0738-4787-B0CF-35A00D16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AA0-E90B-4E37-986B-ED4AB528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35E-D932-418A-A3E9-5BBEA728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752-5794-45DA-9FFA-44B6C717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274680"/>
            <a:ext cx="6019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22D-52FE-4061-8D24-B3D4DC54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799-45CF-40FB-9D2B-09093FB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055-2744-4A06-9D40-5443642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013-5A88-4AD9-9109-4C57CCB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C2AF-E72D-459C-BB67-07FD3AABE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June 3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520" y="2492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tail Market Subcommittee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pdate to T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MS Discussio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ESI ID’s link to a single-service address record (Up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Extract variance process contingenc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nect/Reconnect process report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GRR 2004-003 Disconnect/Reconnect Process Guide (V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inked Service Address Issue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406520"/>
            <a:ext cx="8686800" cy="50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d service address issue presented at April 8 TA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eetings held April 8 and April 21 where a course of action was set to identify and address potenti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ata provided to market, address matching methodology documented, preliminary analys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inary analysis by CRs suggests ‘potential’ inadvertent enrollments needing additional review of up to ~2,500 ESIs (from mismatch population of ~138,0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s to complete analysis and determine ‘true’ inadvertent accounts and submit those through the standard inadvertent process via FasTrak.  Timeline runs through the end of J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made correction to physical database and TDSPs have completed submission of 138K 814_20 address corrections (d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areas for process improvements recommended for discussion after MIM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E09-88DD-41BF-9F74-21244CEE07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ngency P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 recommended revision to the ERCOT True-Up Settlement timeline was approved. Rather that one/day for the first week and three/day there after, the recommendation was for two/week until ERCOT had implemented a “bulk update” process to update ERCOT systems with all LSE DEV FasTrak rows that were timely  submit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 Working Group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nnect/Disconnect Task Force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840" rIns="0" tIns="0" bIns="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Process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nect Process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credit cycle reveals ESI ID population subject to D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performs internal validations prior to issuing disconnection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submits 650_01 for disconnection according to TX SET guidelines no later than one day prior to requested comple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SP receives 650_01 transaction and performs vali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on successfully validating the 650_01, TDSP creates an internal service order which is routed and scheduled geographically to the appropriate F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SP completes order and responds to CR with a 650_02 transaction within one business day of comple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nnect/Disconnect Task Force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450440"/>
            <a:ext cx="85345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128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Reconnect Process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confirms customer’s satisfactory correction of reasons for dis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performs internal validations prior to issuing reconnect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submits 650_01 for reconnection according to timelines outlined in Substantive Rule 25.483 (n) 1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SP receives 650_01 transaction and performs vali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on successfully validating the 650_01, TDSP creates an internal service order which is then geographically routed and scheduled to the appropriate FSR to be completed according to the timelines outlined in Substantive Rule 25.483 (n) 1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SP completes order and responds to CR with a 650_02 transaction within one business day of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nnect/Disconnect Task Force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04240"/>
            <a:ext cx="800100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Timelines for Transaction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routine disconnect requests received by all TDSPs by 5:00 PM CPT,  Disconnect orders will be scheduled for the next available field operational day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nect orders received after 5:00 PM CPT on the same day as the requested date will be (rejected except for C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valid disconnect request received prior to the next field operational day will be accepted and scheduled by the T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TNMP rejects for same day disconn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nnect/Disconnect Task Force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6520"/>
            <a:ext cx="838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nn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 reconnect requests will worked according to the timeframes outlined in Substantive rule 25.483 (n) (1-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 or after hours reconnect requests must be received by the TDSPs by the following ti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P:  3:00 PM for pri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P: No pri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gy:  7:00 PM for after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LP:   5:00 PM for after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NMP:  7:00 PM for after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U Electric Delivery:  24x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MS motion was made to approve the Reconnect/Disconnect Process Guide as presented. The motion was approved with 3 dissenting v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cond motion was made and seconded that the RMS approve RMGRR 2004-003 as recommended by the Reconnect/Disconnect Task Force.  This motion was appr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MS recommend that TAC pass a resolution to include RMGRR 2004-003 into the Retail Market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76320"/>
            <a:ext cx="6324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nnect/Disconnect Task Force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fkz5</cp:lastModifiedBy>
  <dcterms:modified xsi:type="dcterms:W3CDTF">2004-06-02T20:15:52Z</dcterms:modified>
  <cp:revision>13</cp:revision>
  <dc:subject/>
  <dc:title>RMS Report to TAC 6/3/04</dc:title>
</cp:coreProperties>
</file>