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239-00D3-4845-81AB-E92C7765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0C3-B9F8-4524-924A-8CF14867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AFE-127B-46AE-9288-C74C5188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DDF2-BA72-4F3F-AC6A-E890915F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43FC-1C27-41A9-826C-29D797A3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CE0F-9872-4147-8F3E-DEFB86E2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EA27-6DD7-4C90-8AC1-B67AAAC6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B193-65E2-4D2D-9717-74877ADE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67BB-0D24-4BCF-A2BA-9D91B80A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E425-9BB6-444E-98E7-45BCBF79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C994-CC4E-481F-A50D-58B8B028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16A-3E14-4219-9392-469956C3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4C2F-D2AC-422C-BDFF-488569B2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0087-7FCC-4042-9D21-30799072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7981-FACF-4004-9ACB-9C4E8537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4FAE-9F54-4438-9B6A-1809F98F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222A-930E-4707-9CC4-0F2F512B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8AB-BA7A-42B8-B6C8-FA989972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664-3BB8-45AC-A7FA-3C5FF726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F9A-509A-4CD6-97DF-B1EF4FAC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F7A-CB4D-4ECC-A71A-50CDFC9B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37B-D82E-44FC-BBF8-79AF7BE5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265-B050-41DB-B11B-32D8A9C6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B92-51E0-4794-A914-42608DB6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A38E-16D2-4B76-8527-170B3F3CE3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E0F3-AE7D-4DD0-A6DD-B1B3C94C09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Generation Asset Registration For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RRs 413, 491 and 423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quire Min. Up, Min. Down, Lead Time, and QF Info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fo due Aug. 1, 2004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MS Approved ERCOT’s recommendation to use the shortest time for that technology type if no info is receive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CMW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First Meeting June 10</a:t>
            </a:r>
            <a:r>
              <a:rPr b="0" lang="en-US" sz="2400" spc="-1" strike="noStrike" baseline="30000">
                <a:solidFill>
                  <a:srgbClr val="ccecff"/>
                </a:solidFill>
                <a:latin typeface="Tahoma"/>
              </a:rPr>
              <a:t>t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SCs for 2005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ubs for 2005 and beyon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PRRs 505 and 50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RR 505 – WMS recommended the PRR be rejected by PR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RR 500 – WMS excluded wind generation from this PR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D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First Meeting is June 9</a:t>
            </a:r>
            <a:r>
              <a:rPr b="0" lang="en-US" sz="2400" spc="-1" strike="noStrike" baseline="30000">
                <a:solidFill>
                  <a:srgbClr val="ccecff"/>
                </a:solidFill>
                <a:latin typeface="Tahoma"/>
              </a:rPr>
              <a:t>t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RCOT will present information on internal ERCOT ADAM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iscussion of third party ADAM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dditional Ite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RR 404 Relaxed Balanced Schedules – Gener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lanned implementation is July 14</a:t>
            </a:r>
            <a:r>
              <a:rPr b="0" lang="en-US" sz="2000" spc="-1" strike="noStrike" baseline="30000">
                <a:solidFill>
                  <a:srgbClr val="ccecff"/>
                </a:solidFill>
                <a:latin typeface="Tahoma"/>
              </a:rPr>
              <a:t>th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wo day advance scheduling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ERCOT is looking at how the new testing environment may be used to test this functionalit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01:57:05Z</dcterms:created>
  <dc:creator>BHELTON</dc:creator>
  <dc:description/>
  <dc:language>en-US</dc:language>
  <cp:lastModifiedBy>Bob Helton</cp:lastModifiedBy>
  <dcterms:modified xsi:type="dcterms:W3CDTF">2004-06-03T14:48:28Z</dcterms:modified>
  <cp:revision>21</cp:revision>
  <dc:subject/>
  <dc:title>WMS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1689915</vt:r8>
  </property>
  <property fmtid="{D5CDD505-2E9C-101B-9397-08002B2CF9AE}" pid="3" name="_AuthorEmail">
    <vt:lpwstr>BHELTON@anpower.com</vt:lpwstr>
  </property>
  <property fmtid="{D5CDD505-2E9C-101B-9397-08002B2CF9AE}" pid="4" name="_AuthorEmailDisplayName">
    <vt:lpwstr>Helton, Bob</vt:lpwstr>
  </property>
  <property fmtid="{D5CDD505-2E9C-101B-9397-08002B2CF9AE}" pid="5" name="_EmailSubject">
    <vt:lpwstr>Revised WMS presentation</vt:lpwstr>
  </property>
</Properties>
</file>