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png" ContentType="image/png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E6C5-758E-4A33-B5C6-65F30EE67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8A74-FE2E-4073-A345-7881CB35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AED2-7ACB-49F2-A5CF-F9BD344D1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1027-AC55-4F25-BA5B-E81BB3598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7E1E-C2FF-46CC-B11B-A3EA38C10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089B-AC17-444F-9427-D0B8E1DCC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A875-307B-43C8-B5BF-D2ACEC0B3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40A8-E759-4542-874C-BA6E9E4CB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D84A-D3D3-4F88-84CA-21373C512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A5A7-BF0F-4ED2-A4DA-3ED592E1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4718-99B4-4175-91C8-7DBBBFE2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3DC6-90DC-44AC-B326-1F15EA43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3C829-4D9F-473B-82A7-82636C14E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20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F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E Performance for March and April at HE 0600 &amp; HE 2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COT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11,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35080" y="463680"/>
            <a:ext cx="8673840" cy="5930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781680" y="274680"/>
            <a:ext cx="1905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AF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RAFT SCE Performance for April 2004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3047760"/>
            <a:ext cx="38098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545—0615 Inter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SQ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X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PTXSQ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3047760"/>
            <a:ext cx="38098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45—2215 Inter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X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SQ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828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stograms of the Top Three Q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35080" y="463680"/>
            <a:ext cx="8673840" cy="59306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781680" y="274680"/>
            <a:ext cx="1905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AF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35080" y="463680"/>
            <a:ext cx="8673840" cy="59306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781680" y="274680"/>
            <a:ext cx="1905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AF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35080" y="463680"/>
            <a:ext cx="8673840" cy="59306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781680" y="274680"/>
            <a:ext cx="1905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AF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35080" y="463680"/>
            <a:ext cx="8673840" cy="59306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781680" y="274680"/>
            <a:ext cx="1905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AF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35080" y="463680"/>
            <a:ext cx="8673840" cy="59306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781680" y="274680"/>
            <a:ext cx="1905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AF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35080" y="463680"/>
            <a:ext cx="8673840" cy="59306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781680" y="274680"/>
            <a:ext cx="1905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AF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anation of Data Acqui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 Ten Grap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sults for the “Top Ten” Graphs are determined using the ERCOT calculated absolute SCE for each Q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istogram data uses the simple SCE signal that is being provided to ERCOT from the Q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anation of Data Acqui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190760" y="1219320"/>
            <a:ext cx="4267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Cell represents the 30 minute average of the absolute SCE.  Let’s say for example that this is the 05:45-06:15 interval.  The shaded cell represents QSE1’s average for this interval for April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 idea is the same for the rest of the QSEs for the rest of the mon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“Total Average” is the average of the month for that QSE.  This is the value that is represented on the Top Ten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imilar method is used to generate the histogram data, except for this we use the regular SCE signal that we are receiving directly from the Q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3562560" cy="53434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 flipH="1">
            <a:off x="990720" y="3657600"/>
            <a:ext cx="32004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38040" y="-28440"/>
            <a:ext cx="8467920" cy="6914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809880" y="390204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ling Scores below 100% for HE 0700 &amp; 2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3352680" y="4648320"/>
            <a:ext cx="9907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7315200" y="33526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38040" y="-11160"/>
            <a:ext cx="846792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8680" y="-25560"/>
            <a:ext cx="8486640" cy="691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8680" y="-11160"/>
            <a:ext cx="848664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35080" y="463680"/>
            <a:ext cx="8673840" cy="5930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81680" y="274320"/>
            <a:ext cx="1905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AF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35080" y="466560"/>
            <a:ext cx="8673840" cy="5931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781680" y="274680"/>
            <a:ext cx="1905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AF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FT SCE Performance for April 200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 and Standard Deviation for the Top Ten Q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grams for the Top Three QSEs in each inter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35080" y="463680"/>
            <a:ext cx="8673840" cy="5930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781680" y="274680"/>
            <a:ext cx="1905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AF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9T20:31:49Z</dcterms:created>
  <dc:creator> Robert Staples</dc:creator>
  <dc:description/>
  <dc:language>en-US</dc:language>
  <cp:lastModifiedBy> Robert Staples</cp:lastModifiedBy>
  <dcterms:modified xsi:type="dcterms:W3CDTF">2004-05-10T21:35:21Z</dcterms:modified>
  <cp:revision>11</cp:revision>
  <dc:subject/>
  <dc:title>Performance at 0600 &amp; 22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4331443</vt:r8>
  </property>
  <property fmtid="{D5CDD505-2E9C-101B-9397-08002B2CF9AE}" pid="3" name="_AuthorEmail">
    <vt:lpwstr>rstaples@ercot.com</vt:lpwstr>
  </property>
  <property fmtid="{D5CDD505-2E9C-101B-9397-08002B2CF9AE}" pid="4" name="_AuthorEmailDisplayName">
    <vt:lpwstr>Staples, Robert</vt:lpwstr>
  </property>
  <property fmtid="{D5CDD505-2E9C-101B-9397-08002B2CF9AE}" pid="5" name="_EmailSubject">
    <vt:lpwstr>ROS Ramp Rate SCE Presentation</vt:lpwstr>
  </property>
</Properties>
</file>