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1CF6-7A78-43DB-83BC-EB72C034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816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69080"/>
            <a:ext cx="816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CB8-A923-4254-B8EB-17B9E110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328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6908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3280" y="406908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76EC-D5DD-4087-8B5C-42BCB8E6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9120" y="170496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1400" y="170496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6908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9120" y="406908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1400" y="406908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1F71-8877-4896-BDE8-C04E2BED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04960"/>
            <a:ext cx="8169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325A-26F7-4775-A73E-BA7261CE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816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6042-4BC0-4A05-9026-8D3865D2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398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3280" y="1704960"/>
            <a:ext cx="398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C5DB-DF25-4456-AD8A-8B0C4244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AA1-8E47-439B-A714-0A5FC494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A173-AAC4-420E-A44C-9AB44121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3280" y="1704960"/>
            <a:ext cx="398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6908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9C81-29E1-4E0A-85B0-29A29927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398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328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3280" y="406908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8BB3-CA6A-42CF-A136-8FD36641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28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69080"/>
            <a:ext cx="816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7746-5650-46F2-8FB6-4798EAB0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228600"/>
            <a:ext cx="86310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126200" y="306360"/>
            <a:ext cx="1600200" cy="86220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04960"/>
            <a:ext cx="81691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C51A-93FB-441F-8B2F-D54CBD67A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479160" y="1185840"/>
            <a:ext cx="663732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8960" y="1224000"/>
            <a:ext cx="863136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76200" y="5265720"/>
            <a:ext cx="33184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n Wood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r, Resource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at ERCO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81691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MR Analysis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it lower cost (NPV) to continue to contract for an RMR unit or to build the transmission necessary to eliminate the reliability need for that un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Economic Analysis 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es the savings from reduced OOM, losses, etc. exceed the cost of a transmission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estion Forecasting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lements of the transmission network are likely to be congested in the future and what are the expected costs of that cong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for Powerflow Cases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 economic or security-constrained dispatch for use in powerflow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uses keep co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Forecasting Too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7680" y="1775880"/>
            <a:ext cx="8169120" cy="45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s relevant cost and operating characteristics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ting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mission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s security-constrained unit commitment and economic dispatch of generation to serve system 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urly chronolog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 b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e for contingen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put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81691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enerating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pacity (Min, Max)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Requested data from generat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t Rates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–  Received from ~60% of generat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&amp;M Costs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–  Remainder is New CCs and TX Genc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uel Price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–  Proprietary database used to fill ga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 Up and Down time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mp rate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up Cos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ak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–  Load 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nsmission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I power flow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–  Special Protection an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ingencies                          Remedial Action schem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81691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cost to serve ERCOT lo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onal MCPEs or LM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OM cos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erating Un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acity Fa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riable Cos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enu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rans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gestion Cos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gency/Overloaded Element Pai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tions with “Unserved” Lo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81691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 add some example output for mee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81691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6T14:08:10Z</dcterms:created>
  <dc:creator>dwoodfin</dc:creator>
  <dc:description/>
  <dc:language>en-US</dc:language>
  <cp:lastModifiedBy>dwoodfin</cp:lastModifiedBy>
  <dcterms:modified xsi:type="dcterms:W3CDTF">2004-07-09T14:46:27Z</dcterms:modified>
  <cp:revision>37</cp:revision>
  <dc:subject/>
  <dc:title>Default</dc:title>
</cp:coreProperties>
</file>