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294813"/>
  <p:custShowLst>
    <p:custShow name="Custom Show 1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14200" y="703440"/>
            <a:ext cx="4630680" cy="347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Added Scope Details: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Under Release 3.1, included HIGH PRIORITY request from Operations to add PR30167 Archival of Shift Factor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Added Scope Details: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Under Release 3.1, included HIGH PRIORITY request from Operations to add PR30167 Archival of Shift Factor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Added Scope Details: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Under Release 3.1, included HIGH PRIORITY request from Operations to add PR30167 Archival of Shift Factor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B2037-1F7A-45DB-9B42-3972191D21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391212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D549E-4180-45BD-BEEE-0A55825E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63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0D10A-60A6-4740-82F0-50480BBA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3864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516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3864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516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B37BE-EA53-4CD4-8EDD-4CE87277BB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8A87B8-05E1-4B8B-B9FE-50B898444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64B5F-9E86-439B-846C-63A43DE8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17D61E-F49F-4870-89DC-368C9D94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73B43D-6BC7-4CBA-940A-DC0F6EA6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09AD7-3115-4F38-9244-70CD3D87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057400" y="228240"/>
            <a:ext cx="67802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94034-9AD2-438F-B58A-D204F61B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86D4D-8C99-4D0D-828B-54E13B28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BFED5-5626-40AB-9003-727D97F8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63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E7C4E6-F88F-46DA-8803-E1667CE2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E648F-EF3E-4514-8F2D-1D269A3E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762120" y="391212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DFC816-6873-4F3D-B071-57BE5CE0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63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B99C3D-9D04-4CC7-92C0-CA44EA9B8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3864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1516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76212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3864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1516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C095B3-8F59-486B-99FE-12135C65F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CED95-6991-42B3-9675-A3736BC4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67D5A-B754-4E9B-9E26-9555AFF0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BA3CB-AAE2-49F0-A388-BC13F4850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057400" y="228240"/>
            <a:ext cx="67802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921F7-520B-40A8-ADD9-C295FE358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63B60-F8D5-42DE-9DDA-19BA0A69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63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C0471-473E-45B3-908F-6E26FDA1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556FD-89F4-442A-9AF5-8E5C8C1F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467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C84B-FF1F-4ADC-A870-8F3EFF57B8EC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61944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4DFC-3484-4CAE-BD48-2DB1B584337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76320"/>
            <a:ext cx="1676520" cy="901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720" y="6477120"/>
            <a:ext cx="1725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Property of ERCOT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76320"/>
            <a:ext cx="1676520" cy="90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2286000"/>
            <a:ext cx="8305560" cy="102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C Half Banner"/>
          <p:cNvSpPr/>
          <p:nvPr/>
        </p:nvSpPr>
        <p:spPr>
          <a:xfrm>
            <a:off x="0" y="0"/>
            <a:ext cx="914400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71467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33A9-59FF-42BD-95A9-7809D451097A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-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361944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A78E-2264-4B8C-9798-9F80D07380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7632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5600" y="6553080"/>
            <a:ext cx="1725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Property of ERCOT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00400" cy="1722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200400" cy="1722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G Ome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2286000"/>
            <a:ext cx="8305560" cy="102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MMS R4 Projects Updat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SE PMW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94920" y="4038480"/>
            <a:ext cx="6326280" cy="152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By : Jeff Robinson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(512) 248-4217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June 8, 2004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9B6F5-A487-4221-8AA6-3E360E52E6D9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40D4C6-6FD1-4EFF-A894-A653CD7922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 Sta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6197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Approval received on 10/4 to move from Planning to Execution Phase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Planned release of draft XML Specs in July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Next steps: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</a:rPr>
              <a:t>Complete detail requirements collaboration w/ AREVA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</a:rPr>
              <a:t>Execute contract w/ AREVA for detail software design, software development, testing, and implementation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</a:rPr>
              <a:t>Complete AREVA detail software design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</a:rPr>
              <a:t>Perform detail requirements (DDN-A) review with QSE volunteers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</a:rPr>
              <a:t>Complete detail planning for Settlements and Billing, Data Archive/EDW, and ERCOT EMMS Development deliverables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F78BB-4F88-43EB-84B4-E2B79C6C8C2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157F63-0136-4D91-820D-6B695E4AF4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" dur="1" fill="hold"/>
                                  <p:tgtEl>
                                    <p:spTgt spid="9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  <p:animClr clrSpc="rgb">
                                <p:cBhvr>
                                  <p:cTn id="43" dur="1" fill="hold"/>
                                  <p:tgtEl>
                                    <p:spTgt spid="9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  <p:animClr clrSpc="rgb">
                                <p:cBhvr>
                                  <p:cTn id="44" dur="1" fill="hold"/>
                                  <p:tgtEl>
                                    <p:spTgt spid="9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  <p:animClr clrSpc="rgb">
                                <p:cBhvr>
                                  <p:cTn id="45" dur="1" fill="hold"/>
                                  <p:tgtEl>
                                    <p:spTgt spid="9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  <p:animClr clrSpc="rgb">
                                <p:cBhvr>
                                  <p:cTn id="46" dur="1" fill="hold"/>
                                  <p:tgtEl>
                                    <p:spTgt spid="9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  <p:animClr clrSpc="rgb">
                                <p:cBhvr>
                                  <p:cTn id="47" dur="1" fill="hold"/>
                                  <p:tgtEl>
                                    <p:spTgt spid="9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Schedule Summ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433520" y="1523880"/>
          <a:ext cx="62755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3520" y="1523880"/>
                    <a:ext cx="627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99FA9-FCEC-47C0-B253-E22F809A883D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54F00B-E796-445C-A06F-1B45866A7B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MS Release 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2280" y="1143000"/>
          <a:ext cx="8915400" cy="2554200"/>
        </p:xfrm>
        <a:graphic>
          <a:graphicData uri="http://schemas.openxmlformats.org/drawingml/2006/table">
            <a:tbl>
              <a:tblPr/>
              <a:tblGrid>
                <a:gridCol w="4880160"/>
                <a:gridCol w="1301760"/>
                <a:gridCol w="2733480"/>
              </a:tblGrid>
              <a:tr h="4716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ERCOT High Priority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Comments/Re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CG Omega"/>
                        </a:rPr>
                        <a:t>Improvements to VSA/D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CG Omega"/>
                        </a:rPr>
                        <a:t>Firm sco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CG Omega"/>
                        </a:rPr>
                        <a:t>PR40001  (Scope in R4 &amp; R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CG Omega"/>
                        </a:rPr>
                        <a:t>OOME Participation in Providing Ancillary Serv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cc"/>
                        </a:buClr>
                        <a:buSzPct val="135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CG Omega"/>
                        </a:rPr>
                        <a:t>Firm sco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CG Omega"/>
                        </a:rPr>
                        <a:t>PR4005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CG Omega"/>
                        </a:rPr>
                        <a:t>EMS Archive Comparison To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CG Omega"/>
                        </a:rPr>
                        <a:t>Firm sco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CG Omega"/>
                        </a:rPr>
                        <a:t>PR40059 (Scope in R4 &amp; R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CG Omega"/>
                        </a:rPr>
                        <a:t>Special Protection Schem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CG Omega"/>
                        </a:rPr>
                        <a:t>Firm sco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CG Omega"/>
                        </a:rPr>
                        <a:t>PR300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A21C4-6E54-4F27-BE4D-1CEBB619FA17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B168BD-864B-4A92-9202-D193FF44F9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MS Release 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04920" y="1066680"/>
          <a:ext cx="8534160" cy="4140360"/>
        </p:xfrm>
        <a:graphic>
          <a:graphicData uri="http://schemas.openxmlformats.org/drawingml/2006/table">
            <a:tbl>
              <a:tblPr/>
              <a:tblGrid>
                <a:gridCol w="4632120"/>
                <a:gridCol w="1625760"/>
                <a:gridCol w="2276280"/>
              </a:tblGrid>
              <a:tr h="5112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Market High Priority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Comments/Re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CG Omega"/>
                        </a:rPr>
                        <a:t>AS Simultaneous Selection (Carryover from R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CG Omega"/>
                        </a:rPr>
                        <a:t>Firm sco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CG Omega"/>
                        </a:rPr>
                        <a:t>PRR3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CG Omega"/>
                        </a:rPr>
                        <a:t>RPRS Market Redesig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CG Omega"/>
                        </a:rPr>
                        <a:t>Firm sco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CG Omega"/>
                        </a:rPr>
                        <a:t>PRR413/PIP137/PRR2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CG Omega"/>
                        </a:rPr>
                        <a:t>Fleet Deployment (OOM) &amp; Electronic Recording of VDI and VDI as Instructed Dev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CG Omega"/>
                        </a:rPr>
                        <a:t>Firm sco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CG Omega"/>
                        </a:rPr>
                        <a:t>PRR422/PRR423, PR40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CG Omega"/>
                        </a:rPr>
                        <a:t>Resource Plan Improvement (Carryover from R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CG Omega"/>
                        </a:rPr>
                        <a:t>Firm sco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CG Omega"/>
                        </a:rPr>
                        <a:t>PRR359/SCR723 (Scope in R4 &amp; R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CG Omega"/>
                        </a:rPr>
                        <a:t>Unit-specific Bid Limits based on Generic 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CG Omega"/>
                        </a:rPr>
                        <a:t>Firm sco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CG Omega"/>
                        </a:rPr>
                        <a:t>PRR48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CG Omega"/>
                        </a:rPr>
                        <a:t>PUCT Market Oversight Division Proje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CG Omega"/>
                        </a:rPr>
                        <a:t>Firm sco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CG Omega"/>
                        </a:rPr>
                        <a:t>PR40048/40049/400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2A109-2D3A-48CC-9308-A9AD8937C050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DAD8AE-B633-4977-B155-FD054333F3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MS Release 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04920" y="1066680"/>
          <a:ext cx="8534160" cy="3829320"/>
        </p:xfrm>
        <a:graphic>
          <a:graphicData uri="http://schemas.openxmlformats.org/drawingml/2006/table">
            <a:tbl>
              <a:tblPr/>
              <a:tblGrid>
                <a:gridCol w="4632120"/>
                <a:gridCol w="1625760"/>
                <a:gridCol w="2276280"/>
              </a:tblGrid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Projects Removed from Rel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Comments/Re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Improve real time local congestion man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Firm sco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R40001 </a:t>
                      </a: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CG Omega"/>
                        </a:rPr>
                        <a:t>(ERCOT development Vs AREV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Load Forecast metr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Firm sco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R40001 </a:t>
                      </a: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CG Omega"/>
                        </a:rPr>
                        <a:t>(ERCOT development Vs AREV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SC Thermal Lim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CG Omega"/>
                        </a:rPr>
                        <a:t>Remo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R30084 </a:t>
                      </a: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CG Omega"/>
                        </a:rPr>
                        <a:t>(Moved to Continuous Requirement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Improve real time local congestion man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Firm sco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R40001 </a:t>
                      </a: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CG Omega"/>
                        </a:rPr>
                        <a:t>(ERCOT development Vs AREV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6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RMR Auto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Deferred to R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RR4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Dynamic Ratin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Deferred to R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R30016 (Extend Pilot Program functionality within R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4F818-670F-41F4-BDDC-4D090457DC3C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FEFE24-7F5C-403F-9458-D823127EFF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5T20:24:45Z</dcterms:created>
  <dc:creator>Manuel Atanacio</dc:creator>
  <dc:description>Presented at the Load Profiling, Forecasting &amp; Settlements Conference;</dc:description>
  <cp:keywords>ERCOT Retail Pros Cons Commercial Operations</cp:keywords>
  <dc:language>en-US</dc:language>
  <cp:lastModifiedBy>ashang</cp:lastModifiedBy>
  <cp:lastPrinted>2000-04-06T20:17:02Z</cp:lastPrinted>
  <dcterms:modified xsi:type="dcterms:W3CDTF">2004-06-08T13:11:58Z</dcterms:modified>
  <cp:revision>155</cp:revision>
  <dc:subject>Texas Commercial Operations</dc:subject>
  <dc:title>PR-30148 EMMS Release 3.0 Monthly Report</dc:title>
</cp:coreProperties>
</file>