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E0552-708E-42C2-8265-0E529431B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0DC5-B0BE-4788-AC94-7106675A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7B889-F7B6-4669-8822-BCB005C80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64DC2-3EEB-4FB0-8BCE-750440410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934AC-FFDD-4B62-B35A-B0772253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D313-2E17-4C03-879F-FEC7B6E3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74D3D-4473-45FD-94F5-7FEE1725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51B7-F50A-4ECC-913F-31575588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D9217-1CD8-4F64-92BC-7DB14553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DC0F-9CE0-4967-846F-2DB41CCB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4BF3-FB3A-460B-A81C-7657CAD9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8D87-038B-48A0-B20A-2EF00461A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2950-1CB1-4C07-8D04-AF4B760B5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Times New Roman"/>
              </a:rPr>
              <a:t>Transaction or Issue Clean U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DC24F6A-7C71-45C6-901D-D7BF26A6271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ed-Address Issue</a:t>
            </a:r>
            <a:br>
              <a:rPr sz="3200"/>
            </a:br>
            <a:br>
              <a:rPr sz="3200"/>
            </a:br>
            <a:r>
              <a:rPr b="0" lang="en-US" sz="2400" spc="-1" strike="noStrike">
                <a:solidFill>
                  <a:srgbClr val="000000"/>
                </a:solidFill>
                <a:latin typeface="Times New Roman"/>
              </a:rPr>
              <a:t>Multiple ESI IDs Linked to a Single Service Address Record</a:t>
            </a:r>
            <a:endParaRPr b="0" lang="en-US" sz="2400" spc="-1" strike="noStrike">
              <a:solidFill>
                <a:srgbClr val="000000"/>
              </a:solidFill>
              <a:latin typeface="Times New Roman"/>
            </a:endParaRPr>
          </a:p>
        </p:txBody>
      </p:sp>
      <p:sp>
        <p:nvSpPr>
          <p:cNvPr id="46" name=""/>
          <p:cNvSpPr/>
          <p:nvPr/>
        </p:nvSpPr>
        <p:spPr>
          <a:xfrm>
            <a:off x="2743200" y="3657600"/>
            <a:ext cx="320040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ts Matrix</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d Ite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0ADB10-5A01-470B-A0A6-6C577908F8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1219320"/>
            <a:ext cx="8686800" cy="5486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02/18/04 Retail Market Call, a CR reported a concern regarding discrepancies between ERCOT’s Portal and the TDSP’s customer information system. The CR provided specific example for ERCOT to research.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alysis, released by ERCOT on 3/8/04, has identified that linked service addresses were established in the ERCOT Siebel system based upon data provided during conversion in 2001.  In these instances, a TDSP provided the same service address for multiple ESI IDs.  During the conversion process, a single database record was created which linked a single service address to multiple ESI IDs.  The Address Field components making up the address record in the ERCOT Siebel system are street name, Address Overflow, City, State,  Country and Zip code.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current effect is that an 814_20 address change to any one of the address-linked ESI IDs effectively changes the address, in ERCOT’s system, of all ESI IDs linked to that same record.  Approximately 11 percent of the ESI IDs in the ERCOT Siebel system are affected by this "linked address" issue. </a:t>
            </a:r>
            <a:endParaRPr b="0" lang="en-US" sz="2000" spc="-1" strike="noStrike">
              <a:solidFill>
                <a:srgbClr val="000000"/>
              </a:solidFill>
              <a:latin typeface="Times New Roman"/>
            </a:endParaRPr>
          </a:p>
        </p:txBody>
      </p:sp>
      <p:sp>
        <p:nvSpPr>
          <p:cNvPr id="48"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275604-21D9-4B30-A1BA-1584E77EC4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Completed Item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04 - Information released to the Market during Retail Market Cal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4 - Initial conference call with TDSPs to discuss issue and proposed proces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04 - Retail Market Call additional information</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04 - ERCOT provided TDSPs a list of all ESI IDs with linked-addresse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6/04 - Follow-up conference call with TDSPs to discuss process further</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had ad-hoc discussions with CR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04 - Follow-up discussion with a CR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llow-up at Retail Market Call to detail proposed process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1/04 - TDSPs responded to ERCOT with mismatched address analysis result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04 - ERCOT completed analysis of address mismatch data received from TDSP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4 - Market Meeting to discuss issues and further Market activit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1/04 - ERCOT posted Master Mismatch List for CR retrieva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2/04 - ERCOT sent CRs their ROR list for ESI IDs with non-AREP activity</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04 - ERCOT received TDSP’s address comparison methodolog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received some response from CR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1/04 - Market Meeting in Austin</a:t>
            </a:r>
            <a:endParaRPr b="0" lang="en-US" sz="2000" spc="-1" strike="noStrike">
              <a:solidFill>
                <a:srgbClr val="000000"/>
              </a:solidFill>
              <a:latin typeface="Times New Roman"/>
            </a:endParaRPr>
          </a:p>
        </p:txBody>
      </p:sp>
      <p:sp>
        <p:nvSpPr>
          <p:cNvPr id="50"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5ACB86-E16E-452A-9187-8667FE442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1219320"/>
            <a:ext cx="891540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leted Items (continue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3/04 - ONCOR provided ERCOT a list of 7,850 additional address mismatch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4/04 - ERCOT corrected the internal database issues and created a 1-to-1 relationship for each ESI ID and Service Addres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4 - ERCOT posted a revised Master Mismatch List (with entirely new ONCOR data) for CR retrieval</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04 - ERCOT sent CRs their Rep of Record list for the additional address mismatches along with instructions and timeline for CR respons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04 - ERCOT rolled out a modification to the TDSP ESI ID extract to deliver the “address overflow” fiel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4 - ERCOT compiled CR responses received to date for this RMS updat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17/04 - TDSPs completed sending of 138K 814_20 address chang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4/04 - RMS Update on Projec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8/04 - ERCOT sent CRs reminders of need for analysis results for June RMS reporting</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02/04 - ERCOT sent CRs reminders of need for analysis results for July RMS reporting</a:t>
            </a:r>
            <a:endParaRPr b="0" lang="en-US" sz="2000" spc="-1" strike="noStrike">
              <a:solidFill>
                <a:srgbClr val="000000"/>
              </a:solidFill>
              <a:latin typeface="Times New Roman"/>
            </a:endParaRPr>
          </a:p>
        </p:txBody>
      </p:sp>
      <p:sp>
        <p:nvSpPr>
          <p:cNvPr id="52"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2430FF1-B059-4EFE-851E-38FAF5022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graphicFrame>
        <p:nvGraphicFramePr>
          <p:cNvPr id="54" name=""/>
          <p:cNvGraphicFramePr/>
          <p:nvPr/>
        </p:nvGraphicFramePr>
        <p:xfrm>
          <a:off x="152280" y="1689120"/>
          <a:ext cx="8775720" cy="4584600"/>
        </p:xfrm>
        <a:graphic>
          <a:graphicData uri="http://schemas.openxmlformats.org/presentationml/2006/ole">
            <p:oleObj progId="Excel.Sheet.12" r:id="rId1" spid="">
              <p:embed/>
              <p:pic>
                <p:nvPicPr>
                  <p:cNvPr id="55" name="" descr=""/>
                  <p:cNvPicPr/>
                  <p:nvPr/>
                </p:nvPicPr>
                <p:blipFill>
                  <a:blip r:embed="rId2"/>
                  <a:stretch/>
                </p:blipFill>
                <p:spPr>
                  <a:xfrm>
                    <a:off x="152280" y="1689120"/>
                    <a:ext cx="8775720" cy="4584600"/>
                  </a:xfrm>
                  <a:prstGeom prst="rect">
                    <a:avLst/>
                  </a:prstGeom>
                  <a:ln w="0">
                    <a:noFill/>
                  </a:ln>
                </p:spPr>
              </p:pic>
            </p:oleObj>
          </a:graphicData>
        </a:graphic>
      </p:graphicFrame>
      <p:sp>
        <p:nvSpPr>
          <p:cNvPr id="56" name=""/>
          <p:cNvSpPr/>
          <p:nvPr/>
        </p:nvSpPr>
        <p:spPr>
          <a:xfrm>
            <a:off x="6095880" y="4786200"/>
            <a:ext cx="1600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I IDs being analyzed b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CRs for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Inadvertents</a:t>
            </a:r>
            <a:endParaRPr b="0" lang="en-US" sz="1600" spc="-1" strike="noStrike">
              <a:solidFill>
                <a:srgbClr val="000000"/>
              </a:solidFill>
              <a:latin typeface="Times New Roman"/>
            </a:endParaRPr>
          </a:p>
        </p:txBody>
      </p:sp>
      <p:sp>
        <p:nvSpPr>
          <p:cNvPr id="57" name=""/>
          <p:cNvSpPr/>
          <p:nvPr/>
        </p:nvSpPr>
        <p:spPr>
          <a:xfrm flipH="1" flipV="1" rot="5400000">
            <a:off x="6591240" y="4214880"/>
            <a:ext cx="609840" cy="1295280"/>
          </a:xfrm>
          <a:custGeom>
            <a:avLst/>
            <a:gdLst>
              <a:gd name="textAreaLeft" fmla="*/ 0 w 609840"/>
              <a:gd name="textAreaRight" fmla="*/ 220320 w 6098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467480" y="4786200"/>
            <a:ext cx="1600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I IDs being submitted to FasTrak b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Rs for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59" name=""/>
          <p:cNvSpPr/>
          <p:nvPr/>
        </p:nvSpPr>
        <p:spPr>
          <a:xfrm flipH="1" flipV="1" rot="5400000">
            <a:off x="7962840" y="4214880"/>
            <a:ext cx="609840" cy="1295280"/>
          </a:xfrm>
          <a:custGeom>
            <a:avLst/>
            <a:gdLst>
              <a:gd name="textAreaLeft" fmla="*/ 0 w 609840"/>
              <a:gd name="textAreaRight" fmla="*/ 220320 w 6098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257800" y="1295280"/>
            <a:ext cx="33526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 Response Summary as of 7-13-0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2EE0DE2-1EC9-4783-BA6A-D97C013D91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1219320"/>
            <a:ext cx="8686800" cy="5486400"/>
          </a:xfrm>
          <a:prstGeom prst="rect">
            <a:avLst/>
          </a:prstGeom>
          <a:noFill/>
          <a:ln w="0">
            <a:noFill/>
          </a:ln>
        </p:spPr>
        <p:style>
          <a:lnRef idx="0"/>
          <a:fillRef idx="0"/>
          <a:effectRef idx="0"/>
          <a:fontRef idx="minor"/>
        </p:style>
        <p:txBody>
          <a:bodyPr lIns="90000" rIns="90000" tIns="46800" bIns="46800" anchor="t">
            <a:normAutofit/>
          </a:bodyPr>
          <a:p>
            <a:pPr marL="495360" indent="-49536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Next Steps</a:t>
            </a:r>
            <a:endParaRPr b="0" lang="en-US" sz="2000" spc="-1" strike="noStrike">
              <a:solidFill>
                <a:srgbClr val="000000"/>
              </a:solidFill>
              <a:latin typeface="Times New Roman"/>
            </a:endParaRPr>
          </a:p>
          <a:p>
            <a:pPr marL="495360" indent="-49536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mplete analysis to determine any Inadvertents resulting from this issue (submit FasTrak issue for ESI ID determined to be Inadvertents)</a:t>
            </a:r>
            <a:endParaRPr b="0" lang="en-US" sz="2000" spc="-1" strike="noStrike">
              <a:solidFill>
                <a:srgbClr val="000000"/>
              </a:solidFill>
              <a:latin typeface="Times New Roman"/>
            </a:endParaRPr>
          </a:p>
          <a:p>
            <a:pPr lvl="1" marL="870120" indent="-412920">
              <a:lnSpc>
                <a:spcPct val="9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ERCOT a Final Count of Inadvertents by TDSP </a:t>
            </a:r>
            <a:endParaRPr b="0" lang="en-US" sz="1800" spc="-1" strike="noStrike">
              <a:solidFill>
                <a:srgbClr val="000000"/>
              </a:solidFill>
              <a:latin typeface="Times New Roman"/>
            </a:endParaRPr>
          </a:p>
          <a:p>
            <a:pPr lvl="1" marL="870120" indent="-412920">
              <a:lnSpc>
                <a:spcPct val="9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 to contact the TDSP in instances where the CR believe they have the full correct address and TDSP only has street name or “name” (CR – 123 Hwy 60; TDSP – Hwy 60) or (CR – 345 Main Street; TDSP – Hillcrest Middle School)</a:t>
            </a:r>
            <a:endParaRPr b="0" lang="en-US" sz="1800" spc="-1" strike="noStrike">
              <a:solidFill>
                <a:srgbClr val="000000"/>
              </a:solidFill>
              <a:latin typeface="Times New Roman"/>
            </a:endParaRPr>
          </a:p>
          <a:p>
            <a:pPr marL="495360" indent="-49536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compile reports from CRs response for next RMS meeting</a:t>
            </a:r>
            <a:endParaRPr b="0" lang="en-US" sz="2000" spc="-1" strike="noStrike">
              <a:solidFill>
                <a:srgbClr val="000000"/>
              </a:solidFill>
              <a:latin typeface="Times New Roman"/>
            </a:endParaRPr>
          </a:p>
          <a:p>
            <a:pPr marL="495360" indent="-49536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establish reporting on actual inadvertent number until associated FasTrak issues are resolved</a:t>
            </a:r>
            <a:endParaRPr b="0" lang="en-US" sz="2000" spc="-1" strike="noStrike">
              <a:solidFill>
                <a:srgbClr val="000000"/>
              </a:solidFill>
              <a:latin typeface="Times New Roman"/>
            </a:endParaRPr>
          </a:p>
          <a:p>
            <a:pPr marL="495360" indent="-49536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add the address overflow field to the ESI ID look-up function on the Portal (expected as part of TML2)</a:t>
            </a:r>
            <a:endParaRPr b="0" lang="en-US" sz="2000" spc="-1" strike="noStrike">
              <a:solidFill>
                <a:srgbClr val="000000"/>
              </a:solidFill>
              <a:latin typeface="Times New Roman"/>
            </a:endParaRPr>
          </a:p>
          <a:p>
            <a:pPr marL="495360" indent="-49536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present potential areas for process improvement to RMS after MIMO implementation</a:t>
            </a:r>
            <a:endParaRPr b="0" lang="en-US" sz="2000" spc="-1" strike="noStrike">
              <a:solidFill>
                <a:srgbClr val="000000"/>
              </a:solidFill>
              <a:latin typeface="Times New Roman"/>
            </a:endParaRPr>
          </a:p>
        </p:txBody>
      </p:sp>
      <p:sp>
        <p:nvSpPr>
          <p:cNvPr id="62"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021896E-7BA9-4CF2-BC94-8E08D30B97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371600"/>
            <a:ext cx="8686800" cy="44197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Areas of Process Improvement </a:t>
            </a:r>
            <a:r>
              <a:rPr b="1" lang="en-US" sz="1600" spc="-1" strike="noStrike" u="sng">
                <a:solidFill>
                  <a:srgbClr val="ff0000"/>
                </a:solidFill>
                <a:uFillTx/>
                <a:latin typeface="Times New Roman"/>
              </a:rPr>
              <a:t>(RMS asked to revisit after MIMO Implementation)</a:t>
            </a:r>
            <a:endParaRPr b="0" lang="en-US" sz="16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DSPs to perform a periodic synchronization of TDSP system service addresses to ERCOT system service addresses and provide 814_20 updates to resolve inconsistencies.  (using the TDSP ESI ID Extract as the ERCOT data source)</a:t>
            </a:r>
            <a:endParaRPr b="0"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CRs create an exception process when the TDSP provides an 814_04 (which ERCOT send to the CR in 814_05 transaction) that has a different address than the CR originally submitted</a:t>
            </a:r>
            <a:endParaRPr b="0"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igate ERCOT creating an exception process when the TDSP provides an 814_04 (which ERCOT send to the CR in 814_05 transaction) that has a different address than that in the ERCOT System</a:t>
            </a:r>
            <a:endParaRPr b="0" lang="en-US" sz="2000" spc="-1" strike="noStrike">
              <a:solidFill>
                <a:srgbClr val="000000"/>
              </a:solidFill>
              <a:latin typeface="Times New Roman"/>
            </a:endParaRPr>
          </a:p>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65" name=""/>
          <p:cNvSpPr/>
          <p:nvPr/>
        </p:nvSpPr>
        <p:spPr>
          <a:xfrm>
            <a:off x="304920" y="5791320"/>
            <a:ext cx="8686800" cy="914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Parking Lot Item</a:t>
            </a:r>
            <a:endParaRPr b="0" lang="en-US" sz="2000" spc="-1" strike="noStrike">
              <a:solidFill>
                <a:srgbClr val="000000"/>
              </a:solidFill>
              <a:latin typeface="Times New Roman"/>
            </a:endParaRPr>
          </a:p>
          <a:p>
            <a:pPr marL="457200" indent="-457200">
              <a:lnSpc>
                <a:spcPct val="95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ere a way to make addresses uniq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570A8ED-2169-473D-ABF2-C64BC0ED9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E9FF188-494C-493D-8D5F-7B2686ADDD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shang</cp:lastModifiedBy>
  <cp:lastPrinted>2002-09-24T18:27:58Z</cp:lastPrinted>
  <dcterms:modified xsi:type="dcterms:W3CDTF">2004-07-15T14:33:13Z</dcterms:modified>
  <cp:revision>3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