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docx" ContentType="application/vnd.openxmlformats-officedocument.wordprocessingml.document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BD26-30C5-405D-A706-F45F72AD7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BF23-C160-4089-A683-9F43A2287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30CA-4C63-46B2-BDB6-2A6F4B01E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0E55-C8E9-4116-865F-D347A5105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4DDD-38C5-46CE-95BD-899C77199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21DB-7F51-4D9A-A9F7-BE80D9551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181F-4451-4535-A009-69795C03F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EE39-625F-46F8-943C-0CC93157A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5909-D621-4A2F-B736-0BAC5CDDF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EC9D-93F7-48A1-874E-E3CC2457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64C0-51BB-4870-B25E-F9A4FCBC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8A8C-2744-49D2-94E2-7EC3088C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2C0CA-9A08-4A27-B0BB-3D4B39C7A1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package" Target="../embeddings/oleObject3.docx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package" Target="../embeddings/oleObject3.docx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package" Target="../embeddings/oleObject3.docx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48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8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457200" y="42670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ort to 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43000" y="5410080"/>
            <a:ext cx="6400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ly 14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133720" y="1447920"/>
          <a:ext cx="4572000" cy="272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1447920"/>
                    <a:ext cx="457200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0" y="0"/>
          <a:ext cx="914400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"/>
          <p:cNvSpPr/>
          <p:nvPr/>
        </p:nvSpPr>
        <p:spPr>
          <a:xfrm>
            <a:off x="6858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010280" y="0"/>
            <a:ext cx="18288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0" y="0"/>
          <a:ext cx="9144000" cy="16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153720" y="306360"/>
            <a:ext cx="707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posed Resolution for Test Flights for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5800" y="182880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MS approves the 2005 Market Testing Flight Schedules for Flights V2.0-0105, V2.0-0405, V2.0 - 0705 and V2.0-1005 as adopted by the TTP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MS further directs that any material changes to these timelines or changes in scope of the test flights must be approved by RM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"/>
          <p:cNvGraphicFramePr/>
          <p:nvPr/>
        </p:nvGraphicFramePr>
        <p:xfrm>
          <a:off x="0" y="0"/>
          <a:ext cx="914400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9144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50840" y="152280"/>
            <a:ext cx="6784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xas Test Plan Team Report to 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3906720" y="1447920"/>
            <a:ext cx="35323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010280" y="0"/>
            <a:ext cx="18288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0" y="0"/>
          <a:ext cx="914400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7010280" y="0"/>
            <a:ext cx="18288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0" y="0"/>
          <a:ext cx="9144000" cy="16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154440" y="306360"/>
            <a:ext cx="69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TPT Key Dates and Deadlines as of 6/30/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1523880"/>
            <a:ext cx="815364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Times New Roman"/>
              </a:rPr>
              <a:t>6/01/04 - DNP GO L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Times New Roman"/>
              </a:rPr>
              <a:t>6/11/04 - TTPT Meeting (tentative adoption of Flights for 200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Times New Roman"/>
              </a:rPr>
              <a:t>6/23/04 - Flight 0504 96.5%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Times New Roman"/>
              </a:rPr>
              <a:t>6/30/04 - TTPT Adoption of Flights for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7/07/04 - Notice for Flight 0904 (Second Version 2.0 test Fligh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/15/04 - TTPT Me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/23/04 - Flight 0504 tentatively scheduled to conclu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/28/04 - Finalized Scripts for Flight 0904 due to ERCOT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8/01/04 - Version 2.0 Go L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/04/04 - Flight 0904 Orientation Meeting  MANDA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/11/04 - FLIGHT DEADLINE for Flight 09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/11/04 - TTPT Me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/20/04 - Mandatory Connectivity Kick Off Call &amp; Penny Tests 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/30/04 - TDSPs communicate Test Bed to Trading Partners and ERC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/10/04 - Flight 0904 Kick Off Conference C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/13/04 - Flight 0904 Frame 1 Transactions begin to flow</a:t>
            </a:r>
            <a:r>
              <a:rPr b="1" lang="en-US" sz="16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(4th DNP Script Begi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/19/04 - Flight 0904 tentatively scheduled to conclu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010280" y="0"/>
            <a:ext cx="18288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0" y="0"/>
          <a:ext cx="914400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010280" y="0"/>
            <a:ext cx="18288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0" y="0"/>
          <a:ext cx="9144000" cy="16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155160" y="306360"/>
            <a:ext cx="758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Date Flight 0504 has been a Fantastic Su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1447920"/>
            <a:ext cx="815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981080"/>
            <a:ext cx="81536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rmAutofit fontScale="93000"/>
          </a:bodyPr>
          <a:p>
            <a:pPr marL="318960" indent="-318960">
              <a:spcBef>
                <a:spcPts val="64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Times New Roman"/>
              </a:rPr>
              <a:t>Planning by the MIMO Coordination Team for almost Two yea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2743200"/>
            <a:ext cx="81536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Coordination between the MCT and TTPT to prioritize scripts so as to properly test the new functionality introduced by Version 2.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3886200"/>
            <a:ext cx="81536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rmAutofit fontScale="93000"/>
          </a:bodyPr>
          <a:p>
            <a:pPr marL="318960" indent="-318960">
              <a:spcBef>
                <a:spcPts val="649"/>
              </a:spcBef>
              <a:buClr>
                <a:srgbClr val="ff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cc"/>
                </a:solidFill>
                <a:latin typeface="Times New Roman"/>
              </a:rPr>
              <a:t>Extensive internal testing by ERCOT and the Market Participa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464832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rmAutofit fontScale="91000"/>
          </a:bodyPr>
          <a:p>
            <a:pPr marL="312120" indent="-312120">
              <a:spcBef>
                <a:spcPts val="649"/>
              </a:spcBef>
              <a:buClr>
                <a:srgbClr val="00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cc66"/>
                </a:solidFill>
                <a:latin typeface="Times New Roman"/>
              </a:rPr>
              <a:t>A well planned Test Flight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51814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rmAutofit fontScale="91000"/>
          </a:bodyPr>
          <a:p>
            <a:pPr marL="312120" indent="-312120">
              <a:spcBef>
                <a:spcPts val="649"/>
              </a:spcBef>
              <a:buClr>
                <a:srgbClr val="ff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cc"/>
                </a:solidFill>
                <a:latin typeface="Times New Roman"/>
              </a:rPr>
              <a:t>Excellent Test Execution by all Market Participa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58672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rmAutofit fontScale="91000"/>
          </a:bodyPr>
          <a:p>
            <a:pPr marL="312120" indent="-312120"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A stern Flight Administrator, Glen Winger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500"/>
                            </p:stCondLst>
                            <p:childTnLst>
                              <p:par>
                                <p:cTn id="22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0"/>
                            </p:stCondLst>
                            <p:childTnLst>
                              <p:par>
                                <p:cTn id="27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792440" y="3276720"/>
            <a:ext cx="761760" cy="24382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06640" y="3276720"/>
            <a:ext cx="609480" cy="243828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050240" y="0"/>
            <a:ext cx="18288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9600" y="0"/>
          <a:ext cx="914400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00" y="0"/>
                    <a:ext cx="91440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84680" y="258840"/>
            <a:ext cx="796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4 Market Test Time Line Revised 6/30/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54000" y="5715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54000" y="54100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726400" y="54100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87520" y="5715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97000" y="5715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392640" y="5715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078440" y="5715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64240" y="5715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450040" y="5715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211800" y="5715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973920" y="5715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59720" y="5715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3240" y="5715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514600"/>
            <a:ext cx="224964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light V1.6-01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New CRs &amp; DN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92240" y="571500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65280" y="571500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54440" y="571500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25680" y="5715000"/>
            <a:ext cx="3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46720" y="5715000"/>
            <a:ext cx="45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173320" y="57150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0080" y="5715000"/>
            <a:ext cx="44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11480" y="5715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435720" y="571500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122240" y="5715000"/>
            <a:ext cx="40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731000" y="5715000"/>
            <a:ext cx="44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265960" y="5715000"/>
            <a:ext cx="42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06840" y="5715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50040" y="3048120"/>
            <a:ext cx="380880" cy="2666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87320" y="1676520"/>
            <a:ext cx="3606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ugust 1, 2004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MS Approved production ro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ut date for Version 2.0, including  MIM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d Stacking transaction chan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2000" y="56386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39960" y="53341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4320" y="1676520"/>
            <a:ext cx="124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Times New Roman"/>
              </a:rPr>
              <a:t>1/23/04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ligh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ickof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56240" y="1752480"/>
            <a:ext cx="2199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Times New Roman"/>
              </a:rPr>
              <a:t>3/05/04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light Successfull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clu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249640" y="1981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163400">
            <a:off x="1639800" y="1938240"/>
            <a:ext cx="154080" cy="995400"/>
          </a:xfrm>
          <a:custGeom>
            <a:avLst/>
            <a:gdLst>
              <a:gd name="textAreaLeft" fmla="*/ 0 w 154080"/>
              <a:gd name="textAreaRight" fmla="*/ 55440 w 154080"/>
              <a:gd name="textAreaTop" fmla="*/ 25920 h 995400"/>
              <a:gd name="textAreaBottom" fmla="*/ 969480 h 995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83320" y="2057400"/>
            <a:ext cx="96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 Wk.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25400" y="2057400"/>
            <a:ext cx="493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773520" y="3733560"/>
            <a:ext cx="7632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6213200">
            <a:off x="4496400" y="3390840"/>
            <a:ext cx="152280" cy="1598760"/>
          </a:xfrm>
          <a:custGeom>
            <a:avLst/>
            <a:gdLst>
              <a:gd name="textAreaLeft" fmla="*/ 0 w 152280"/>
              <a:gd name="textAreaRight" fmla="*/ 55080 w 152280"/>
              <a:gd name="textAreaTop" fmla="*/ 41400 h 1598760"/>
              <a:gd name="textAreaBottom" fmla="*/ 1557360 h 159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41640" y="4375080"/>
            <a:ext cx="1058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504 Fligh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Times New Roman"/>
              </a:rPr>
              <a:t>3/5/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030320" y="4571640"/>
            <a:ext cx="1219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4640" y="3276720"/>
            <a:ext cx="124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Times New Roman"/>
              </a:rPr>
              <a:t>5/14/04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ligh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ickof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78440" y="3809880"/>
            <a:ext cx="109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 Wk.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450040" y="236232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6364080" y="47242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40200" y="5181480"/>
            <a:ext cx="3124440" cy="533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light V2.0-09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New C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6213200">
            <a:off x="7161840" y="4380480"/>
            <a:ext cx="155520" cy="1446120"/>
          </a:xfrm>
          <a:custGeom>
            <a:avLst/>
            <a:gdLst>
              <a:gd name="textAreaLeft" fmla="*/ 0 w 155520"/>
              <a:gd name="textAreaRight" fmla="*/ 56160 w 155520"/>
              <a:gd name="textAreaTop" fmla="*/ 37440 h 1446120"/>
              <a:gd name="textAreaBottom" fmla="*/ 1408680 h 144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330000" y="5105520"/>
            <a:ext cx="1131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light Not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Times New Roman"/>
              </a:rPr>
              <a:t>7/7/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58360" y="4267080"/>
            <a:ext cx="124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9/10/04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ligh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ickof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45320" y="4724280"/>
            <a:ext cx="105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Wk.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5440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373720" y="3505320"/>
            <a:ext cx="9907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63360" y="335268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7/23/04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light E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06000" y="4495680"/>
            <a:ext cx="169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1/19/04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light E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7964640" y="480060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49640" y="4267080"/>
            <a:ext cx="3124080" cy="76212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light V2.0-05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l Market Players &amp; DN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6400" y="6107040"/>
            <a:ext cx="259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ESB Version 1.6 Phase 2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/5 - 2/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1715760" y="525780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69720" y="6107040"/>
            <a:ext cx="259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ESB Version 1.6 Phase 3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16 - 3/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54200" y="518148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408400" y="2759040"/>
            <a:ext cx="2011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Times New Roman"/>
              </a:rPr>
              <a:t>Feb 6, 2004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Check 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 MIMO prog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828440" y="312408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 flipH="1">
            <a:off x="1481040" y="3200400"/>
            <a:ext cx="34776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0" y="0"/>
          <a:ext cx="914400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6858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010280" y="0"/>
            <a:ext cx="18288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0" y="0"/>
          <a:ext cx="9144000" cy="16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78480" y="318960"/>
            <a:ext cx="707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light Schedules for V2.0 Test Flights in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79200" y="1063800"/>
          <a:ext cx="8668080" cy="57308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9200" y="1063800"/>
                    <a:ext cx="8668080" cy="57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0" y="0"/>
          <a:ext cx="914400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6858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10280" y="0"/>
            <a:ext cx="18288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0" y="0"/>
          <a:ext cx="9144000" cy="16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80640" y="318960"/>
            <a:ext cx="895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TPT Adopted Flight Schedules for 4 Test Flights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1295280"/>
            <a:ext cx="784872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2.0-0105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esting New Market Participants in TX SET Version 2.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vity to start Dec 17, 2004 (to avoid Christmas/New Yea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 21, 2005 - Mar 18, 2005 (8 weeks for scrip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2.0-040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Testing New Market Participants in TX SET Version 2.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vity to start March 18,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ril 22, 2005 - June 17, 2005 (8 weeks for scrip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2.0-0705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esting New Market Participants in TX SET Version 2.0 or perhaps a new release of TX SET Version 2.1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vity to start June 17,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ly 22, 2005 - Sept. 16, 2005 (8 weeks for scrip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2.0-1005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esting New Market Participants in TX SET Version 2.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vity to start September 16,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ct. 21, 2005 - Dec. 16, 2005 (8 weeks for scrip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0" y="0"/>
          <a:ext cx="914400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6858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10280" y="0"/>
            <a:ext cx="18288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0" y="0"/>
          <a:ext cx="9144000" cy="16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77400" y="318960"/>
            <a:ext cx="84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light Schedules for V2.0 Test Flights in 2005 (6/30/0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0" y="1154160"/>
          <a:ext cx="8759880" cy="57006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1154160"/>
                    <a:ext cx="8759880" cy="57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14400" y="0"/>
          <a:ext cx="914400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0" y="0"/>
                    <a:ext cx="91440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7002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024680" y="0"/>
            <a:ext cx="18288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4400" y="0"/>
          <a:ext cx="9144000" cy="16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00" y="0"/>
                    <a:ext cx="91440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91440" y="318960"/>
            <a:ext cx="84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light Schedules for V2.0 Test Flights in 2005 (6/30/0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0" y="1054080"/>
          <a:ext cx="8947080" cy="57006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1054080"/>
                    <a:ext cx="8947080" cy="57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7050240" y="0"/>
            <a:ext cx="18288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39600" y="0"/>
          <a:ext cx="914400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00" y="0"/>
                    <a:ext cx="91440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183600" y="258840"/>
            <a:ext cx="776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5 Market Test Time Line Draft 06/30/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54000" y="5715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54000" y="54100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726400" y="54100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487520" y="5715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097000" y="5715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92640" y="5715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78440" y="5715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64240" y="5715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50040" y="5715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211800" y="5715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973920" y="5715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59720" y="5715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193240" y="5715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2514600"/>
            <a:ext cx="2438280" cy="5335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light V2.0-01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New CR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92240" y="571500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69960" y="571500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54440" y="571500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225680" y="5715000"/>
            <a:ext cx="3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46720" y="5715000"/>
            <a:ext cx="45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173320" y="57150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680080" y="5715000"/>
            <a:ext cx="44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911480" y="5715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35720" y="571500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122240" y="5715000"/>
            <a:ext cx="40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731000" y="5715000"/>
            <a:ext cx="44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265960" y="5715000"/>
            <a:ext cx="42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743200" y="5715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2000" y="56386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39960" y="53341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79720" y="1676520"/>
            <a:ext cx="124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/21/05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ligh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ickof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589840" y="16002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/18/05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light E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2438280" y="190476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6163400">
            <a:off x="1788120" y="1865880"/>
            <a:ext cx="156960" cy="1143000"/>
          </a:xfrm>
          <a:custGeom>
            <a:avLst/>
            <a:gdLst>
              <a:gd name="textAreaLeft" fmla="*/ 0 w 156960"/>
              <a:gd name="textAreaRight" fmla="*/ 56520 w 1569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456200" y="2057400"/>
            <a:ext cx="96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 Wk.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90720" y="2057400"/>
            <a:ext cx="2649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5334120" y="3505320"/>
            <a:ext cx="7596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16213200">
            <a:off x="5902920" y="3543480"/>
            <a:ext cx="152280" cy="129384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3840"/>
              <a:gd name="textAreaBottom" fmla="*/ 1260360 h 1293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371600" y="41148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05 Flight Not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/04/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4495680"/>
            <a:ext cx="12193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177160" y="2971800"/>
            <a:ext cx="124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7/22/05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ligh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ickof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487120" y="371808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 Wk.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562720" y="5181480"/>
            <a:ext cx="3047760" cy="533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light V2.0-1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New C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rot="16213200">
            <a:off x="7922520" y="4493160"/>
            <a:ext cx="81000" cy="1143000"/>
          </a:xfrm>
          <a:custGeom>
            <a:avLst/>
            <a:gdLst>
              <a:gd name="textAreaLeft" fmla="*/ 0 w 81000"/>
              <a:gd name="textAreaRight" fmla="*/ 29160 w 810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594960" y="5029200"/>
            <a:ext cx="1131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light Not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/03/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476120" y="4724280"/>
            <a:ext cx="96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 Wk.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419720" y="5410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6629400" y="3124080"/>
            <a:ext cx="533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75920" y="281952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9/16/05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light E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267080"/>
            <a:ext cx="3124080" cy="53352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light V2.0-07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New CRs &amp; Possible V2.1 Rel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3276720"/>
            <a:ext cx="297180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ight V2.0-04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ew C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489760" y="2438280"/>
            <a:ext cx="124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/22/05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ligh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ickof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71160" y="220968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/17/05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light E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4572000" y="2514240"/>
            <a:ext cx="38088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69320" y="2819520"/>
            <a:ext cx="96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 Wk.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087720" y="2895480"/>
            <a:ext cx="1890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3440" y="3308400"/>
            <a:ext cx="1058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405 Fligh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/2/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762120" y="35812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8610480" y="4419720"/>
            <a:ext cx="763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391520" y="4648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229600" y="3689280"/>
            <a:ext cx="838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2/16/05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light E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32440" y="4130640"/>
            <a:ext cx="133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/21/05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ligh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ickof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16163400">
            <a:off x="3845160" y="2630880"/>
            <a:ext cx="157320" cy="1143000"/>
          </a:xfrm>
          <a:custGeom>
            <a:avLst/>
            <a:gdLst>
              <a:gd name="textAreaLeft" fmla="*/ 0 w 157320"/>
              <a:gd name="textAreaRight" fmla="*/ 56880 w 1573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3T17:17:51Z</dcterms:created>
  <dc:creator>REI</dc:creator>
  <dc:description/>
  <dc:language>en-US</dc:language>
  <cp:lastModifiedBy>ashang</cp:lastModifiedBy>
  <cp:lastPrinted>2004-06-23T18:10:34Z</cp:lastPrinted>
  <dcterms:modified xsi:type="dcterms:W3CDTF">2004-07-15T14:36:56Z</dcterms:modified>
  <cp:revision>78</cp:revision>
  <dc:subject/>
  <dc:title>No Slide Title</dc:title>
</cp:coreProperties>
</file>