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63FA-52BB-40F5-BA81-BE5431B7B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08AF-BEFF-4253-9781-45D6B9EE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354B-AAEB-4F81-8823-42FE52C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ECD5-7F17-4908-B0C8-E79A4A7EF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03E7-8590-4EC3-BC29-9D71030A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5D3C-820E-478A-B41E-69DBF66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753F-BF2E-4B52-AD3C-CDD2DCFC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3095-3421-40E9-863F-B1C7D5C0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1E38-10F7-450D-9630-F067D0AB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CCC4-DF6B-4663-B9EF-AAC0FA98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288F-EF0F-42ED-A7C0-B8AC0A92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FE94-87CF-43D6-9F7F-96AFFCC1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C54-934D-4207-96A2-17269F29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95480" y="380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action Improvement Task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IT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  <a:ea typeface="Times New Roman"/>
              </a:rPr>
              <a:t>Scenarios Where TD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  <a:ea typeface="Times New Roman"/>
              </a:rPr>
              <a:t>Requests that ERCOT Cancel a C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  <a:ea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cember 11,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DC53-C29A-491B-A43D-7D91BD8C2E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371600"/>
            <a:ext cx="883944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can cancel without CR approval but with CR FasTrak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enario A (follows MIMO ru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 A submits a M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 B submits MVI which precedes or is the same day as a scheduled M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SPs can request cancel MVO, after MVI completed, thru FasTrak without CR approv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RCOT will provide reject code and standard text (including FasTrak # and MIMO rule), which will be sent to 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cenario B (follows rules MI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SP wants to cancel a switch because it received a safety net MVI before the switch effectu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RCOT will provide reject code and standard text (including FasTrak # and MIMO rule), which will be sent to 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96D0-2CA0-4DB6-ADAD-8758D648803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371600"/>
            <a:ext cx="861084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can cancel without CR approval but with CR moni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cenari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pired (20 days) 814_28 PT transactions because 814_04 has not been received by ERC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will send a cancel with exception 814_08 on day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75000"/>
              </a:lnSpc>
              <a:spcBef>
                <a:spcPts val="876"/>
              </a:spcBef>
              <a:spcAft>
                <a:spcPts val="437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RCOT will provide reject code and standard text (including FasTrak # and MIMO rule), which will be sent to 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cenari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safety net MVI is requested prior to a scheduled drop to A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SP enters a FasTrak ticket to request cancellation of drop to A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will cancel Drop to AR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RCOT will provide reject code and standard text (including FasTrak # and MIMO rule), which will be sent to 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Scenario E (new scenar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witch is unexecutable (e.g., when meter removed from a premise but no ESID reti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DSP enters a FasTrak ticket to request cancellation of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RCOT will cancel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RCOT will provide reject code and standard text (including FasTrak # and MIMO rule), which will be sent to 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F693-C1F7-4234-839F-1FDA20F6AA7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371600"/>
            <a:ext cx="88394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TDSP canc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f CR directs TDSP to cancel transaction then TDSP will ask CR to submit FasTrak issue. If cancellation must occur very quickly, CR will notify TDSP of FasTrak number by 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 will be written by TITF to ensure that all market participants use FasTr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scenarios will be addressed on an as needed basis if a new clean up effort is initi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DD3E-16D9-48C2-A043-D894D4E2FB4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arios that have been dropped or defer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REP submits a MVO and then a MVI before the MVO effectuating date (REPs should manage this timing issue inter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ed 814_29 sent to TDSP from ERCOT (this is an EDI validiation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pending when MVO submitted (the MVO will be rejected NF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care premises (TDSP to submit an 814_28 complete unexecutable, and process to be more fully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ed in Chapter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cleanup (no scenario required as issue dealt with case by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s about # of entities permitted to view a FasTrak issue (an SCR 732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BFFF-622E-4E57-9277-C42FB02089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ashang</cp:lastModifiedBy>
  <dcterms:modified xsi:type="dcterms:W3CDTF">2004-06-24T15:33:03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38695189</vt:r8>
  </property>
  <property fmtid="{D5CDD505-2E9C-101B-9397-08002B2CF9AE}" pid="3" name="_AuthorEmail">
    <vt:lpwstr>Terri.Eaton@GreenMountain.com</vt:lpwstr>
  </property>
  <property fmtid="{D5CDD505-2E9C-101B-9397-08002B2CF9AE}" pid="4" name="_AuthorEmailDisplayName">
    <vt:lpwstr>Eaton, Terri</vt:lpwstr>
  </property>
  <property fmtid="{D5CDD505-2E9C-101B-9397-08002B2CF9AE}" pid="5" name="_EmailSubject">
    <vt:lpwstr>TITF_RMS_Presentation_20031211.ppt</vt:lpwstr>
  </property>
  <property fmtid="{D5CDD505-2E9C-101B-9397-08002B2CF9AE}" pid="6" name="_PreviousAdHocReviewCycleID">
    <vt:r8>1338695189</vt:r8>
  </property>
  <property fmtid="{D5CDD505-2E9C-101B-9397-08002B2CF9AE}" pid="7" name="_ReviewingToolsShownOnce">
    <vt:lpwstr/>
  </property>
</Properties>
</file>