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C2C-09A6-48B9-8E4A-F4FC687D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06A-A2CB-401B-B02E-D43BC97F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EC0-11FD-4DA1-97B4-D3228F38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779-DA67-46D1-AC8F-A59AECDE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07D-DF48-4BC6-A4D8-1EC7A476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CBB-7ADE-4173-8025-9927015B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638-4E71-498C-BD43-3AD7AB7F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B82-2B81-418D-9FC2-03C284B4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D04-3428-4B9F-9B52-6504F188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07D-593E-469F-AF96-05A3761A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4A3-07B4-4D91-A6D6-9F82BF50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463-3B38-4443-A97E-77CA3F7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82F3-948B-48EB-8B13-2F62B2878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ttlement Varianc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D76-8418-4DB4-A53D-FCE99774A7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1447920"/>
          <a:ext cx="8305200" cy="457164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480"/>
                <a:gridCol w="1406520"/>
                <a:gridCol w="140436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6A7-1066-4447-B9F8-AB1BE25E5A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1523880"/>
          <a:ext cx="8305200" cy="457164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480"/>
                <a:gridCol w="1406520"/>
                <a:gridCol w="140436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,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738-1727-4C98-8A3A-07319D03E9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nergy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523880"/>
          <a:ext cx="8229240" cy="449568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08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,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,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,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694-72F1-4B97-9941-B736C42948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04920" y="1447920"/>
          <a:ext cx="8305200" cy="457164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480"/>
                <a:gridCol w="1406520"/>
                <a:gridCol w="140436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928-1C55-437C-92CA-29CCA0C5C4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1447920"/>
          <a:ext cx="8229240" cy="457164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25C-DC5E-4685-A379-B837C60F9D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447920"/>
          <a:ext cx="8229240" cy="464760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,8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,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3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,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0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,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E6D-E685-44A6-A496-9AA0C21CD4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178-555D-42D2-9449-7B5A03B5DA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905120"/>
            <a:ext cx="81532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tlement Calend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Extract Vari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62F-600F-41A3-87B0-E437E8A10D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3962520"/>
            <a:ext cx="1295280" cy="99036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ttlement Cale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4760" y="4038480"/>
            <a:ext cx="6019560" cy="833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4760" y="2900520"/>
            <a:ext cx="6024600" cy="83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74760" y="1295280"/>
            <a:ext cx="6026040" cy="142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629400" y="20574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egan with 1 Resettlement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29718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ved to 3 Resettlements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50292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mplet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Resett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586728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Catch up to 180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True-Up 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2895480"/>
            <a:ext cx="1295280" cy="914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029200"/>
            <a:ext cx="1298520" cy="6094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4960" y="5791320"/>
            <a:ext cx="1298520" cy="9144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057400"/>
            <a:ext cx="12985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41148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ettling April 2, 2003 as of tonight (7/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74760" y="5029200"/>
            <a:ext cx="6010200" cy="55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74760" y="5799240"/>
            <a:ext cx="6010200" cy="83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516-DAC6-48EA-BFB9-B3110F72BF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Month Deadlines for DEV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1371600"/>
          <a:ext cx="5029200" cy="5335560"/>
        </p:xfrm>
        <a:graphic>
          <a:graphicData uri="http://schemas.openxmlformats.org/drawingml/2006/table">
            <a:tbl>
              <a:tblPr/>
              <a:tblGrid>
                <a:gridCol w="986040"/>
                <a:gridCol w="2101680"/>
                <a:gridCol w="19414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ggregation 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-Up Sett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Reque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ad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3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16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4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1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1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1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2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2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2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3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1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1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2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1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2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C29-98F4-4C3C-AA3D-55A5B354E2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76360" y="1600200"/>
          <a:ext cx="799128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600200"/>
                    <a:ext cx="79912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914400" y="609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7/13/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3AC-5ED5-4A75-834C-DC7CB276AA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4572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3434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is continually working to resolve any ESI IDs that are responded to, but are also reviewing in detail the ESIID statuses, to verify that the status/issue have been marked resolved when changes have been comple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½ of the ESIIDs for April 2003 (Sent to TDSP) were responded to recently and are currently being reviewed by ERCOT.  Status has not been updated yet, but will be ASA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38080" y="1219320"/>
          <a:ext cx="7315200" cy="310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31520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B58-6A82-423D-846B-147E101E37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4572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for Consider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1311120"/>
            <a:ext cx="8839080" cy="52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s continue to submit variances for months for which settlement has passed and for recent months.  ERCOT will continue to work issues per DEV Manual timeline – basic 75 day cale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ed responses by monitoring party may cause issues to extend beyond the 75 day cale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ed agreement between the submitter and the monitoring party will likely cause issue to extend beyond the 75 day cale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ly, ERCOT resources get tied up in requesting and prodding for responses when we could be working new issues and issues which have a response.  (Submitter needs to champion getting the monitoring party agre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ng responses cau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Type changes will not be accepted.  If a response changes the variance type of an issue the variance must be re-filed under the correct Variance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380-7DD1-46F2-ABA4-9D4A4361B6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une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658-7247-4009-BB95-13B67DEBB4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of 79 Competitive Retailers Reported Numbers by the due date for June (07/02/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August RMS (July Reports) are due by August 3,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 for next mon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Rs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CD2-F943-482C-A246-F410F3EE5D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 Shang</cp:lastModifiedBy>
  <cp:lastPrinted>2002-09-24T18:27:58Z</cp:lastPrinted>
  <dcterms:modified xsi:type="dcterms:W3CDTF">2004-08-06T18:48:40Z</dcterms:modified>
  <cp:revision>352</cp:revision>
  <dc:subject/>
  <dc:title>PowerPoint Presentation</dc:title>
</cp:coreProperties>
</file>