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85706-A9BF-42D2-B2A8-F90E37F98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20780-5297-4415-BD7C-C97F52D7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C9818-0B79-4E2B-92A8-2F1FCD98D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43294-45E3-4815-9987-19D208577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0A6B9-96B5-4064-9DA1-34FD8A20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21478-F632-4A6C-B97E-D8C607668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64EB-8E20-411A-8CF6-ECD13236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A6FE2-7F90-453D-97FB-C8618CD94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B7C4A-5555-4274-9620-F4DCAEF3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72EF-0E0E-4E97-93BA-290CB349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CE36-61E9-426E-A44A-B37AC5FB5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BBF1-3C20-4142-A6F5-F8609BA75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2419-342B-4C4F-9751-31F37600B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Working Group</a:t>
            </a: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uly 8,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6" name=""/>
          <p:cNvSpPr/>
          <p:nvPr/>
        </p:nvSpPr>
        <p:spPr>
          <a:xfrm>
            <a:off x="533520" y="2590920"/>
            <a:ext cx="8381880" cy="3591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3333cc"/>
                </a:solidFill>
                <a:latin typeface="Times New Roman"/>
              </a:rPr>
              <a:t>Meeting held June 23, 2004 </a:t>
            </a:r>
            <a:endParaRPr b="0" lang="en-US" sz="2400" spc="-1" strike="noStrike">
              <a:solidFill>
                <a:srgbClr val="000000"/>
              </a:solidFill>
              <a:latin typeface="Times New Roman"/>
            </a:endParaRPr>
          </a:p>
          <a:p>
            <a:pPr lvl="1" marL="457200">
              <a:lnSpc>
                <a:spcPct val="10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ved PRR 509 - ADR Changes, PRS will review on July 23</a:t>
            </a:r>
            <a:endParaRPr b="0" lang="en-US" sz="2400" spc="-1" strike="noStrike">
              <a:solidFill>
                <a:srgbClr val="000000"/>
              </a:solidFill>
              <a:latin typeface="Times New Roman"/>
            </a:endParaRPr>
          </a:p>
          <a:p>
            <a:pPr lvl="1" marL="457200">
              <a:lnSpc>
                <a:spcPct val="10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COPS Protocol Task Force will begin reviewing Protocol Chapter 9, Settlement and Billing.  This review will include looking at the current settlement timeline for opportunities to enhance the market process.</a:t>
            </a:r>
            <a:endParaRPr b="0" lang="en-US" sz="2400" spc="-1" strike="noStrike">
              <a:solidFill>
                <a:srgbClr val="000000"/>
              </a:solidFill>
              <a:latin typeface="Times New Roman"/>
            </a:endParaRPr>
          </a:p>
          <a:p>
            <a:pPr lvl="1" marL="457200">
              <a:lnSpc>
                <a:spcPct val="10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cope documents are still being review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8" name=""/>
          <p:cNvSpPr/>
          <p:nvPr/>
        </p:nvSpPr>
        <p:spPr>
          <a:xfrm>
            <a:off x="380880" y="1066680"/>
            <a:ext cx="8382240" cy="6311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Settlement T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omas Martin / Kenneth Ragsdal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ultiple Ancillary Market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dify Due Dates of QSE Invoice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tail for OOME Instructed Deviation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vestigate 15 min Resource Plan (EMMS 4.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mplementation of PRR 451</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Data and Data Presentation T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eonard Stanfield / Bill Kettlewell</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ssing Data Need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eanup of Data Present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pute 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0"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Operating Guide and Communitcations TF</a:t>
            </a:r>
            <a:r>
              <a:rPr b="1" lang="en-US" sz="2400" spc="-1" strike="noStrike">
                <a:solidFill>
                  <a:srgbClr val="000000"/>
                </a:solidFill>
                <a:latin typeface="Times New Roman"/>
              </a:rPr>
              <a:t>	</a:t>
            </a:r>
            <a:r>
              <a:rPr b="1" lang="en-US" sz="2400" spc="-1" strike="noStrike">
                <a:solidFill>
                  <a:srgbClr val="000000"/>
                </a:solidFill>
                <a:latin typeface="Times New Roman"/>
              </a:rPr>
              <a:t>Judy Briscoe / Ted Hailu</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munication Templates</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age Tracking</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ide Cre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Protocols and Review T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eAnn Walker / Jennifer Garcia</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pute Proces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tlement Timelin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rket Protocols – Settlement Imp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2" name=""/>
          <p:cNvSpPr/>
          <p:nvPr/>
        </p:nvSpPr>
        <p:spPr>
          <a:xfrm>
            <a:off x="380880" y="1523880"/>
            <a:ext cx="8382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R 50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R Timeli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y 27  -   Overview of PRR to C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ne 14  -   Draft of PRR sent to C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ne 23  -   COPs considers PR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ly 1     -  Submit draft PRR to P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ly 23   -  PRS Meeting</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MA4</cp:lastModifiedBy>
  <dcterms:modified xsi:type="dcterms:W3CDTF">2004-06-29T22:54:52Z</dcterms:modified>
  <cp:revision>78</cp:revision>
  <dc:subject/>
  <dc:title>Point-to-Point</dc:title>
</cp:coreProperties>
</file>