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C7C-C05F-4756-9488-D948189C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507-2915-4359-8FF5-E9FF5ECA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0AE-5A89-4358-965E-1E3D0A01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D17-C360-4817-A565-A5B7DF27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EAD-2BB4-46D7-8B7E-C29FF256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929-5239-495A-88CB-6E418254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DDA-8F07-4259-90E3-CFBC579D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F0B-8D3E-414A-B01F-AD9F725C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9B1-8ED3-4921-8D30-3653109B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8FD-C944-4FCB-A925-5DD0D697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DAD-A4B1-4DD9-ADE4-E45E3756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76B-185C-44AE-B0C1-EB123FB4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B56B-13D0-45D9-8ABE-71D105A2D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F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4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S 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oncerns with consensus cha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RMS have any direction with respect to remaining outstanding iss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R 518 Tabled by 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 518 was considered by PRS at its June meeting and tabled for further discussion of definition of “Business Da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 518 will be taken up by PRS again at its July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Business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term “Retail Business Day” has been developed for Chapter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efinition will be included in 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Day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 through Friday, excluding ERCOT observed holidays listed bel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ear’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ial 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c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giving Thursday and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(2) days at Christmas, as designated by the ERCOT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Business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above except in the case of retail transactions processed by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SP, CR’s shall substitute TDSP holidays for ERCOT holidays wh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ing the time available to the TDSP to process the transaction.  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, important information related to Retail Business Days, ple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 to the Retail Market Gu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Materi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“Safety Net Move-In” deleted from Section 2 (convention is to include definition in Section 2 only if term is used in at least two Protocol Se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d 15.2.1.9 (15.1.1.9) to reflect that dates on 867_04 and first 867_03 may not match where there has been a market clean-up (consistent with 15.2.3.5 (15.1.3.5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Material Chang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d 15.2.2.7 (15.1.2.7) to provide that historical meter read information will not be provided where prohibited by PUCT rules (consistent with 15.2.1.2.1 (15.1.1.2.1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Material Chang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d 15.2.4.6 (15.1.4.6) to clarify that the date of the 867_03 may not be within two days of the date scheduled in the 814_25 where delay necessary to allow customer time to remedy condition and avoid unexecutable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Material Chang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anguage regarding ERCOT reports in 15.2.2.5, 15.2.2.6, 15.2.3.5, and 15.2.4.4 (15.1.2.5, 15.1.2.6, 15.1.3.5, and 15.1.4.4) deleted as reports will become obsolete with implementation of st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standing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Protocol requirements for Point to Point Transactions remain in Chapter 15 or are moved to new Chapter 24 (previously deferred to P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P has recommended that the TDSP response time for 814_13 date change transactions be 2 rather than 1 Business Day (15.2.6 (15.1.6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P has recommended retention of language in 15.5.3 (15.4.3) concerning treatment of ESI IDs in the event of a merger or acquisition between TD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6:19:36Z</dcterms:created>
  <dc:creator>Terri Eaton</dc:creator>
  <dc:description/>
  <dc:language>en-US</dc:language>
  <cp:lastModifiedBy>Terri Eaton</cp:lastModifiedBy>
  <dcterms:modified xsi:type="dcterms:W3CDTF">2004-07-06T16:51:48Z</dcterms:modified>
  <cp:revision>2</cp:revision>
  <dc:subject/>
  <dc:title>TITF Update</dc:title>
</cp:coreProperties>
</file>