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7F8CC21-D7CB-447C-B5B8-DB10A09D4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0AB37B5-9C9B-4B34-9980-1A443609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F035CCD-4272-4E00-82C5-2A6E04413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0AC-9525-4849-AF5E-A8059F36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9C0-9C3E-4B16-ADA3-B156F5DC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95E-4ECC-4709-92B6-B84B6943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C34-B493-4711-8F45-D9191C18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30C-2169-4725-9549-9B8E8DCA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9D3-3D8D-44F4-853D-760B9FB6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A10-42A5-40EB-B2A6-E0C7D284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51B-1CC0-4BC1-8E11-E11A05C7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4DE-0F18-4BC4-9740-77D2C0C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B27-275B-48F1-B91B-CC492670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DE5-5F43-4E75-8E1B-61F165D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914-3F6E-4839-B288-AFB4C912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9EE9-BE8D-4043-9C5F-81B448240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protrevreq@ercot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57640" y="2005200"/>
            <a:ext cx="802872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ket Maintenance Activ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646-5350-4885-A62F-828C60422B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52520" y="2055960"/>
            <a:ext cx="1426680" cy="2232720"/>
            <a:chOff x="1352520" y="2055960"/>
            <a:chExt cx="1426680" cy="2232720"/>
          </a:xfrm>
        </p:grpSpPr>
        <p:sp>
          <p:nvSpPr>
            <p:cNvPr id="137" name=""/>
            <p:cNvSpPr/>
            <p:nvPr/>
          </p:nvSpPr>
          <p:spPr>
            <a:xfrm>
              <a:off x="1352520" y="3600360"/>
              <a:ext cx="539640" cy="285480"/>
            </a:xfrm>
            <a:custGeom>
              <a:avLst/>
              <a:gdLst/>
              <a:ahLst/>
              <a:rect l="l" t="t" r="r" b="b"/>
              <a:pathLst>
                <a:path w="340" h="180">
                  <a:moveTo>
                    <a:pt x="53" y="72"/>
                  </a:moveTo>
                  <a:lnTo>
                    <a:pt x="286" y="72"/>
                  </a:lnTo>
                  <a:lnTo>
                    <a:pt x="286" y="108"/>
                  </a:lnTo>
                  <a:lnTo>
                    <a:pt x="53" y="108"/>
                  </a:lnTo>
                  <a:lnTo>
                    <a:pt x="53" y="72"/>
                  </a:lnTo>
                  <a:close/>
                  <a:moveTo>
                    <a:pt x="53" y="144"/>
                  </a:moveTo>
                  <a:lnTo>
                    <a:pt x="0" y="90"/>
                  </a:lnTo>
                  <a:lnTo>
                    <a:pt x="53" y="36"/>
                  </a:lnTo>
                  <a:lnTo>
                    <a:pt x="107" y="90"/>
                  </a:lnTo>
                  <a:lnTo>
                    <a:pt x="53" y="144"/>
                  </a:lnTo>
                  <a:close/>
                  <a:moveTo>
                    <a:pt x="268" y="0"/>
                  </a:moveTo>
                  <a:lnTo>
                    <a:pt x="340" y="90"/>
                  </a:lnTo>
                  <a:lnTo>
                    <a:pt x="268" y="18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52240" y="38001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51520" y="40449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2880" y="2055960"/>
              <a:ext cx="79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3240" y="23000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s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82800" y="2522520"/>
              <a:ext cx="395280" cy="1067760"/>
            </a:xfrm>
            <a:custGeom>
              <a:avLst/>
              <a:gdLst/>
              <a:ahLst/>
              <a:rect l="l" t="t" r="r" b="b"/>
              <a:pathLst>
                <a:path w="2102" h="5666">
                  <a:moveTo>
                    <a:pt x="2096" y="49"/>
                  </a:moveTo>
                  <a:lnTo>
                    <a:pt x="198" y="5362"/>
                  </a:lnTo>
                  <a:cubicBezTo>
                    <a:pt x="192" y="5379"/>
                    <a:pt x="173" y="5388"/>
                    <a:pt x="155" y="5382"/>
                  </a:cubicBezTo>
                  <a:cubicBezTo>
                    <a:pt x="138" y="5376"/>
                    <a:pt x="129" y="5357"/>
                    <a:pt x="135" y="5339"/>
                  </a:cubicBezTo>
                  <a:lnTo>
                    <a:pt x="2033" y="26"/>
                  </a:lnTo>
                  <a:cubicBezTo>
                    <a:pt x="2039" y="9"/>
                    <a:pt x="2058" y="0"/>
                    <a:pt x="2076" y="6"/>
                  </a:cubicBezTo>
                  <a:cubicBezTo>
                    <a:pt x="2093" y="12"/>
                    <a:pt x="2102" y="31"/>
                    <a:pt x="2096" y="49"/>
                  </a:cubicBezTo>
                  <a:close/>
                  <a:moveTo>
                    <a:pt x="379" y="5355"/>
                  </a:moveTo>
                  <a:lnTo>
                    <a:pt x="54" y="5666"/>
                  </a:lnTo>
                  <a:lnTo>
                    <a:pt x="0" y="5220"/>
                  </a:lnTo>
                  <a:lnTo>
                    <a:pt x="379" y="535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892160" y="3600360"/>
            <a:ext cx="812880" cy="285840"/>
          </a:xfrm>
          <a:custGeom>
            <a:avLst/>
            <a:gdLst/>
            <a:ahLst/>
            <a:rect l="l" t="t" r="r" b="b"/>
            <a:pathLst>
              <a:path w="860" h="180">
                <a:moveTo>
                  <a:pt x="0" y="72"/>
                </a:moveTo>
                <a:lnTo>
                  <a:pt x="806" y="72"/>
                </a:lnTo>
                <a:lnTo>
                  <a:pt x="806" y="108"/>
                </a:lnTo>
                <a:lnTo>
                  <a:pt x="0" y="108"/>
                </a:lnTo>
                <a:lnTo>
                  <a:pt x="0" y="72"/>
                </a:lnTo>
                <a:close/>
                <a:moveTo>
                  <a:pt x="788" y="0"/>
                </a:moveTo>
                <a:lnTo>
                  <a:pt x="860" y="90"/>
                </a:lnTo>
                <a:lnTo>
                  <a:pt x="788" y="180"/>
                </a:lnTo>
                <a:lnTo>
                  <a:pt x="788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5600" y="4373640"/>
            <a:ext cx="120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ents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26320" y="461628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A Submit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044960"/>
            <a:ext cx="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08280" y="3600360"/>
            <a:ext cx="835200" cy="285840"/>
          </a:xfrm>
          <a:custGeom>
            <a:avLst/>
            <a:gdLst/>
            <a:ahLst/>
            <a:rect l="l" t="t" r="r" b="b"/>
            <a:pathLst>
              <a:path w="526" h="180">
                <a:moveTo>
                  <a:pt x="0" y="72"/>
                </a:moveTo>
                <a:lnTo>
                  <a:pt x="472" y="72"/>
                </a:lnTo>
                <a:lnTo>
                  <a:pt x="472" y="108"/>
                </a:lnTo>
                <a:lnTo>
                  <a:pt x="0" y="108"/>
                </a:lnTo>
                <a:lnTo>
                  <a:pt x="0" y="72"/>
                </a:lnTo>
                <a:close/>
                <a:moveTo>
                  <a:pt x="454" y="0"/>
                </a:moveTo>
                <a:lnTo>
                  <a:pt x="526" y="90"/>
                </a:lnTo>
                <a:lnTo>
                  <a:pt x="454" y="180"/>
                </a:lnTo>
                <a:lnTo>
                  <a:pt x="454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0200" y="1905120"/>
            <a:ext cx="43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2360" y="214956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tt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0200" y="239076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58760" y="3800520"/>
            <a:ext cx="761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e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2080" y="404496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1800" y="2657520"/>
            <a:ext cx="253800" cy="917640"/>
          </a:xfrm>
          <a:custGeom>
            <a:avLst/>
            <a:gdLst/>
            <a:ahLst/>
            <a:rect l="l" t="t" r="r" b="b"/>
            <a:pathLst>
              <a:path w="1341" h="4861">
                <a:moveTo>
                  <a:pt x="69" y="28"/>
                </a:moveTo>
                <a:lnTo>
                  <a:pt x="1194" y="4528"/>
                </a:lnTo>
                <a:cubicBezTo>
                  <a:pt x="1199" y="4546"/>
                  <a:pt x="1188" y="4564"/>
                  <a:pt x="1170" y="4568"/>
                </a:cubicBezTo>
                <a:cubicBezTo>
                  <a:pt x="1152" y="4573"/>
                  <a:pt x="1134" y="4562"/>
                  <a:pt x="1129" y="4544"/>
                </a:cubicBezTo>
                <a:lnTo>
                  <a:pt x="4" y="45"/>
                </a:lnTo>
                <a:cubicBezTo>
                  <a:pt x="0" y="27"/>
                  <a:pt x="11" y="8"/>
                  <a:pt x="29" y="4"/>
                </a:cubicBezTo>
                <a:cubicBezTo>
                  <a:pt x="47" y="0"/>
                  <a:pt x="65" y="10"/>
                  <a:pt x="69" y="28"/>
                </a:cubicBezTo>
                <a:close/>
                <a:moveTo>
                  <a:pt x="1341" y="4422"/>
                </a:moveTo>
                <a:lnTo>
                  <a:pt x="1243" y="4861"/>
                </a:lnTo>
                <a:lnTo>
                  <a:pt x="951" y="4520"/>
                </a:lnTo>
                <a:lnTo>
                  <a:pt x="1341" y="442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57520" y="3600360"/>
            <a:ext cx="682560" cy="285840"/>
          </a:xfrm>
          <a:custGeom>
            <a:avLst/>
            <a:gdLst/>
            <a:ahLst/>
            <a:rect l="l" t="t" r="r" b="b"/>
            <a:pathLst>
              <a:path w="430" h="180">
                <a:moveTo>
                  <a:pt x="0" y="72"/>
                </a:moveTo>
                <a:lnTo>
                  <a:pt x="376" y="72"/>
                </a:lnTo>
                <a:lnTo>
                  <a:pt x="376" y="108"/>
                </a:lnTo>
                <a:lnTo>
                  <a:pt x="0" y="108"/>
                </a:lnTo>
                <a:lnTo>
                  <a:pt x="0" y="72"/>
                </a:lnTo>
                <a:close/>
                <a:moveTo>
                  <a:pt x="358" y="0"/>
                </a:moveTo>
                <a:lnTo>
                  <a:pt x="430" y="90"/>
                </a:lnTo>
                <a:lnTo>
                  <a:pt x="358" y="180"/>
                </a:lnTo>
                <a:lnTo>
                  <a:pt x="358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45800" y="5011560"/>
            <a:ext cx="1965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S  Rec. 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t to TAC &amp; pos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13040" y="380052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12320" y="404496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031600">
            <a:off x="4100040" y="3970080"/>
            <a:ext cx="325440" cy="993600"/>
          </a:xfrm>
          <a:custGeom>
            <a:avLst/>
            <a:gdLst/>
            <a:ahLst/>
            <a:rect l="l" t="t" r="r" b="b"/>
            <a:pathLst>
              <a:path w="1720" h="5264">
                <a:moveTo>
                  <a:pt x="6" y="5217"/>
                </a:moveTo>
                <a:lnTo>
                  <a:pt x="1515" y="311"/>
                </a:lnTo>
                <a:cubicBezTo>
                  <a:pt x="1521" y="293"/>
                  <a:pt x="1540" y="283"/>
                  <a:pt x="1557" y="288"/>
                </a:cubicBezTo>
                <a:cubicBezTo>
                  <a:pt x="1575" y="294"/>
                  <a:pt x="1585" y="313"/>
                  <a:pt x="1579" y="330"/>
                </a:cubicBezTo>
                <a:lnTo>
                  <a:pt x="70" y="5237"/>
                </a:lnTo>
                <a:cubicBezTo>
                  <a:pt x="64" y="5254"/>
                  <a:pt x="45" y="5264"/>
                  <a:pt x="28" y="5259"/>
                </a:cubicBezTo>
                <a:cubicBezTo>
                  <a:pt x="10" y="5253"/>
                  <a:pt x="0" y="5234"/>
                  <a:pt x="6" y="5217"/>
                </a:cubicBezTo>
                <a:close/>
                <a:moveTo>
                  <a:pt x="1336" y="325"/>
                </a:moveTo>
                <a:lnTo>
                  <a:pt x="1646" y="0"/>
                </a:lnTo>
                <a:lnTo>
                  <a:pt x="1720" y="444"/>
                </a:lnTo>
                <a:lnTo>
                  <a:pt x="1336" y="325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2400" y="3600360"/>
            <a:ext cx="892080" cy="293760"/>
          </a:xfrm>
          <a:custGeom>
            <a:avLst/>
            <a:gdLst/>
            <a:ahLst/>
            <a:rect l="l" t="t" r="r" b="b"/>
            <a:pathLst>
              <a:path w="764" h="180">
                <a:moveTo>
                  <a:pt x="0" y="72"/>
                </a:moveTo>
                <a:lnTo>
                  <a:pt x="710" y="72"/>
                </a:lnTo>
                <a:lnTo>
                  <a:pt x="710" y="108"/>
                </a:lnTo>
                <a:lnTo>
                  <a:pt x="0" y="108"/>
                </a:lnTo>
                <a:lnTo>
                  <a:pt x="0" y="72"/>
                </a:lnTo>
                <a:close/>
                <a:moveTo>
                  <a:pt x="692" y="0"/>
                </a:moveTo>
                <a:lnTo>
                  <a:pt x="764" y="90"/>
                </a:lnTo>
                <a:lnTo>
                  <a:pt x="692" y="180"/>
                </a:lnTo>
                <a:lnTo>
                  <a:pt x="692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4560" y="2013120"/>
            <a:ext cx="151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S Rec.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4560" y="2254320"/>
            <a:ext cx="148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ents &amp; 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4560" y="2498760"/>
            <a:ext cx="90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06200">
            <a:off x="4786200" y="2759040"/>
            <a:ext cx="536760" cy="766800"/>
          </a:xfrm>
          <a:custGeom>
            <a:avLst/>
            <a:gdLst/>
            <a:ahLst/>
            <a:rect l="l" t="t" r="r" b="b"/>
            <a:pathLst>
              <a:path w="2852" h="4058">
                <a:moveTo>
                  <a:pt x="65" y="18"/>
                </a:moveTo>
                <a:lnTo>
                  <a:pt x="2688" y="3764"/>
                </a:lnTo>
                <a:cubicBezTo>
                  <a:pt x="2698" y="3779"/>
                  <a:pt x="2695" y="3800"/>
                  <a:pt x="2679" y="3811"/>
                </a:cubicBezTo>
                <a:cubicBezTo>
                  <a:pt x="2664" y="3822"/>
                  <a:pt x="2643" y="3818"/>
                  <a:pt x="2633" y="3803"/>
                </a:cubicBezTo>
                <a:lnTo>
                  <a:pt x="10" y="57"/>
                </a:lnTo>
                <a:cubicBezTo>
                  <a:pt x="0" y="42"/>
                  <a:pt x="3" y="21"/>
                  <a:pt x="19" y="10"/>
                </a:cubicBezTo>
                <a:cubicBezTo>
                  <a:pt x="34" y="0"/>
                  <a:pt x="55" y="3"/>
                  <a:pt x="65" y="18"/>
                </a:cubicBezTo>
                <a:close/>
                <a:moveTo>
                  <a:pt x="2786" y="3613"/>
                </a:moveTo>
                <a:lnTo>
                  <a:pt x="2852" y="4058"/>
                </a:lnTo>
                <a:lnTo>
                  <a:pt x="2457" y="3844"/>
                </a:lnTo>
                <a:lnTo>
                  <a:pt x="2786" y="361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165640" y="2747880"/>
            <a:ext cx="1399320" cy="1550520"/>
            <a:chOff x="5165640" y="2747880"/>
            <a:chExt cx="1399320" cy="1550520"/>
          </a:xfrm>
        </p:grpSpPr>
        <p:sp>
          <p:nvSpPr>
            <p:cNvPr id="165" name=""/>
            <p:cNvSpPr/>
            <p:nvPr/>
          </p:nvSpPr>
          <p:spPr>
            <a:xfrm>
              <a:off x="5165640" y="3611520"/>
              <a:ext cx="1290600" cy="284400"/>
            </a:xfrm>
            <a:custGeom>
              <a:avLst/>
              <a:gdLst/>
              <a:ahLst/>
              <a:rect l="l" t="t" r="r" b="b"/>
              <a:pathLst>
                <a:path w="813" h="179">
                  <a:moveTo>
                    <a:pt x="0" y="71"/>
                  </a:moveTo>
                  <a:lnTo>
                    <a:pt x="759" y="72"/>
                  </a:lnTo>
                  <a:lnTo>
                    <a:pt x="759" y="108"/>
                  </a:lnTo>
                  <a:lnTo>
                    <a:pt x="0" y="107"/>
                  </a:lnTo>
                  <a:lnTo>
                    <a:pt x="0" y="71"/>
                  </a:lnTo>
                  <a:close/>
                  <a:moveTo>
                    <a:pt x="741" y="0"/>
                  </a:moveTo>
                  <a:lnTo>
                    <a:pt x="813" y="90"/>
                  </a:lnTo>
                  <a:lnTo>
                    <a:pt x="741" y="179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3400" y="2747880"/>
              <a:ext cx="47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4480" y="299232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sid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8200" y="3809880"/>
              <a:ext cx="45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x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8560" y="405468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290760"/>
              <a:ext cx="235080" cy="309600"/>
            </a:xfrm>
            <a:custGeom>
              <a:avLst/>
              <a:gdLst/>
              <a:ahLst/>
              <a:rect l="l" t="t" r="r" b="b"/>
              <a:pathLst>
                <a:path w="622" h="823">
                  <a:moveTo>
                    <a:pt x="32" y="9"/>
                  </a:moveTo>
                  <a:lnTo>
                    <a:pt x="535" y="679"/>
                  </a:lnTo>
                  <a:cubicBezTo>
                    <a:pt x="540" y="687"/>
                    <a:pt x="539" y="697"/>
                    <a:pt x="532" y="703"/>
                  </a:cubicBezTo>
                  <a:cubicBezTo>
                    <a:pt x="524" y="708"/>
                    <a:pt x="514" y="707"/>
                    <a:pt x="508" y="699"/>
                  </a:cubicBezTo>
                  <a:lnTo>
                    <a:pt x="5" y="29"/>
                  </a:lnTo>
                  <a:cubicBezTo>
                    <a:pt x="0" y="22"/>
                    <a:pt x="1" y="11"/>
                    <a:pt x="9" y="6"/>
                  </a:cubicBezTo>
                  <a:cubicBezTo>
                    <a:pt x="16" y="0"/>
                    <a:pt x="27" y="2"/>
                    <a:pt x="32" y="9"/>
                  </a:cubicBezTo>
                  <a:close/>
                  <a:moveTo>
                    <a:pt x="582" y="602"/>
                  </a:moveTo>
                  <a:lnTo>
                    <a:pt x="622" y="823"/>
                  </a:lnTo>
                  <a:lnTo>
                    <a:pt x="421" y="723"/>
                  </a:lnTo>
                  <a:lnTo>
                    <a:pt x="582" y="6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475320" y="3619440"/>
            <a:ext cx="1289160" cy="285840"/>
          </a:xfrm>
          <a:custGeom>
            <a:avLst/>
            <a:gdLst/>
            <a:ahLst/>
            <a:rect l="l" t="t" r="r" b="b"/>
            <a:pathLst>
              <a:path w="812" h="180">
                <a:moveTo>
                  <a:pt x="0" y="72"/>
                </a:moveTo>
                <a:lnTo>
                  <a:pt x="758" y="72"/>
                </a:lnTo>
                <a:lnTo>
                  <a:pt x="758" y="108"/>
                </a:lnTo>
                <a:lnTo>
                  <a:pt x="0" y="108"/>
                </a:lnTo>
                <a:lnTo>
                  <a:pt x="0" y="72"/>
                </a:lnTo>
                <a:close/>
                <a:moveTo>
                  <a:pt x="740" y="0"/>
                </a:moveTo>
                <a:lnTo>
                  <a:pt x="812" y="90"/>
                </a:lnTo>
                <a:lnTo>
                  <a:pt x="740" y="180"/>
                </a:lnTo>
                <a:lnTo>
                  <a:pt x="740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7000" y="2560680"/>
            <a:ext cx="136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RCOT Bo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68080" y="2801880"/>
            <a:ext cx="123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47280" y="381960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x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47640" y="40640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77120" y="3147840"/>
            <a:ext cx="235080" cy="387360"/>
          </a:xfrm>
          <a:custGeom>
            <a:avLst/>
            <a:gdLst/>
            <a:ahLst/>
            <a:rect l="l" t="t" r="r" b="b"/>
            <a:pathLst>
              <a:path w="623" h="1024">
                <a:moveTo>
                  <a:pt x="34" y="10"/>
                </a:moveTo>
                <a:lnTo>
                  <a:pt x="551" y="872"/>
                </a:lnTo>
                <a:cubicBezTo>
                  <a:pt x="556" y="880"/>
                  <a:pt x="553" y="890"/>
                  <a:pt x="545" y="895"/>
                </a:cubicBezTo>
                <a:cubicBezTo>
                  <a:pt x="537" y="900"/>
                  <a:pt x="527" y="897"/>
                  <a:pt x="522" y="889"/>
                </a:cubicBezTo>
                <a:lnTo>
                  <a:pt x="5" y="28"/>
                </a:lnTo>
                <a:cubicBezTo>
                  <a:pt x="0" y="20"/>
                  <a:pt x="3" y="10"/>
                  <a:pt x="11" y="5"/>
                </a:cubicBezTo>
                <a:cubicBezTo>
                  <a:pt x="19" y="0"/>
                  <a:pt x="29" y="3"/>
                  <a:pt x="34" y="10"/>
                </a:cubicBezTo>
                <a:close/>
                <a:moveTo>
                  <a:pt x="605" y="800"/>
                </a:moveTo>
                <a:lnTo>
                  <a:pt x="623" y="1024"/>
                </a:lnTo>
                <a:lnTo>
                  <a:pt x="433" y="904"/>
                </a:lnTo>
                <a:lnTo>
                  <a:pt x="605" y="80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00920" y="4454640"/>
            <a:ext cx="2570760" cy="1554120"/>
            <a:chOff x="6100920" y="4454640"/>
            <a:chExt cx="2570760" cy="1554120"/>
          </a:xfrm>
        </p:grpSpPr>
        <p:sp>
          <p:nvSpPr>
            <p:cNvPr id="178" name=""/>
            <p:cNvSpPr/>
            <p:nvPr/>
          </p:nvSpPr>
          <p:spPr>
            <a:xfrm>
              <a:off x="6305400" y="4454640"/>
              <a:ext cx="1449000" cy="284040"/>
            </a:xfrm>
            <a:custGeom>
              <a:avLst/>
              <a:gdLst/>
              <a:ahLst/>
              <a:rect l="l" t="t" r="r" b="b"/>
              <a:pathLst>
                <a:path w="913" h="179">
                  <a:moveTo>
                    <a:pt x="53" y="71"/>
                  </a:moveTo>
                  <a:lnTo>
                    <a:pt x="860" y="71"/>
                  </a:lnTo>
                  <a:lnTo>
                    <a:pt x="860" y="107"/>
                  </a:lnTo>
                  <a:lnTo>
                    <a:pt x="53" y="107"/>
                  </a:lnTo>
                  <a:lnTo>
                    <a:pt x="53" y="71"/>
                  </a:lnTo>
                  <a:close/>
                  <a:moveTo>
                    <a:pt x="53" y="143"/>
                  </a:moveTo>
                  <a:lnTo>
                    <a:pt x="0" y="89"/>
                  </a:lnTo>
                  <a:lnTo>
                    <a:pt x="53" y="35"/>
                  </a:lnTo>
                  <a:lnTo>
                    <a:pt x="107" y="89"/>
                  </a:lnTo>
                  <a:lnTo>
                    <a:pt x="53" y="143"/>
                  </a:lnTo>
                  <a:close/>
                  <a:moveTo>
                    <a:pt x="842" y="0"/>
                  </a:moveTo>
                  <a:lnTo>
                    <a:pt x="913" y="89"/>
                  </a:lnTo>
                  <a:lnTo>
                    <a:pt x="842" y="179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4520" y="53992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eal Submitted after TA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00920" y="5643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06440" y="46530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06080" y="489744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5520" y="4811760"/>
              <a:ext cx="174240" cy="538200"/>
            </a:xfrm>
            <a:custGeom>
              <a:avLst/>
              <a:gdLst/>
              <a:ahLst/>
              <a:rect l="l" t="t" r="r" b="b"/>
              <a:pathLst>
                <a:path w="462" h="1426">
                  <a:moveTo>
                    <a:pt x="3" y="1402"/>
                  </a:moveTo>
                  <a:lnTo>
                    <a:pt x="359" y="156"/>
                  </a:lnTo>
                  <a:cubicBezTo>
                    <a:pt x="361" y="147"/>
                    <a:pt x="371" y="142"/>
                    <a:pt x="379" y="145"/>
                  </a:cubicBezTo>
                  <a:cubicBezTo>
                    <a:pt x="388" y="147"/>
                    <a:pt x="393" y="157"/>
                    <a:pt x="391" y="165"/>
                  </a:cubicBezTo>
                  <a:lnTo>
                    <a:pt x="35" y="1411"/>
                  </a:lnTo>
                  <a:cubicBezTo>
                    <a:pt x="32" y="1420"/>
                    <a:pt x="23" y="1426"/>
                    <a:pt x="14" y="1423"/>
                  </a:cubicBezTo>
                  <a:cubicBezTo>
                    <a:pt x="5" y="1420"/>
                    <a:pt x="0" y="1411"/>
                    <a:pt x="3" y="1402"/>
                  </a:cubicBezTo>
                  <a:close/>
                  <a:moveTo>
                    <a:pt x="269" y="165"/>
                  </a:moveTo>
                  <a:lnTo>
                    <a:pt x="421" y="0"/>
                  </a:lnTo>
                  <a:lnTo>
                    <a:pt x="462" y="221"/>
                  </a:lnTo>
                  <a:lnTo>
                    <a:pt x="269" y="1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20880" y="2679840"/>
            <a:ext cx="1957320" cy="3533040"/>
            <a:chOff x="920880" y="2679840"/>
            <a:chExt cx="1957320" cy="3533040"/>
          </a:xfrm>
        </p:grpSpPr>
        <p:sp>
          <p:nvSpPr>
            <p:cNvPr id="185" name=""/>
            <p:cNvSpPr/>
            <p:nvPr/>
          </p:nvSpPr>
          <p:spPr>
            <a:xfrm>
              <a:off x="1352520" y="4375440"/>
              <a:ext cx="539640" cy="284040"/>
            </a:xfrm>
            <a:custGeom>
              <a:avLst/>
              <a:gdLst/>
              <a:ahLst/>
              <a:rect l="l" t="t" r="r" b="b"/>
              <a:pathLst>
                <a:path w="340" h="179">
                  <a:moveTo>
                    <a:pt x="53" y="72"/>
                  </a:moveTo>
                  <a:lnTo>
                    <a:pt x="286" y="72"/>
                  </a:lnTo>
                  <a:lnTo>
                    <a:pt x="286" y="108"/>
                  </a:lnTo>
                  <a:lnTo>
                    <a:pt x="53" y="108"/>
                  </a:lnTo>
                  <a:lnTo>
                    <a:pt x="53" y="72"/>
                  </a:lnTo>
                  <a:close/>
                  <a:moveTo>
                    <a:pt x="53" y="144"/>
                  </a:moveTo>
                  <a:lnTo>
                    <a:pt x="0" y="90"/>
                  </a:lnTo>
                  <a:lnTo>
                    <a:pt x="53" y="36"/>
                  </a:lnTo>
                  <a:lnTo>
                    <a:pt x="107" y="90"/>
                  </a:lnTo>
                  <a:lnTo>
                    <a:pt x="53" y="144"/>
                  </a:lnTo>
                  <a:close/>
                  <a:moveTo>
                    <a:pt x="268" y="0"/>
                  </a:moveTo>
                  <a:lnTo>
                    <a:pt x="340" y="90"/>
                  </a:lnTo>
                  <a:lnTo>
                    <a:pt x="268" y="17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0880" y="2679840"/>
              <a:ext cx="79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22320" y="29228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bmit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6760" y="45770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6400" y="481824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03440" y="5726160"/>
              <a:ext cx="79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3440" y="59691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knowled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60480" y="4745160"/>
              <a:ext cx="114480" cy="917640"/>
            </a:xfrm>
            <a:custGeom>
              <a:avLst/>
              <a:gdLst/>
              <a:ahLst/>
              <a:rect l="l" t="t" r="r" b="b"/>
              <a:pathLst>
                <a:path w="604" h="4860">
                  <a:moveTo>
                    <a:pt x="536" y="4828"/>
                  </a:moveTo>
                  <a:lnTo>
                    <a:pt x="161" y="337"/>
                  </a:lnTo>
                  <a:cubicBezTo>
                    <a:pt x="160" y="319"/>
                    <a:pt x="174" y="302"/>
                    <a:pt x="192" y="301"/>
                  </a:cubicBezTo>
                  <a:cubicBezTo>
                    <a:pt x="210" y="299"/>
                    <a:pt x="227" y="313"/>
                    <a:pt x="228" y="331"/>
                  </a:cubicBezTo>
                  <a:lnTo>
                    <a:pt x="602" y="4822"/>
                  </a:lnTo>
                  <a:cubicBezTo>
                    <a:pt x="604" y="4840"/>
                    <a:pt x="590" y="4857"/>
                    <a:pt x="572" y="4858"/>
                  </a:cubicBezTo>
                  <a:cubicBezTo>
                    <a:pt x="553" y="4860"/>
                    <a:pt x="537" y="4846"/>
                    <a:pt x="536" y="4828"/>
                  </a:cubicBezTo>
                  <a:close/>
                  <a:moveTo>
                    <a:pt x="0" y="418"/>
                  </a:moveTo>
                  <a:lnTo>
                    <a:pt x="167" y="0"/>
                  </a:lnTo>
                  <a:lnTo>
                    <a:pt x="401" y="384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0840" y="3205440"/>
              <a:ext cx="327240" cy="1144440"/>
            </a:xfrm>
            <a:custGeom>
              <a:avLst/>
              <a:gdLst/>
              <a:ahLst/>
              <a:rect l="l" t="t" r="r" b="b"/>
              <a:pathLst>
                <a:path w="1736" h="6067">
                  <a:moveTo>
                    <a:pt x="69" y="28"/>
                  </a:moveTo>
                  <a:lnTo>
                    <a:pt x="1591" y="5735"/>
                  </a:lnTo>
                  <a:cubicBezTo>
                    <a:pt x="1596" y="5753"/>
                    <a:pt x="1586" y="5771"/>
                    <a:pt x="1568" y="5776"/>
                  </a:cubicBezTo>
                  <a:cubicBezTo>
                    <a:pt x="1550" y="5781"/>
                    <a:pt x="1531" y="5770"/>
                    <a:pt x="1527" y="5752"/>
                  </a:cubicBezTo>
                  <a:lnTo>
                    <a:pt x="5" y="45"/>
                  </a:lnTo>
                  <a:cubicBezTo>
                    <a:pt x="0" y="28"/>
                    <a:pt x="11" y="9"/>
                    <a:pt x="28" y="4"/>
                  </a:cubicBezTo>
                  <a:cubicBezTo>
                    <a:pt x="46" y="0"/>
                    <a:pt x="65" y="10"/>
                    <a:pt x="69" y="28"/>
                  </a:cubicBezTo>
                  <a:close/>
                  <a:moveTo>
                    <a:pt x="1736" y="5627"/>
                  </a:moveTo>
                  <a:lnTo>
                    <a:pt x="1645" y="6067"/>
                  </a:lnTo>
                  <a:lnTo>
                    <a:pt x="1348" y="5731"/>
                  </a:lnTo>
                  <a:lnTo>
                    <a:pt x="1736" y="56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50840" y="3205440"/>
              <a:ext cx="311040" cy="461880"/>
            </a:xfrm>
            <a:custGeom>
              <a:avLst/>
              <a:gdLst/>
              <a:ahLst/>
              <a:rect l="l" t="t" r="r" b="b"/>
              <a:pathLst>
                <a:path w="1646" h="2450">
                  <a:moveTo>
                    <a:pt x="66" y="19"/>
                  </a:moveTo>
                  <a:lnTo>
                    <a:pt x="1488" y="2153"/>
                  </a:lnTo>
                  <a:cubicBezTo>
                    <a:pt x="1499" y="2168"/>
                    <a:pt x="1495" y="2189"/>
                    <a:pt x="1479" y="2199"/>
                  </a:cubicBezTo>
                  <a:cubicBezTo>
                    <a:pt x="1464" y="2209"/>
                    <a:pt x="1443" y="2205"/>
                    <a:pt x="1433" y="2190"/>
                  </a:cubicBezTo>
                  <a:lnTo>
                    <a:pt x="10" y="56"/>
                  </a:lnTo>
                  <a:cubicBezTo>
                    <a:pt x="0" y="41"/>
                    <a:pt x="4" y="20"/>
                    <a:pt x="19" y="10"/>
                  </a:cubicBezTo>
                  <a:cubicBezTo>
                    <a:pt x="35" y="0"/>
                    <a:pt x="56" y="4"/>
                    <a:pt x="66" y="19"/>
                  </a:cubicBezTo>
                  <a:close/>
                  <a:moveTo>
                    <a:pt x="1591" y="2004"/>
                  </a:moveTo>
                  <a:lnTo>
                    <a:pt x="1646" y="2450"/>
                  </a:lnTo>
                  <a:lnTo>
                    <a:pt x="1256" y="2227"/>
                  </a:lnTo>
                  <a:lnTo>
                    <a:pt x="1591" y="20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6002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rgent PRR Approval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76440" y="3962520"/>
            <a:ext cx="152640" cy="304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262-F321-441C-8340-007FC886E9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 Approval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637-506C-44D5-8996-A30263C9BA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R Approval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posed process documented PRR 52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ically developed at working group or task for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ubmit SCRs to </a:t>
            </a:r>
            <a:r>
              <a:rPr b="0" lang="en-US" sz="2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rotrevreq@ercot.co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nce received, ERCOT Market Rules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s 5 days to review and either post or reje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orks with submitter to meet require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wards to appropriate subcommittee for vo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297-0C6B-4B5D-8C68-8574D52970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20574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approved,  the subcommittee chair takes SCR to TAC as a Voting Item (during monthly report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gain, TAC will exercise any of its op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arket Rules will take to PRS for prioritiz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occur prior to TAC approval depending on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AC chair will update BOD only – not voted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R Approval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591-A2C3-4C93-B011-594703E166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agram of Approval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34131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2701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173664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272736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1808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402264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708440"/>
            <a:ext cx="8384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5241960"/>
            <a:ext cx="8384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T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775480"/>
            <a:ext cx="8384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34131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4699400">
            <a:off x="1836360" y="4929120"/>
            <a:ext cx="1997280" cy="641520"/>
          </a:xfrm>
          <a:custGeom>
            <a:avLst/>
            <a:gdLst>
              <a:gd name="textAreaLeft" fmla="*/ 408960 w 1997280"/>
              <a:gd name="textAreaRight" fmla="*/ 1388520 w 1997280"/>
              <a:gd name="textAreaTop" fmla="*/ 85680 h 641520"/>
              <a:gd name="textAreaBottom" fmla="*/ 555840 h 641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0595" y="0"/>
                </a:lnTo>
                <a:arcTo wR="8845" hR="21600" stAng="-5400000" swAng="4140736"/>
                <a:lnTo>
                  <a:pt x="21493" y="18248"/>
                </a:lnTo>
                <a:lnTo>
                  <a:pt x="18565" y="21600"/>
                </a:lnTo>
                <a:lnTo>
                  <a:pt x="15423" y="18248"/>
                </a:lnTo>
                <a:lnTo>
                  <a:pt x="17583" y="18248"/>
                </a:lnTo>
                <a:arcTo wR="8845" hR="21600" stAng="-1259264" swAng="-4000866"/>
                <a:lnTo>
                  <a:pt x="9720" y="106"/>
                </a:lnTo>
                <a:arcTo wR="8845" hR="21600" stAng="-5539870" swAng="-5260130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139870"/>
                <a:lnTo>
                  <a:pt x="9720" y="106"/>
                </a:lnTo>
                <a:arcTo wR="8845" hR="21600" stAng="-5539870" swAng="-5260130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07480" y="57754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CR 7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4448880" y="4069080"/>
            <a:ext cx="2760840" cy="1295640"/>
          </a:xfrm>
          <a:custGeom>
            <a:avLst/>
            <a:gdLst>
              <a:gd name="textAreaLeft" fmla="*/ 548640 w 2760840"/>
              <a:gd name="textAreaRight" fmla="*/ 1818000 w 2760840"/>
              <a:gd name="textAreaTop" fmla="*/ 173520 h 1295640"/>
              <a:gd name="textAreaBottom" fmla="*/ 1122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88" hR="21600" stAng="10800000" swAng="-5400000"/>
                <a:lnTo>
                  <a:pt x="9929" y="21600"/>
                </a:lnTo>
                <a:arcTo wR="8588" hR="21600" stAng="5400000" swAng="-2721371"/>
                <a:lnTo>
                  <a:pt x="21006" y="7895"/>
                </a:lnTo>
                <a:lnTo>
                  <a:pt x="17847" y="0"/>
                </a:lnTo>
                <a:lnTo>
                  <a:pt x="13499" y="7895"/>
                </a:lnTo>
                <a:lnTo>
                  <a:pt x="16582" y="7895"/>
                </a:lnTo>
                <a:arcTo wR="8588" hR="21600" stAng="2678629" swAng="2614366"/>
                <a:lnTo>
                  <a:pt x="9259" y="21534"/>
                </a:lnTo>
                <a:arcTo wR="8588" hR="21600" stAng="5507006" swAng="5292994"/>
                <a:close/>
              </a:path>
              <a:path fill="darkenLess" w="21600" h="21600">
                <a:moveTo>
                  <a:pt x="0" y="0"/>
                </a:moveTo>
                <a:arcTo wR="8588" hR="21600" stAng="10800000" swAng="-5400000"/>
                <a:lnTo>
                  <a:pt x="9929" y="21600"/>
                </a:lnTo>
                <a:arcTo wR="8588" hR="21600" stAng="5400000" swAng="107006"/>
                <a:lnTo>
                  <a:pt x="9259" y="21534"/>
                </a:lnTo>
                <a:arcTo wR="8588" hR="21600" stAng="5507006" swAng="5292994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4720" y="57754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RR 5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724280" y="32608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260880"/>
            <a:ext cx="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386240" y="3260880"/>
            <a:ext cx="468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7960" y="1862280"/>
            <a:ext cx="1587600" cy="131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y system change that does not require a change to the Protocols will be submitted via S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1768320"/>
            <a:ext cx="1606680" cy="151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Market Rules will identify if this request requires a change to Protocols.  If no, then submitted via S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08440"/>
            <a:ext cx="8384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DT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4937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241960"/>
            <a:ext cx="8384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M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75480"/>
            <a:ext cx="8384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5470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600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93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8596400">
            <a:off x="2294280" y="2795040"/>
            <a:ext cx="1996920" cy="641520"/>
          </a:xfrm>
          <a:custGeom>
            <a:avLst/>
            <a:gdLst>
              <a:gd name="textAreaLeft" fmla="*/ 408600 w 1996920"/>
              <a:gd name="textAreaRight" fmla="*/ 1388520 w 1996920"/>
              <a:gd name="textAreaTop" fmla="*/ 85680 h 641520"/>
              <a:gd name="textAreaBottom" fmla="*/ 555840 h 641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0595" y="0"/>
                </a:lnTo>
                <a:arcTo wR="8845" hR="21600" stAng="-5400000" swAng="4140736"/>
                <a:lnTo>
                  <a:pt x="21493" y="18248"/>
                </a:lnTo>
                <a:lnTo>
                  <a:pt x="18565" y="21600"/>
                </a:lnTo>
                <a:lnTo>
                  <a:pt x="15423" y="18248"/>
                </a:lnTo>
                <a:lnTo>
                  <a:pt x="17583" y="18248"/>
                </a:lnTo>
                <a:arcTo wR="8845" hR="21600" stAng="-1259264" swAng="-4000866"/>
                <a:lnTo>
                  <a:pt x="9720" y="106"/>
                </a:lnTo>
                <a:arcTo wR="8845" hR="21600" stAng="-5539870" swAng="-5260130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139870"/>
                <a:lnTo>
                  <a:pt x="9720" y="106"/>
                </a:lnTo>
                <a:arcTo wR="8845" hR="21600" stAng="-5539870" swAng="-5260130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724280" y="227016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86240" y="2270160"/>
            <a:ext cx="468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AC4-F740-4EA2-B06B-891CA17219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233280" y="0"/>
          <a:ext cx="8882280" cy="720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0"/>
                    <a:ext cx="8882280" cy="72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Normal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D6C-5506-40B7-9CF7-16A10576CC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3911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Garc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Market Rules Analyst I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12) 275-7417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garcia@ercot.com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contact your Retail Account Manag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to Contact if Ques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3DF-D6A8-4925-B633-9E21BB4BFC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A53-DAB1-41C9-AC73-A154033DA5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1904760"/>
            <a:ext cx="69343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COT Project Budget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05120" y="30481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onn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or Progra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5A4-E87D-46B4-9F07-797228957C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xas Market Lin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P Phase 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535-AD5B-4624-BC48-89F8B928B3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PRR &amp; SCR Approval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Jennifer Ga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Market Rules Analy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4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608-DC24-4B34-8A38-79158507B3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Phase 1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L Production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 to report as of July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ignificant production iss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pTier decommissioning on July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ent smooth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us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ML is currently handling all “portal” traffic (statistics on following sli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al traffic is being re-directed to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https://tml.erco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ed Outage 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initiated the planned 24-hour outage of the Top-Tier Portal to surface any Market issues June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MP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ported to ERC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 unexpected dependency on TopT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COT confirmed that TML could support a true user load- over 20,000 hits that day (see graph on next sli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sues with t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experienced issues taking-down/bringing-up TopT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issues reported, 4 related to taking down of TopTier, 2 unrelated to TML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F6C-E0DA-4F6F-A940-2BED1CF6B4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743040" y="1284120"/>
          <a:ext cx="8172360" cy="542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284120"/>
                    <a:ext cx="8172360" cy="54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292360" y="457200"/>
            <a:ext cx="34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June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5EA-1270-48E7-B5D6-EEBFC920F5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06280" y="1295280"/>
          <a:ext cx="8732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295280"/>
                    <a:ext cx="8732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27280" y="457200"/>
            <a:ext cx="33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July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C94-094A-4C9D-A47B-3E1CD8C396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FDE-57C5-476C-8F4A-A8AE19E622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R vs. SC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d/update existing language in Protocol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 a Protocol Revision Request (P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f an ERCOT system change is also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quest an ERCOT system change on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 a System Change Request (S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use when no change to existing Protocol language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749-BA2E-4E88-B2B3-615F9C9CEA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CD4-8BAD-40D8-B552-6268BA47AD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cess documented in Section 21of Protoco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bmit PRRs to </a:t>
            </a:r>
            <a:r>
              <a:rPr b="0" lang="en-US" sz="2500" spc="-1" strike="noStrike" u="sng">
                <a:solidFill>
                  <a:srgbClr val="3333cc"/>
                </a:solidFill>
                <a:uFillTx/>
                <a:latin typeface="Times New Roman"/>
              </a:rPr>
              <a:t>protrevreq@ercot.c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ce received, ERCOT Market Rules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as 5 days to review and either post or rej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orks with submitter to meet 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wards to PRS – asking for urgency vote if ne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ce posted, mandatory 21-day comment period begins on PR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Rules coordinates and posts ERCOT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lso develops and posts an Impact Analysis (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C4B-71EE-432C-9845-CA7E99D90A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R goes to first PRS meeting following comment period  (unless voted urg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fter review, PRS c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pprove as submitted or as amen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mand to subcommittee or task fo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f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j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fter PRS, ERCOT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osts PRS’ Recommendation Report to TAC (Rec. Report) within 2 d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pdates its Impact Analysis if ne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DA4-C860-449A-B3E5-F8DBEA979B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3880"/>
            <a:ext cx="85341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ce posted, Rec. Reports begins mandatory 21-day comment perio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R goes to first TAC meeting following comment period (unless urg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AC can exercise any of the following options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pprove as submitted or as amen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mand to a subcommittee or task fo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f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ject (submitter has 35 days to file appeal to BO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approved, PRRs with an ERCOT system impact will go back to PRS for prioritiz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6EC-FF80-49AC-B48F-ADE7F19DA9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523880"/>
            <a:ext cx="85341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ce approved &amp; prioritized, PRR goes to next BOD mee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 can exercise any of the following options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pprove as submitted or as amen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mand to a subcommitte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f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j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approved, BOD will set effective d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ffective Date potentially affected by system and staffing impacts at ERCO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B7F-D51E-460B-B924-CE250BC526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rmal PRR Approval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81200" y="2055960"/>
            <a:ext cx="1426680" cy="2232720"/>
            <a:chOff x="781200" y="2055960"/>
            <a:chExt cx="1426680" cy="2232720"/>
          </a:xfrm>
        </p:grpSpPr>
        <p:sp>
          <p:nvSpPr>
            <p:cNvPr id="71" name=""/>
            <p:cNvSpPr/>
            <p:nvPr/>
          </p:nvSpPr>
          <p:spPr>
            <a:xfrm>
              <a:off x="781200" y="3600360"/>
              <a:ext cx="539640" cy="285480"/>
            </a:xfrm>
            <a:custGeom>
              <a:avLst/>
              <a:gdLst/>
              <a:ahLst/>
              <a:rect l="l" t="t" r="r" b="b"/>
              <a:pathLst>
                <a:path w="340" h="180">
                  <a:moveTo>
                    <a:pt x="53" y="72"/>
                  </a:moveTo>
                  <a:lnTo>
                    <a:pt x="286" y="72"/>
                  </a:lnTo>
                  <a:lnTo>
                    <a:pt x="286" y="108"/>
                  </a:lnTo>
                  <a:lnTo>
                    <a:pt x="53" y="108"/>
                  </a:lnTo>
                  <a:lnTo>
                    <a:pt x="53" y="72"/>
                  </a:lnTo>
                  <a:close/>
                  <a:moveTo>
                    <a:pt x="53" y="144"/>
                  </a:moveTo>
                  <a:lnTo>
                    <a:pt x="0" y="90"/>
                  </a:lnTo>
                  <a:lnTo>
                    <a:pt x="53" y="36"/>
                  </a:lnTo>
                  <a:lnTo>
                    <a:pt x="107" y="90"/>
                  </a:lnTo>
                  <a:lnTo>
                    <a:pt x="53" y="144"/>
                  </a:lnTo>
                  <a:close/>
                  <a:moveTo>
                    <a:pt x="268" y="0"/>
                  </a:moveTo>
                  <a:lnTo>
                    <a:pt x="340" y="90"/>
                  </a:lnTo>
                  <a:lnTo>
                    <a:pt x="268" y="18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80920" y="38001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0200" y="40449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11560" y="2055960"/>
              <a:ext cx="79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11920" y="23000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s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1480" y="2522520"/>
              <a:ext cx="395280" cy="1067760"/>
            </a:xfrm>
            <a:custGeom>
              <a:avLst/>
              <a:gdLst/>
              <a:ahLst/>
              <a:rect l="l" t="t" r="r" b="b"/>
              <a:pathLst>
                <a:path w="2102" h="5666">
                  <a:moveTo>
                    <a:pt x="2096" y="49"/>
                  </a:moveTo>
                  <a:lnTo>
                    <a:pt x="198" y="5362"/>
                  </a:lnTo>
                  <a:cubicBezTo>
                    <a:pt x="192" y="5379"/>
                    <a:pt x="173" y="5388"/>
                    <a:pt x="155" y="5382"/>
                  </a:cubicBezTo>
                  <a:cubicBezTo>
                    <a:pt x="138" y="5376"/>
                    <a:pt x="129" y="5357"/>
                    <a:pt x="135" y="5339"/>
                  </a:cubicBezTo>
                  <a:lnTo>
                    <a:pt x="2033" y="26"/>
                  </a:lnTo>
                  <a:cubicBezTo>
                    <a:pt x="2039" y="9"/>
                    <a:pt x="2058" y="0"/>
                    <a:pt x="2076" y="6"/>
                  </a:cubicBezTo>
                  <a:cubicBezTo>
                    <a:pt x="2093" y="12"/>
                    <a:pt x="2102" y="31"/>
                    <a:pt x="2096" y="49"/>
                  </a:cubicBezTo>
                  <a:close/>
                  <a:moveTo>
                    <a:pt x="379" y="5355"/>
                  </a:moveTo>
                  <a:lnTo>
                    <a:pt x="54" y="5666"/>
                  </a:lnTo>
                  <a:lnTo>
                    <a:pt x="0" y="5220"/>
                  </a:lnTo>
                  <a:lnTo>
                    <a:pt x="379" y="535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320840" y="3600360"/>
            <a:ext cx="1365120" cy="285840"/>
          </a:xfrm>
          <a:custGeom>
            <a:avLst/>
            <a:gdLst/>
            <a:ahLst/>
            <a:rect l="l" t="t" r="r" b="b"/>
            <a:pathLst>
              <a:path w="860" h="180">
                <a:moveTo>
                  <a:pt x="0" y="72"/>
                </a:moveTo>
                <a:lnTo>
                  <a:pt x="806" y="72"/>
                </a:lnTo>
                <a:lnTo>
                  <a:pt x="806" y="108"/>
                </a:lnTo>
                <a:lnTo>
                  <a:pt x="0" y="108"/>
                </a:lnTo>
                <a:lnTo>
                  <a:pt x="0" y="72"/>
                </a:lnTo>
                <a:close/>
                <a:moveTo>
                  <a:pt x="788" y="0"/>
                </a:moveTo>
                <a:lnTo>
                  <a:pt x="860" y="90"/>
                </a:lnTo>
                <a:lnTo>
                  <a:pt x="788" y="180"/>
                </a:lnTo>
                <a:lnTo>
                  <a:pt x="788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42920" y="4711680"/>
            <a:ext cx="120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ents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43640" y="495468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A Submit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37640" y="380052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7280" y="404496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52680" y="4046400"/>
            <a:ext cx="111240" cy="689040"/>
          </a:xfrm>
          <a:custGeom>
            <a:avLst/>
            <a:gdLst/>
            <a:ahLst/>
            <a:rect l="l" t="t" r="r" b="b"/>
            <a:pathLst>
              <a:path w="593" h="3654">
                <a:moveTo>
                  <a:pt x="2" y="3615"/>
                </a:moveTo>
                <a:lnTo>
                  <a:pt x="367" y="330"/>
                </a:lnTo>
                <a:cubicBezTo>
                  <a:pt x="369" y="311"/>
                  <a:pt x="386" y="298"/>
                  <a:pt x="404" y="300"/>
                </a:cubicBezTo>
                <a:cubicBezTo>
                  <a:pt x="422" y="302"/>
                  <a:pt x="436" y="319"/>
                  <a:pt x="434" y="337"/>
                </a:cubicBezTo>
                <a:lnTo>
                  <a:pt x="69" y="3622"/>
                </a:lnTo>
                <a:cubicBezTo>
                  <a:pt x="66" y="3641"/>
                  <a:pt x="50" y="3654"/>
                  <a:pt x="32" y="3652"/>
                </a:cubicBezTo>
                <a:cubicBezTo>
                  <a:pt x="13" y="3650"/>
                  <a:pt x="0" y="3633"/>
                  <a:pt x="2" y="3615"/>
                </a:cubicBezTo>
                <a:close/>
                <a:moveTo>
                  <a:pt x="193" y="378"/>
                </a:moveTo>
                <a:lnTo>
                  <a:pt x="437" y="0"/>
                </a:lnTo>
                <a:lnTo>
                  <a:pt x="593" y="422"/>
                </a:lnTo>
                <a:lnTo>
                  <a:pt x="193" y="378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85960" y="3600360"/>
            <a:ext cx="835200" cy="285840"/>
          </a:xfrm>
          <a:custGeom>
            <a:avLst/>
            <a:gdLst/>
            <a:ahLst/>
            <a:rect l="l" t="t" r="r" b="b"/>
            <a:pathLst>
              <a:path w="526" h="180">
                <a:moveTo>
                  <a:pt x="0" y="72"/>
                </a:moveTo>
                <a:lnTo>
                  <a:pt x="472" y="72"/>
                </a:lnTo>
                <a:lnTo>
                  <a:pt x="472" y="108"/>
                </a:lnTo>
                <a:lnTo>
                  <a:pt x="0" y="108"/>
                </a:lnTo>
                <a:lnTo>
                  <a:pt x="0" y="72"/>
                </a:lnTo>
                <a:close/>
                <a:moveTo>
                  <a:pt x="454" y="0"/>
                </a:moveTo>
                <a:lnTo>
                  <a:pt x="526" y="90"/>
                </a:lnTo>
                <a:lnTo>
                  <a:pt x="454" y="180"/>
                </a:lnTo>
                <a:lnTo>
                  <a:pt x="454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02040" y="1905120"/>
            <a:ext cx="43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4200" y="214956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tt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02040" y="239076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31480" y="3800520"/>
            <a:ext cx="761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e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30400" y="4044960"/>
            <a:ext cx="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3800" y="2598840"/>
            <a:ext cx="253800" cy="917640"/>
          </a:xfrm>
          <a:custGeom>
            <a:avLst/>
            <a:gdLst/>
            <a:ahLst/>
            <a:rect l="l" t="t" r="r" b="b"/>
            <a:pathLst>
              <a:path w="1341" h="4861">
                <a:moveTo>
                  <a:pt x="69" y="28"/>
                </a:moveTo>
                <a:lnTo>
                  <a:pt x="1194" y="4528"/>
                </a:lnTo>
                <a:cubicBezTo>
                  <a:pt x="1199" y="4546"/>
                  <a:pt x="1188" y="4564"/>
                  <a:pt x="1170" y="4568"/>
                </a:cubicBezTo>
                <a:cubicBezTo>
                  <a:pt x="1152" y="4573"/>
                  <a:pt x="1134" y="4562"/>
                  <a:pt x="1129" y="4544"/>
                </a:cubicBezTo>
                <a:lnTo>
                  <a:pt x="4" y="45"/>
                </a:lnTo>
                <a:cubicBezTo>
                  <a:pt x="0" y="27"/>
                  <a:pt x="11" y="8"/>
                  <a:pt x="29" y="4"/>
                </a:cubicBezTo>
                <a:cubicBezTo>
                  <a:pt x="47" y="0"/>
                  <a:pt x="65" y="10"/>
                  <a:pt x="69" y="28"/>
                </a:cubicBezTo>
                <a:close/>
                <a:moveTo>
                  <a:pt x="1341" y="4422"/>
                </a:moveTo>
                <a:lnTo>
                  <a:pt x="1243" y="4861"/>
                </a:lnTo>
                <a:lnTo>
                  <a:pt x="951" y="4520"/>
                </a:lnTo>
                <a:lnTo>
                  <a:pt x="1341" y="442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21160" y="3600360"/>
            <a:ext cx="682560" cy="285840"/>
          </a:xfrm>
          <a:custGeom>
            <a:avLst/>
            <a:gdLst/>
            <a:ahLst/>
            <a:rect l="l" t="t" r="r" b="b"/>
            <a:pathLst>
              <a:path w="430" h="180">
                <a:moveTo>
                  <a:pt x="0" y="72"/>
                </a:moveTo>
                <a:lnTo>
                  <a:pt x="376" y="72"/>
                </a:lnTo>
                <a:lnTo>
                  <a:pt x="376" y="108"/>
                </a:lnTo>
                <a:lnTo>
                  <a:pt x="0" y="108"/>
                </a:lnTo>
                <a:lnTo>
                  <a:pt x="0" y="72"/>
                </a:lnTo>
                <a:close/>
                <a:moveTo>
                  <a:pt x="358" y="0"/>
                </a:moveTo>
                <a:lnTo>
                  <a:pt x="430" y="90"/>
                </a:lnTo>
                <a:lnTo>
                  <a:pt x="358" y="180"/>
                </a:lnTo>
                <a:lnTo>
                  <a:pt x="358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85080" y="5011560"/>
            <a:ext cx="156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S  Rec.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85440" y="5256360"/>
            <a:ext cx="193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t to TAC &amp; pos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38320" y="380052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7600" y="404496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0040" y="3970440"/>
            <a:ext cx="325440" cy="993600"/>
          </a:xfrm>
          <a:custGeom>
            <a:avLst/>
            <a:gdLst/>
            <a:ahLst/>
            <a:rect l="l" t="t" r="r" b="b"/>
            <a:pathLst>
              <a:path w="1720" h="5264">
                <a:moveTo>
                  <a:pt x="6" y="5217"/>
                </a:moveTo>
                <a:lnTo>
                  <a:pt x="1515" y="311"/>
                </a:lnTo>
                <a:cubicBezTo>
                  <a:pt x="1521" y="293"/>
                  <a:pt x="1540" y="283"/>
                  <a:pt x="1557" y="288"/>
                </a:cubicBezTo>
                <a:cubicBezTo>
                  <a:pt x="1575" y="294"/>
                  <a:pt x="1585" y="313"/>
                  <a:pt x="1579" y="330"/>
                </a:cubicBezTo>
                <a:lnTo>
                  <a:pt x="70" y="5237"/>
                </a:lnTo>
                <a:cubicBezTo>
                  <a:pt x="64" y="5254"/>
                  <a:pt x="45" y="5264"/>
                  <a:pt x="28" y="5259"/>
                </a:cubicBezTo>
                <a:cubicBezTo>
                  <a:pt x="10" y="5253"/>
                  <a:pt x="0" y="5234"/>
                  <a:pt x="6" y="5217"/>
                </a:cubicBezTo>
                <a:close/>
                <a:moveTo>
                  <a:pt x="1336" y="325"/>
                </a:moveTo>
                <a:lnTo>
                  <a:pt x="1646" y="0"/>
                </a:lnTo>
                <a:lnTo>
                  <a:pt x="1720" y="444"/>
                </a:lnTo>
                <a:lnTo>
                  <a:pt x="1336" y="325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03720" y="3600360"/>
            <a:ext cx="1212840" cy="285840"/>
          </a:xfrm>
          <a:custGeom>
            <a:avLst/>
            <a:gdLst/>
            <a:ahLst/>
            <a:rect l="l" t="t" r="r" b="b"/>
            <a:pathLst>
              <a:path w="764" h="180">
                <a:moveTo>
                  <a:pt x="0" y="72"/>
                </a:moveTo>
                <a:lnTo>
                  <a:pt x="710" y="72"/>
                </a:lnTo>
                <a:lnTo>
                  <a:pt x="710" y="108"/>
                </a:lnTo>
                <a:lnTo>
                  <a:pt x="0" y="108"/>
                </a:lnTo>
                <a:lnTo>
                  <a:pt x="0" y="72"/>
                </a:lnTo>
                <a:close/>
                <a:moveTo>
                  <a:pt x="692" y="0"/>
                </a:moveTo>
                <a:lnTo>
                  <a:pt x="764" y="90"/>
                </a:lnTo>
                <a:lnTo>
                  <a:pt x="692" y="180"/>
                </a:lnTo>
                <a:lnTo>
                  <a:pt x="692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95880" y="2013120"/>
            <a:ext cx="151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S Rec.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95880" y="2254320"/>
            <a:ext cx="143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ents &amp;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95880" y="2498760"/>
            <a:ext cx="90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7800" y="380052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47440" y="404496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7520" y="2749680"/>
            <a:ext cx="536760" cy="766800"/>
          </a:xfrm>
          <a:custGeom>
            <a:avLst/>
            <a:gdLst/>
            <a:ahLst/>
            <a:rect l="l" t="t" r="r" b="b"/>
            <a:pathLst>
              <a:path w="2852" h="4058">
                <a:moveTo>
                  <a:pt x="65" y="18"/>
                </a:moveTo>
                <a:lnTo>
                  <a:pt x="2688" y="3764"/>
                </a:lnTo>
                <a:cubicBezTo>
                  <a:pt x="2698" y="3779"/>
                  <a:pt x="2695" y="3800"/>
                  <a:pt x="2679" y="3811"/>
                </a:cubicBezTo>
                <a:cubicBezTo>
                  <a:pt x="2664" y="3822"/>
                  <a:pt x="2643" y="3818"/>
                  <a:pt x="2633" y="3803"/>
                </a:cubicBezTo>
                <a:lnTo>
                  <a:pt x="10" y="57"/>
                </a:lnTo>
                <a:cubicBezTo>
                  <a:pt x="0" y="42"/>
                  <a:pt x="3" y="21"/>
                  <a:pt x="19" y="10"/>
                </a:cubicBezTo>
                <a:cubicBezTo>
                  <a:pt x="34" y="0"/>
                  <a:pt x="55" y="3"/>
                  <a:pt x="65" y="18"/>
                </a:cubicBezTo>
                <a:close/>
                <a:moveTo>
                  <a:pt x="2786" y="3613"/>
                </a:moveTo>
                <a:lnTo>
                  <a:pt x="2852" y="4058"/>
                </a:lnTo>
                <a:lnTo>
                  <a:pt x="2457" y="3844"/>
                </a:lnTo>
                <a:lnTo>
                  <a:pt x="2786" y="361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264280" y="2738520"/>
            <a:ext cx="1399320" cy="1550160"/>
            <a:chOff x="5264280" y="2738520"/>
            <a:chExt cx="1399320" cy="1550160"/>
          </a:xfrm>
        </p:grpSpPr>
        <p:sp>
          <p:nvSpPr>
            <p:cNvPr id="104" name=""/>
            <p:cNvSpPr/>
            <p:nvPr/>
          </p:nvSpPr>
          <p:spPr>
            <a:xfrm>
              <a:off x="5264280" y="3601800"/>
              <a:ext cx="1290600" cy="284040"/>
            </a:xfrm>
            <a:custGeom>
              <a:avLst/>
              <a:gdLst/>
              <a:ahLst/>
              <a:rect l="l" t="t" r="r" b="b"/>
              <a:pathLst>
                <a:path w="813" h="179">
                  <a:moveTo>
                    <a:pt x="0" y="71"/>
                  </a:moveTo>
                  <a:lnTo>
                    <a:pt x="759" y="72"/>
                  </a:lnTo>
                  <a:lnTo>
                    <a:pt x="759" y="108"/>
                  </a:lnTo>
                  <a:lnTo>
                    <a:pt x="0" y="107"/>
                  </a:lnTo>
                  <a:lnTo>
                    <a:pt x="0" y="71"/>
                  </a:lnTo>
                  <a:close/>
                  <a:moveTo>
                    <a:pt x="741" y="0"/>
                  </a:moveTo>
                  <a:lnTo>
                    <a:pt x="813" y="90"/>
                  </a:lnTo>
                  <a:lnTo>
                    <a:pt x="741" y="179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32040" y="2738520"/>
              <a:ext cx="47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33120" y="298260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sid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86840" y="3800160"/>
              <a:ext cx="45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x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7200" y="40449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67520" y="3281040"/>
              <a:ext cx="235080" cy="309240"/>
            </a:xfrm>
            <a:custGeom>
              <a:avLst/>
              <a:gdLst/>
              <a:ahLst/>
              <a:rect l="l" t="t" r="r" b="b"/>
              <a:pathLst>
                <a:path w="622" h="823">
                  <a:moveTo>
                    <a:pt x="32" y="9"/>
                  </a:moveTo>
                  <a:lnTo>
                    <a:pt x="535" y="679"/>
                  </a:lnTo>
                  <a:cubicBezTo>
                    <a:pt x="540" y="687"/>
                    <a:pt x="539" y="697"/>
                    <a:pt x="532" y="703"/>
                  </a:cubicBezTo>
                  <a:cubicBezTo>
                    <a:pt x="524" y="708"/>
                    <a:pt x="514" y="707"/>
                    <a:pt x="508" y="699"/>
                  </a:cubicBezTo>
                  <a:lnTo>
                    <a:pt x="5" y="29"/>
                  </a:lnTo>
                  <a:cubicBezTo>
                    <a:pt x="0" y="22"/>
                    <a:pt x="1" y="11"/>
                    <a:pt x="9" y="6"/>
                  </a:cubicBezTo>
                  <a:cubicBezTo>
                    <a:pt x="16" y="0"/>
                    <a:pt x="27" y="2"/>
                    <a:pt x="32" y="9"/>
                  </a:cubicBezTo>
                  <a:close/>
                  <a:moveTo>
                    <a:pt x="582" y="602"/>
                  </a:moveTo>
                  <a:lnTo>
                    <a:pt x="622" y="823"/>
                  </a:lnTo>
                  <a:lnTo>
                    <a:pt x="421" y="723"/>
                  </a:lnTo>
                  <a:lnTo>
                    <a:pt x="582" y="6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554880" y="2541600"/>
            <a:ext cx="1756440" cy="1747080"/>
            <a:chOff x="6554880" y="2541600"/>
            <a:chExt cx="1756440" cy="1747080"/>
          </a:xfrm>
        </p:grpSpPr>
        <p:sp>
          <p:nvSpPr>
            <p:cNvPr id="111" name=""/>
            <p:cNvSpPr/>
            <p:nvPr/>
          </p:nvSpPr>
          <p:spPr>
            <a:xfrm>
              <a:off x="6554880" y="3600360"/>
              <a:ext cx="1289160" cy="285840"/>
            </a:xfrm>
            <a:custGeom>
              <a:avLst/>
              <a:gdLst/>
              <a:ahLst/>
              <a:rect l="l" t="t" r="r" b="b"/>
              <a:pathLst>
                <a:path w="812" h="180">
                  <a:moveTo>
                    <a:pt x="0" y="72"/>
                  </a:moveTo>
                  <a:lnTo>
                    <a:pt x="758" y="72"/>
                  </a:lnTo>
                  <a:lnTo>
                    <a:pt x="758" y="108"/>
                  </a:lnTo>
                  <a:lnTo>
                    <a:pt x="0" y="108"/>
                  </a:lnTo>
                  <a:lnTo>
                    <a:pt x="0" y="72"/>
                  </a:lnTo>
                  <a:close/>
                  <a:moveTo>
                    <a:pt x="740" y="0"/>
                  </a:moveTo>
                  <a:lnTo>
                    <a:pt x="812" y="90"/>
                  </a:lnTo>
                  <a:lnTo>
                    <a:pt x="740" y="18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46560" y="2541600"/>
              <a:ext cx="136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RCOT Boar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7640" y="278280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sid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6840" y="3800160"/>
              <a:ext cx="45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x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27200" y="40449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6680" y="3128760"/>
              <a:ext cx="234720" cy="387360"/>
            </a:xfrm>
            <a:custGeom>
              <a:avLst/>
              <a:gdLst/>
              <a:ahLst/>
              <a:rect l="l" t="t" r="r" b="b"/>
              <a:pathLst>
                <a:path w="623" h="1024">
                  <a:moveTo>
                    <a:pt x="34" y="10"/>
                  </a:moveTo>
                  <a:lnTo>
                    <a:pt x="551" y="872"/>
                  </a:lnTo>
                  <a:cubicBezTo>
                    <a:pt x="556" y="880"/>
                    <a:pt x="553" y="890"/>
                    <a:pt x="545" y="895"/>
                  </a:cubicBezTo>
                  <a:cubicBezTo>
                    <a:pt x="537" y="900"/>
                    <a:pt x="527" y="897"/>
                    <a:pt x="522" y="889"/>
                  </a:cubicBezTo>
                  <a:lnTo>
                    <a:pt x="5" y="28"/>
                  </a:lnTo>
                  <a:cubicBezTo>
                    <a:pt x="0" y="20"/>
                    <a:pt x="3" y="10"/>
                    <a:pt x="11" y="5"/>
                  </a:cubicBezTo>
                  <a:cubicBezTo>
                    <a:pt x="19" y="0"/>
                    <a:pt x="29" y="3"/>
                    <a:pt x="34" y="10"/>
                  </a:cubicBezTo>
                  <a:close/>
                  <a:moveTo>
                    <a:pt x="605" y="800"/>
                  </a:moveTo>
                  <a:lnTo>
                    <a:pt x="623" y="1024"/>
                  </a:lnTo>
                  <a:lnTo>
                    <a:pt x="433" y="904"/>
                  </a:lnTo>
                  <a:lnTo>
                    <a:pt x="605" y="80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226200" y="4532400"/>
            <a:ext cx="2571120" cy="1554120"/>
            <a:chOff x="6226200" y="4532400"/>
            <a:chExt cx="2571120" cy="1554120"/>
          </a:xfrm>
        </p:grpSpPr>
        <p:sp>
          <p:nvSpPr>
            <p:cNvPr id="118" name=""/>
            <p:cNvSpPr/>
            <p:nvPr/>
          </p:nvSpPr>
          <p:spPr>
            <a:xfrm>
              <a:off x="6431040" y="4532400"/>
              <a:ext cx="1449360" cy="284040"/>
            </a:xfrm>
            <a:custGeom>
              <a:avLst/>
              <a:gdLst/>
              <a:ahLst/>
              <a:rect l="l" t="t" r="r" b="b"/>
              <a:pathLst>
                <a:path w="913" h="179">
                  <a:moveTo>
                    <a:pt x="53" y="71"/>
                  </a:moveTo>
                  <a:lnTo>
                    <a:pt x="860" y="71"/>
                  </a:lnTo>
                  <a:lnTo>
                    <a:pt x="860" y="107"/>
                  </a:lnTo>
                  <a:lnTo>
                    <a:pt x="53" y="107"/>
                  </a:lnTo>
                  <a:lnTo>
                    <a:pt x="53" y="71"/>
                  </a:lnTo>
                  <a:close/>
                  <a:moveTo>
                    <a:pt x="53" y="143"/>
                  </a:moveTo>
                  <a:lnTo>
                    <a:pt x="0" y="89"/>
                  </a:lnTo>
                  <a:lnTo>
                    <a:pt x="53" y="35"/>
                  </a:lnTo>
                  <a:lnTo>
                    <a:pt x="107" y="89"/>
                  </a:lnTo>
                  <a:lnTo>
                    <a:pt x="53" y="143"/>
                  </a:lnTo>
                  <a:close/>
                  <a:moveTo>
                    <a:pt x="842" y="0"/>
                  </a:moveTo>
                  <a:lnTo>
                    <a:pt x="913" y="89"/>
                  </a:lnTo>
                  <a:lnTo>
                    <a:pt x="842" y="179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30160" y="547704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eal Submitted after TA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26200" y="572148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32440" y="473076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32080" y="497520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1160" y="4889520"/>
              <a:ext cx="174600" cy="538200"/>
            </a:xfrm>
            <a:custGeom>
              <a:avLst/>
              <a:gdLst/>
              <a:ahLst/>
              <a:rect l="l" t="t" r="r" b="b"/>
              <a:pathLst>
                <a:path w="462" h="1426">
                  <a:moveTo>
                    <a:pt x="3" y="1402"/>
                  </a:moveTo>
                  <a:lnTo>
                    <a:pt x="359" y="156"/>
                  </a:lnTo>
                  <a:cubicBezTo>
                    <a:pt x="361" y="147"/>
                    <a:pt x="371" y="142"/>
                    <a:pt x="379" y="145"/>
                  </a:cubicBezTo>
                  <a:cubicBezTo>
                    <a:pt x="388" y="147"/>
                    <a:pt x="393" y="157"/>
                    <a:pt x="391" y="165"/>
                  </a:cubicBezTo>
                  <a:lnTo>
                    <a:pt x="35" y="1411"/>
                  </a:lnTo>
                  <a:cubicBezTo>
                    <a:pt x="32" y="1420"/>
                    <a:pt x="23" y="1426"/>
                    <a:pt x="14" y="1423"/>
                  </a:cubicBezTo>
                  <a:cubicBezTo>
                    <a:pt x="5" y="1420"/>
                    <a:pt x="0" y="1411"/>
                    <a:pt x="3" y="1402"/>
                  </a:cubicBezTo>
                  <a:close/>
                  <a:moveTo>
                    <a:pt x="269" y="165"/>
                  </a:moveTo>
                  <a:lnTo>
                    <a:pt x="421" y="0"/>
                  </a:lnTo>
                  <a:lnTo>
                    <a:pt x="462" y="221"/>
                  </a:lnTo>
                  <a:lnTo>
                    <a:pt x="269" y="1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9200" y="2679840"/>
            <a:ext cx="1957320" cy="3533040"/>
            <a:chOff x="349200" y="2679840"/>
            <a:chExt cx="1957320" cy="3533040"/>
          </a:xfrm>
        </p:grpSpPr>
        <p:sp>
          <p:nvSpPr>
            <p:cNvPr id="125" name=""/>
            <p:cNvSpPr/>
            <p:nvPr/>
          </p:nvSpPr>
          <p:spPr>
            <a:xfrm>
              <a:off x="780840" y="4375440"/>
              <a:ext cx="539640" cy="284040"/>
            </a:xfrm>
            <a:custGeom>
              <a:avLst/>
              <a:gdLst/>
              <a:ahLst/>
              <a:rect l="l" t="t" r="r" b="b"/>
              <a:pathLst>
                <a:path w="340" h="179">
                  <a:moveTo>
                    <a:pt x="53" y="72"/>
                  </a:moveTo>
                  <a:lnTo>
                    <a:pt x="286" y="72"/>
                  </a:lnTo>
                  <a:lnTo>
                    <a:pt x="286" y="108"/>
                  </a:lnTo>
                  <a:lnTo>
                    <a:pt x="53" y="108"/>
                  </a:lnTo>
                  <a:lnTo>
                    <a:pt x="53" y="72"/>
                  </a:lnTo>
                  <a:close/>
                  <a:moveTo>
                    <a:pt x="53" y="144"/>
                  </a:moveTo>
                  <a:lnTo>
                    <a:pt x="0" y="90"/>
                  </a:lnTo>
                  <a:lnTo>
                    <a:pt x="53" y="36"/>
                  </a:lnTo>
                  <a:lnTo>
                    <a:pt x="107" y="90"/>
                  </a:lnTo>
                  <a:lnTo>
                    <a:pt x="53" y="144"/>
                  </a:lnTo>
                  <a:close/>
                  <a:moveTo>
                    <a:pt x="268" y="0"/>
                  </a:moveTo>
                  <a:lnTo>
                    <a:pt x="340" y="90"/>
                  </a:lnTo>
                  <a:lnTo>
                    <a:pt x="268" y="17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200" y="2679840"/>
              <a:ext cx="79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640" y="29228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bmit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55080" y="45770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54720" y="481824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31760" y="5726160"/>
              <a:ext cx="79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31760" y="59691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knowled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8800" y="4745160"/>
              <a:ext cx="114480" cy="917640"/>
            </a:xfrm>
            <a:custGeom>
              <a:avLst/>
              <a:gdLst/>
              <a:ahLst/>
              <a:rect l="l" t="t" r="r" b="b"/>
              <a:pathLst>
                <a:path w="604" h="4860">
                  <a:moveTo>
                    <a:pt x="536" y="4828"/>
                  </a:moveTo>
                  <a:lnTo>
                    <a:pt x="161" y="337"/>
                  </a:lnTo>
                  <a:cubicBezTo>
                    <a:pt x="160" y="319"/>
                    <a:pt x="174" y="302"/>
                    <a:pt x="192" y="301"/>
                  </a:cubicBezTo>
                  <a:cubicBezTo>
                    <a:pt x="210" y="299"/>
                    <a:pt x="227" y="313"/>
                    <a:pt x="228" y="331"/>
                  </a:cubicBezTo>
                  <a:lnTo>
                    <a:pt x="602" y="4822"/>
                  </a:lnTo>
                  <a:cubicBezTo>
                    <a:pt x="604" y="4840"/>
                    <a:pt x="590" y="4857"/>
                    <a:pt x="572" y="4858"/>
                  </a:cubicBezTo>
                  <a:cubicBezTo>
                    <a:pt x="553" y="4860"/>
                    <a:pt x="537" y="4846"/>
                    <a:pt x="536" y="4828"/>
                  </a:cubicBezTo>
                  <a:close/>
                  <a:moveTo>
                    <a:pt x="0" y="418"/>
                  </a:moveTo>
                  <a:lnTo>
                    <a:pt x="167" y="0"/>
                  </a:lnTo>
                  <a:lnTo>
                    <a:pt x="401" y="384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9160" y="3205440"/>
              <a:ext cx="327240" cy="1144440"/>
            </a:xfrm>
            <a:custGeom>
              <a:avLst/>
              <a:gdLst/>
              <a:ahLst/>
              <a:rect l="l" t="t" r="r" b="b"/>
              <a:pathLst>
                <a:path w="1736" h="6067">
                  <a:moveTo>
                    <a:pt x="69" y="28"/>
                  </a:moveTo>
                  <a:lnTo>
                    <a:pt x="1591" y="5735"/>
                  </a:lnTo>
                  <a:cubicBezTo>
                    <a:pt x="1596" y="5753"/>
                    <a:pt x="1586" y="5771"/>
                    <a:pt x="1568" y="5776"/>
                  </a:cubicBezTo>
                  <a:cubicBezTo>
                    <a:pt x="1550" y="5781"/>
                    <a:pt x="1531" y="5770"/>
                    <a:pt x="1527" y="5752"/>
                  </a:cubicBezTo>
                  <a:lnTo>
                    <a:pt x="5" y="45"/>
                  </a:lnTo>
                  <a:cubicBezTo>
                    <a:pt x="0" y="28"/>
                    <a:pt x="11" y="9"/>
                    <a:pt x="28" y="4"/>
                  </a:cubicBezTo>
                  <a:cubicBezTo>
                    <a:pt x="46" y="0"/>
                    <a:pt x="65" y="10"/>
                    <a:pt x="69" y="28"/>
                  </a:cubicBezTo>
                  <a:close/>
                  <a:moveTo>
                    <a:pt x="1736" y="5627"/>
                  </a:moveTo>
                  <a:lnTo>
                    <a:pt x="1645" y="6067"/>
                  </a:lnTo>
                  <a:lnTo>
                    <a:pt x="1348" y="5731"/>
                  </a:lnTo>
                  <a:lnTo>
                    <a:pt x="1736" y="56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9160" y="3205440"/>
              <a:ext cx="311040" cy="461880"/>
            </a:xfrm>
            <a:custGeom>
              <a:avLst/>
              <a:gdLst/>
              <a:ahLst/>
              <a:rect l="l" t="t" r="r" b="b"/>
              <a:pathLst>
                <a:path w="1646" h="2450">
                  <a:moveTo>
                    <a:pt x="66" y="19"/>
                  </a:moveTo>
                  <a:lnTo>
                    <a:pt x="1488" y="2153"/>
                  </a:lnTo>
                  <a:cubicBezTo>
                    <a:pt x="1499" y="2168"/>
                    <a:pt x="1495" y="2189"/>
                    <a:pt x="1479" y="2199"/>
                  </a:cubicBezTo>
                  <a:cubicBezTo>
                    <a:pt x="1464" y="2209"/>
                    <a:pt x="1443" y="2205"/>
                    <a:pt x="1433" y="2190"/>
                  </a:cubicBezTo>
                  <a:lnTo>
                    <a:pt x="10" y="56"/>
                  </a:lnTo>
                  <a:cubicBezTo>
                    <a:pt x="0" y="41"/>
                    <a:pt x="4" y="20"/>
                    <a:pt x="19" y="10"/>
                  </a:cubicBezTo>
                  <a:cubicBezTo>
                    <a:pt x="35" y="0"/>
                    <a:pt x="56" y="4"/>
                    <a:pt x="66" y="19"/>
                  </a:cubicBezTo>
                  <a:close/>
                  <a:moveTo>
                    <a:pt x="1591" y="2004"/>
                  </a:moveTo>
                  <a:lnTo>
                    <a:pt x="1646" y="2450"/>
                  </a:lnTo>
                  <a:lnTo>
                    <a:pt x="1256" y="2227"/>
                  </a:lnTo>
                  <a:lnTo>
                    <a:pt x="1591" y="20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E3A-29FC-4918-A2BC-4FF9F0321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shang</cp:lastModifiedBy>
  <cp:lastPrinted>2002-09-24T18:27:58Z</cp:lastPrinted>
  <dcterms:modified xsi:type="dcterms:W3CDTF">2004-07-15T14:33:49Z</dcterms:modified>
  <cp:revision>3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