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449-3F70-412E-99AF-52E82453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E89-410B-4E92-99A6-5A222C57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C14-F4FC-4889-9F51-5284E05B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D9D-5502-480A-BBDA-4FF207F8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C18-F864-4290-B2BC-91E61AA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083-E276-449A-91BD-121CF217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4E2-1B6A-4778-8C09-B31B7BF3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D3B-3A2A-4DD1-8AC0-9A2F7291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424-05A0-4F2C-812A-84FA6A64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05C-0156-427E-8B4E-087C2CBF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339-4883-45A6-A8D2-CA615928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897-D24F-49D7-8A7C-B0916566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3FF9-B856-4656-81C3-76CA80F5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57640" y="2005200"/>
            <a:ext cx="802872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rging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F5B-5AED-4B98-930D-FF02DFA188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106-EF19-4661-85D4-6EC5A211F7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 Area Te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AT)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5EB-ACA0-42CE-94C9-DF8FD3E7B0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3808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rea Tea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371600"/>
            <a:ext cx="86868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Area Teams (PA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verall goal of the PAT internal organization is to support needs from the ERCOT Market and ERCOT internally related to areas of operation within ERCOT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 objectiv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the number of changes/release to ERCOT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 means to affectively managing the change requests received from the market and internal ERC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Operational Area go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Project Management go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IT go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Program Management go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DDB-53F0-4021-883F-11FBE68FA2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9240" y="2230560"/>
            <a:ext cx="7041960" cy="10555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onsor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Spons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19240" y="3611520"/>
            <a:ext cx="7041960" cy="138276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gram Lea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Vendor L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19240" y="5318280"/>
            <a:ext cx="7041960" cy="121896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usiness Lea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lease Lead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IT L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rea Teams “PAT”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00880" y="1824120"/>
            <a:ext cx="2639880" cy="495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9680" y="1824120"/>
            <a:ext cx="2800440" cy="495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2473200"/>
            <a:ext cx="5257800" cy="731880"/>
          </a:xfrm>
          <a:prstGeom prst="roundRect">
            <a:avLst>
              <a:gd name="adj" fmla="val 16667"/>
            </a:avLst>
          </a:prstGeom>
          <a:solidFill>
            <a:srgbClr val="ff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RATEGIC TE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S                           PMO                         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ategic focu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3m-3yr outloo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936960"/>
            <a:ext cx="5334120" cy="974880"/>
          </a:xfrm>
          <a:prstGeom prst="roundRect">
            <a:avLst>
              <a:gd name="adj" fmla="val 16667"/>
            </a:avLst>
          </a:prstGeom>
          <a:solidFill>
            <a:srgbClr val="ff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OUS ANALYSIS &amp; REQUIREMENTS TE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US  Lead                PMO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L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rket Rules, Vendor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ch L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5648400"/>
            <a:ext cx="5257800" cy="812880"/>
          </a:xfrm>
          <a:prstGeom prst="roundRect">
            <a:avLst>
              <a:gd name="adj" fmla="val 16667"/>
            </a:avLst>
          </a:prstGeom>
          <a:solidFill>
            <a:srgbClr val="ff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LEASE TE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US                         PM  -  PMO                         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ject and Release Foc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228680"/>
            <a:ext cx="8686800" cy="487440"/>
          </a:xfrm>
          <a:prstGeom prst="roundRect">
            <a:avLst>
              <a:gd name="adj" fmla="val 16667"/>
            </a:avLst>
          </a:prstGeom>
          <a:solidFill>
            <a:srgbClr val="ffff7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COT Strategic Review Te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presentatives from PA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40400" y="166032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40400" y="328608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40400" y="499428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320" y="990720"/>
            <a:ext cx="868680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107-E1A0-4980-B4F8-EF419324DE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rea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569960"/>
            <a:ext cx="8305920" cy="487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rategic Review Tea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ll Strategic Team Member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00280" y="20570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40240" y="20570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451480" y="20570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291440" y="20570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8560" y="3195720"/>
            <a:ext cx="1601640" cy="56808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39960" y="3276720"/>
            <a:ext cx="1519200" cy="406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ategic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8560" y="3927600"/>
            <a:ext cx="1601640" cy="11779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39960" y="4008600"/>
            <a:ext cx="1519200" cy="10206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inuous Analysis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quirement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98560" y="5297400"/>
            <a:ext cx="1601640" cy="56988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39960" y="5378400"/>
            <a:ext cx="1519200" cy="406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lease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9000" y="2463840"/>
            <a:ext cx="1760760" cy="355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stem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700280" y="368316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765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463840"/>
            <a:ext cx="1760400" cy="355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11960" y="2463840"/>
            <a:ext cx="1760400" cy="355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58960" y="2463840"/>
            <a:ext cx="1760760" cy="355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200400"/>
            <a:ext cx="1601640" cy="56844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4600" y="3281400"/>
            <a:ext cx="1519200" cy="406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ategic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3932280"/>
            <a:ext cx="1601640" cy="11779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4600" y="4013280"/>
            <a:ext cx="1519200" cy="10206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inuous Analysis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quirement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5302080"/>
            <a:ext cx="1601640" cy="57024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84600" y="5383080"/>
            <a:ext cx="1519200" cy="406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lease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544920" y="368784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21160" y="5033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5080" y="3208320"/>
            <a:ext cx="1601640" cy="56844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6480" y="3289320"/>
            <a:ext cx="1519200" cy="406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ategic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5080" y="3940200"/>
            <a:ext cx="1601640" cy="11779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6480" y="4021200"/>
            <a:ext cx="1519200" cy="10206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inuous Analysis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quirement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5080" y="5310360"/>
            <a:ext cx="1601640" cy="56988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6480" y="5391000"/>
            <a:ext cx="1519200" cy="406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lease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446800" y="369576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423040" y="5041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3880" y="3208320"/>
            <a:ext cx="1601640" cy="56844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15280" y="3289320"/>
            <a:ext cx="1519200" cy="406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ategic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3880" y="3940200"/>
            <a:ext cx="1601640" cy="11779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15280" y="4021200"/>
            <a:ext cx="1519200" cy="10206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inuous Analysis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quirement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3880" y="5310360"/>
            <a:ext cx="1601640" cy="56988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15280" y="5391000"/>
            <a:ext cx="1519200" cy="4064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lease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275600" y="369576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51840" y="5041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739-D5BB-45D0-8164-8AE35EC8ED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7632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600200"/>
            <a:ext cx="175284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Revi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0666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1960" y="2819520"/>
            <a:ext cx="1524240" cy="76176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120" y="28954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ic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 PMO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960" y="3809880"/>
            <a:ext cx="1524240" cy="106704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388620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ous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   PMO  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1960" y="5486400"/>
            <a:ext cx="1524240" cy="83808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0120" y="5562720"/>
            <a:ext cx="1447920" cy="598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   PMO  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666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4876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1295280"/>
            <a:ext cx="4800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1295280"/>
            <a:ext cx="22100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666880"/>
            <a:ext cx="48006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oritize program issues/impacts/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 program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 progra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666880"/>
            <a:ext cx="2210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ket Sub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 Req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3733920"/>
            <a:ext cx="48006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 project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rdinat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ailed imp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 protocol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mmend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733920"/>
            <a:ext cx="221004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tegic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5410080"/>
            <a:ext cx="48006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rdinate project t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ess CRs for release project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5410080"/>
            <a:ext cx="22100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 Req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-line Mg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160020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itor requests: PUC, Market, Internal, PR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oritize cross-functional issues /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rdinate X-functional efforts, schedules, $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1600200"/>
            <a:ext cx="2210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fi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5228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5228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80" y="2666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286000"/>
            <a:ext cx="17528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280" y="990720"/>
            <a:ext cx="868680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677-B0E6-46BE-80CD-32779CC329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2286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 Deliverables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1371600"/>
            <a:ext cx="4191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1371600"/>
            <a:ext cx="2819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2590920"/>
            <a:ext cx="41911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arly goals &amp; performance metr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 3-year Program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oadmap / Release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2590920"/>
            <a:ext cx="2819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end Board, Subcommitte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gram Review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581280"/>
            <a:ext cx="41911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ct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act Analysis (cost-benefit-resou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-leve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ct Ch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3581280"/>
            <a:ext cx="2819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ll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ct Placement, Scheduling and Update Meeting in Conjunction with Tollgate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5486400"/>
            <a:ext cx="4191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ease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sh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sure Sign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5486400"/>
            <a:ext cx="2819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ease/Project Kick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ct Team mt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1676520"/>
            <a:ext cx="4191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area recomme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Updates / Major Committ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s, Rules and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1676520"/>
            <a:ext cx="2819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Review (monthly as part of Executive Mee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1676520"/>
            <a:ext cx="1752840" cy="53316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Revi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666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960" y="2819520"/>
            <a:ext cx="1524240" cy="6094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120" y="289548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ic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   PMO  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960" y="3886200"/>
            <a:ext cx="1524240" cy="121932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0120" y="3962520"/>
            <a:ext cx="1447920" cy="1066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   PMO  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1960" y="5562720"/>
            <a:ext cx="1524240" cy="83808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0120" y="5638680"/>
            <a:ext cx="1447920" cy="598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   PMO  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066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0666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52280" y="5486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522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5228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286000"/>
            <a:ext cx="175284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2280" y="990720"/>
            <a:ext cx="868680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05E-267D-40FF-B997-F3B1B90019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5280" y="30492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rea Teams and Focus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1676520"/>
            <a:ext cx="17524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g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Prof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/B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MO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ew CMS or SB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676520"/>
            <a:ext cx="16002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676520"/>
            <a:ext cx="167652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/ 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1676520"/>
            <a:ext cx="1523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3238200" y="-114120"/>
            <a:ext cx="2286000" cy="70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3466800" y="1942920"/>
            <a:ext cx="1828800" cy="70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ommitt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F39-052B-4A6B-AD45-FBDCB29D74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8E3-7FFE-4FC5-BE8B-680CA7273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Data Warehou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DW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F26-7EB9-4543-B94A-F3946821B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447920"/>
            <a:ext cx="7162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l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deStar Extract Tran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ata Warehouse (EDW)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63E-E417-4522-BB1A-51C0F18634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ata Warehouse (EDW)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4560" y="1447920"/>
            <a:ext cx="75787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W consists of three major architectural components, all optimally designed for stability, security and recover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licated Source System (R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s insert, update, and delete activity in the sour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‘mirror’ of the source system – does not store histor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reduces impact on the sour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near real-time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5E4-D4F4-4A80-8A52-1AF22DF6CE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ata Warehouse (EDW)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4560" y="1447920"/>
            <a:ext cx="757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al Data Store (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‘As Of’ querying by recording when a record was inserted or updated/deleted in the sour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ecord versioning via Point-in-Time Selectivity (P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intra-day history by loading all record activity from the 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n optimized extracting and report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D1B-3704-440A-A777-0A4CDFDCC4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ata Warehouse (EDW)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4560" y="1447920"/>
            <a:ext cx="757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Warehouse (D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data from multiple sourc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s data by business subjec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s data across subject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effective and efficient reporting solutions for MP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247-A6BC-4DF9-B1C7-EDED6D499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522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 Project: 2004 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00" y="990720"/>
            <a:ext cx="5556240" cy="35020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8160" y="1039680"/>
            <a:ext cx="162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W Application Found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7920" y="4815000"/>
            <a:ext cx="769680" cy="61272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 R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3080" y="4815000"/>
            <a:ext cx="768240" cy="612720"/>
          </a:xfrm>
          <a:prstGeom prst="flowChartMagneticDisk">
            <a:avLst/>
          </a:prstGeom>
          <a:solidFill>
            <a:srgbClr val="ff9900">
              <a:alpha val="65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* R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3440" y="5643720"/>
            <a:ext cx="2387520" cy="909360"/>
          </a:xfrm>
          <a:prstGeom prst="rect">
            <a:avLst/>
          </a:prstGeom>
          <a:solidFill>
            <a:srgbClr val="996600">
              <a:alpha val="2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7440" y="5873760"/>
            <a:ext cx="709560" cy="26208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8640" y="5873760"/>
            <a:ext cx="709560" cy="26208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79480" y="5870520"/>
            <a:ext cx="711360" cy="61272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i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7440" y="6222960"/>
            <a:ext cx="70956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SI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8640" y="6222960"/>
            <a:ext cx="70956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5120" y="5676840"/>
            <a:ext cx="12459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ODEST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8200" y="5643720"/>
            <a:ext cx="3127320" cy="909360"/>
          </a:xfrm>
          <a:prstGeom prst="rect">
            <a:avLst/>
          </a:prstGeom>
          <a:solidFill>
            <a:srgbClr val="996600">
              <a:alpha val="2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38360" y="6151680"/>
            <a:ext cx="7099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cillary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49600" y="5676840"/>
            <a:ext cx="124632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6151680"/>
            <a:ext cx="7113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alanc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819400"/>
            <a:ext cx="711000" cy="33732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79840" y="5880240"/>
            <a:ext cx="711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5819400"/>
            <a:ext cx="711360" cy="33732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5800" y="6151680"/>
            <a:ext cx="711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sourc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5880240"/>
            <a:ext cx="709920" cy="2156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79840" y="6151680"/>
            <a:ext cx="71100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ergy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59" idx="0"/>
            <a:endCxn id="58" idx="3"/>
          </p:cNvCxnSpPr>
          <p:nvPr/>
        </p:nvCxnSpPr>
        <p:spPr>
          <a:xfrm flipV="1">
            <a:off x="1356840" y="5427360"/>
            <a:ext cx="1080" cy="21672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6" idx="0"/>
            <a:endCxn id="57" idx="3"/>
          </p:cNvCxnSpPr>
          <p:nvPr/>
        </p:nvCxnSpPr>
        <p:spPr>
          <a:xfrm flipV="1">
            <a:off x="4171680" y="5427360"/>
            <a:ext cx="1080" cy="21672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5873760" y="3243240"/>
            <a:ext cx="592200" cy="453960"/>
          </a:xfrm>
          <a:prstGeom prst="flowChartDocument">
            <a:avLst/>
          </a:prstGeom>
          <a:solidFill>
            <a:srgbClr val="819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* Ba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xtr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2600" y="1600200"/>
            <a:ext cx="614520" cy="501480"/>
          </a:xfrm>
          <a:prstGeom prst="flowChartMultidocumen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M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58" idx="1"/>
            <a:endCxn id="81" idx="3"/>
          </p:cNvCxnSpPr>
          <p:nvPr/>
        </p:nvCxnSpPr>
        <p:spPr>
          <a:xfrm flipH="1" flipV="1" rot="5400000">
            <a:off x="2113560" y="3581640"/>
            <a:ext cx="477000" cy="1990080"/>
          </a:xfrm>
          <a:prstGeom prst="bentConnector3">
            <a:avLst>
              <a:gd name="adj1" fmla="val 4977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57" idx="1"/>
            <a:endCxn id="81" idx="3"/>
          </p:cNvCxnSpPr>
          <p:nvPr/>
        </p:nvCxnSpPr>
        <p:spPr>
          <a:xfrm flipV="1" rot="16200000">
            <a:off x="3520440" y="4163400"/>
            <a:ext cx="477000" cy="826200"/>
          </a:xfrm>
          <a:prstGeom prst="bentConnector3">
            <a:avLst>
              <a:gd name="adj1" fmla="val 4977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205000" y="1668600"/>
            <a:ext cx="2282760" cy="36324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Business Intelligence                     Found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79520" y="2604600"/>
            <a:ext cx="2133360" cy="1733760"/>
            <a:chOff x="2279520" y="2604600"/>
            <a:chExt cx="2133360" cy="1733760"/>
          </a:xfrm>
        </p:grpSpPr>
        <p:sp>
          <p:nvSpPr>
            <p:cNvPr id="81" name=""/>
            <p:cNvSpPr/>
            <p:nvPr/>
          </p:nvSpPr>
          <p:spPr>
            <a:xfrm>
              <a:off x="2279520" y="3757320"/>
              <a:ext cx="2131920" cy="581040"/>
            </a:xfrm>
            <a:prstGeom prst="flowChartMagneticDisk">
              <a:avLst/>
            </a:prstGeom>
            <a:solidFill>
              <a:srgbClr val="ff9900">
                <a:alpha val="65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79520" y="3753000"/>
              <a:ext cx="2131920" cy="16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/>
            <p:nvPr/>
          </p:nvCxnSpPr>
          <p:spPr>
            <a:xfrm>
              <a:off x="2333880" y="2604600"/>
              <a:ext cx="1080" cy="1080"/>
            </a:xfrm>
            <a:prstGeom prst="straightConnector1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2279520" y="2686320"/>
              <a:ext cx="2131920" cy="72612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76040" y="4005360"/>
              <a:ext cx="94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LODESTAR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84400" y="3306600"/>
              <a:ext cx="72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iebel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2160" y="329616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IBEL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0960" y="3421440"/>
              <a:ext cx="2131920" cy="514440"/>
            </a:xfrm>
            <a:prstGeom prst="flowChartMagneticDisk">
              <a:avLst/>
            </a:prstGeom>
            <a:solidFill>
              <a:srgbClr val="83b200">
                <a:alpha val="65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79520" y="3069360"/>
              <a:ext cx="2131920" cy="5140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8520" y="3028320"/>
              <a:ext cx="2112480" cy="1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55320" y="298584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b2b2b2"/>
                  </a:solidFill>
                  <a:latin typeface="Tahoma"/>
                </a:rPr>
                <a:t>EAI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85120" y="36532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EMMS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8560" y="331740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b2b2b2"/>
                  </a:solidFill>
                  <a:latin typeface="Tahoma"/>
                </a:rPr>
                <a:t>SEIBEL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" name=""/>
          <p:cNvCxnSpPr>
            <a:stCxn id="87" idx="1"/>
            <a:endCxn id="83" idx="2"/>
          </p:cNvCxnSpPr>
          <p:nvPr/>
        </p:nvCxnSpPr>
        <p:spPr>
          <a:xfrm flipV="1">
            <a:off x="3346200" y="2031120"/>
            <a:ext cx="1080" cy="65484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63440" y="4694400"/>
            <a:ext cx="5560920" cy="8650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00440" y="3290760"/>
            <a:ext cx="922320" cy="36216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ata Delivery Mo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3" idx="3"/>
            <a:endCxn id="99" idx="0"/>
          </p:cNvCxnSpPr>
          <p:nvPr/>
        </p:nvCxnSpPr>
        <p:spPr>
          <a:xfrm>
            <a:off x="4487400" y="1850760"/>
            <a:ext cx="575640" cy="1440360"/>
          </a:xfrm>
          <a:prstGeom prst="bentConnector2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78" idx="1"/>
          </p:cNvCxnSpPr>
          <p:nvPr/>
        </p:nvCxnSpPr>
        <p:spPr>
          <a:xfrm flipV="1">
            <a:off x="5522400" y="3470040"/>
            <a:ext cx="351360" cy="2160"/>
          </a:xfrm>
          <a:prstGeom prst="bentConnector3">
            <a:avLst>
              <a:gd name="adj1" fmla="val 4974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3" idx="3"/>
            <a:endCxn id="79" idx="1"/>
          </p:cNvCxnSpPr>
          <p:nvPr/>
        </p:nvCxnSpPr>
        <p:spPr>
          <a:xfrm>
            <a:off x="4487400" y="1850760"/>
            <a:ext cx="1375560" cy="1080"/>
          </a:xfrm>
          <a:prstGeom prst="bentConnector2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560760" y="509436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6360" y="302724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5560" y="1089000"/>
            <a:ext cx="15264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0240" y="221148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0" y="411624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440" y="302724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405080"/>
            <a:ext cx="15264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3720" y="373536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657440"/>
            <a:ext cx="2365200" cy="512424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Ray Ch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DW Delivery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3480" y="2209680"/>
            <a:ext cx="220968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1: EMMS RS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R Ch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3480" y="3376440"/>
            <a:ext cx="220968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3: EDW Application Foundation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R Ch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543560"/>
            <a:ext cx="221004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5: BI Foundation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C Ry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3480" y="2792520"/>
            <a:ext cx="220968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2: Data Delivery Module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J Mes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3480" y="3959280"/>
            <a:ext cx="220968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4: LodeStar ODS Transition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A Soo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973080"/>
            <a:ext cx="2355840" cy="58572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-40042: Enterprise Dat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MO and IT PM Director: R Co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M: A Esenko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5126040"/>
            <a:ext cx="221004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6: LodeStar Extract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J Mes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710320"/>
            <a:ext cx="221004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7: EMMS OD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A Soole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294600"/>
            <a:ext cx="221004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8: EMMS Report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P Ohlendor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F9B-057F-41CE-9243-4C47D7936C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Transition: Data Archive to E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560" y="1447920"/>
            <a:ext cx="7578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collaboration with business users on 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from market participants to confirm requirements and recommendations for technica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IT and business team for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of MP loading process to inform technical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ough documentation for MP processing and client service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37F-B7FC-4B79-A71E-032F24B22B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Transition: Data Archive to E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1447920"/>
            <a:ext cx="757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 auditing 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g process auditing with meta data capture (i.e., what records went out to which MPs in a specific 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covery built into the logic and processing – enabled through EDW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with reusable foundation for extracting an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69E-45C1-4302-8FF1-1E6001D9D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6-03T21:32:24Z</dcterms:modified>
  <cp:revision>3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