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D015-6AD9-44C2-A47D-58DBEA52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D47-12BA-4005-8AA9-B8DC67AF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057-4A4E-4D82-9434-33D8C586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617-47FE-4103-8EED-16F4C3D4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70B8-641B-42C7-821A-57525370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F5D6-76D4-400C-A15D-5F5A63A4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4C01-3AF1-4463-A750-B5AF61D8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50E6-8614-4C3B-86F0-DDB84D85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AB85-1FCF-4821-A2DB-9C036D12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ED8F-265B-4A64-834F-D913E055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39E0-175F-4F26-855F-1375375A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2B7-B8A5-48CC-A503-518C5486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8C08-B6F9-463F-8584-AB6E83BA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2641-B275-49D4-A688-3583B6AC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CAE2-9A26-49B1-983A-F1BECBD4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6BAA-433F-4610-89D7-DACA70B8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4E43-768A-4A4E-A561-8E21E0AE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25C-CA85-4DBC-B397-2165F65D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85C-48DC-4948-9692-53E261EC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609-5842-4C0C-9B3B-9ED91034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B51A-7191-4053-9A79-9455D81D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5F86-C8DF-4494-BA36-3947520F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F588-4A9F-4F5C-82C3-E468A336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BFC4-86B8-4480-9D9D-EE8DD8D4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4D80-C2AF-486C-A662-7A7CC406B977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04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9D0D-39AD-43D4-B00E-35526E5BCD99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8f8f8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8f8f8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8f8f8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8f8f8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rebuchet MS"/>
              </a:rPr>
              <a:t>ERCOT IDR Threshold Analysis 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3505320"/>
            <a:ext cx="3200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RMS Presentation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June 10, 2004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By: Carl Raish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Lindsey Turns</a:t>
            </a: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495680" y="3048120"/>
            <a:ext cx="3892680" cy="346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C50C-D270-49FB-A367-E6A52BC6B9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67057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ccff"/>
                </a:solidFill>
                <a:latin typeface="Trebuchet MS"/>
              </a:rPr>
              <a:t>Distribution of IDRs Less Than 1000 kW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90720" y="1371600"/>
          <a:ext cx="7467480" cy="51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1600"/>
                    <a:ext cx="746748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828800" y="2057400"/>
            <a:ext cx="230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3,752 ESI IDs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6.4 GWh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A0B-92FD-4DA1-BDB6-1D3F75BF00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rebuchet MS"/>
              </a:rPr>
              <a:t>Profiling Error Calc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599840"/>
            <a:ext cx="7621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8f8f8"/>
                </a:solidFill>
                <a:uFillTx/>
                <a:latin typeface="Verdana"/>
              </a:rPr>
              <a:t>Adjusted Profiling Error</a:t>
            </a:r>
            <a:r>
              <a:rPr b="0" lang="en-US" sz="2600" spc="-1" strike="noStrike">
                <a:solidFill>
                  <a:srgbClr val="f8f8f8"/>
                </a:solidFill>
                <a:latin typeface="Verdana"/>
              </a:rPr>
              <a:t>: quantifies the</a:t>
            </a:r>
            <a:endParaRPr b="0" lang="en-US" sz="2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Verdana"/>
              </a:rPr>
              <a:t>difference between the actual (IDR) load</a:t>
            </a:r>
            <a:endParaRPr b="0" lang="en-US" sz="2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Verdana"/>
              </a:rPr>
              <a:t>and the profiled load adjusted for UFE.</a:t>
            </a:r>
            <a:endParaRPr b="0" lang="en-US" sz="2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8f8f8"/>
                </a:solidFill>
                <a:uFillTx/>
                <a:latin typeface="Verdana"/>
              </a:rPr>
              <a:t>Net Profiling Error Cost</a:t>
            </a:r>
            <a:r>
              <a:rPr b="0" lang="en-US" sz="2600" spc="-1" strike="noStrike">
                <a:solidFill>
                  <a:srgbClr val="f8f8f8"/>
                </a:solidFill>
                <a:latin typeface="Verdana"/>
              </a:rPr>
              <a:t>: quantifies the</a:t>
            </a:r>
            <a:endParaRPr b="0" lang="en-US" sz="2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Verdana"/>
              </a:rPr>
              <a:t>monetary cost of profiling error to the </a:t>
            </a:r>
            <a:endParaRPr b="0" lang="en-US" sz="2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Verdana"/>
              </a:rPr>
              <a:t>Market. </a:t>
            </a:r>
            <a:endParaRPr b="0" lang="en-US" sz="2600" spc="-1" strike="noStrike">
              <a:solidFill>
                <a:srgbClr val="f8f8f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590920" y="5943600"/>
                <a:ext cx="50115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PE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jP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P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676520" y="3429000"/>
                <a:ext cx="60944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djP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ua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FEFact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ofiled</m:t>
                                </m:r>
                              </m:sub>
                            </m:sSub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37F6-81C7-4A1C-8B25-192543BDC6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64008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rebuchet MS"/>
              </a:rPr>
              <a:t>Distribution of Net Profiling 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66680" y="1371600"/>
          <a:ext cx="8077320" cy="51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807732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4B4-5D11-4E86-9124-56863B3E4A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rebuchet MS"/>
              </a:rPr>
              <a:t>Cross Customer Error Calc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Verdana"/>
              </a:rPr>
              <a:t>Cross Customer Error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: quantifies the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cross subsidization between customers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that occurs as a result of Profil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Error adjusted for UFE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86000" y="4406760"/>
                <a:ext cx="508176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CE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djP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CP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F499-B90C-46BC-92D1-92CB869B55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rebuchet MS"/>
              </a:rPr>
              <a:t>Cross Customer Error 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8001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83BB-7CC1-4E8E-8961-775E9D5F85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62866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rebuchet MS"/>
              </a:rPr>
              <a:t>Tariff Savings for Premises which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rebuchet MS"/>
              </a:rPr>
              <a:t> Benefit by Removing IDR 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8001000" cy="481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9F3-400A-439B-9A73-26933D84C2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1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rebuchet MS"/>
              </a:rPr>
              <a:t>Cross Customer Error Summary for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rebuchet MS"/>
              </a:rPr>
              <a:t>Premises which Benefit by Removing IDR 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001000" cy="331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134-FEB6-4C34-B06B-706DB9C303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rebuchet MS"/>
              </a:rPr>
              <a:t>Recommend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92504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Allow optional removal below 150 kW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615 premises impacted however likely that only 271 would experience tariff reductions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TDSP tariff reductions ~ $646/premise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~ $201 Cross Customer Error introduced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BFF-E6C5-415A-89CA-31EA9AFFFB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20:28:20Z</dcterms:created>
  <dc:creator> </dc:creator>
  <dc:description/>
  <dc:language>en-US</dc:language>
  <cp:lastModifiedBy> </cp:lastModifiedBy>
  <dcterms:modified xsi:type="dcterms:W3CDTF">2004-06-01T19:05:54Z</dcterms:modified>
  <cp:revision>5</cp:revision>
  <dc:subject/>
  <dc:title>Distribution of IDRs Less Than 1000 k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32025161</vt:r8>
  </property>
  <property fmtid="{D5CDD505-2E9C-101B-9397-08002B2CF9AE}" pid="3" name="_AuthorEmail">
    <vt:lpwstr>lturns@ercot.com</vt:lpwstr>
  </property>
  <property fmtid="{D5CDD505-2E9C-101B-9397-08002B2CF9AE}" pid="4" name="_AuthorEmailDisplayName">
    <vt:lpwstr>Turns, Lindsey</vt:lpwstr>
  </property>
  <property fmtid="{D5CDD505-2E9C-101B-9397-08002B2CF9AE}" pid="5" name="_EmailSubject">
    <vt:lpwstr>IDR</vt:lpwstr>
  </property>
</Properties>
</file>