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116-CB4E-4AE6-AB75-70AD4092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73C-12D9-4930-B0F4-B87BF668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868-8561-450E-A445-BECA41AC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24B-6D2F-4E05-A1A0-ADC49EA9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F60-C1F6-408A-9AFB-C366084A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955-C393-4E88-887F-0CEB943A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F53-8143-4ED7-B956-42AD163F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7CA-CE20-468A-88DC-091A8E3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05F-BB7E-4136-8A54-FF933ED9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1B8-BEE4-467C-92CD-493644A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7C8-F2C9-4788-B9C5-A27BF93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194-9D91-447C-B302-08A1C71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BBB1-4C42-4FA7-99CB-57BC4222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MS Update - ERC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0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E72-C0A5-4ADF-916D-17AD573F6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Completed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continues sending weekly FasTrak issues to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odified process to omit 867 Cancels from reporting beginning with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et with each TDSP on 2/4/04 and 2/5/04 to determine a consensus direction for clearing out-of-sync ESI 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67RCSO process helped to identify two processing issues with two different TDSP since its 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oved the 867RCSO report from a FasTrak Initiated issue to an automated weekly portal report to the TDSP and the CR on April 30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to summarize data provided to the TDSPs for reporting to RMS for the next few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B25-1B75-47BE-8BAB-4DA8872CD4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DFB-EB49-46CD-9213-AB4559137F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34080" y="1371600"/>
            <a:ext cx="3105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6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371600"/>
          <a:ext cx="54100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4100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791320" y="3962520"/>
            <a:ext cx="30477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632 New and In Progress Non-ERCOT issues, 30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1BF-50F0-4255-B6B8-0D162FD73D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77 New &amp; In Progress, 117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132,9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,049 New &amp; In Progress, 262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460520"/>
          <a:ext cx="51688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60520"/>
                    <a:ext cx="51688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3F9-6BE2-43AF-8C6A-0C016C15A6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1295280"/>
          <a:ext cx="8686800" cy="474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686800" cy="47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133720" y="61722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926 New &amp; In Progress ERCOT Issues, 30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EC0-CC58-4A03-9450-5CCAF0121F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6-01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28880" y="1523880"/>
          <a:ext cx="6946560" cy="29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523880"/>
                    <a:ext cx="69465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3D0-D5F3-48CE-BB0F-20DF26071A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85F-5721-43C1-A135-2D881A3C10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01E-D4DB-4B3B-BFB3-016B7A6F16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Installation update as of 6/1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.csv examples have been demo with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ot Program to start end of June 2004 and run through Sept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to enter Pilot Early Jul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s to enter Pilot 1 month there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Pilot, Market will be working with ERCOT to resolve program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LRS market meeting 6/23/2004 at ME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777240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0B1-C576-424D-9B2F-5A76BFB531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operation guide to reflect changes needed by market and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TDSP.CSV file for format clar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replacement rules for temporary service and O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process is internal integration testing in preparation for pi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emental additions to original samples completed for stratums that were not sampled at 100% but required for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sample point installations and working with TDSPs on sample point repla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175-A3CD-4ED6-88DC-31A919013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porting Reports 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527-E25D-4DC3-B417-0FEB7FD6B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S PROJECT UPCOMING ACTIV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to Sept 2004, TDSPs to start “pilot” with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ing installations of ID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ing meter reading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ing responses for submi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ERCOT Load Profiling Group for err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conference calls with TDS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to Sept 2004, CRs to start “pilot” with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 accepted and/or aggregated raw IDR information (.LSE and .CS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 control files and environmen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ERCOT Load Profiling Group fo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on conference weekly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304-D3E6-428D-A8A4-DCFBC92CF3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550-1ECF-4FA1-A90A-54BEF44E0C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0CE-4F38-4B75-9D1E-7795183F9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3137040"/>
          <a:ext cx="869940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7040"/>
                    <a:ext cx="869940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F7A-4B6A-4B5A-8430-034BBE060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51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BE6-C756-4FCE-A3DF-5E5B31460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F99-98F2-4E63-B872-89048B436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79-789B-43EE-BA92-C56E660E2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287-A00F-47B9-9690-2CBD60F0A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5715000" cy="227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1752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30, 2004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on FasTrak from 11/7/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 4/23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to Portal Report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/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495680"/>
            <a:ext cx="2362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30, 2004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only data submitted via FasTrak 11/7/03 through 5/28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137160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4343400"/>
            <a:ext cx="304920" cy="220968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4343400" cy="24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F5D-04F8-4447-A886-4EE746337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6-03T01:42:18Z</dcterms:modified>
  <cp:revision>3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