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0FE-4D7C-4D74-83E5-3CCE591F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885-9733-43DA-8532-F852DF3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DAC-46AA-4FE5-86E7-C0C8814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9E6-89D7-4B2F-8574-F424CEFF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51D-6DFF-4FAB-A491-E564D3FE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70B-E75A-4C22-902D-CEBA653A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81B-F5F1-4019-94BB-5FCD2CBA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985-8A47-4B8E-82C5-E13BAB60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B7B-95F9-4E05-B3A2-A0718477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EEF-6D8F-4056-BB1B-AC32725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2A2-93D1-4C09-8999-CDFB543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8EA-3634-46A9-AA8C-715CA23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7A58-A444-4599-8B8F-E444C3386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rrent Market Relea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X SET V2.0 / Solution to Sta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99E-56AC-4E7D-8925-F732986BCE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xas Market Link – phase 2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EAC-04C5-488D-BFB3-8AB9FEA732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2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Functionality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ESI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84C-EDAB-4168-BF51-C4A3AEF2D1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004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ESI ID Results Scree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2DD-AF7B-41AF-A320-38D72BBD3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Process Transaction Results Single ESI I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 Summary Portlet – Single ESI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F06-F879-4A26-BB09-66A691A22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2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RCOT believes that the testing, which is scheduled to occur near the conclusion of Flight 0504, will allow Market Participants to test Texas Market Link phase 2 changes as well as confirm that the MIMO/TX SET 2.0 code is working through ERCOT T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RCOT is asking for volunteers for te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st digital certificates will be issued along with the URL for the Retail Market certification environment to conduct the testing.  Testing can be executed by business users or IT resources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B94-0E29-4193-A247-FCEDBBC3B6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2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RCOT will host TML phase 2 training to be held in Austin on July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July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 Market notice for training will be sent within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 materials will be provided to the volunteer testers prior to the execution of the tests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have questions about the training session, please contact your Retail Accoun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estions related to the TML phase 2 testing should be directed to Karen Bergman or Glen Winge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247-F7D3-4F04-853A-A2993D51F5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C5F-BE1C-4914-892C-BBD4506710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ve-In/Move-Out Market Solution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cking (Texas Set V.2.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191120"/>
            <a:ext cx="4953240" cy="9144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sented by: Glen Winge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4724280"/>
            <a:ext cx="4952880" cy="685800"/>
          </a:xfrm>
          <a:prstGeom prst="roundRect">
            <a:avLst>
              <a:gd name="adj" fmla="val 23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ursday, June 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76D-0C87-4286-97EC-AF70FD6171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oordination Te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Solution to St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B4A-3E67-493D-B80E-BD3E6D3A8F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Ps progressing through Market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o market reports and extracts communicated to M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baseline data for Post-Implementation Success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Market Test Flight 05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oordination Te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Solution to St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516-03F9-4B3A-A4F2-98C1B823A9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1120" y="1676520"/>
            <a:ext cx="4419360" cy="4419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0cbcb"/>
              </a:gs>
            </a:gsLst>
            <a:lin ang="5400000"/>
          </a:gradFill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523880"/>
            <a:ext cx="3504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mmary of Chan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customer expectations by accepting and processing all valid requ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962520"/>
            <a:ext cx="381240" cy="14475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657600"/>
            <a:ext cx="38088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809880"/>
            <a:ext cx="380880" cy="160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733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40080" y="446580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845600">
            <a:off x="838440" y="55162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845600">
            <a:off x="874800" y="55922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845600">
            <a:off x="1595160" y="5516280"/>
            <a:ext cx="10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828800"/>
            <a:ext cx="4267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usiness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NFI logic forces an unreasonable amount of dependency on labor intensive workar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 of workarounds are causing synchronization issues between market participa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synchronization leads to improper billing and mismanagement of customer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valid transactions will be accepted and processed based on a set of market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p notifications will be sent at a point in time where the proper recipient can be positively identif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 based cancellations are sent on a pre-determined timeline with enough time for the recipient to rea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810-2A84-4CA2-80F8-E8EEC5E0C0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Shutdown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22096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2096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2096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2096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2096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4760" y="133992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760" y="1339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8360" y="1339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58360" y="13399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22680" y="133992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2362320"/>
            <a:ext cx="8380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2362320"/>
            <a:ext cx="1447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362320"/>
            <a:ext cx="914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2362320"/>
            <a:ext cx="8380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2362320"/>
            <a:ext cx="8384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2895480"/>
            <a:ext cx="8384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8954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895480"/>
            <a:ext cx="7621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2895480"/>
            <a:ext cx="685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8954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28600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4_01, 814_10, 814_16, 814_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81952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4_08, 814_12, 814_18, 814_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276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809880"/>
            <a:ext cx="9144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3809880"/>
            <a:ext cx="7621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8098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3809880"/>
            <a:ext cx="685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733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4724280"/>
            <a:ext cx="60948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267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0_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4724280"/>
            <a:ext cx="2286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205740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2a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05740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2a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05740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2a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05740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2a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58200" y="205740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2a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5867280"/>
            <a:ext cx="6858000" cy="609480"/>
            <a:chOff x="1371600" y="5867280"/>
            <a:chExt cx="6858000" cy="609480"/>
          </a:xfrm>
        </p:grpSpPr>
        <p:sp>
          <p:nvSpPr>
            <p:cNvPr id="104" name=""/>
            <p:cNvSpPr/>
            <p:nvPr/>
          </p:nvSpPr>
          <p:spPr>
            <a:xfrm>
              <a:off x="1371600" y="5867280"/>
              <a:ext cx="68580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6019560"/>
              <a:ext cx="76212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9000" y="6019560"/>
              <a:ext cx="9144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6019560"/>
              <a:ext cx="96372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DS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5000" y="603396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2a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70520" y="5957640"/>
              <a:ext cx="21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Conference Ca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3526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4_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352680"/>
            <a:ext cx="8384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3526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352680"/>
            <a:ext cx="7621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33526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562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2117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4_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181480"/>
            <a:ext cx="7621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181480"/>
            <a:ext cx="4572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9051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267080"/>
            <a:ext cx="6094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426708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6483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7242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0, 650_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3C6-F54A-486A-BD6D-432E76C18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504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14E-D3EE-4FF8-83BE-DC65798022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504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6/2/04 (updated stats will be provided day of R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statistics through Day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1 –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2 – 97.8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Day 13 – 95.0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RMS (6/10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wo (2) stacking scripts should be complete by the mark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ght (8) non-stacking scripts should be complete by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4E5-A734-4B3B-B42D-90FD41352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504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July RMS (7/15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42 of Flight 05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st script (STK19) should be complete on Day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597-852E-40F3-9ACA-68DBF6C176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6-03T20:36:48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