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2782-9F68-49FB-A3F5-FB93250FA1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35B7-A76D-4F0A-A624-A447E29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0450-CFEE-4A46-B528-3B9050F1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5CEE-6AD9-4D08-91AF-5EF155085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F034-A984-4DE7-85C1-BB1558E3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5C76-8009-4E6F-87AE-12E5F8A2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2E4E-FE66-4238-8A64-F1C49EF5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AE63-CA7B-4370-BEE8-7DB01B42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2324-04E6-44FB-BA9B-483D6F43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A2BF-FB59-4B8D-A50A-5A1EE9A3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F0B7-BCFB-44AA-9AB8-3333AB2A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AE40-5748-470E-A974-F9DE42B6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E892-06DA-4E2B-83D6-864A16080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M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10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CC90-7810-4DE0-909C-1D9E7E9229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371600"/>
            <a:ext cx="8839440" cy="45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R479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R Optional Removal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MS on 9/26/2003 requested PWG review Sara Ferris’s IDR Removal draft PR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WG on 10/01 wrote a new draf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WG reviewed the threshold value amount and discussed the PRR language on 10/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WG Chair sent a status report to the RMS exploder on 10/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WG met on 11/05 to prepare a recommendation for 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WG shall submit final recommended PRR to RMS on 11/13 with voting motions where the PWG is di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MS edited the PRR on 11/13 and has submitted to P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S reviewed 1/23/04 and approved with ERCOT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R remanded by TAC to PRS on 4/4/04. PRS remanded to RMS. RMS remanded to PWG on 4/14/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aft language submitted by Sara Farris to the PWG. PWG meet on 4/27 and discussed intensely for 4 hours. Non-consensus draft language was proposed for market participant review internally. See meeting minutes for voting records and highlights of the discussion issues.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PWG meet on 5/25/04, with a consensus added the NOIE Exemption and edited the revised langu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5/27/04 the draft was sent to RMS for revi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ABC1-5F9C-410F-A9EC-F0918A7E6F2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371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R479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R Optional Removal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2495520"/>
          <a:ext cx="830592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95520"/>
                    <a:ext cx="830592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6A2B-9454-4B90-A535-4A6F05045CA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371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R479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R Optional Removal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981080"/>
            <a:ext cx="807696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ndatory Threshold lev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1000 k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review separately from PRR479 at the June PWG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moval Threshold leve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adual approach is prudent to minimize any disruption in settlement accurac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15 IDR meters &lt; than 150 kW are available for removal upon request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150 kW level is supported by the results of the IDR Analysis by the ERCOT Staff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800 IDR meters &lt; 1000 kW level – about half of the IDRs currently in the mar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IE Exemp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R removal for a NOIE who uses the IDR meters for NOIE load aggreg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eces Electric area Customer Choice Pilot approved by the PUC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station with NOIE area and AEP opt-in Customers load due to highway constr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R to distinguish the NOIE and Choice loads for the QSE at 15-minute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fter a NOIE chooses to opt-in, they can remove the IDR meters within 120 days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CD57-7486-4ACB-BAC2-56A20ADF8A5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193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R479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R Optional Removal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057400"/>
            <a:ext cx="8839440" cy="175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8080"/>
                </a:solidFill>
                <a:uFillTx/>
                <a:latin typeface="Arial"/>
              </a:rPr>
              <a:t>VOTING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to approve the PRR 479 revision made by the PW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ubmitted to the RMS exploder on 5/26/04 in file name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9PRR PWG 05262004 jg.doc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B4E6-6A20-476A-B650-90C23E057CD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4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rine Podraza</cp:lastModifiedBy>
  <dcterms:modified xsi:type="dcterms:W3CDTF">2004-06-01T13:51:28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17046252</vt:r8>
  </property>
  <property fmtid="{D5CDD505-2E9C-101B-9397-08002B2CF9AE}" pid="3" name="_AuthorEmail">
    <vt:lpwstr>bday@ercot.com</vt:lpwstr>
  </property>
  <property fmtid="{D5CDD505-2E9C-101B-9397-08002B2CF9AE}" pid="4" name="_AuthorEmailDisplayName">
    <vt:lpwstr>Day, Betty</vt:lpwstr>
  </property>
  <property fmtid="{D5CDD505-2E9C-101B-9397-08002B2CF9AE}" pid="5" name="_EmailSubject">
    <vt:lpwstr>Feedback by 9Am 5/14/03</vt:lpwstr>
  </property>
</Properties>
</file>