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412-F2D6-4418-B7E9-722A86DD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646-CD69-4996-B9B1-9FFA9725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3DE-CD4F-4FE1-86BB-924F2593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DD4-3E90-40BF-8DDF-25814695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8CA-E4A0-4DCE-B2A4-A2200CA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71E-DFB9-4017-AD18-DA136F7D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F95-80FE-44C9-B8E0-A068B87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CF8-8BC4-4640-85F8-0A2DB7C8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169-0898-4088-8A4B-9C4D9DC4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B5F-88A6-4DF5-86C1-23EA25F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987-7DD4-4694-9976-02CA6FC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1BD-4C6A-4FBE-BC99-DAC61DC0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354-0D02-48E6-9C23-9C41A528D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tlement Varian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E5C-0211-4573-996B-7CA8671522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371600"/>
          <a:ext cx="8839440" cy="42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D03-5D9D-4CF5-979D-72CBA30EDB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1447920"/>
          <a:ext cx="8839440" cy="42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839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ED8-1E91-43B1-A1B2-65A2643940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F8-FC4E-4719-9065-C1D8330CB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514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Settlement Calendar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D04-DFA9-4B43-98DA-7F9497641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311-27B6-4AFB-816E-6DCA0FB92C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of 79 Competitive Retailers provided numbers for May Reports by the due date for June RMS (06/02/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June Reports given at July RMS, are due by July 2,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for next mon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Rs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12A-7512-46BE-B4C2-635858E34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447920"/>
          <a:ext cx="8839440" cy="42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839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D75-D662-4A17-8C48-A93E33EDEA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371600"/>
          <a:ext cx="8839440" cy="42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7EF-01A9-4264-873B-D2DB7BD78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447920"/>
          <a:ext cx="876312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76312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F04-940C-4C68-BEC2-67D8F1105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447920"/>
          <a:ext cx="876312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76312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0C7-499D-4C86-8BCE-A6C4D7A428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1447920"/>
          <a:ext cx="8839440" cy="42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839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536-048C-44A7-9439-41F7801A0A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6-03T20:37:29Z</dcterms:modified>
  <cp:revision>3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