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833-5879-4D19-9D8B-BD2598E5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DE2-0F47-4A37-96AB-D9D8996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358-571A-4EC8-A2FE-03A409C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521-FEAE-4991-B092-4231F6E7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94E-C44A-49AA-93CF-CC24D2C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12B-E7A0-42A7-BBD7-77481C4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AE2-BBC4-4488-9ADE-162CA68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6A8-E73E-4F32-A255-6631EE0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D37-DFA1-45AE-8AE0-09BF0F0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039-E797-444F-997F-D31E327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5D5-DD13-4528-A350-B0916C9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A66-B19E-41DF-9593-2BEB7B2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539-5F2D-49BC-A0D5-70F06F92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57640" y="2005200"/>
            <a:ext cx="802872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ket Maintenance Activ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998-5B7F-4868-9579-910B106FFD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315-106C-452E-AE0C-EF487D2588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GR – 2004_006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for approval by 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B0D-3D1E-4824-B89B-C6A5013C0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37A-C7BF-486B-86BD-423FDDE20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as Market Lin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P Phase 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359-7097-479B-888D-F75D8295E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pdate – Texas Market Link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rtal Replacement Project Phase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as Market Link (TML) was launched in parallel on May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s to repo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June 1 there are no significant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June 1 TML is handling 15-25% of the daily “portal”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ng accessed by 60+ Market Participants (30REP, 30QS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Out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ing with Client Relations to determine timing of planned outage of Top-Tier Portal to surface any Market issues prior to end of parall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-commissioning TopTier Portal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portal.ercot.c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L and Top-Tier Portal platforms planned for parallel until July 1, 2004 to allow for transition period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rket us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Relations will send notice to Market advising of decommissioning of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portal.ercot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The planned dates of service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 3-July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tml.ercot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portal.erco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 day T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lanned outage of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portal.erco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uly1-for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https://tml.ercot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542-FC12-434B-AA2A-860EBBD1E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B5D-CF5C-4D8F-9592-3D286DB24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Market Guid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/Updates Proced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overview in support of RMGR-2004_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FF2-590A-428C-8E40-DF534AB25D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approved changes/updates to Retail Market Guide will be made quarte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rter ending March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rter ending June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rter ending September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rter ending December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 website updated to include link to Retail Market Guide Change Control Form for down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879-A38B-4AEE-9DF8-4098CA3C8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743200"/>
            <a:ext cx="7772400" cy="3581280"/>
            <a:chOff x="685800" y="2743200"/>
            <a:chExt cx="7772400" cy="35812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743200"/>
              <a:ext cx="77724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685800" y="2743200"/>
              <a:ext cx="777240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3" marL="1600200" indent="-22860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85800" y="13716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Retail Market Guide Change Control Form http://www.ercot.com/Participants/Committees/rms_comm.htm (this slide will be updated once email address establish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312200">
            <a:off x="4495680" y="2895480"/>
            <a:ext cx="914400" cy="486000"/>
          </a:xfrm>
          <a:prstGeom prst="leftArrow">
            <a:avLst>
              <a:gd name="adj1" fmla="val 50000"/>
              <a:gd name="adj2" fmla="val 47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12200">
            <a:off x="4038120" y="5562360"/>
            <a:ext cx="914400" cy="485640"/>
          </a:xfrm>
          <a:prstGeom prst="leftArrow">
            <a:avLst>
              <a:gd name="adj1" fmla="val 50000"/>
              <a:gd name="adj2" fmla="val 470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030-6D62-4F9B-81C0-E52977F64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address established for submission of changes/updates for monitoring by ERCOT staff maintaining Retail Market Guid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MGChangeControl@erco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 Change Control Form revised to include email address and section for monitoring party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655-9ABD-443A-8590-DB238D5EC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272-0B5D-4EE8-A7F2-A72004914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6-03T01:51:21Z</dcterms:modified>
  <cp:revision>3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