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814-A324-4687-99C6-DED02903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8C0-8020-43C5-A02D-C2B144E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F28-6B18-45C7-9E78-643FB568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A17-CDD7-4502-A144-60D9CD43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5E9F-50A7-4458-BEFE-7793D25C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AF9C-2EDF-4277-A1A7-2F91F62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C4F-4CE9-4105-9366-F94BB638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C8A-201C-4F9F-99C7-FC47765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BB63-3972-42ED-A45D-2B3C223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3B9E-FBD5-487A-88F9-939A9FE9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73F9-E08A-4593-96BA-F20B1F9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985-EC6A-46BE-A0B3-DA7F4D5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BB73-9C17-47FE-B086-95F8960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600D-8C5C-430D-A435-1E1D933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1F82-E356-4007-AD01-FE579322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5889-9D43-40BF-BAB1-C7557545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6D36-3A70-43E7-990E-7F3FDC72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A46-51B7-4195-80C5-D2012112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3B4-A66E-4388-A786-5B1C689C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3B7-83BA-4B8E-B242-571C6122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A9C-0F7B-4518-B2D3-E8A8E42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E7D-4C3C-4055-8EB6-D4436B68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36B-6F62-4B48-B573-C959264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5BE-D7B8-4716-B6A1-BAF9CD4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CDA-4333-4A38-82D6-673C352F37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328C-C4E5-40C4-A1D7-E7E1BE672E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RCOT IDR Threshold Analysi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MS 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 10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: Carl Ra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dsey Tur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389268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765-A93D-49B8-A57C-E11160AFD1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7057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Distribution of IDRs Less Than 1000 k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90720" y="1371600"/>
          <a:ext cx="746748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4674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28800" y="2057400"/>
            <a:ext cx="23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3,752 ESI 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6.4 G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132-9652-499A-9D5A-71E82D5BD5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rofiling Error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62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djusted Profiling 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quantifies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ce between the actual (IDR) l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the profiled load adjusted for U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t Profiling Error Co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quantifies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etary cost of profiling error to th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e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90920" y="5943600"/>
                <a:ext cx="5011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E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76520" y="3429000"/>
                <a:ext cx="6094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jP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ua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FEFact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filed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C07-3DF8-42CF-9889-A8EAFDC67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400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stribution of Net Profiling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1371600"/>
          <a:ext cx="80773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8077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1C9-FA80-4FD9-9175-577EAD9BA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ross Customer Error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ross Customer E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quantifie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ubsidization between custo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occurs as a result of Pro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ror adjusted for UF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86000" y="4406760"/>
                <a:ext cx="50817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E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jP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P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41D-0BBC-42CB-A5D0-2FDE2DD2BA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ross Customer Error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8001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CAB-251F-45CD-9E5C-2A8B617E6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62866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ariff Savings for Premises whi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Benefit by Removing IDR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00100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016-F5F7-4134-8937-8556DF2BA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oss Customer Error Summary 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mises which Benefit by Removing IDR 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00100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CA0-3DE3-42BD-9893-867F332850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92504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optional removal below 150 k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15 premises impacted however likely that only 271 would experience tariff re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SP tariff reductions ~ $646/prem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~ $201 Cross Customer Error intro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EA1-C709-4728-B588-6A762DF333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0:28:20Z</dcterms:created>
  <dc:creator> </dc:creator>
  <dc:description/>
  <dc:language>en-US</dc:language>
  <cp:lastModifiedBy>kbergman</cp:lastModifiedBy>
  <dcterms:modified xsi:type="dcterms:W3CDTF">2004-06-03T01:57:56Z</dcterms:modified>
  <cp:revision>7</cp:revision>
  <dc:subject/>
  <dc:title>Distribution of IDRs Less Than 1000 k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2025161</vt:r8>
  </property>
  <property fmtid="{D5CDD505-2E9C-101B-9397-08002B2CF9AE}" pid="3" name="_AuthorEmail">
    <vt:lpwstr>lturns@ercot.com</vt:lpwstr>
  </property>
  <property fmtid="{D5CDD505-2E9C-101B-9397-08002B2CF9AE}" pid="4" name="_AuthorEmailDisplayName">
    <vt:lpwstr>Turns, Lindsey</vt:lpwstr>
  </property>
  <property fmtid="{D5CDD505-2E9C-101B-9397-08002B2CF9AE}" pid="5" name="_EmailSubject">
    <vt:lpwstr>June RMS draft agenda &amp; presentation due date - Update 06/01/04</vt:lpwstr>
  </property>
</Properties>
</file>