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294813"/>
  <p:custShowLst>
    <p:custShow name="Custom Show 1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14200" y="703440"/>
            <a:ext cx="4630680" cy="3473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Added Scope Details: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Under Release 3.1, included HIGH PRIORITY request from Operations to add PR30167 Archival of Shift Factor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Added Scope Details: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Under Release 3.1, included HIGH PRIORITY request from Operations to add PR30167 Archival of Shift Factor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Added Scope Details: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Under Release 3.1, included HIGH PRIORITY request from Operations to add PR30167 Archival of Shift Factor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F7984-2902-40B3-81D7-0A76F6873D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197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3912120"/>
            <a:ext cx="76197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3B4D7-BB83-4264-BDE0-928044142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63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CF4F0-858D-434A-BA2C-76521822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38640" y="152388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15160" y="152388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39121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38640" y="39121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15160" y="39121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BC676-83DD-4B40-A824-C41B346437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9A6327-B9D1-4363-94E0-E0770D360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762120" y="152388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0DE5F8-D975-46E3-AE31-FE4DF130E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E1191C-8BBA-4AED-AE56-E45BAC9D7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3EE9FF-19BC-4456-B889-5599830BA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925965-1E19-4508-90DA-24DD69283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057400" y="228240"/>
            <a:ext cx="67802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523D65-C285-4E88-B66C-62D10B295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327184-2D6F-48D6-9258-A2252A09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52388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D2F78-5AEF-4FCB-A084-06E6671DC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63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07C7F9-138B-4A8D-9040-2971B41E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76197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9CCFFD-C23E-41C3-8C9B-FA425E35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197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762120" y="3912120"/>
            <a:ext cx="76197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14EF47-5B5C-4161-ABF4-0BE0995CC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663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EACD3E-9549-4077-A8EB-BE1FD042E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38640" y="152388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15160" y="152388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762120" y="39121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38640" y="39121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15160" y="39121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B1EAE4-D46C-4D11-88CA-BF8B2535E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6A66E-2ECD-4E0C-92F5-9CC28A469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EFB34-9452-40A5-8266-D86E98B73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4A896-9343-4E26-8E6D-7FBC58A20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057400" y="228240"/>
            <a:ext cx="67802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9D3C5-8E59-4E96-9BB5-48889EED1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66DC7-C82C-45F1-881E-CDD2788A0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63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0C285-BFEC-42BC-A95F-BA4BDF441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76197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57DFF-3350-4138-8E5D-4EBF45CDF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52388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1467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920A3-18B8-45A7-82F6-71C234A5E4F4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61944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31D6D-ABB6-439A-ADA7-F18F31B8B79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76320"/>
            <a:ext cx="1676520" cy="901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-720" y="6477120"/>
            <a:ext cx="1725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Property of ERCOT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0" y="76320"/>
            <a:ext cx="1676520" cy="90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560" y="2286000"/>
            <a:ext cx="8305560" cy="102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0"/>
          </a:xfrm>
          <a:prstGeom prst="line">
            <a:avLst/>
          </a:prstGeom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C Half Banner"/>
          <p:cNvSpPr/>
          <p:nvPr/>
        </p:nvSpPr>
        <p:spPr>
          <a:xfrm>
            <a:off x="0" y="0"/>
            <a:ext cx="9144000" cy="19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71467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86977-B4A1-409B-9D80-2FB582EEC8DD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-3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361944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8456E-E54A-4565-8DB3-C13C00891B7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7632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5600" y="6553080"/>
            <a:ext cx="1725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Property of ERCOT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200400" cy="1722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905120"/>
            <a:ext cx="91440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200400" cy="1722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1905120"/>
            <a:ext cx="91440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G Ome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2286000"/>
            <a:ext cx="8305560" cy="102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ject Update - PR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294920" y="4038480"/>
            <a:ext cx="6326280" cy="1527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G Omega"/>
              </a:rPr>
              <a:t>By : Troy Anderson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G Omega"/>
              </a:rPr>
              <a:t>6-24-2004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B7480C-AC7D-46DF-9452-9564D35099F6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844C778-7FA0-410B-A7A5-160F53FB634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thly PRS Project Upd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Consistent format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Chronological by business area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Highlight changes month to month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delivery 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iverable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Adjusted monthly based on available time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A5BBF-C5A1-495D-A500-DBF0B12AA37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ED1A34-E387-4DD4-9936-A1FA9022586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et Ope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52280" y="1143000"/>
          <a:ext cx="8915400" cy="5353200"/>
        </p:xfrm>
        <a:graphic>
          <a:graphicData uri="http://schemas.openxmlformats.org/drawingml/2006/table">
            <a:tbl>
              <a:tblPr/>
              <a:tblGrid>
                <a:gridCol w="4419720"/>
                <a:gridCol w="2057400"/>
                <a:gridCol w="2438280"/>
              </a:tblGrid>
              <a:tr h="3974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Stat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Comments/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EMMS Release 3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Implemented 6/2/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28 issues being work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Market Oversight Monitoring Sys.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MOM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7/2/04 implement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PUCT appli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EMMS Release 3a – SMP/EMP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7/7/04 implement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928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ERCOT Scheduled as a Resour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(EMMS Release 3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6/28/04 market tes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7/14/04 implement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PRR4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928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Resource Plan Improvement (LS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(EMMS Release 3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6/28/04 market tes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7/14/04 implement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PRR359 (50% of requirement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ERCOT-Wide Tot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7/28/04 implement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EPS Meter Data Transmittal via extra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Sept./Oct. 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PIP204 / PRR2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Clarification of Ancillary Services Obligation Calcu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September 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PRR4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Load Research Samplin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September 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PUCT Project 255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Outage Scheduler Enhancement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 (Phase 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9/17/04 implement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PRR4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EMMS Release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November 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EMMS Release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May 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F158F-EC9A-472B-8AC3-08C1B5A76E41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243AFC-405D-4348-8892-A5CC2855DE8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ail Ope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52280" y="1143000"/>
          <a:ext cx="8915400" cy="1771560"/>
        </p:xfrm>
        <a:graphic>
          <a:graphicData uri="http://schemas.openxmlformats.org/drawingml/2006/table">
            <a:tbl>
              <a:tblPr/>
              <a:tblGrid>
                <a:gridCol w="4191120"/>
                <a:gridCol w="1990800"/>
                <a:gridCol w="2733480"/>
              </a:tblGrid>
              <a:tr h="3974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Stat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Comments/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Move-In/Move-Out Solution to Stack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8/1/04 implement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PR-30002-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Portal Replacement, Phase II (TML I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8/1/04 implement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PR-30052-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A3823-427D-41A5-8558-51DC8CB89CEC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2F390C-8E63-485E-87A2-97800E073CA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rastructure / Mis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52280" y="1143000"/>
          <a:ext cx="8915400" cy="2324160"/>
        </p:xfrm>
        <a:graphic>
          <a:graphicData uri="http://schemas.openxmlformats.org/drawingml/2006/table">
            <a:tbl>
              <a:tblPr/>
              <a:tblGrid>
                <a:gridCol w="4572000"/>
                <a:gridCol w="1609920"/>
                <a:gridCol w="2733480"/>
              </a:tblGrid>
              <a:tr h="3974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ERCOT High Priority Pro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Stat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Comments/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Retirement of ERCOT Por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Portal to be retired on 7/7/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Planned 1 day outage occurred 6/22/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Lodestar Upgra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CG Omega"/>
                        </a:rPr>
                        <a:t>t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 Quarter 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Siebel Upgra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CG Omega"/>
                        </a:rPr>
                        <a:t>t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 Quarter 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C18FF-F307-4EA6-A7BE-08DFD1143794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D7F424-F692-44BD-8B42-C6F36A5223D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5T20:24:45Z</dcterms:created>
  <dc:creator>Manuel Atanacio</dc:creator>
  <dc:description>Presented at the Load Profiling, Forecasting &amp; Settlements Conference;</dc:description>
  <cp:keywords>ERCOT Retail Pros Cons Commercial Operations</cp:keywords>
  <dc:language>en-US</dc:language>
  <cp:lastModifiedBy> </cp:lastModifiedBy>
  <cp:lastPrinted>2000-04-06T20:17:02Z</cp:lastPrinted>
  <dcterms:modified xsi:type="dcterms:W3CDTF">2004-06-24T14:18:47Z</dcterms:modified>
  <cp:revision>167</cp:revision>
  <dc:subject>Texas Commercial Operations</dc:subject>
  <dc:title>PR-30148 EMMS Release 3.0 Monthly Report</dc:title>
</cp:coreProperties>
</file>