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294813"/>
  <p:custShowLst>
    <p:custShow name="Custom Show 1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dded Scope Details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Under Release 3.1, included HIGH PRIORITY request from Operations to add PR30167 Archival of Shift Facto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dded Scope Details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Under Release 3.1, included HIGH PRIORITY request from Operations to add PR30167 Archival of Shift Facto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dded Scope Details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Under Release 3.1, included HIGH PRIORITY request from Operations to add PR30167 Archival of Shift Facto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dded Scope Details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Under Release 3.1, included HIGH PRIORITY request from Operations to add PR30167 Archival of Shift Facto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dded Scope Details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Under Release 3.1, included HIGH PRIORITY request from Operations to add PR30167 Archival of Shift Facto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dded Scope Details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Under Release 3.1, included HIGH PRIORITY request from Operations to add PR30167 Archival of Shift Facto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D5C7E-3AAA-4966-99F2-E320CC03B6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0D9D9-62FF-4632-B646-3EADC946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662A7-6CA5-4ECA-BF67-7760ED0F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864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516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864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516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B0EE9-CD57-4FE0-BAF5-65E120C4F5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0D662-40D4-4360-AB27-444151D8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97345-25C1-4CDF-BD22-EF33BACF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BF056-5C0A-41A0-83CB-CCFF8DE9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8CF66-0220-4270-BAB7-07356DD8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A5FB5-96C9-4491-8CAC-4DF84CEC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057400" y="228240"/>
            <a:ext cx="67802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0ACA1-49E8-4C66-9E9A-C566F7A1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5C05A-FAB1-4882-8379-025442DA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A0A50-D239-427A-9B1C-7E62F1E9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65162-12DC-4F34-8633-AF0A2D6E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BB8B2-4E55-4F80-83D0-0115EF5C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5504D-7466-4E88-9F23-9784CAA1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538BD-70CE-4811-8DC6-0C78368F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3864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1516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3864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1516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50F1D-9F9B-4286-8D02-A5C1650D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01D41-1E1B-46CE-BF50-4661BF2A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06A5B-D4A0-4895-B501-FC05CD08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A6EDA-1344-4A89-A313-01F256C8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7400" y="228240"/>
            <a:ext cx="67802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BABC6-47FA-4D64-9CE7-4B8AF395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31C3E-562D-4BF2-9B60-D3A05B1F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A76D9-18E0-4B0A-9F38-61345CE5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8D763-E465-410D-8E95-DFF37EE3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467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FDF1-8086-4451-B72E-4450E586817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61944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ED08-2DF3-4515-9F40-BDDADD2680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1676520" cy="901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720" y="6477120"/>
            <a:ext cx="1725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Property of ERCOT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76320"/>
            <a:ext cx="1676520" cy="90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305560" cy="102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C Half Banner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71467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A96B-FF78-40C2-9DAA-81890276B34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-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361944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3EDC-7984-4892-9DCB-EC155CAC95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600" y="6553080"/>
            <a:ext cx="1725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Property of ERCOT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0400" cy="1722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00400" cy="1722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305560" cy="102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s Update - P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94920" y="4038480"/>
            <a:ext cx="6326280" cy="152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G Omega"/>
              </a:rPr>
              <a:t>By : Gerry Abad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G Omega"/>
              </a:rPr>
              <a:t>5-21-04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5B97C-0916-49C8-A82D-5D4781E42FA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7C99CA-8D9E-4277-A4CA-3EDCB3ACE1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2280" y="1143000"/>
          <a:ext cx="8915400" cy="3227400"/>
        </p:xfrm>
        <a:graphic>
          <a:graphicData uri="http://schemas.openxmlformats.org/drawingml/2006/table">
            <a:tbl>
              <a:tblPr/>
              <a:tblGrid>
                <a:gridCol w="4880160"/>
                <a:gridCol w="1301760"/>
                <a:gridCol w="2733480"/>
              </a:tblGrid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Comments/R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Tradeable Generation Righ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Jun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R30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ERCOT Settlement Esti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Ju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SCR 7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EPS Meter Data Transmittal via extr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Augu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IP204/PRR2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Clarification of Ancillary Services Obligation Calc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Augu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RR-4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Load Research Sampl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Sept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UCT Project 255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ERCOT Scheduled as a Re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Testing and Pla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RR4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C5AAD-AA94-4AA3-A410-6E6A2346BB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7AB94-E2AD-4A5E-9346-BF85D0EFE3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ail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280" y="1143000"/>
          <a:ext cx="8915400" cy="1098720"/>
        </p:xfrm>
        <a:graphic>
          <a:graphicData uri="http://schemas.openxmlformats.org/drawingml/2006/table">
            <a:tbl>
              <a:tblPr/>
              <a:tblGrid>
                <a:gridCol w="4880160"/>
                <a:gridCol w="1301760"/>
                <a:gridCol w="2733480"/>
              </a:tblGrid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Comments/R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Move-In/Move-Out Solution to Stac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Augu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R-30002-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ortal Replacement, Phase II (TML I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Augu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R-30052-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90B14-797E-4005-89F1-B73F03AD42F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72451-5D92-46E9-89D9-000AB154BE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MS Releas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ite Acceptance Test (SAT) ended For MOS/EMP 2.1.1 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AT For SMP/EMP2.2 is in progres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Market User Acceptance Test (UAT) - Completed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QSE training is completed and Operator training has  been scheduled for SMP/EMP2.2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Planned migration schedule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MOS/EMP2.1.1 on 6/2    </a:t>
            </a:r>
            <a:r>
              <a:rPr b="0" lang="en-US" sz="2400" spc="-1" strike="noStrike">
                <a:solidFill>
                  <a:srgbClr val="0000cc"/>
                </a:solidFill>
                <a:latin typeface="CG Omega"/>
              </a:rPr>
              <a:t>(Market Notice Issued)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Market Oversight Monitoring System (MOMS) on 7/2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MP/EMP2.2 on July 7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Resource Plan Improvement and XML on July 14 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BFB93-374B-4A19-A1E1-DC0692A81AE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B9D97A-3D6E-46BC-BF36-0A7AED2F09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50" dur="1" fill="hold"/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51" dur="1" fill="hold"/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52" dur="1" fill="hold"/>
                                  <p:tgtEl>
                                    <p:spTgt spid="1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53" dur="1" fill="hold"/>
                                  <p:tgtEl>
                                    <p:spTgt spid="10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MS Releas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280" y="1143000"/>
          <a:ext cx="8915400" cy="4768920"/>
        </p:xfrm>
        <a:graphic>
          <a:graphicData uri="http://schemas.openxmlformats.org/drawingml/2006/table">
            <a:tbl>
              <a:tblPr/>
              <a:tblGrid>
                <a:gridCol w="4880160"/>
                <a:gridCol w="1301760"/>
                <a:gridCol w="2733480"/>
              </a:tblGrid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ERCOT High Priority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Comments/R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ovide Display for Gen Output, Limits, Monitored P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isplay PF and SCADA on Single One 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ystem Map (Power Worl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MP 2.2 Up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July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R3014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MS Front End Replac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July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R30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Load Rollover during line out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July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R20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nhance STNET to run multiple selected Time Ran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July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R300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VSAT/TSAT Interface Up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July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SCA to PTI Downlo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July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R30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Implement Selected Contingency in P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July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R40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nconstrained Ancillary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6/2/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Critical addition for summer oper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A/RAP Enhancements (RTCA Flag Addi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6/2/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Critical addition for summer oper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A68AD-445C-4A2E-B4B9-5527AAC238D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45095-F1C5-44AF-8970-015C1F5B0F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MS Releas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1066680"/>
          <a:ext cx="8534160" cy="5211720"/>
        </p:xfrm>
        <a:graphic>
          <a:graphicData uri="http://schemas.openxmlformats.org/drawingml/2006/table">
            <a:tbl>
              <a:tblPr/>
              <a:tblGrid>
                <a:gridCol w="4632120"/>
                <a:gridCol w="1625760"/>
                <a:gridCol w="2276280"/>
              </a:tblGrid>
              <a:tr h="4669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Market High Priority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Comments/R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top Oscillation of Constraint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6/2/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R300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limination of Resource Specific Deployments (CAT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6/2/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R4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BES-DBES Ramp R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6/2/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R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OOM As Instructed Dev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6/2/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R3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nit Resource Te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6/2/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R3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Improve Resource 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July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R359   </a:t>
                      </a: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CG Omega"/>
                        </a:rPr>
                        <a:t>(50% of Requiremen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Resource Plan Change Indic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July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R300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isplay Print Resource 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July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R300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isplay Expected Schedule Chan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July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R300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rchival of Shift Fac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6/2/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R301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Handling of Equipment Name Chan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6/2/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PR301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6C208-1E4D-4675-A3A2-B962C9213FB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BBFC7-DDEB-4605-BD24-ED380D80F4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MS Release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tarted w/ 15 projects @ “Pens Down” on 2/29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Business requirements completed on 3/31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Final detail scope definition in progress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RMR Automation and Dynamic Ratings (Portion) deferred to R5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Firm scope on 11 project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Negotiations continue on scope of 2 projects in EMS area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cope of 4 projects spread between R4 and R5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Initial plan and cost estimate provided by AREVA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QSE design review members from Austin Energy, LCRA, TXU, Reliant, Tenaska 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A3519-E411-4A2B-942B-805639F5F7A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086A5-A9F1-40C5-99D1-199EA6C486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" dur="1" fill="hold"/>
                                  <p:tgtEl>
                                    <p:spTgt spid="10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MS Release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280" y="1143000"/>
          <a:ext cx="8915400" cy="4419720"/>
        </p:xfrm>
        <a:graphic>
          <a:graphicData uri="http://schemas.openxmlformats.org/drawingml/2006/table">
            <a:tbl>
              <a:tblPr/>
              <a:tblGrid>
                <a:gridCol w="4880160"/>
                <a:gridCol w="1301760"/>
                <a:gridCol w="2733480"/>
              </a:tblGrid>
              <a:tr h="4716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ERCOT High Priority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Comments/R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Improve real time local congestion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rm 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40001 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CG Omega"/>
                        </a:rPr>
                        <a:t>(ERCOT development Vs AREV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Load Forecast metr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rm 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40001 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CG Omega"/>
                        </a:rPr>
                        <a:t>(ERCOT development Vs AREV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Improvements to VSA/D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rm 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40001  (Scope in R4 &amp; R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OOME Participation in Providing Ancillary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66"/>
                        </a:buClr>
                        <a:buSzPct val="13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rm 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400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EMS Archive Comparison T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rm 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40059 (Scope in R4 &amp; R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CSC Thermal Lim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nder Negot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30084 (Scope in R4 &amp; R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Special Protection Sche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nder Negot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300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1BFDD-39D1-429B-BD6B-DBA86D5BC78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5094D-6899-437C-849F-A3E6DCBC1A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MS Release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04920" y="1066680"/>
          <a:ext cx="8534160" cy="5345280"/>
        </p:xfrm>
        <a:graphic>
          <a:graphicData uri="http://schemas.openxmlformats.org/drawingml/2006/table">
            <a:tbl>
              <a:tblPr/>
              <a:tblGrid>
                <a:gridCol w="4632120"/>
                <a:gridCol w="1625760"/>
                <a:gridCol w="2276280"/>
              </a:tblGrid>
              <a:tr h="5112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Market High Priority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G Omega"/>
                        </a:rPr>
                        <a:t>Comments/R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AS Simultaneous Selection (Carryover from R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rm 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R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RPRS Market Redesig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rm 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R413/PIP137/PRR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leet Deployment (OOM) &amp; Electronic Recording of VDI and VDI as Instructed Dev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rm 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R422/PRR423, PR4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Resource Plan Improvement (Carryover from R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rm 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R359/SCR723 (Scope in R4 &amp; R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RMR Auto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eferred to R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R4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ynamic Rat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Deferred to R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30016 (Extend Pilot Program functionality within R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Unit-specific Bid Limits based on Generic 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rm 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R48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UCT Market Oversight Division Proje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Firm 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CG Omega"/>
                        </a:rPr>
                        <a:t>PR40048/40049/400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60DAB-43B2-4322-885C-318C58EC5F2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F973C-1C6A-4E24-B91A-791519CC1C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5T20:24:45Z</dcterms:created>
  <dc:creator>Manuel Atanacio</dc:creator>
  <dc:description>Presented at the Load Profiling, Forecasting &amp; Settlements Conference;</dc:description>
  <cp:keywords>ERCOT Retail Pros Cons Commercial Operations</cp:keywords>
  <dc:language>en-US</dc:language>
  <cp:lastModifiedBy>gabad</cp:lastModifiedBy>
  <cp:lastPrinted>2000-04-06T20:17:02Z</cp:lastPrinted>
  <dcterms:modified xsi:type="dcterms:W3CDTF">2004-05-21T03:32:07Z</dcterms:modified>
  <cp:revision>150</cp:revision>
  <dc:subject>Texas Commercial Operations</dc:subject>
  <dc:title>PR-30148 EMMS Release 3.0 Monthly Report</dc:title>
</cp:coreProperties>
</file>