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7DE-4AA2-4437-84AE-43FC7DDA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242-5240-4924-9108-17B1DB62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6936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D40-77B9-4DF7-A26B-28353A30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0666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0666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6936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6936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DE1-115D-4935-B51C-6DB109F8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1DD-09EF-40C5-8A76-6C246FE0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0A2-6031-4982-B08D-65609177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0666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E69-D4C0-4455-8211-83CAC531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7A7-B866-482E-9756-239732F5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380880"/>
            <a:ext cx="72388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99A-6530-46DA-A8D6-BA3A9E0C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0666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BAE-8AC8-4C27-AD0F-13C8ECA3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6936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5F7-CA57-48F9-927A-486E2C3E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CE7-CCFC-43C2-89A4-55283E3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3E84-38EC-4BC3-9841-68849BBF0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54080" y="154080"/>
          <a:ext cx="1517400" cy="68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154080"/>
                    <a:ext cx="1517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397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R Trading Pie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S Review 04/23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9000" y="228240"/>
            <a:ext cx="53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397- TGR Trading Pi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passed in June ’03, project cost was under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estimate based on leveraging existing TC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ough analysis of requirements showed estimate should have been 4x the original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roject Review, ERCOT Mgmt requested furth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ost component (approximately ½ total cost) attributed to TGR Trading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rther discussion between ERCOT and McCamey Area MPs indicated debate over real need for Trading pi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Call on 1/27/04 with Austin, CPS, FPL, TXU, and P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 piece was removed from project based on call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to remove Trading piece was expected from one of the 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equent information indicated that PRR would not be sub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had already been re-directed and begun without TGR Trading pi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397- TGR Trading Pie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not just add this requirement back into in-flight proj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taff needs further clarification of requirements to accurately reflect trading pie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resolve questions about how to handle 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ing 1MW from unit to unit might not result in 1:1 trade (shift factors/line loss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project design was already under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/schedule delay of main project while resolving issues identified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rence Call 4/13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ERCOT staff and P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rmed PUCT presence at earlier telecon and concurrence with actions taken by project staff to proceed without Trading pi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for Trading piece diminishes relative to other prospective projects and with projected Nodal Mar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ion of plan to re-prioritize Trading pi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 Trading piece to PRS in April for re-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riority is high enough for likely completion near-ter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task force/work group be assigned to clearly defin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9:54:43Z</dcterms:created>
  <dc:creator>lseybold</dc:creator>
  <dc:description/>
  <dc:language>en-US</dc:language>
  <cp:lastModifiedBy>lseybold</cp:lastModifiedBy>
  <dcterms:modified xsi:type="dcterms:W3CDTF">2004-04-20T19:42:58Z</dcterms:modified>
  <cp:revision>11</cp:revision>
  <dc:subject/>
  <dc:title>PRR 397 – TGR Trading Pie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62687193</vt:r8>
  </property>
  <property fmtid="{D5CDD505-2E9C-101B-9397-08002B2CF9AE}" pid="3" name="_AuthorEmail">
    <vt:lpwstr>lseybold@ercot.com</vt:lpwstr>
  </property>
  <property fmtid="{D5CDD505-2E9C-101B-9397-08002B2CF9AE}" pid="4" name="_AuthorEmailDisplayName">
    <vt:lpwstr>Seybold, Lacy</vt:lpwstr>
  </property>
  <property fmtid="{D5CDD505-2E9C-101B-9397-08002B2CF9AE}" pid="5" name="_EmailSubject">
    <vt:lpwstr>PRS Documents 052104 and REVISED Agenda</vt:lpwstr>
  </property>
  <property fmtid="{D5CDD505-2E9C-101B-9397-08002B2CF9AE}" pid="6" name="_PreviousAdHocReviewCycleID">
    <vt:r8>388584257</vt:r8>
  </property>
</Properties>
</file>