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8C8-9BB9-4458-B0BB-D4542CE4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6936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E3F-2CE1-442E-9A7A-B59CC633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0760" y="36936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2D7-6752-4BAE-B09D-F6AE0293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39920" y="10666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1240" y="106668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6936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39920" y="36936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1240" y="36936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877-D2CB-4F7D-A9E5-EFD4E101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2D5-A2E3-44A4-A334-B1445087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C164-D13F-4B01-8084-E0986F38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92F-58DD-4FCF-8339-5C0971C2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F1F-FA66-4267-9E5B-F61E6B50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05120" y="380880"/>
            <a:ext cx="72388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021-5B5F-4595-A1B4-B2BB9A9E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55D-0B6C-4F97-9C2C-D40B27FA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0760" y="36936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EC2-518A-4AC4-8E68-5D91201A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0760" y="106668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6936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9E5-B34A-4923-8FFB-D30E5596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010D-CA10-4C76-8057-EA557851D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54080" y="154080"/>
          <a:ext cx="1517400" cy="68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154080"/>
                    <a:ext cx="1517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R 397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R Trading Pie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RS Review 04/23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9000" y="228240"/>
            <a:ext cx="5362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397- TGR Trading Pi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passed in June ’03, project cost was underesti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estimate based on leveraging existing TC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rough analysis of requirements showed estimate should have been 4x the original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roject Review, ERCOT Mgmt requested further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ost component (approximately ½ total cost) attributed to TGR Trading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discussion between ERCOT and McCamey Area MPs indicated debate over real need for Trading pi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Call on 1/27/04 with Austin, CPS, FPL, TXU, and P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ng piece was removed from project based on call discu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to remove Trading piece was expected from one of the 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equent information indicated that PRR would not be sub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had already been re-directed and begun without TGR Trading pi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R 397- TGR Trading Pie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not just add this requirement back into in-flight projec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taff needs further clarification of requirements to accurately reflect trading pie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to resolve questions about how to handle 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ding 1MW from unit to unit might not result in 1:1 trade (shift factors/line loss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project design was already underwa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/schedule delay of main project while resolving issues identified ab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erence Call 4/13/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ween ERCOT staff and P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rmed PUCT presence at earlier telecon and concurrence with actions taken by project staff to proceed without Trading pi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 for Trading piece diminishes relative to other prospective projects and with projected Nodal Mar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ussion of plan to re-prioritize Trading pie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 Trading piece to PRS in April for re-priorit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riority is high enough for likely completion near-ter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task force/work group be assigned to clearly defin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9:54:43Z</dcterms:created>
  <dc:creator>lseybold</dc:creator>
  <dc:description/>
  <dc:language>en-US</dc:language>
  <cp:lastModifiedBy>lseybold</cp:lastModifiedBy>
  <dcterms:modified xsi:type="dcterms:W3CDTF">2004-04-20T19:42:58Z</dcterms:modified>
  <cp:revision>11</cp:revision>
  <dc:subject/>
  <dc:title>PRR 397 – TGR Trading Pie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88584257</vt:r8>
  </property>
  <property fmtid="{D5CDD505-2E9C-101B-9397-08002B2CF9AE}" pid="3" name="_AuthorEmail">
    <vt:lpwstr>lseybold@ercot.com</vt:lpwstr>
  </property>
  <property fmtid="{D5CDD505-2E9C-101B-9397-08002B2CF9AE}" pid="4" name="_AuthorEmailDisplayName">
    <vt:lpwstr>Seybold, Lacy</vt:lpwstr>
  </property>
  <property fmtid="{D5CDD505-2E9C-101B-9397-08002B2CF9AE}" pid="5" name="_EmailSubject">
    <vt:lpwstr>DRAFT   PRR 397  TGR Trading Piece 041304.ppt</vt:lpwstr>
  </property>
  <property fmtid="{D5CDD505-2E9C-101B-9397-08002B2CF9AE}" pid="6" name="_PreviousAdHocReviewCycleID">
    <vt:r8>-58914371</vt:r8>
  </property>
</Properties>
</file>