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EB93-AFF7-4E0E-B58B-9921E861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C682-2A39-4D29-B316-52D99AB5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F73-904D-43A9-AF4F-6CDA879F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3CFB-1D1D-4893-A500-7C60FA57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E032-A819-4A28-91FE-698DF5EB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41E-A9A0-47FF-B8F8-911B0B76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CD4-68B6-4EDB-A0BE-9F10EFB9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FF82-BD85-4990-B420-B88F051A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4147-96E0-4377-8036-3BBFE423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3E4-2A78-4449-A371-E49520E8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78C3-1277-43B7-B1ED-3996B402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031-04C1-408D-BBCE-7A585197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F9C7-B317-4DED-A150-8DD0230DA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L Phase 1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s to repor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of July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re are no significant iss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us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of July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ML is handling 70-75% of the daily “portal”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ned Ou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ted a planned 24-hour outage of the Top-Tier Portal to surface any Market issues June 2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MP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ported to ERC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 unexpected dependency on TopTi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confirmed that TML could support a true user load- over 20,000 hits that day (see grap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sues with tes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experienced issues taking-down/bringing-up Top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issues reported, 4 related to taking down of TopTier, 2 unrelated to TML 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s of July 8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can only 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s://tml.ercot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ortal traffic will be re-directed to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s://tml.ercot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CE38-1B7F-4999-9DD5-BD87EB80A5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43040" y="1284120"/>
          <a:ext cx="8172360" cy="542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284120"/>
                    <a:ext cx="8172360" cy="54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1D9-FE7B-4F70-BA23-76257BA3FC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175248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Web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4479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to TML, two other web related projects coming online in next 30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MS 3b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ly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i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to TML and XML interfaces for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R404- Scheduling Energy with ERC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hanced Resource Plan- HSL,LSL,HOL,L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parser is more restri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L Phase 2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ly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ickoff with Webcast for TML Phase 2 te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-live date is August 1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29B-2FC3-489F-9E5E-B256B11180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L Phas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L Phase 2 Train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Host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6th Session- Aus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30th Session- Aus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gion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ession:  Houston,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July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ession:  Dallas,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LPhase2 and Commercial API will be out of synch after Au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Transaction and FindESIID will bring back different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tured this gap as a MidTerm project outside of the QuickHits identified in TML Phas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R 8951 was opened in late June by the ERCOT Retail CART team to begin internal project to enhance Commercial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3369-9718-47EF-A572-A3344B4429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Mereness</cp:lastModifiedBy>
  <cp:lastPrinted>2002-09-24T18:27:58Z</cp:lastPrinted>
  <dcterms:modified xsi:type="dcterms:W3CDTF">2004-07-06T16:19:01Z</dcterms:modified>
  <cp:revision>2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38505069</vt:r8>
  </property>
  <property fmtid="{D5CDD505-2E9C-101B-9397-08002B2CF9AE}" pid="3" name="_AuthorEmail">
    <vt:lpwstr>kwariner@ercot.com</vt:lpwstr>
  </property>
  <property fmtid="{D5CDD505-2E9C-101B-9397-08002B2CF9AE}" pid="4" name="_AuthorEmailDisplayName">
    <vt:lpwstr>Wariner, Kerry</vt:lpwstr>
  </property>
  <property fmtid="{D5CDD505-2E9C-101B-9397-08002B2CF9AE}" pid="5" name="_EmailSubject">
    <vt:lpwstr>RMS - November 13 2003 - 2nd draft.ppt</vt:lpwstr>
  </property>
  <property fmtid="{D5CDD505-2E9C-101B-9397-08002B2CF9AE}" pid="6" name="_PreviousAdHocReviewCycleID">
    <vt:r8>-165021420</vt:r8>
  </property>
</Properties>
</file>