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7BB-E86C-4276-A583-A590F85C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232-86A8-4C8B-B886-BC337E3C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E82-ECDF-4DAC-93E5-7C146CF9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AAB-45C0-4BAA-9683-D18FCBE7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BD1-56F2-4D70-9729-0E7D0695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DF7-72B4-434C-ACF3-EF958E48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D09-CB5E-44FD-B4AC-C8FF01BA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727-9589-4753-B2D7-8376A271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65B-D54D-4A06-8B70-D2224698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612-18A1-4703-ACC6-E0089AE0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AA3-0E51-4BA1-9C90-E9707665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2D5-5687-402C-90A5-312B906A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5B37-0377-4C7B-9AD3-BE428A72C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Data Warehou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EDW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33A-EAC9-4E91-8AFA-48A87499A4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7162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l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deStar Extract Tran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Data Warehouse (EDW)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D7C-DA6D-4CB6-9984-6BCAA87E2F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Data Warehouse (EDW)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4560" y="1447920"/>
            <a:ext cx="75787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W consists of three major architectural components, all optimally designed for stability, security and recover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licated Source System (R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s insert, update, and delete activity in the sour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‘mirror’ of the source system – does not store histor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reduces impact on the sour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near real-time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4CF-F71E-4E05-AF34-F65B871E8B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Data Warehouse (EDW)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4560" y="1447920"/>
            <a:ext cx="7578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al Data Store (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‘As Of’ querying by recording when a record was inserted or updated/deleted in the sour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ecord versioning via Point-in-Time Selectivity (P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intra-day history by loading all record activity from the 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n optimized extracting and reporting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BFE-819A-47B0-802C-896003A009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Data Warehouse (EDW)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4560" y="1447920"/>
            <a:ext cx="757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Warehouse (D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data from multiple sourc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s data by business subjec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s data across subject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s effective and efficient reporting solutions for MP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226-9D5A-4743-B1AF-5115A92E80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W Project: 2004 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2000" y="990720"/>
            <a:ext cx="5556240" cy="350208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8160" y="1039680"/>
            <a:ext cx="162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W Application Found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87920" y="4815000"/>
            <a:ext cx="769680" cy="61272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MMS R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3080" y="4815000"/>
            <a:ext cx="768240" cy="612720"/>
          </a:xfrm>
          <a:prstGeom prst="flowChartMagneticDisk">
            <a:avLst/>
          </a:prstGeom>
          <a:solidFill>
            <a:srgbClr val="ff9900">
              <a:alpha val="65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* R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3440" y="5643720"/>
            <a:ext cx="2387520" cy="909360"/>
          </a:xfrm>
          <a:prstGeom prst="rect">
            <a:avLst/>
          </a:prstGeom>
          <a:solidFill>
            <a:srgbClr val="996600">
              <a:alpha val="2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7440" y="5873760"/>
            <a:ext cx="709560" cy="262080"/>
          </a:xfrm>
          <a:prstGeom prst="rect">
            <a:avLst/>
          </a:prstGeom>
          <a:solidFill>
            <a:srgbClr val="819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5873760"/>
            <a:ext cx="709560" cy="262080"/>
          </a:xfrm>
          <a:prstGeom prst="rect">
            <a:avLst/>
          </a:prstGeom>
          <a:solidFill>
            <a:srgbClr val="819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79480" y="5870520"/>
            <a:ext cx="711360" cy="612720"/>
          </a:xfrm>
          <a:prstGeom prst="rect">
            <a:avLst/>
          </a:prstGeom>
          <a:solidFill>
            <a:srgbClr val="819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t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i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7440" y="6222960"/>
            <a:ext cx="70956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SI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8640" y="6222960"/>
            <a:ext cx="70956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5120" y="5676840"/>
            <a:ext cx="12459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ODEST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08200" y="5643720"/>
            <a:ext cx="3127320" cy="909360"/>
          </a:xfrm>
          <a:prstGeom prst="rect">
            <a:avLst/>
          </a:prstGeom>
          <a:solidFill>
            <a:srgbClr val="996600">
              <a:alpha val="2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8360" y="6151680"/>
            <a:ext cx="70992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ncillary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49600" y="5676840"/>
            <a:ext cx="124632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MM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151680"/>
            <a:ext cx="71136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Balancing Energ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5800" y="5819400"/>
            <a:ext cx="711000" cy="33732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79840" y="5880240"/>
            <a:ext cx="711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Ou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5819400"/>
            <a:ext cx="711360" cy="33732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5800" y="6151680"/>
            <a:ext cx="71100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source 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38360" y="5880240"/>
            <a:ext cx="709920" cy="2156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79840" y="6151680"/>
            <a:ext cx="71100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nergy Sche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8" idx="0"/>
            <a:endCxn id="57" idx="3"/>
          </p:cNvCxnSpPr>
          <p:nvPr/>
        </p:nvCxnSpPr>
        <p:spPr>
          <a:xfrm flipV="1">
            <a:off x="1356840" y="5427360"/>
            <a:ext cx="1080" cy="21672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0"/>
            <a:endCxn id="56" idx="3"/>
          </p:cNvCxnSpPr>
          <p:nvPr/>
        </p:nvCxnSpPr>
        <p:spPr>
          <a:xfrm flipV="1">
            <a:off x="4171680" y="5427360"/>
            <a:ext cx="1080" cy="21672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873760" y="3243240"/>
            <a:ext cx="592200" cy="453960"/>
          </a:xfrm>
          <a:prstGeom prst="flowChartDocument">
            <a:avLst/>
          </a:prstGeom>
          <a:solidFill>
            <a:srgbClr val="819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* Ba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xtr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2600" y="1600200"/>
            <a:ext cx="614520" cy="501480"/>
          </a:xfrm>
          <a:prstGeom prst="flowChartMultidocumen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M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7" idx="1"/>
            <a:endCxn id="80" idx="3"/>
          </p:cNvCxnSpPr>
          <p:nvPr/>
        </p:nvCxnSpPr>
        <p:spPr>
          <a:xfrm flipH="1" flipV="1" rot="5400000">
            <a:off x="2113560" y="3581640"/>
            <a:ext cx="477000" cy="1990080"/>
          </a:xfrm>
          <a:prstGeom prst="bentConnector3">
            <a:avLst>
              <a:gd name="adj1" fmla="val 4977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6" idx="1"/>
            <a:endCxn id="80" idx="3"/>
          </p:cNvCxnSpPr>
          <p:nvPr/>
        </p:nvCxnSpPr>
        <p:spPr>
          <a:xfrm flipV="1" rot="16200000">
            <a:off x="3520440" y="4163400"/>
            <a:ext cx="477000" cy="826200"/>
          </a:xfrm>
          <a:prstGeom prst="bentConnector3">
            <a:avLst>
              <a:gd name="adj1" fmla="val 4977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5000" y="1668600"/>
            <a:ext cx="2282760" cy="36324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Business Intelligence                     Found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279520" y="2604600"/>
            <a:ext cx="2133360" cy="1733760"/>
            <a:chOff x="2279520" y="2604600"/>
            <a:chExt cx="2133360" cy="1733760"/>
          </a:xfrm>
        </p:grpSpPr>
        <p:sp>
          <p:nvSpPr>
            <p:cNvPr id="80" name=""/>
            <p:cNvSpPr/>
            <p:nvPr/>
          </p:nvSpPr>
          <p:spPr>
            <a:xfrm>
              <a:off x="2279520" y="3757320"/>
              <a:ext cx="2131920" cy="581040"/>
            </a:xfrm>
            <a:prstGeom prst="flowChartMagneticDisk">
              <a:avLst/>
            </a:prstGeom>
            <a:solidFill>
              <a:srgbClr val="ff9900">
                <a:alpha val="65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79520" y="3753000"/>
              <a:ext cx="2131920" cy="16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" name=""/>
            <p:cNvCxnSpPr/>
            <p:nvPr/>
          </p:nvCxnSpPr>
          <p:spPr>
            <a:xfrm>
              <a:off x="2333880" y="2604600"/>
              <a:ext cx="1080" cy="1080"/>
            </a:xfrm>
            <a:prstGeom prst="straightConnector1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86" name=""/>
            <p:cNvSpPr/>
            <p:nvPr/>
          </p:nvSpPr>
          <p:spPr>
            <a:xfrm>
              <a:off x="2279520" y="2686320"/>
              <a:ext cx="2131920" cy="72612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76040" y="4005360"/>
              <a:ext cx="94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LODESTAR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84400" y="3306600"/>
              <a:ext cx="72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iebel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72160" y="329616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IBEL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0960" y="3421440"/>
              <a:ext cx="2131920" cy="514440"/>
            </a:xfrm>
            <a:prstGeom prst="flowChartMagneticDisk">
              <a:avLst/>
            </a:prstGeom>
            <a:solidFill>
              <a:srgbClr val="83b200">
                <a:alpha val="65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79520" y="3069360"/>
              <a:ext cx="2131920" cy="5140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8520" y="3028320"/>
              <a:ext cx="2112480" cy="1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5320" y="298584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b2b2b2"/>
                  </a:solidFill>
                  <a:latin typeface="Tahoma"/>
                </a:rPr>
                <a:t>EAI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5120" y="365328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EMMS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8560" y="331740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b2b2b2"/>
                  </a:solidFill>
                  <a:latin typeface="Tahoma"/>
                </a:rPr>
                <a:t>SEIBEL O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" name=""/>
          <p:cNvCxnSpPr>
            <a:stCxn id="86" idx="1"/>
            <a:endCxn id="82" idx="2"/>
          </p:cNvCxnSpPr>
          <p:nvPr/>
        </p:nvCxnSpPr>
        <p:spPr>
          <a:xfrm flipV="1">
            <a:off x="3346200" y="2031120"/>
            <a:ext cx="1080" cy="65484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163440" y="4694400"/>
            <a:ext cx="5560920" cy="86508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00440" y="3290760"/>
            <a:ext cx="922320" cy="36216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ata Delivery Modu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2" idx="3"/>
            <a:endCxn id="98" idx="0"/>
          </p:cNvCxnSpPr>
          <p:nvPr/>
        </p:nvCxnSpPr>
        <p:spPr>
          <a:xfrm>
            <a:off x="4487400" y="1850760"/>
            <a:ext cx="575640" cy="1440360"/>
          </a:xfrm>
          <a:prstGeom prst="bentConnector2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3"/>
            <a:endCxn id="77" idx="1"/>
          </p:cNvCxnSpPr>
          <p:nvPr/>
        </p:nvCxnSpPr>
        <p:spPr>
          <a:xfrm flipV="1">
            <a:off x="5522400" y="3470040"/>
            <a:ext cx="351360" cy="2160"/>
          </a:xfrm>
          <a:prstGeom prst="bentConnector3">
            <a:avLst>
              <a:gd name="adj1" fmla="val 49743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2" idx="3"/>
            <a:endCxn id="78" idx="1"/>
          </p:cNvCxnSpPr>
          <p:nvPr/>
        </p:nvCxnSpPr>
        <p:spPr>
          <a:xfrm>
            <a:off x="4487400" y="1850760"/>
            <a:ext cx="1375560" cy="1080"/>
          </a:xfrm>
          <a:prstGeom prst="bentConnector2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560760" y="509436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86360" y="302724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5560" y="1089000"/>
            <a:ext cx="15264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0240" y="221148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78400" y="411624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440" y="302724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1405080"/>
            <a:ext cx="15264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73720" y="373536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1657440"/>
            <a:ext cx="2365200" cy="5124240"/>
          </a:xfrm>
          <a:prstGeom prst="rect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Ray Ch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DW Delivery Mana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3480" y="2209680"/>
            <a:ext cx="220968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1: EMMS RS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R Chas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Update: 10/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3480" y="3376440"/>
            <a:ext cx="220968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3: EDW Application Foundation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R Chase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Update: 11/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4543560"/>
            <a:ext cx="221004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5: BI Foundation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C Ryan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Update: 11/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3480" y="2792520"/>
            <a:ext cx="220968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2: Data Delivery Module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J Messe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Update: 9/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3480" y="3959280"/>
            <a:ext cx="220968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4: LodeStar ODS Transition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A Sooley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Update: 8/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973080"/>
            <a:ext cx="2355840" cy="58572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R-40042: Enterprise Dat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MO and IT PM Director: R Conn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M: A Esenko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5126040"/>
            <a:ext cx="221004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6: LodeStar Extract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J Messer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Update: 11/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5710320"/>
            <a:ext cx="221004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7: EMMS OD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A Sooley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Update: 1/2005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6294600"/>
            <a:ext cx="2210040" cy="40068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8: EMMS Reports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(Q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ead: P Ohlendor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0D6-1461-411B-B8AB-55CDCDA637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Transition: Data Archive to E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560" y="1447920"/>
            <a:ext cx="75787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collaboration with business users on requirements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from market participants to confirm requirements and recommendations for technical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IT and business team for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of MP loading process to inform technical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ough documentation for MP processing and client service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C6D-DA8A-4CB4-8500-BECBE47DD9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Transition: Data Archive to ED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4560" y="1447920"/>
            <a:ext cx="7578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 auditing 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g process auditing with meta data capture (i.e., what records went out to which MPs in a specific 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recovery built into the logic and processing – enabled through EDW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with reusable foundation for extracting an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AF1-37D3-49E6-BBD0-8FEE1EA472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4C8-5B08-4E3B-A916-BD7AE5245F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 </cp:lastModifiedBy>
  <cp:lastPrinted>2002-09-24T18:27:58Z</cp:lastPrinted>
  <dcterms:modified xsi:type="dcterms:W3CDTF">2004-07-09T19:28:32Z</dcterms:modified>
  <cp:revision>3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41926377</vt:r8>
  </property>
  <property fmtid="{D5CDD505-2E9C-101B-9397-08002B2CF9AE}" pid="3" name="_AuthorEmail">
    <vt:lpwstr>tanderson@ercot.com</vt:lpwstr>
  </property>
  <property fmtid="{D5CDD505-2E9C-101B-9397-08002B2CF9AE}" pid="4" name="_AuthorEmailDisplayName">
    <vt:lpwstr>Anderson, Troy</vt:lpwstr>
  </property>
  <property fmtid="{D5CDD505-2E9C-101B-9397-08002B2CF9AE}" pid="5" name="_EmailSubject">
    <vt:lpwstr>EDW Presentation at DEWG on 7/6/04</vt:lpwstr>
  </property>
  <property fmtid="{D5CDD505-2E9C-101B-9397-08002B2CF9AE}" pid="6" name="_PreviousAdHocReviewCycleID">
    <vt:r8>-2098340335</vt:r8>
  </property>
</Properties>
</file>