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0744-7445-4626-83CC-E597C73C8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5235-1DBE-4594-97B0-DB6B5A56B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50F2-61A7-434E-884F-F9EC01E60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EC3D-D189-47A2-8A75-77BAAA316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4248-513B-4F87-BA7F-00EB6D1E9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A6B1-A69D-492D-A985-4A805C238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24EB-D557-4ACF-AE36-85AC6D1B8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E6DE-CA22-49FF-99AC-E63649004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E8F0-098C-47EE-8491-C14D1EE70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B068-5AC7-471D-95B3-BBE5A71A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6243-7C7F-4BAB-AEC6-CAF7FE0A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EE2D-B10C-4029-9820-F12FAEFB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BEDED-4E26-4466-AED7-782F31FE08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295280"/>
            <a:ext cx="815328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VIEW OF AVAILABLE RETAIL MARKET PARTICIPANT EXTRACTS AND REPOR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COT 1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11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8877-71C3-4146-8EDE-D88EBC4B683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666520" y="304560"/>
            <a:ext cx="5791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VAILABLE REPOR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 997’s Not Sent to Market Participa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report lis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997’s not sent by ERCOT to the specific ent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eakdown of the ISA, GS, and ST segments for research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report is blank, ERCOT has sent all 997 responses back to the M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97 Rep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EA14-DDB7-47DF-9C6D-9CF3AE5E300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97’S NOT SENT TO M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533520" y="2666880"/>
          <a:ext cx="7772400" cy="273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666880"/>
                    <a:ext cx="7772400" cy="27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97 Rep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5D91-D4FC-4B44-8DBC-9880CC3184F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304920"/>
            <a:ext cx="5638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VAILABLE REPOR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 Transactions Sent from ERCO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report lists all transac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 from ERCOT to the specific ent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cates the number of corresponding 997’s received/not received by the 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97 Rep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4CC6-82FF-4647-BE15-7C6CDADCA07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ANS. SENT FROM ERCO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914400" y="1523880"/>
          <a:ext cx="6705720" cy="465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23880"/>
                    <a:ext cx="6705720" cy="46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97 Rep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B55F-29FE-4A93-87CF-211EDE5EE5B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VAILABLE REPOR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 997’s Not Received from Market Particip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report lis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997’s not received by ERCOT from the specific entity for transactions that were sent by ERCO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a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 (represents number of transactions in each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names sent by ERCOT to the MP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97 Rep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0B0D-1CEF-4404-967B-9DA1DA8541F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97’S NOT RECEIVED FROM M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997's Not Received from Market Particip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dsp_name_ts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ns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11112222223333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TranDa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Trans Typ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Trans Cou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File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GS Control 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2/01/03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814_0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814_03.1822020.edi.pg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628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2/01/03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814_0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6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814_03.1821230.edi.pg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628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2/01/03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814_0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7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814_03.1821349.edi.pg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628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2/01/03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814_0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8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814_03.1821474.edi.pg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628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2/01/03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814_0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4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814_03.1821535.edi.pg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6285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2/01/03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814_0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9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814_03.1821565.edi.pg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628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2/01/03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814_0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814_03.1821699.edi.pg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628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2/01/03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814_0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7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814_03.1821819.edi.pg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6287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2/01/03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814_0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2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814_03.1821137.edi.pg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6283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2/01/03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814_0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3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814_03.1821942.edi.pg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628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Total Trans: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Note:  If no data is displayed, then all 997's were recei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97 Rep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09D8-DD5E-4EBF-AD71-1659E93BA3F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AMING CON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aming convention of the report files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uns Number-Report Name-D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actions Received by ERC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000000123456789TransRecd20030623-20030623.d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97’s Not Sent to Market Participa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000000123456789- -997NotSentDetail- -20030623-20030623.d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actions Sent from ERC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000000123456789TransSent20030623-20030623.d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97’s Not Received from Market Participa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000000123456789- -997NotRecd- -20030623-20030623.d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97 Rep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69E3-0024-43AC-A4CB-B70D9808F06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OFTEN IS IT POSTE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997 Report will be posted within the Reports folder of the FTP Gateway each morning, Monday through Frida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report provides information from transactions that occurred four days ago.  This allows sufficient time for acknowledgments from either entit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onday’s report will contain more than one day’s worth of dat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*NOTE: Keep in mind that if you are not submitting transactions, you will not be receiving repo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97 Rep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7AF6-14D5-4ADD-9F4A-2C76A78B712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438280" y="1828800"/>
            <a:ext cx="427212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4C2F-8715-4DB2-BF5C-C7762FEBF5D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0968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VIEW OF AVAILABLE EXTRACTS/REPOR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924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arket Participant Transaction Repor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997 Repor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867_03 Error Repor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DSP ESI ID Repor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ebel Service Order Extrac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SI ID History &amp; Usage Extract (SCR 727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oad Extrac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4A96-AE7F-4530-9699-D8D9F7B3FE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97 RE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1676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171756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6120" y="1565280"/>
            <a:ext cx="76071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rpo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ethod of tracking Functional Acknowledgments (accepts or rejects) for all EDI transactions received and submitted by ERCOT and the mark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014C-3E4F-4E1E-87F6-18AED2E8DA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O USES THI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nformation contained in this report provides a standard acknowledgment for the following par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etitive Retailers (C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mission Distribution Service Providers (TDS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C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Opt In Entities (NOI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97 Rep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BD2C-B17E-4676-9034-7C2496F04E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USE I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use as validation that the transaction was receiv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use as validation that the transaction was submit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nsure that all transactions are acknowledg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97 Rep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787E-6006-4504-8514-35754D185A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DOES IT INCLUD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information available in this report will inclu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P Duns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Transactions Rece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997’s 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997’s Not 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, GS, and ST seg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 Control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Transactions per GS Control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97 Rep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E8CD-3F44-4435-A67E-0C9C999B58A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VAILABLE REPOR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four reports contained within the 997 Repor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0">
              <a:spcBef>
                <a:spcPts val="700"/>
              </a:spcBef>
              <a:buNone/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actions Received by ERC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97’s Not Sent to 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actions Sent from ERC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97’s Not Received from 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0">
              <a:spcBef>
                <a:spcPts val="700"/>
              </a:spcBef>
              <a:buNone/>
              <a:tabLst>
                <a:tab algn="l" pos="1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97 Rep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EDEB-0F6A-4250-9334-7F88340044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00040" y="45684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VAILABLE REPOR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 Transactions Received by ERCO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report lists all transac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d by ERCOT from the specific ent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cates the number of corresponding 997’s sent/not sent to the 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97 Rep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9A93-DEF1-454E-A75F-AFAF9539BB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5640" y="1519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: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ANS. RECEIVED BY ERCO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05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80880" y="1371600"/>
          <a:ext cx="8001000" cy="49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8001000" cy="49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97 Rep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F373-2D99-4D33-BACD-146781250F4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MMereness</cp:lastModifiedBy>
  <cp:lastPrinted>2002-09-24T18:27:58Z</cp:lastPrinted>
  <dcterms:modified xsi:type="dcterms:W3CDTF">2004-07-06T16:19:09Z</dcterms:modified>
  <cp:revision>418</cp:revision>
  <dc:subject/>
  <dc:title>PowerPoint Presentation</dc:title>
</cp:coreProperties>
</file>