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1.png" ContentType="image/png"/>
  <Override PartName="/ppt/media/image9.wmf" ContentType="image/x-wmf"/>
  <Override PartName="/ppt/media/image7.png" ContentType="image/png"/>
  <Override PartName="/ppt/media/image4.gif" ContentType="image/gif"/>
  <Override PartName="/ppt/media/image15.wmf" ContentType="image/x-wmf"/>
  <Override PartName="/ppt/media/image10.png" ContentType="image/png"/>
  <Override PartName="/ppt/media/image6.jpeg" ContentType="image/jpe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75B5-23D5-4EDF-B05D-9B18B5A1D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F724-FFD0-4B26-BB0B-168E8FCB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DCF3-4C53-4E93-AFE2-27ACA1F1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DD33-5272-4DDA-9B04-636E5A04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6F1B-C074-46AB-83D8-7EA4911A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AEB7-245B-49D2-B1C6-8D438041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960B-DF29-4E7F-A530-AD288F74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6040-F5DC-4F11-822E-681C380F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783C-D134-4C80-A56D-7A750371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0904-0A5E-43ED-87F8-3A392569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F583-7EA3-4DC4-8D0D-75F38ACE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92A4-1457-42D2-B08B-0507F7F9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8139-B5AE-4A84-912A-116FCDDC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C69E-3AA9-4683-A11C-0F39BA9C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AD50-5705-464B-AD20-75C48CE8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74FA-9AE8-4609-AD53-43E6E7CB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F40D-BBFE-44EB-BF7C-10FFDF59A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12EF-1A58-4AE6-915E-A1D685FD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BEA8-9784-46B5-A95F-0DB781F4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95FB-8BBD-4D1B-B426-1B81EE50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ABC7-8509-4D67-9529-768395A9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C36D-26DF-4437-93DF-8E5EA7E7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F212-3E4F-4905-A395-9A622294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C453-F000-4C38-A32A-B6334970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B7F0-69A6-467C-A81D-51839480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8c8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465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55C8-51C8-4DB8-9040-AB2D8CD39BB1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6934320" y="0"/>
            <a:ext cx="2209680" cy="104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8c8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465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2BD0-5954-493E-99FD-B67A7FD801FB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1152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8f8f8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f8f8f8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f8f8f8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f8f8f8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rebuchet MS"/>
              </a:rPr>
              <a:t>Update of the IDR Threshold Analysis with UFE Impa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15680" y="3960720"/>
            <a:ext cx="30164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ccff"/>
                </a:solidFill>
                <a:latin typeface="Verdana"/>
              </a:rPr>
              <a:t>Presented by:</a:t>
            </a:r>
            <a:endParaRPr b="0" lang="en-US" sz="2100" spc="-1" strike="noStrike">
              <a:solidFill>
                <a:srgbClr val="f8f8f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ccff"/>
                </a:solidFill>
                <a:latin typeface="Verdana"/>
              </a:rPr>
              <a:t>Carl Raish</a:t>
            </a:r>
            <a:endParaRPr b="0" lang="en-US" sz="2100" spc="-1" strike="noStrike">
              <a:solidFill>
                <a:srgbClr val="f8f8f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ccff"/>
                </a:solidFill>
                <a:latin typeface="Verdana"/>
              </a:rPr>
              <a:t>Lindsey Turns</a:t>
            </a:r>
            <a:endParaRPr b="0" lang="en-US" sz="21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95680" y="3048120"/>
            <a:ext cx="3892680" cy="346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E2A1-0026-47B3-A6E2-368A108245D5}" type="slidenum">
              <a:t>1</a:t>
            </a:fld>
          </a:p>
        </p:txBody>
      </p:sp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514600" y="1676520"/>
            <a:ext cx="43434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12600">
                  <a:solidFill>
                    <a:srgbClr val="eaeaea"/>
                  </a:solidFill>
                  <a:miter/>
                </a:ln>
                <a:solidFill>
                  <a:srgbClr val="cccc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Book"/>
              </a:rPr>
              <a:t>RESULTS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solidFill>
                <a:srgbClr val="cccc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ranklin Gothic Book"/>
              <a:ea typeface="Franklin Gothic Boo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4114800" cy="271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B530-0763-466C-9D48-712484225317}" type="slidenum">
              <a:t>10</a:t>
            </a:fld>
          </a:p>
        </p:txBody>
      </p:sp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57913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rebuchet MS"/>
              </a:rPr>
              <a:t>Voluntary Removal Threshold</a:t>
            </a:r>
            <a:r>
              <a:rPr b="0" lang="en-US" sz="3200" spc="-1" strike="noStrike">
                <a:solidFill>
                  <a:srgbClr val="cccc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46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i="1" lang="en-US" sz="2500" spc="-1" strike="noStrike">
                <a:solidFill>
                  <a:srgbClr val="f8f8f8"/>
                </a:solidFill>
                <a:latin typeface="Verdana"/>
              </a:rPr>
              <a:t>ERCOT analyzed the impact of establishing a demand threshold below which IDRs could be voluntarily removed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16B9-AB95-4906-B2FF-1B6AB7520C7B}" type="slidenum">
              <a:t>11</a:t>
            </a:fld>
          </a:p>
        </p:txBody>
      </p:sp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1320"/>
            <a:ext cx="761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rebuchet MS"/>
              </a:rPr>
              <a:t>Voluntary Removal </a:t>
            </a:r>
            <a:br>
              <a:rPr sz="3600"/>
            </a:br>
            <a:r>
              <a:rPr b="0" i="1" lang="en-US" sz="2800" spc="-1" strike="noStrike">
                <a:solidFill>
                  <a:srgbClr val="ccccff"/>
                </a:solidFill>
                <a:latin typeface="Trebuchet MS"/>
              </a:rPr>
              <a:t>Net Profiling Error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447920"/>
          <a:ext cx="8077320" cy="48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8077320" cy="48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B51-2C14-47CE-BFE1-5685FB62B4A0}" type="slidenum">
              <a:t>12</a:t>
            </a:fld>
          </a:p>
        </p:txBody>
      </p:sp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301320"/>
            <a:ext cx="75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rebuchet MS"/>
              </a:rPr>
              <a:t>Voluntary Removal </a:t>
            </a:r>
            <a:br>
              <a:rPr sz="3600"/>
            </a:br>
            <a:r>
              <a:rPr b="0" i="1" lang="en-US" sz="2800" spc="-1" strike="noStrike">
                <a:solidFill>
                  <a:srgbClr val="ccccff"/>
                </a:solidFill>
                <a:latin typeface="Trebuchet MS"/>
              </a:rPr>
              <a:t>Net Profiling Error Cost Adjusted for U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90720" y="1447920"/>
          <a:ext cx="7696080" cy="484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7696080" cy="48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D0D1-56FF-4117-8833-6DCB0082AC2E}" type="slidenum">
              <a:t>13</a:t>
            </a:fld>
          </a:p>
        </p:txBody>
      </p:sp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rebuchet MS"/>
              </a:rPr>
              <a:t>Voluntary Removal</a:t>
            </a:r>
            <a:br>
              <a:rPr sz="3200"/>
            </a:br>
            <a:r>
              <a:rPr b="0" i="1" lang="en-US" sz="2800" spc="-1" strike="noStrike">
                <a:solidFill>
                  <a:srgbClr val="ccccff"/>
                </a:solidFill>
                <a:latin typeface="Trebuchet MS"/>
              </a:rPr>
              <a:t>Net Profiling Error Adjusted for UFE</a:t>
            </a:r>
            <a:br>
              <a:rPr sz="2800"/>
            </a:br>
            <a:r>
              <a:rPr b="0" i="1" lang="en-US" sz="2800" spc="-1" strike="noStrike">
                <a:solidFill>
                  <a:srgbClr val="ccccff"/>
                </a:solidFill>
                <a:latin typeface="Trebuchet MS"/>
              </a:rPr>
              <a:t>All IDRs 0 kW to 500 k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924680" cy="42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025D-EA4A-4D33-B704-69ADDF4449D7}" type="slidenum">
              <a:t>14</a:t>
            </a:fld>
          </a:p>
        </p:txBody>
      </p:sp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6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rebuchet MS"/>
              </a:rPr>
              <a:t>Distribution of Net Profiling Error </a:t>
            </a:r>
            <a:r>
              <a:rPr b="0" i="1" lang="en-US" sz="2800" spc="-1" strike="noStrike">
                <a:solidFill>
                  <a:srgbClr val="ccccff"/>
                </a:solidFill>
                <a:latin typeface="Trebuchet MS"/>
              </a:rPr>
              <a:t>Adjusted for U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066680" y="1371600"/>
          <a:ext cx="7848720" cy="49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84872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0821-7491-47BD-BDE2-849627C7D5E9}" type="slidenum">
              <a:t>15</a:t>
            </a:fld>
          </a:p>
        </p:txBody>
      </p:sp>
    </p:spTree>
  </p:cSld>
  <p:transition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1320"/>
            <a:ext cx="761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rebuchet MS"/>
              </a:rPr>
              <a:t>Voluntary Removal </a:t>
            </a:r>
            <a:br>
              <a:rPr sz="3600"/>
            </a:br>
            <a:r>
              <a:rPr b="0" i="1" lang="en-US" sz="2800" spc="-1" strike="noStrike">
                <a:solidFill>
                  <a:srgbClr val="ccccff"/>
                </a:solidFill>
                <a:latin typeface="Trebuchet MS"/>
              </a:rPr>
              <a:t>Cross Customer 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90720" y="1447920"/>
          <a:ext cx="7848360" cy="497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784836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6C09-4B39-4543-90E6-423281CEEDE8}" type="slidenum">
              <a:t>16</a:t>
            </a:fld>
          </a:p>
        </p:txBody>
      </p:sp>
    </p:spTree>
  </p:cSld>
  <p:transition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1320"/>
            <a:ext cx="761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rebuchet MS"/>
              </a:rPr>
              <a:t>Voluntary Removal</a:t>
            </a:r>
            <a:br>
              <a:rPr sz="3200"/>
            </a:br>
            <a:r>
              <a:rPr b="0" i="1" lang="en-US" sz="2400" spc="-1" strike="noStrike">
                <a:solidFill>
                  <a:srgbClr val="ccccff"/>
                </a:solidFill>
                <a:latin typeface="Trebuchet MS"/>
              </a:rPr>
              <a:t>Cross Customer Error Adjusted for UFE</a:t>
            </a:r>
            <a:br>
              <a:rPr sz="2400"/>
            </a:br>
            <a:r>
              <a:rPr b="0" i="1" lang="en-US" sz="2400" spc="-1" strike="noStrike">
                <a:solidFill>
                  <a:srgbClr val="ccccff"/>
                </a:solidFill>
                <a:latin typeface="Trebuchet MS"/>
              </a:rPr>
              <a:t>All IDRs 0 kW to 500 k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772400" cy="401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6837-D4B8-4671-9D3A-C9E22ADB220A}" type="slidenum">
              <a:t>17</a:t>
            </a:fld>
          </a:p>
        </p:txBody>
      </p:sp>
    </p:spTree>
  </p:cSld>
  <p:transition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rebuchet MS"/>
              </a:rPr>
              <a:t>Tariff Savings for Premises which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Trebuchet MS"/>
              </a:rPr>
              <a:t> Benefit by Removing IDR M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848720" cy="4727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143000" y="1371600"/>
            <a:ext cx="762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6CF9-7F16-464D-B714-2D342CCB3101}" type="slidenum">
              <a:t>18</a:t>
            </a:fld>
          </a:p>
        </p:txBody>
      </p:sp>
    </p:spTree>
  </p:cSld>
  <p:transition>
    <p:cover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301320"/>
            <a:ext cx="76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rebuchet MS"/>
              </a:rPr>
              <a:t>Voluntary Removal</a:t>
            </a:r>
            <a:br>
              <a:rPr sz="3200"/>
            </a:br>
            <a:r>
              <a:rPr b="0" i="1" lang="en-US" sz="2200" spc="-1" strike="noStrike">
                <a:solidFill>
                  <a:srgbClr val="ccccff"/>
                </a:solidFill>
                <a:latin typeface="Trebuchet MS"/>
              </a:rPr>
              <a:t>Profiling Error Summary of IDRs with Lower Tariff Char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848720" cy="370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200D-F961-4663-AA68-96A30F280EA5}" type="slidenum">
              <a:t>19</a:t>
            </a:fld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rebuchet MS"/>
              </a:rPr>
              <a:t>Introduction</a:t>
            </a:r>
            <a:r>
              <a:rPr b="0" lang="en-US" sz="3600" spc="-1" strike="noStrike">
                <a:solidFill>
                  <a:srgbClr val="ccccff"/>
                </a:solidFill>
                <a:latin typeface="Trebuchet MS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This is a report of Ercot’s Phase 2 analysis of the IDR requirement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The purpose of the analysis was to include the impact of UFE allocation in the calculation of error associated with the use of profiles vs. use of IDRs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A890-937C-42B3-8B9E-3DB611CB5129}" type="slidenum">
              <a:t>2</a:t>
            </a:fld>
          </a:p>
        </p:txBody>
      </p:sp>
    </p:spTree>
  </p:cSld>
  <p:transition>
    <p:cover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rebuchet MS"/>
              </a:rPr>
              <a:t>Voluntary Removal</a:t>
            </a:r>
            <a:br>
              <a:rPr sz="3200"/>
            </a:br>
            <a:r>
              <a:rPr b="0" lang="en-US" sz="2400" spc="-1" strike="noStrike">
                <a:solidFill>
                  <a:srgbClr val="ccccff"/>
                </a:solidFill>
                <a:latin typeface="Trebuchet MS"/>
              </a:rPr>
              <a:t>Cumulative </a:t>
            </a:r>
            <a:r>
              <a:rPr b="0" i="1" lang="en-US" sz="2400" spc="-1" strike="noStrike">
                <a:solidFill>
                  <a:srgbClr val="ccccff"/>
                </a:solidFill>
                <a:latin typeface="Trebuchet MS"/>
              </a:rPr>
              <a:t>Cross Customer Error</a:t>
            </a:r>
            <a:br>
              <a:rPr sz="2400"/>
            </a:br>
            <a:r>
              <a:rPr b="0" i="1" lang="en-US" sz="2400" spc="-1" strike="noStrike">
                <a:solidFill>
                  <a:srgbClr val="ccccff"/>
                </a:solidFill>
                <a:latin typeface="Trebuchet MS"/>
              </a:rPr>
              <a:t>of IDRs with Lower Tariff 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784836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744C-4268-48C6-9087-0956532B199D}" type="slidenum">
              <a:t>20</a:t>
            </a:fld>
          </a:p>
        </p:txBody>
      </p:sp>
    </p:spTree>
  </p:cSld>
  <p:transition>
    <p:cover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rebuchet MS"/>
              </a:rPr>
              <a:t>Mandatory Installation Thresho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f8f8f8"/>
                </a:solidFill>
                <a:latin typeface="Verdana"/>
              </a:rPr>
              <a:t>ERCOT considered lowering the threshold required for installation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DAB7-5A7A-4BBF-A0BB-19E76C2227B7}" type="slidenum">
              <a:t>21</a:t>
            </a:fld>
          </a:p>
        </p:txBody>
      </p:sp>
    </p:spTree>
  </p:cSld>
  <p:transition>
    <p:cover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769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rebuchet MS"/>
              </a:rPr>
              <a:t>Mandatory Installation</a:t>
            </a:r>
            <a:br>
              <a:rPr sz="3600"/>
            </a:br>
            <a:r>
              <a:rPr b="0" i="1" lang="en-US" sz="2800" spc="-1" strike="noStrike">
                <a:solidFill>
                  <a:srgbClr val="ccccff"/>
                </a:solidFill>
                <a:latin typeface="Trebuchet MS"/>
              </a:rPr>
              <a:t>Cross Customer Error Per ID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90720" y="1447920"/>
          <a:ext cx="7696080" cy="489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7696080" cy="48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B415-AFB4-41EE-85F0-70EA0248FFA5}" type="slidenum">
              <a:t>22</a:t>
            </a:fld>
          </a:p>
        </p:txBody>
      </p:sp>
    </p:spTree>
  </p:cSld>
  <p:transition>
    <p:cover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rebuchet MS"/>
              </a:rPr>
              <a:t>Mandatory Installation</a:t>
            </a:r>
            <a:br>
              <a:rPr sz="3600"/>
            </a:br>
            <a:r>
              <a:rPr b="0" i="1" lang="en-US" sz="2800" spc="-1" strike="noStrike">
                <a:solidFill>
                  <a:srgbClr val="ccccff"/>
                </a:solidFill>
                <a:latin typeface="Trebuchet MS"/>
              </a:rPr>
              <a:t>Cross Customer 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90720" y="1447920"/>
          <a:ext cx="7772400" cy="488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777240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EE4C-505A-4A83-BB33-75E08A640D41}" type="slidenum">
              <a:t>23</a:t>
            </a:fld>
          </a:p>
        </p:txBody>
      </p:sp>
    </p:spTree>
  </p:cSld>
  <p:transition>
    <p:cover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13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rebuchet MS"/>
              </a:rPr>
              <a:t>Mandatory Installation</a:t>
            </a:r>
            <a:br>
              <a:rPr sz="3200"/>
            </a:br>
            <a:r>
              <a:rPr b="0" i="1" lang="en-US" sz="2800" spc="-1" strike="noStrike">
                <a:solidFill>
                  <a:srgbClr val="ccccff"/>
                </a:solidFill>
                <a:latin typeface="Trebuchet MS"/>
              </a:rPr>
              <a:t>Number of IDRs that would be Requir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14400" y="1447920"/>
          <a:ext cx="8001000" cy="47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800100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A79D-BF0E-4479-A957-574979A5A37F}" type="slidenum">
              <a:t>24</a:t>
            </a:fld>
          </a:p>
        </p:txBody>
      </p:sp>
    </p:spTree>
  </p:cSld>
  <p:transition>
    <p:cover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3013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rebuchet MS"/>
              </a:rPr>
              <a:t>Mandatory Installation</a:t>
            </a:r>
            <a:br>
              <a:rPr sz="3600"/>
            </a:br>
            <a:r>
              <a:rPr b="0" i="1" lang="en-US" sz="2800" spc="-1" strike="noStrike">
                <a:solidFill>
                  <a:srgbClr val="ccccff"/>
                </a:solidFill>
                <a:latin typeface="Trebuchet MS"/>
              </a:rPr>
              <a:t>Cross Customer Error Adjusted for UFE</a:t>
            </a:r>
            <a:br>
              <a:rPr sz="2800"/>
            </a:br>
            <a:r>
              <a:rPr b="0" i="1" lang="en-US" sz="2800" spc="-1" strike="noStrike">
                <a:solidFill>
                  <a:srgbClr val="ccccff"/>
                </a:solidFill>
                <a:latin typeface="Trebuchet MS"/>
              </a:rPr>
              <a:t>All NIDRs 100 kW to 1000 k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848720" cy="50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7478-95E3-4AC9-ABD6-98BC99EB3C64}" type="slidenum">
              <a:t>25</a:t>
            </a:fld>
          </a:p>
        </p:txBody>
      </p:sp>
    </p:spTree>
  </p:cSld>
  <p:transition>
    <p:cover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301320"/>
            <a:ext cx="76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rebuchet MS"/>
              </a:rPr>
              <a:t>Mandatory Installation</a:t>
            </a:r>
            <a:br>
              <a:rPr sz="3600"/>
            </a:br>
            <a:r>
              <a:rPr b="0" lang="en-US" sz="2400" spc="-1" strike="noStrike">
                <a:solidFill>
                  <a:srgbClr val="ccccff"/>
                </a:solidFill>
                <a:latin typeface="Trebuchet MS"/>
              </a:rPr>
              <a:t>Cumulative </a:t>
            </a:r>
            <a:r>
              <a:rPr b="0" i="1" lang="en-US" sz="2400" spc="-1" strike="noStrike">
                <a:solidFill>
                  <a:srgbClr val="ccccff"/>
                </a:solidFill>
                <a:latin typeface="Trebuchet MS"/>
              </a:rPr>
              <a:t>Cross Customer Error Adjusted</a:t>
            </a:r>
            <a:br>
              <a:rPr sz="2400"/>
            </a:br>
            <a:r>
              <a:rPr b="0" i="1" lang="en-US" sz="2400" spc="-1" strike="noStrike">
                <a:solidFill>
                  <a:srgbClr val="ccccff"/>
                </a:solidFill>
                <a:latin typeface="Trebuchet MS"/>
              </a:rPr>
              <a:t>for UFE - All NIDRs 100 kW to 1000 k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8001000" cy="496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6E95-7494-4EEF-863A-0546FC098DC7}" type="slidenum">
              <a:t>26</a:t>
            </a:fld>
          </a:p>
        </p:txBody>
      </p:sp>
    </p:spTree>
  </p:cSld>
  <p:transition>
    <p:cover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rebuchet MS"/>
              </a:rPr>
              <a:t>ERCOT Recommend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Initially set IDR threshold at 700 kW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988 IDRs would need installation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Cross Customer Error reduction ~ $2 million per year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Optional removal below 150 kW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615 premises impacted however likely that only 271 would experience tariff reductions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TDSP tariff reductions ~ $646/premise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~ $229 Cross Customer Error introduced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6F39-748F-4851-8D7B-6FCE7F51BDBA}" type="slidenum">
              <a:t>27</a:t>
            </a:fld>
          </a:p>
        </p:txBody>
      </p:sp>
    </p:spTree>
  </p:cSld>
  <p:transition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rebuchet MS"/>
              </a:rPr>
              <a:t>ERCOT Recommendations</a:t>
            </a:r>
            <a:br>
              <a:rPr sz="3600"/>
            </a:br>
            <a:r>
              <a:rPr b="0" i="1" lang="en-US" sz="2800" spc="-1" strike="noStrike">
                <a:solidFill>
                  <a:srgbClr val="ccccff"/>
                </a:solidFill>
                <a:latin typeface="Trebuchet MS"/>
              </a:rPr>
              <a:t>Additional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Analyze benefits of a mandatory TOU provision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Analyze load research data to refine estimates particularly in 100 kW to 700 kW range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2045-292B-4C2E-8BF3-C75EA3A1B818}" type="slidenum">
              <a:t>28</a:t>
            </a:fld>
          </a:p>
        </p:txBody>
      </p:sp>
    </p:spTree>
  </p:cSld>
  <p:transition>
    <p:cover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rebuchet MS"/>
              </a:rPr>
              <a:t>CR</a:t>
            </a:r>
            <a:r>
              <a:rPr b="0" lang="en-US" sz="3200" spc="-1" strike="noStrike">
                <a:solidFill>
                  <a:srgbClr val="9999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ccccff"/>
                </a:solidFill>
                <a:latin typeface="Trebuchet MS"/>
              </a:rPr>
              <a:t>Impact with IDR Removal</a:t>
            </a:r>
            <a:br>
              <a:rPr sz="3200"/>
            </a:br>
            <a:r>
              <a:rPr b="0" i="1" lang="en-US" sz="3200" spc="-1" strike="noStrike">
                <a:solidFill>
                  <a:srgbClr val="ccccff"/>
                </a:solidFill>
                <a:latin typeface="Trebuchet MS"/>
              </a:rPr>
              <a:t>All IDRs 0 kW to 500 k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7391160" cy="331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0015-E1A9-4E7A-9BB8-6F1821BE372C}" type="slidenum">
              <a:t>29</a:t>
            </a:fld>
          </a:p>
        </p:txBody>
      </p:sp>
    </p:spTree>
  </p:cSld>
  <p:transition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523880" y="2590920"/>
            <a:ext cx="54864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12600">
                  <a:solidFill>
                    <a:srgbClr val="eaeaea"/>
                  </a:solidFill>
                  <a:miter/>
                </a:ln>
                <a:solidFill>
                  <a:srgbClr val="cccc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ill Sans MT"/>
              </a:rPr>
              <a:t>METHODOLOGY</a:t>
            </a:r>
            <a:endParaRPr b="1" lang="en-US" sz="1800" spc="1" strike="noStrike">
              <a:ln cap="sq" w="12600">
                <a:solidFill>
                  <a:srgbClr val="eaeaea"/>
                </a:solidFill>
                <a:miter/>
              </a:ln>
              <a:solidFill>
                <a:srgbClr val="cccc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ill Sans MT"/>
              <a:ea typeface="Gill Sans MT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238880" y="3124080"/>
            <a:ext cx="1314720" cy="152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B112-E675-4D0C-9132-4F0487A5B6EA}" type="slidenum">
              <a:t>3</a:t>
            </a:fld>
          </a:p>
        </p:txBody>
      </p:sp>
    </p:spTree>
  </p:cSld>
  <p:transition>
    <p:cover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rebuchet MS"/>
              </a:rPr>
              <a:t>CR</a:t>
            </a:r>
            <a:r>
              <a:rPr b="0" lang="en-US" sz="3200" spc="-1" strike="noStrike">
                <a:solidFill>
                  <a:srgbClr val="9999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ccccff"/>
                </a:solidFill>
                <a:latin typeface="Trebuchet MS"/>
              </a:rPr>
              <a:t>Impact with IDR Installation</a:t>
            </a:r>
            <a:br>
              <a:rPr sz="3200"/>
            </a:br>
            <a:r>
              <a:rPr b="0" i="1" lang="en-US" sz="3200" spc="-1" strike="noStrike">
                <a:solidFill>
                  <a:srgbClr val="ccccff"/>
                </a:solidFill>
                <a:latin typeface="Trebuchet MS"/>
              </a:rPr>
              <a:t>All IDRs 100 kW to 1000 k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667368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6477120"/>
            <a:ext cx="655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Verdana"/>
              </a:rPr>
              <a:t>*NPEC not extrapolated to the population level</a:t>
            </a:r>
            <a:endParaRPr b="0" lang="en-US" sz="9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391520" cy="509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BF13-3D74-4302-BCED-0DDBFCC48F65}" type="slidenum">
              <a:t>30</a:t>
            </a:fld>
          </a:p>
        </p:txBody>
      </p:sp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rebuchet MS"/>
              </a:rPr>
              <a:t>Methodology</a:t>
            </a:r>
            <a:br>
              <a:rPr sz="3600"/>
            </a:br>
            <a:r>
              <a:rPr b="0" i="1" lang="en-US" sz="2800" spc="-1" strike="noStrike">
                <a:solidFill>
                  <a:srgbClr val="ccccff"/>
                </a:solidFill>
                <a:latin typeface="Trebuchet MS"/>
              </a:rPr>
              <a:t>Profiling 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827360"/>
            <a:ext cx="77724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Profiling Error illustrates whether the profile overestimates or underestimates the true usage.  The formula is: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8f8f8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f8f8f8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f8f8f8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f8f8f8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where PE = Profiling Error (kWh) for a premise,</a:t>
            </a:r>
            <a:endParaRPr b="0" lang="en-US" sz="2100" spc="-1" strike="noStrike">
              <a:solidFill>
                <a:srgbClr val="f8f8f8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E</a:t>
            </a:r>
            <a:r>
              <a:rPr b="0" lang="en-US" sz="2100" spc="-1" strike="noStrike" baseline="-25000">
                <a:solidFill>
                  <a:srgbClr val="f8f8f8"/>
                </a:solidFill>
                <a:latin typeface="Verdana"/>
              </a:rPr>
              <a:t>iactual</a:t>
            </a: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= Actual Energy (kWh) for a 15-minute            </a:t>
            </a: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interval, and</a:t>
            </a:r>
            <a:endParaRPr b="0" lang="en-US" sz="2100" spc="-1" strike="noStrike">
              <a:solidFill>
                <a:srgbClr val="f8f8f8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E</a:t>
            </a:r>
            <a:r>
              <a:rPr b="0" lang="en-US" sz="2100" spc="-1" strike="noStrike" baseline="-25000">
                <a:solidFill>
                  <a:srgbClr val="f8f8f8"/>
                </a:solidFill>
                <a:latin typeface="Verdana"/>
              </a:rPr>
              <a:t>iprofiled</a:t>
            </a: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 = Profiled Energy (kWh) for a </a:t>
            </a:r>
            <a:endParaRPr b="0" lang="en-US" sz="2100" spc="-1" strike="noStrike">
              <a:solidFill>
                <a:srgbClr val="f8f8f8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15-minute interval.  </a:t>
            </a: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f8f8f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14600" y="3276720"/>
                <a:ext cx="4419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ctual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rofiled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9714-7CB6-482C-A201-FFC6A6F869DE}" type="slidenum">
              <a:t>4</a:t>
            </a:fld>
          </a:p>
        </p:txBody>
      </p: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rebuchet MS"/>
              </a:rPr>
              <a:t>Methodolo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i="1" lang="en-US" sz="2800" spc="-1" strike="noStrike">
                <a:solidFill>
                  <a:srgbClr val="ccccff"/>
                </a:solidFill>
                <a:latin typeface="Trebuchet MS"/>
              </a:rPr>
              <a:t>UFE Adjus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5452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UFE (unaccounted for energy) is computed as follows: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UFE = Generation – (Load at Meter + Losses)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Allocation of UFE varies by interva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~ 85% to profiled load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~ 15% to IDR load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None is allocated to NOIE load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hifting load from a profile to an IDR eliminates Profiling Error for those ESI IDs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hifting load from an IDR to a profile creates Profiling Error for those ESI IDs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In either case UFE in total or as a percent may increase or decrease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228C-CE31-430F-A89F-9B6439770DD4}" type="slidenum">
              <a:t>5</a:t>
            </a:fld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rebuchet MS"/>
              </a:rPr>
              <a:t>Methodology</a:t>
            </a:r>
            <a:br>
              <a:rPr sz="4000"/>
            </a:br>
            <a:r>
              <a:rPr b="0" i="1" lang="en-US" sz="3200" spc="-1" strike="noStrike">
                <a:solidFill>
                  <a:srgbClr val="ccccff"/>
                </a:solidFill>
                <a:latin typeface="Trebuchet MS"/>
              </a:rPr>
              <a:t>UFE Adjustment Fa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1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Each interval of profiled load is multiplied by an adjustment factor to account for UFE: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If IDRs are shifted to profiles or vice versa, both profiled load and UFE are affected: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8f8f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362320" y="3124080"/>
                <a:ext cx="457200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j Factor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OFIL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w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UFE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OFIL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w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752480" y="5562720"/>
                <a:ext cx="617220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w Profil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wh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rig Profil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w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c Profil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wh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ew UFE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Orig UFE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nc UF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D0BC-0FDA-42F5-9E7C-73E022944229}" type="slidenum">
              <a:t>6</a:t>
            </a:fld>
          </a:p>
        </p:txBody>
      </p:sp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rebuchet MS"/>
              </a:rPr>
              <a:t>Methodology</a:t>
            </a:r>
            <a:br>
              <a:rPr sz="4000"/>
            </a:br>
            <a:r>
              <a:rPr b="0" i="1" lang="en-US" sz="3200" spc="-1" strike="noStrike">
                <a:solidFill>
                  <a:srgbClr val="ccccff"/>
                </a:solidFill>
                <a:latin typeface="Trebuchet MS"/>
              </a:rPr>
              <a:t>UFE Adjustment Fa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9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Verdana"/>
              </a:rPr>
              <a:t>Based on the incremental load and UFE a new adjustment factor is computed:</a:t>
            </a:r>
            <a:endParaRPr b="0" lang="en-US" sz="2600" spc="-1" strike="noStrike">
              <a:solidFill>
                <a:srgbClr val="f8f8f8"/>
              </a:solidFill>
              <a:latin typeface="Verdana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Verdana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Verdana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Verdana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Verdana"/>
            </a:endParaRPr>
          </a:p>
          <a:p>
            <a:pPr marL="312120" indent="-31212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Verdana"/>
              </a:rPr>
              <a:t>The New Adjustment factor is a function of the IDR threshold since the Incremental UFE is the net profiling error for all ESI IDs meeting the IDR threshold</a:t>
            </a:r>
            <a:endParaRPr b="0" lang="en-US" sz="2600" spc="-1" strike="noStrike">
              <a:solidFill>
                <a:srgbClr val="f8f8f8"/>
              </a:solidFill>
              <a:latin typeface="Verdana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828800" y="3124080"/>
                <a:ext cx="640080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ew Adj Factor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w Profil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w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New UFE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w Profil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w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64E4-CCE2-407C-BFE3-ACCCE1706206}" type="slidenum">
              <a:t>7</a:t>
            </a:fld>
          </a:p>
        </p:txBody>
      </p:sp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rebuchet MS"/>
              </a:rPr>
              <a:t>Methodology</a:t>
            </a:r>
            <a:br>
              <a:rPr sz="3600"/>
            </a:br>
            <a:r>
              <a:rPr b="0" i="1" lang="en-US" sz="2800" spc="-1" strike="noStrike">
                <a:solidFill>
                  <a:srgbClr val="ccccff"/>
                </a:solidFill>
                <a:latin typeface="Trebuchet MS"/>
              </a:rPr>
              <a:t>Adjusted</a:t>
            </a:r>
            <a:r>
              <a:rPr b="0" lang="en-US" sz="3600" spc="-1" strike="noStrike">
                <a:solidFill>
                  <a:srgbClr val="ccccff"/>
                </a:solidFill>
                <a:latin typeface="Trebuchet MS"/>
              </a:rPr>
              <a:t> </a:t>
            </a:r>
            <a:r>
              <a:rPr b="0" i="1" lang="en-US" sz="2800" spc="-1" strike="noStrike">
                <a:solidFill>
                  <a:srgbClr val="ccccff"/>
                </a:solidFill>
                <a:latin typeface="Trebuchet MS"/>
              </a:rPr>
              <a:t>Profiling 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The profiled version of the IDR load is multiplied by this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actor to replicate the data aggregation process.  The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adjusted load is compared to the actual interval data to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determine adjusted profiling error.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8f8f8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f8f8f8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8f8f8"/>
                </a:solidFill>
                <a:latin typeface="Verdana"/>
              </a:rPr>
              <a:t>	</a:t>
            </a:r>
            <a:endParaRPr b="0" lang="en-US" sz="700" spc="-1" strike="noStrike">
              <a:solidFill>
                <a:srgbClr val="f8f8f8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8f8f8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f8f8f8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8f8f8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Verdana"/>
              </a:rPr>
              <a:t>where Adj PE = Adjusted Profiling Error (kWh) for a premise,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8f8f8"/>
                </a:solidFill>
                <a:latin typeface="Verdana"/>
              </a:rPr>
              <a:t>E</a:t>
            </a:r>
            <a:r>
              <a:rPr b="0" lang="en-US" sz="1800" spc="-1" strike="noStrike" baseline="-25000">
                <a:solidFill>
                  <a:srgbClr val="f8f8f8"/>
                </a:solidFill>
                <a:latin typeface="Verdana"/>
              </a:rPr>
              <a:t>iactual</a:t>
            </a:r>
            <a:r>
              <a:rPr b="0" lang="en-US" sz="1800" spc="-1" strike="noStrike">
                <a:solidFill>
                  <a:srgbClr val="f8f8f8"/>
                </a:solidFill>
                <a:latin typeface="Verdana"/>
              </a:rPr>
              <a:t>= Actual Energy (kWh) for a 15-minute interval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8f8f8"/>
                </a:solidFill>
                <a:latin typeface="Verdana"/>
              </a:rPr>
              <a:t>New Adj Factor = New UFE Adjustment Factor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8f8f8"/>
                </a:solidFill>
                <a:latin typeface="Verdana"/>
              </a:rPr>
              <a:t>E</a:t>
            </a:r>
            <a:r>
              <a:rPr b="0" lang="en-US" sz="1800" spc="-1" strike="noStrike" baseline="-25000">
                <a:solidFill>
                  <a:srgbClr val="f8f8f8"/>
                </a:solidFill>
                <a:latin typeface="Verdana"/>
              </a:rPr>
              <a:t>iprofiled</a:t>
            </a:r>
            <a:r>
              <a:rPr b="0" lang="en-US" sz="1800" spc="-1" strike="noStrike">
                <a:solidFill>
                  <a:srgbClr val="f8f8f8"/>
                </a:solidFill>
                <a:latin typeface="Verdana"/>
              </a:rPr>
              <a:t> = Profiled Energy (kWh) for a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8f8f8"/>
                </a:solidFill>
                <a:latin typeface="Verdana"/>
              </a:rPr>
              <a:t>15-minute interval.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8f8f8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f8f8f8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600200" y="3505320"/>
                <a:ext cx="63244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jPE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ctual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ewAdjFactor</m:t>
                            </m:r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rofiled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D137-B5E5-4937-9E5C-2A509D7AE036}" type="slidenum">
              <a:t>8</a:t>
            </a:fld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rebuchet MS"/>
              </a:rPr>
              <a:t>Estimates for IDR Co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24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ERCOT estimated the annualized</a:t>
            </a:r>
            <a:endParaRPr b="0" lang="en-US" sz="21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incremental cost of IDR metering using</a:t>
            </a:r>
            <a:endParaRPr b="0" lang="en-US" sz="21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the following assumptions:</a:t>
            </a:r>
            <a:endParaRPr b="0" lang="en-US" sz="21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IDR Purchase/Installation</a:t>
            </a: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    $1000</a:t>
            </a:r>
            <a:endParaRPr b="0" lang="en-US" sz="21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Annual Reading Cost</a:t>
            </a: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    $72</a:t>
            </a:r>
            <a:endParaRPr b="0" lang="en-US" sz="21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Amortization Period</a:t>
            </a: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    15 years</a:t>
            </a:r>
            <a:endParaRPr b="0" lang="en-US" sz="21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Interest Rate</a:t>
            </a: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    5.0%</a:t>
            </a:r>
            <a:endParaRPr b="0" lang="en-US" sz="21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ff"/>
                </a:solidFill>
                <a:latin typeface="Verdana"/>
              </a:rPr>
              <a:t>Annualized IDR Cost</a:t>
            </a: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f8f8f8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ccccff"/>
                </a:solidFill>
                <a:latin typeface="Verdana"/>
              </a:rPr>
              <a:t>$168</a:t>
            </a:r>
            <a:endParaRPr b="0" lang="en-US" sz="21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3247-9DEE-4BB6-B464-545D2F8B0D53}" type="slidenum">
              <a:t>9</a:t>
            </a:fld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6:02:15Z</dcterms:created>
  <dc:creator> </dc:creator>
  <dc:description/>
  <dc:language>en-US</dc:language>
  <cp:lastModifiedBy> </cp:lastModifiedBy>
  <dcterms:modified xsi:type="dcterms:W3CDTF">2004-06-09T19:38:05Z</dcterms:modified>
  <cp:revision>47</cp:revision>
  <dc:subject/>
  <dc:title>Analysis of the IDR Threshold Requirement at ERCO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76859470</vt:r8>
  </property>
  <property fmtid="{D5CDD505-2E9C-101B-9397-08002B2CF9AE}" pid="3" name="_AuthorEmail">
    <vt:lpwstr>lturns@ercot.com</vt:lpwstr>
  </property>
  <property fmtid="{D5CDD505-2E9C-101B-9397-08002B2CF9AE}" pid="4" name="_AuthorEmailDisplayName">
    <vt:lpwstr>Turns, Lindsey</vt:lpwstr>
  </property>
  <property fmtid="{D5CDD505-2E9C-101B-9397-08002B2CF9AE}" pid="5" name="_EmailSubject">
    <vt:lpwstr>IDR Threshold Analysis Update</vt:lpwstr>
  </property>
</Properties>
</file>