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15F-DE1A-4147-A7DF-3CB253D6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92C-374A-4801-A08F-09B20F96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6EA-B2D9-4D4A-86DC-1A96BE03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C12-7626-4067-BB11-126433FC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D7A7-ECBD-4349-B8E4-8FFDCD71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38A1-FFAA-49EC-80A6-AEF0F58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2B97-6CF0-48D7-BBCC-5AE51E5F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FD56-8330-4CDA-91DC-6190741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02D7-3DB5-4938-B12C-25B060F9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B3F5-8A8B-46BB-ABD6-3A4182F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57DD-031E-4FEE-9FAF-D6E60E9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85C-AC19-4F59-9AA6-832E465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4916-9EF2-45F0-89A9-BC60518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E706-3571-489F-ADD6-8169719A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F4B8-6328-408F-8D64-2D8D01AB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832A-7D77-45CD-813E-B0DCE536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9115-E539-4AD9-AB42-0E2C41F0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1A5-FEFE-43F2-96B3-734C096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206-A7C1-4322-B8D3-D28AA213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5A6-33AE-4D43-9F8E-0A5D21F7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604-7916-4D96-9BCE-BBF520E1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316-83C6-402D-8477-C9C94946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33B-452B-45FF-A8B4-489C6C0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64B-68C9-4A26-B5F7-9314394E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5FE4-4B61-4221-A75C-A724752BC4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0E26-4325-4C7C-81AC-58BF8409C4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RCOT IDR Threshold Analysi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3200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 10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: Carl Ra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dsey 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389268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A5A-481E-4CD7-B73F-C3D5119387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6705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Distribution of IDRs Less Than 1000 k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71600" y="1295280"/>
          <a:ext cx="746748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74674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28800" y="2057400"/>
            <a:ext cx="230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3,752 ESI 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6.4 G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39C-BE54-4AB5-810F-E7944B2FB2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5711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rofiling Error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7088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djusted Profiling 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quantifies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ce between the actual (IDR) lo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the profiled load adjusted for U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t Profiling Error Co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quantifies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etary cost of profiling error to th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ke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90920" y="5943600"/>
                <a:ext cx="5011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E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76520" y="3429000"/>
                <a:ext cx="6094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jP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ua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FEFact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filed</m:t>
                                </m:r>
                              </m:sub>
                            </m:sSub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BA3-D473-4259-8D7C-3256809A9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stribution of Net Profiling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1371600"/>
          <a:ext cx="80773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8077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9D9-E41B-4E43-9B96-562C3F72E2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ross Customer Error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ross Customer E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quantifie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ubsidization between custom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occurs as a result of Pro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ror adjusted for U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86000" y="4406760"/>
                <a:ext cx="50817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E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jP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P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C55-5203-4BFF-A163-347C86F60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ross Customer Error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8001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0B6-8C26-417B-980D-4FF38FAF3A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304920"/>
            <a:ext cx="62866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ariff Savings for Premises whi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Benefit by Removing IDR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00100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84F-77D6-43DA-8B49-E90AA4336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oss Customer Error Summary for Premises which Benefit by Removing IDR 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00100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D66-3280-461B-8369-B7C975CE79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560" y="609480"/>
            <a:ext cx="388764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92504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optional removal below 150 k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15 premises impacted however likely that only 271 would experience tariff red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SP tariff reductions ~ $646/prem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~ $201 Cross Customer Error intro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60C-0BAF-43C4-9C9C-5F70322A1A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20:28:20Z</dcterms:created>
  <dc:creator> </dc:creator>
  <dc:description/>
  <dc:language>en-US</dc:language>
  <cp:lastModifiedBy> </cp:lastModifiedBy>
  <dcterms:modified xsi:type="dcterms:W3CDTF">2004-06-09T19:37:19Z</dcterms:modified>
  <cp:revision>8</cp:revision>
  <dc:subject/>
  <dc:title>Distribution of IDRs Less Than 1000 k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2025161</vt:r8>
  </property>
  <property fmtid="{D5CDD505-2E9C-101B-9397-08002B2CF9AE}" pid="3" name="_AuthorEmail">
    <vt:lpwstr>lturns@ercot.com</vt:lpwstr>
  </property>
  <property fmtid="{D5CDD505-2E9C-101B-9397-08002B2CF9AE}" pid="4" name="_AuthorEmailDisplayName">
    <vt:lpwstr>Turns, Lindsey</vt:lpwstr>
  </property>
  <property fmtid="{D5CDD505-2E9C-101B-9397-08002B2CF9AE}" pid="5" name="_EmailSubject">
    <vt:lpwstr>June RMS draft agenda &amp; presentation due date - Update 06/01/04</vt:lpwstr>
  </property>
</Properties>
</file>