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87EC-7554-4266-97DD-56E2442E92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ACE8-ADD6-461D-B21A-519593391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CB6ED-F93F-4F29-934F-1D871EA4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42E5-A4B0-458A-80D8-B8A9D6E843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2A21A-87F6-4920-AF14-5FE09107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36936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EBE5-881D-4485-8EBA-99351CEC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7BC09-2909-4232-9571-40D67BC6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7D89C-8956-4506-849E-0210A8D10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2FADC-88D9-4064-81FF-AD8A609F8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789A6-BCC8-4126-9F97-9E7B2CA4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36936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11F63-BC69-475F-AE8B-7AE153A0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6936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8DCE8-2977-48D1-A183-F4223B0D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hyperlink" Target="mailto:ewolfe@tca-us.com" TargetMode="Externa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45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45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45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45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451"/>
              </a:spcBef>
              <a:buClr>
                <a:srgbClr val="00005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451"/>
              </a:spcBef>
              <a:buClr>
                <a:srgbClr val="00005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66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762120" y="6273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152280" y="624816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D943-6F0A-4816-BA25-0891F41DA26E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9dc07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914400"/>
            <a:ext cx="8458200" cy="0"/>
          </a:xfrm>
          <a:prstGeom prst="line">
            <a:avLst/>
          </a:prstGeom>
          <a:ln w="19080">
            <a:solidFill>
              <a:srgbClr val="ccc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172200"/>
            <a:ext cx="0" cy="380880"/>
          </a:xfrm>
          <a:prstGeom prst="line">
            <a:avLst/>
          </a:prstGeom>
          <a:ln w="12600">
            <a:solidFill>
              <a:srgbClr val="ccc0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8" name=""/>
          <p:cNvSpPr/>
          <p:nvPr/>
        </p:nvSpPr>
        <p:spPr>
          <a:xfrm>
            <a:off x="762120" y="6553080"/>
            <a:ext cx="358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2004 TCA</a:t>
            </a:r>
            <a:endParaRPr b="0" lang="en-US" sz="900" spc="-1" strike="noStrike">
              <a:solidFill>
                <a:srgbClr val="000059"/>
              </a:solidFill>
              <a:latin typeface="Arial Unicode MS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4343400" y="6248520"/>
            <a:ext cx="533160" cy="456840"/>
            <a:chOff x="4343400" y="6248520"/>
            <a:chExt cx="533160" cy="456840"/>
          </a:xfrm>
        </p:grpSpPr>
        <p:sp>
          <p:nvSpPr>
            <p:cNvPr id="10" name=""/>
            <p:cNvSpPr/>
            <p:nvPr/>
          </p:nvSpPr>
          <p:spPr>
            <a:xfrm>
              <a:off x="4343400" y="6248520"/>
              <a:ext cx="533160" cy="4568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59"/>
                </a:solidFill>
                <a:latin typeface="Arial Unicode MS"/>
              </a:endParaRPr>
            </a:p>
          </p:txBody>
        </p:sp>
        <p:grpSp>
          <p:nvGrpSpPr>
            <p:cNvPr id="11" name=""/>
            <p:cNvGrpSpPr/>
            <p:nvPr/>
          </p:nvGrpSpPr>
          <p:grpSpPr>
            <a:xfrm>
              <a:off x="4443120" y="6372360"/>
              <a:ext cx="333360" cy="254520"/>
              <a:chOff x="4443120" y="6372360"/>
              <a:chExt cx="333360" cy="254520"/>
            </a:xfrm>
          </p:grpSpPr>
          <p:sp>
            <p:nvSpPr>
              <p:cNvPr id="12" name=""/>
              <p:cNvSpPr/>
              <p:nvPr/>
            </p:nvSpPr>
            <p:spPr>
              <a:xfrm>
                <a:off x="4443120" y="6521040"/>
                <a:ext cx="333360" cy="105840"/>
              </a:xfrm>
              <a:custGeom>
                <a:avLst/>
                <a:gdLst/>
                <a:ahLst/>
                <a:rect l="l" t="t" r="r" b="b"/>
                <a:pathLst>
                  <a:path w="414" h="158">
                    <a:moveTo>
                      <a:pt x="10" y="2"/>
                    </a:moveTo>
                    <a:lnTo>
                      <a:pt x="172" y="2"/>
                    </a:lnTo>
                    <a:lnTo>
                      <a:pt x="122" y="142"/>
                    </a:lnTo>
                    <a:lnTo>
                      <a:pt x="298" y="142"/>
                    </a:lnTo>
                    <a:lnTo>
                      <a:pt x="244" y="0"/>
                    </a:lnTo>
                    <a:lnTo>
                      <a:pt x="410" y="0"/>
                    </a:lnTo>
                    <a:lnTo>
                      <a:pt x="414" y="16"/>
                    </a:lnTo>
                    <a:lnTo>
                      <a:pt x="268" y="16"/>
                    </a:lnTo>
                    <a:lnTo>
                      <a:pt x="324" y="158"/>
                    </a:lnTo>
                    <a:lnTo>
                      <a:pt x="94" y="156"/>
                    </a:lnTo>
                    <a:lnTo>
                      <a:pt x="152" y="16"/>
                    </a:lnTo>
                    <a:lnTo>
                      <a:pt x="0" y="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33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4527720" y="6372360"/>
                <a:ext cx="161280" cy="10800"/>
              </a:xfrm>
              <a:custGeom>
                <a:avLst/>
                <a:gdLst/>
                <a:ahLst/>
                <a:rect l="l" t="t" r="r" b="b"/>
                <a:pathLst>
                  <a:path w="204" h="16">
                    <a:moveTo>
                      <a:pt x="9" y="0"/>
                    </a:moveTo>
                    <a:lnTo>
                      <a:pt x="196" y="0"/>
                    </a:lnTo>
                    <a:lnTo>
                      <a:pt x="204" y="16"/>
                    </a:lnTo>
                    <a:lnTo>
                      <a:pt x="0" y="16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33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4" name=""/>
          <p:cNvSpPr/>
          <p:nvPr/>
        </p:nvSpPr>
        <p:spPr>
          <a:xfrm>
            <a:off x="4876920" y="632448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abors Caramanis &amp; Associates</a:t>
            </a:r>
            <a:endParaRPr b="0" lang="en-US" sz="1800" spc="-1" strike="noStrike">
              <a:solidFill>
                <a:srgbClr val="000059"/>
              </a:solidFill>
              <a:latin typeface="Arial Unicode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6242" r="0" b="0"/>
          <a:stretch/>
        </p:blipFill>
        <p:spPr>
          <a:xfrm>
            <a:off x="0" y="533520"/>
            <a:ext cx="9144000" cy="5721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6172200"/>
            <a:ext cx="9144000" cy="685800"/>
          </a:xfrm>
          <a:prstGeom prst="rect">
            <a:avLst/>
          </a:prstGeom>
          <a:solidFill>
            <a:srgbClr val="333366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85800" y="10666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85800" y="23623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33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9dc07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3"/>
          </p:nvPr>
        </p:nvSpPr>
        <p:spPr>
          <a:xfrm>
            <a:off x="2057040" y="33523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057400" y="2133720"/>
            <a:ext cx="4800600" cy="10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Presented By</a:t>
            </a:r>
            <a:br>
              <a:rPr sz="18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BCG &amp; TCA</a:t>
            </a:r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248520"/>
            <a:ext cx="358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4, Tabors Caramanis &amp; Assoc. – All rights reserved</a:t>
            </a:r>
            <a:endParaRPr b="0" lang="en-US" sz="900" spc="-1" strike="noStrike">
              <a:solidFill>
                <a:srgbClr val="000059"/>
              </a:solidFill>
              <a:latin typeface="Arial Unicode M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rcRect l="0" t="34537" r="0" b="0"/>
          <a:stretch/>
        </p:blipFill>
        <p:spPr>
          <a:xfrm>
            <a:off x="685800" y="3657600"/>
            <a:ext cx="1143000" cy="113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267080" y="5394240"/>
            <a:ext cx="48006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8066"/>
                </a:solidFill>
                <a:uFillTx/>
                <a:latin typeface="Arial"/>
                <a:hlinkClick r:id="rId6"/>
              </a:rPr>
              <a:t>ewolfe@tca-us.com</a:t>
            </a:r>
            <a:endParaRPr b="0" lang="en-US" sz="2000" spc="-1" strike="noStrike">
              <a:solidFill>
                <a:srgbClr val="000059"/>
              </a:solidFill>
              <a:latin typeface="Arial Unicode MS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916-791-4533</a:t>
            </a:r>
            <a:endParaRPr b="0" lang="en-US" sz="20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5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5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57040" y="837720"/>
            <a:ext cx="670572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dc07"/>
                </a:solidFill>
                <a:latin typeface="Arial"/>
              </a:rPr>
              <a:t>Cost Benefit Study Assumptions for Energy Impact Assessment</a:t>
            </a:r>
            <a:endParaRPr b="1" lang="en-US" sz="28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dc07"/>
                </a:solidFill>
                <a:latin typeface="Arial"/>
              </a:rPr>
              <a:t>Today’s discussion focuses on the Energy Impact Assessment Assumptions</a:t>
            </a:r>
            <a:endParaRPr b="1" lang="en-US" sz="28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0280" y="5699160"/>
            <a:ext cx="287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59"/>
                </a:solidFill>
                <a:latin typeface="Arial"/>
                <a:ea typeface="Arial"/>
              </a:rPr>
              <a:t>Scenario/Case Definition</a:t>
            </a:r>
            <a:endParaRPr b="0" lang="en-US" sz="18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838080"/>
            <a:ext cx="7238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482920" y="1108080"/>
            <a:ext cx="6737040" cy="4929120"/>
            <a:chOff x="2482920" y="1108080"/>
            <a:chExt cx="6737040" cy="4929120"/>
          </a:xfrm>
        </p:grpSpPr>
        <p:sp>
          <p:nvSpPr>
            <p:cNvPr id="104" name=""/>
            <p:cNvSpPr/>
            <p:nvPr/>
          </p:nvSpPr>
          <p:spPr>
            <a:xfrm>
              <a:off x="2482920" y="1108080"/>
              <a:ext cx="6737040" cy="4929120"/>
            </a:xfrm>
            <a:prstGeom prst="triangle">
              <a:avLst>
                <a:gd name="adj" fmla="val 50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59"/>
                </a:solidFill>
                <a:latin typeface="Arial Unicode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44800" y="3943440"/>
              <a:ext cx="1290600" cy="1587240"/>
            </a:xfrm>
            <a:custGeom>
              <a:avLst/>
              <a:gdLst>
                <a:gd name="textAreaLeft" fmla="*/ 63000 w 1290600"/>
                <a:gd name="textAreaRight" fmla="*/ 1227600 w 1290600"/>
                <a:gd name="textAreaTop" fmla="*/ 63000 h 1587240"/>
                <a:gd name="textAreaBottom" fmla="*/ 1524240 h 1587240"/>
              </a:gdLst>
              <a:ahLst/>
              <a:rect l="textAreaLeft" t="textAreaTop" r="textAreaRight" b="textAreaBottom"/>
              <a:pathLst>
                <a:path w="21600" h="26563">
                  <a:moveTo>
                    <a:pt x="3600" y="0"/>
                  </a:moveTo>
                  <a:arcTo wR="3600" hR="3600" stAng="16200000" swAng="-5400000"/>
                  <a:lnTo>
                    <a:pt x="0" y="22963"/>
                  </a:lnTo>
                  <a:arcTo wR="3600" hR="3600" stAng="10800000" swAng="-5400000"/>
                  <a:lnTo>
                    <a:pt x="18000" y="265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8c80"/>
            </a:solidFill>
            <a:ln w="0">
              <a:noFill/>
            </a:ln>
            <a:effectLst>
              <a:outerShdw dist="107932" dir="2700000" blurRad="0" rotWithShape="0">
                <a:srgbClr val="40404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59"/>
                  </a:solidFill>
                  <a:latin typeface="Arial"/>
                  <a:ea typeface="Arial"/>
                </a:rPr>
                <a:t>Other </a:t>
              </a:r>
              <a:endParaRPr b="0" lang="en-US" sz="1600" spc="-1" strike="noStrike">
                <a:solidFill>
                  <a:srgbClr val="000059"/>
                </a:solidFill>
                <a:latin typeface="Arial Unicode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59"/>
                  </a:solidFill>
                  <a:latin typeface="Arial"/>
                  <a:ea typeface="Arial"/>
                </a:rPr>
                <a:t>Market </a:t>
              </a:r>
              <a:endParaRPr b="0" lang="en-US" sz="1600" spc="-1" strike="noStrike">
                <a:solidFill>
                  <a:srgbClr val="000059"/>
                </a:solidFill>
                <a:latin typeface="Arial Unicode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59"/>
                  </a:solidFill>
                  <a:latin typeface="Arial"/>
                  <a:ea typeface="Arial"/>
                </a:rPr>
                <a:t>Impact </a:t>
              </a:r>
              <a:endParaRPr b="0" lang="en-US" sz="1600" spc="-1" strike="noStrike">
                <a:solidFill>
                  <a:srgbClr val="000059"/>
                </a:solidFill>
                <a:latin typeface="Arial Unicode MS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59"/>
                  </a:solidFill>
                  <a:latin typeface="Arial"/>
                  <a:ea typeface="Arial"/>
                </a:rPr>
                <a:t>Assessment</a:t>
              </a:r>
              <a:endParaRPr b="0" lang="en-US" sz="1600" spc="-1" strike="noStrike">
                <a:solidFill>
                  <a:srgbClr val="000059"/>
                </a:solidFill>
                <a:latin typeface="Arial Unicode MS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3863880" y="2133720"/>
              <a:ext cx="4012920" cy="3409920"/>
              <a:chOff x="3863880" y="2133720"/>
              <a:chExt cx="4012920" cy="3409920"/>
            </a:xfrm>
          </p:grpSpPr>
          <p:sp>
            <p:nvSpPr>
              <p:cNvPr id="107" name=""/>
              <p:cNvSpPr/>
              <p:nvPr/>
            </p:nvSpPr>
            <p:spPr>
              <a:xfrm>
                <a:off x="5202000" y="4416480"/>
                <a:ext cx="1219320" cy="270000"/>
              </a:xfrm>
              <a:prstGeom prst="leftRightArrow">
                <a:avLst>
                  <a:gd name="adj1" fmla="val 50000"/>
                  <a:gd name="adj2" fmla="val 89902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3154200">
                <a:off x="6289200" y="3665160"/>
                <a:ext cx="404640" cy="287280"/>
              </a:xfrm>
              <a:prstGeom prst="leftRightArrow">
                <a:avLst>
                  <a:gd name="adj1" fmla="val 50000"/>
                  <a:gd name="adj2" fmla="val 28040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9354200">
                <a:off x="4914360" y="3673080"/>
                <a:ext cx="430200" cy="270000"/>
              </a:xfrm>
              <a:prstGeom prst="leftRightArrow">
                <a:avLst>
                  <a:gd name="adj1" fmla="val 50000"/>
                  <a:gd name="adj2" fmla="val 31719"/>
                </a:avLst>
              </a:prstGeom>
              <a:solidFill>
                <a:srgbClr val="33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225760" y="2133720"/>
                <a:ext cx="1290600" cy="1452600"/>
              </a:xfrm>
              <a:custGeom>
                <a:avLst/>
                <a:gdLst>
                  <a:gd name="textAreaLeft" fmla="*/ 63000 w 1290600"/>
                  <a:gd name="textAreaRight" fmla="*/ 1227600 w 1290600"/>
                  <a:gd name="textAreaTop" fmla="*/ 63000 h 1452600"/>
                  <a:gd name="textAreaBottom" fmla="*/ 1389600 h 1452600"/>
                </a:gdLst>
                <a:ahLst/>
                <a:rect l="textAreaLeft" t="textAreaTop" r="textAreaRight" b="textAreaBottom"/>
                <a:pathLst>
                  <a:path w="21600" h="24311">
                    <a:moveTo>
                      <a:pt x="3600" y="0"/>
                    </a:moveTo>
                    <a:arcTo wR="3600" hR="3600" stAng="16200000" swAng="-5400000"/>
                    <a:lnTo>
                      <a:pt x="0" y="20711"/>
                    </a:lnTo>
                    <a:arcTo wR="3600" hR="3600" stAng="10800000" swAng="-5400000"/>
                    <a:lnTo>
                      <a:pt x="18000" y="2431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  <a:effectLst>
                <a:outerShdw dist="107932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Energy 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Impact 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Assessment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3863880" y="3956040"/>
                <a:ext cx="1290600" cy="1587600"/>
              </a:xfrm>
              <a:custGeom>
                <a:avLst/>
                <a:gdLst>
                  <a:gd name="textAreaLeft" fmla="*/ 63000 w 1290600"/>
                  <a:gd name="textAreaRight" fmla="*/ 1227600 w 1290600"/>
                  <a:gd name="textAreaTop" fmla="*/ 63000 h 1587600"/>
                  <a:gd name="textAreaBottom" fmla="*/ 1524600 h 1587600"/>
                </a:gdLst>
                <a:ahLst/>
                <a:rect l="textAreaLeft" t="textAreaTop" r="textAreaRight" b="textAreaBottom"/>
                <a:pathLst>
                  <a:path w="21600" h="26569">
                    <a:moveTo>
                      <a:pt x="3600" y="0"/>
                    </a:moveTo>
                    <a:arcTo wR="3600" hR="3600" stAng="16200000" swAng="-5400000"/>
                    <a:lnTo>
                      <a:pt x="0" y="22969"/>
                    </a:lnTo>
                    <a:arcTo wR="3600" hR="3600" stAng="10800000" swAng="-5400000"/>
                    <a:lnTo>
                      <a:pt x="18000" y="2656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8c80"/>
              </a:solidFill>
              <a:ln w="0">
                <a:noFill/>
              </a:ln>
              <a:effectLst>
                <a:outerShdw dist="107932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Other 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Market 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Impact 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Assessment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588000" y="4024440"/>
                <a:ext cx="1288800" cy="1519200"/>
              </a:xfrm>
              <a:custGeom>
                <a:avLst/>
                <a:gdLst>
                  <a:gd name="textAreaLeft" fmla="*/ 62640 w 1288800"/>
                  <a:gd name="textAreaRight" fmla="*/ 1226160 w 1288800"/>
                  <a:gd name="textAreaTop" fmla="*/ 62640 h 1519200"/>
                  <a:gd name="textAreaBottom" fmla="*/ 1456560 h 1519200"/>
                </a:gdLst>
                <a:ahLst/>
                <a:rect l="textAreaLeft" t="textAreaTop" r="textAreaRight" b="textAreaBottom"/>
                <a:pathLst>
                  <a:path w="21600" h="25460">
                    <a:moveTo>
                      <a:pt x="3600" y="0"/>
                    </a:moveTo>
                    <a:arcTo wR="3600" hR="3600" stAng="16200000" swAng="-5400000"/>
                    <a:lnTo>
                      <a:pt x="0" y="21860"/>
                    </a:lnTo>
                    <a:arcTo wR="3600" hR="3600" stAng="10800000" swAng="-5400000"/>
                    <a:lnTo>
                      <a:pt x="18000" y="2546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  <a:effectLst>
                <a:outerShdw dist="107932" dir="2700000" blurRad="0" rotWithShape="0">
                  <a:srgbClr val="40404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Implemen-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tation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Impact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59"/>
                    </a:solidFill>
                    <a:latin typeface="Arial"/>
                    <a:ea typeface="Arial"/>
                  </a:rPr>
                  <a:t>Assessment</a:t>
                </a:r>
                <a:endParaRPr b="0" lang="en-US" sz="1600" spc="-1" strike="noStrike">
                  <a:solidFill>
                    <a:srgbClr val="000059"/>
                  </a:solidFill>
                  <a:latin typeface="Arial Unicode MS"/>
                </a:endParaRPr>
              </a:p>
            </p:txBody>
          </p:sp>
        </p:grpSp>
      </p:grp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4572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Energy Impact Modeling is critical path to the CB Stud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As a result we bring you this assumption set today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7D7F-1E07-4493-8E96-8952EB8CD2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dc07"/>
                </a:solidFill>
                <a:latin typeface="Arial"/>
              </a:rPr>
              <a:t>Three documents comprise today’s assumption set</a:t>
            </a:r>
            <a:endParaRPr b="1" lang="en-US" sz="28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umptions” Mem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uels Mem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cel Workbook with Gas and Oil Resul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3E365-8E68-4EDD-9BC7-A281FA6BC23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dc07"/>
                </a:solidFill>
                <a:latin typeface="Arial"/>
              </a:rPr>
              <a:t>April and May are critical months for CB Study</a:t>
            </a:r>
            <a:endParaRPr b="1" lang="en-US" sz="28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90720" y="838080"/>
            <a:ext cx="7238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ggressive schedule in April has led to assumptions document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Input on assumptions must be complete by 5/6 to deliver results for November deadlines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838080" y="2077920"/>
          <a:ext cx="8001000" cy="432288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un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ues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Wednes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Thurs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Fri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Saturday</a:t>
                      </a:r>
                      <a:endParaRPr b="0" lang="en-US" sz="10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2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3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5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59"/>
                        </a:solidFill>
                        <a:latin typeface="Arial Unicode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2133720" y="3137040"/>
            <a:ext cx="1082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Unicode MS"/>
              </a:rPr>
              <a:t>Core Data Due to TCA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3137040"/>
            <a:ext cx="1082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Unicode MS"/>
              </a:rPr>
              <a:t>Core Data Frozen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5334120" y="4191120"/>
            <a:ext cx="1143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CBCG meeting</a:t>
            </a:r>
            <a:endParaRPr b="0" lang="en-US" sz="12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3" name=""/>
          <p:cNvSpPr/>
          <p:nvPr/>
        </p:nvSpPr>
        <p:spPr>
          <a:xfrm>
            <a:off x="5334120" y="5607000"/>
            <a:ext cx="137160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Assumptions </a:t>
            </a:r>
            <a:r>
              <a:rPr b="1" lang="en-US" sz="1600" spc="-1" strike="noStrike">
                <a:solidFill>
                  <a:srgbClr val="ffff00"/>
                </a:solidFill>
                <a:latin typeface="Arial Unicode MS"/>
              </a:rPr>
              <a:t>Feedback due to TCA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5638680"/>
            <a:ext cx="1371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Assumptions </a:t>
            </a:r>
            <a:r>
              <a:rPr b="1" lang="en-US" sz="1600" spc="-1" strike="noStrike">
                <a:solidFill>
                  <a:srgbClr val="ffff00"/>
                </a:solidFill>
                <a:latin typeface="Arial Unicode MS"/>
              </a:rPr>
              <a:t>frozen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5" name=""/>
          <p:cNvSpPr/>
          <p:nvPr/>
        </p:nvSpPr>
        <p:spPr>
          <a:xfrm>
            <a:off x="3200400" y="5562720"/>
            <a:ext cx="10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CBCG Meeting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2514600"/>
            <a:ext cx="10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Unicode MS"/>
              </a:rPr>
              <a:t>CBCG Meeting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492300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Unicode MS"/>
              </a:rPr>
              <a:t>TNT review of Assumptions</a:t>
            </a:r>
            <a:endParaRPr b="0" lang="en-US" sz="12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962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 Unicode MS"/>
              </a:rPr>
              <a:t>Assumptions memo to CBCG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2286000"/>
            <a:ext cx="1082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Draft Assumptions to CBCG</a:t>
            </a:r>
            <a:endParaRPr b="0" lang="en-US" sz="1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30" name=""/>
          <p:cNvSpPr/>
          <p:nvPr/>
        </p:nvSpPr>
        <p:spPr>
          <a:xfrm>
            <a:off x="6400800" y="483228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 Unicode MS"/>
              </a:rPr>
              <a:t>Assumptions Comments to CBCG </a:t>
            </a:r>
            <a:endParaRPr b="0" lang="en-US" sz="1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590920"/>
            <a:ext cx="91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April</a:t>
            </a:r>
            <a:endParaRPr b="0" lang="en-US" sz="20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5562720"/>
            <a:ext cx="91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May</a:t>
            </a:r>
            <a:endParaRPr b="0" lang="en-US" sz="20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CEF9D-AABC-405B-939C-8ED2F8AA115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9dc07"/>
                </a:solidFill>
                <a:latin typeface="Arial"/>
              </a:rPr>
              <a:t>Three documents comprise today’s assumption set</a:t>
            </a:r>
            <a:endParaRPr b="1" lang="en-US" sz="28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0b3"/>
              </a:buClr>
              <a:buSzPct val="8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Assumptions” Memo, including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ad inpu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ing plant representation (thermal, hydro, renew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ty addition and retirement mode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mission system represen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eatment of 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0b3"/>
              </a:buClr>
              <a:buSzPct val="8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Fuels Memo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and methodology for fuel foreca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0b3"/>
              </a:buClr>
              <a:buSzPct val="80000"/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Excel Workbook with Gas and Oil Result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62120" indent="-304920">
              <a:lnSpc>
                <a:spcPct val="90000"/>
              </a:lnSpc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s and tabular forma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11C50-A6B9-462D-B27D-560CB8E1E2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dc07"/>
                </a:solidFill>
                <a:latin typeface="Arial"/>
              </a:rPr>
              <a:t>TCA, ERCOT Staff, and CBCG have been working together to refine assumptions</a:t>
            </a:r>
            <a:endParaRPr b="1" lang="en-US" sz="32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Iterative discussions have closed assumption gaps and refined thinking on many topic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 significant areas lacking consensus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No remaining data gaps seen as irresolvabl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Let’s briefly discuss open issues and processes for closure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C8528-BD3A-4024-B792-23DA315AFF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dc07"/>
                </a:solidFill>
                <a:latin typeface="Arial"/>
              </a:rPr>
              <a:t>Areas of further consideration and plans for resolution</a:t>
            </a:r>
            <a:endParaRPr b="1" lang="en-US" sz="32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38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o-generating plants - methodology for representing in the market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Hydro units – collecting any additional unit specific data available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nd units – collecting any season or monthly generating characteristics available, considering new additions beyond 2009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dition and Retirements – finalizing assumptions about planned additions, finalization of RMR plants over study horizon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nvironmental model – geographical and economical representation of the Dallas-Ft. Worth attainment area</a:t>
            </a:r>
            <a:endParaRPr b="0" lang="en-US" sz="16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1219320"/>
            <a:ext cx="38098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ethods discussed at 4/22 CBCG.  TCA to detail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LCRA to provide available hourly hydro schedules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CA to work with wind developers to get input on representations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RCOT staff to provide RMR changes over study based on pilot and other information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TCA to discuss with TCEQ</a:t>
            </a:r>
            <a:endParaRPr b="0" lang="en-US" sz="1600" spc="-1" strike="noStrike">
              <a:solidFill>
                <a:srgbClr val="000059"/>
              </a:solidFill>
              <a:latin typeface="Arial Unicode MS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59"/>
              </a:solidFill>
              <a:latin typeface="Arial Unicode MS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52388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00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20574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00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4495680" y="2819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00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43" name=""/>
          <p:cNvSpPr/>
          <p:nvPr/>
        </p:nvSpPr>
        <p:spPr>
          <a:xfrm>
            <a:off x="4495680" y="3886200"/>
            <a:ext cx="457200" cy="304920"/>
          </a:xfrm>
          <a:prstGeom prst="rightArrow">
            <a:avLst>
              <a:gd name="adj1" fmla="val 50000"/>
              <a:gd name="adj2" fmla="val 37485"/>
            </a:avLst>
          </a:prstGeom>
          <a:solidFill>
            <a:srgbClr val="009900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51055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9900"/>
          </a:solidFill>
          <a:ln w="9360">
            <a:solidFill>
              <a:srgbClr val="0000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59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42E14-DDBE-478A-892F-826EF1ACAF3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dc07"/>
                </a:solidFill>
                <a:latin typeface="Arial"/>
              </a:rPr>
              <a:t>Additional input is welcomed</a:t>
            </a:r>
            <a:endParaRPr b="1" lang="en-US" sz="3200" spc="-1" strike="noStrike">
              <a:solidFill>
                <a:srgbClr val="f9dc0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TCA and CBCG welcome additional input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discuss any assumptions in more detail tod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vailable for your input and questions this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make use of any written feedback provided by 4/3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BCG meeting on 5/4 will focus on these assumptions – open to 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umptions to be resolved at that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0b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/6 - Last day for CBCG &amp; ERCOT Assumptions feedback to T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E1A6DD-E43A-4078-A69E-02B44D962F1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 Black"/>
              </a:rPr>
              <a:t>What questions or concerns do you have today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7763-3283-481B-8542-B57799C8190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April 26, 2004</a:t>
            </a: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8T15:24:29Z</dcterms:created>
  <dc:creator>Jon Wretlind</dc:creator>
  <dc:description/>
  <dc:language>en-US</dc:language>
  <cp:lastModifiedBy>Ellen Wolfe</cp:lastModifiedBy>
  <dcterms:modified xsi:type="dcterms:W3CDTF">2004-04-25T21:43:48Z</dcterms:modified>
  <cp:revision>185</cp:revision>
  <dc:subject/>
  <dc:title>Tabor Caramanis &amp; Associ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020394</vt:r8>
  </property>
  <property fmtid="{D5CDD505-2E9C-101B-9397-08002B2CF9AE}" pid="3" name="_AuthorEmail">
    <vt:lpwstr>ellen@tca-us.com</vt:lpwstr>
  </property>
  <property fmtid="{D5CDD505-2E9C-101B-9397-08002B2CF9AE}" pid="4" name="_AuthorEmailDisplayName">
    <vt:lpwstr>Wolfe, Ellen</vt:lpwstr>
  </property>
  <property fmtid="{D5CDD505-2E9C-101B-9397-08002B2CF9AE}" pid="5" name="_EmailSubject">
    <vt:lpwstr>updated assumptions documents</vt:lpwstr>
  </property>
</Properties>
</file>