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F2B-3BD1-49E5-88CE-652CE42D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DC2-DA30-4C1C-AA40-5E355AAA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4A5-1A0A-4046-86BC-CC9D74FA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079-1305-4979-846C-21493A19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956-308C-4DAD-94E7-B9BC6C35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175-F0D8-4C83-8F47-A476BC7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628-8A8A-430A-8D4A-F82B21C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32D-2B60-43DF-917A-D3073004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784-BDEA-4EDC-B4BC-2C70277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CC6-73E2-4A79-8CBF-AAABEEE1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2C9-1BF4-44A7-A4D4-00BDB46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1B7-1E93-44E3-8CFA-23F8C4A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0C99-1840-4AA8-AE4F-6B5850A5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4792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tml.ercot.com/" TargetMode="External"/><Relationship Id="rId2" Type="http://schemas.openxmlformats.org/officeDocument/2006/relationships/hyperlink" Target="https://portal.ercot.com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Agenda Items in Support of April DEWG Mee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t Me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ril 6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ownload Stats for Re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990720"/>
          <a:ext cx="4861080" cy="55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48610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DSP ESIID Ex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with Ex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quotes i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cremental files when full extract is po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hens in zip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quotes addresses cleaned up in April 3 rel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is eliminate need for adding increment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hens in Zip code – an open SIR- no releas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R3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Service Addr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ter read 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ESI 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TDSP;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Phase (L*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tion Zone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Power Reg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Phase (L*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(6) Station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(7) Premis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Phase (L*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(8) Metered/Unmetered Fla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(9) Current Status (active/de-energized/inactive) with effective date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2(Siebel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(10) Move-In/Move-Out Pending Flag with associated date, if applic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L Phase 2 has already been developed and is being tes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reate Service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 to previous DEWG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reate Service Request and where does it go 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reate Service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371600"/>
          <a:ext cx="7684920" cy="50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68492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5800" y="990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2 distinc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reate Service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1219320"/>
          <a:ext cx="580536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580536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reate Service Requ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System Modifications go to planning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exclusivley used by TDSPs for addition of breakers and other equi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Disputes no longer used in Portal, currently in FasTr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yi-- Siebel is being enhanced to accept attachments and will improve System Modification requests as well as in-house Wholesale Disput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xas Market Link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 systems are configured, but still a load testing issue (roles application experiencing long-term stability issues under simulated lo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issue resolution, will move quickly to IT verification (within days), and 10 day Market Notice for parallel production will fo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YI- Re-direct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ny connections from the market are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tml.ercot.co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market will see a construction page this week directing to u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s://portal.ercot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exas Market Link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219320"/>
          <a:ext cx="8381880" cy="43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38188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SA Extract Follow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was requested by Charlie Bratt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Market Rules rejected initial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/Troy worked with Market Rules to address gaps/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ied MP can only receive ow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ied supporting protocol sections of relat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ied Market need and that the data has been provided from ERCOT to the market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May PR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ebel is source of data (not on EDW schedu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ownload Stats for Re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R 8602 was created to resume Report Counter for down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as the same resources for Port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ging of reports was initially scheduled task but was disabled some tim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ge routine is run manually (as needed)- every 6-8 weeks to prevent disk space issues by Web Support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run, the purge command adheres to the aging field for deleting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all files typed purged except ESIID Ex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 increase 999 to 9999 days for ex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3:56:54Z</dcterms:created>
  <dc:creator>ERCOT</dc:creator>
  <dc:description/>
  <dc:language>en-US</dc:language>
  <cp:lastModifiedBy>ERCOT</cp:lastModifiedBy>
  <dcterms:modified xsi:type="dcterms:W3CDTF">2004-04-06T14:29:53Z</dcterms:modified>
  <cp:revision>11</cp:revision>
  <dc:subject/>
  <dc:title>ERCOT Portal/API  Functional Description</dc:title>
</cp:coreProperties>
</file>