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167-12F0-4EFC-AC05-C329C31D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694-7A25-42A3-97DD-B604A761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1E2-E379-4A0E-9512-7821D305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FC6-EC62-493B-A2A5-9FA1AF10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99D-427C-4F4B-8EC1-66FC8DD4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B95-6DDF-47CC-B18A-D4EA28B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C3C-CD07-4E52-900B-9B468F9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C17-1318-48D4-A32E-6DC77CCA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BFC-C503-4C2B-9D45-77BF13C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8F8-64DC-49DA-9B72-DFC37B0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22A-F64D-4016-8D61-33DA6DB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7B2-7FFD-44B3-8536-12E5596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A0EA-A507-4109-B01D-3E4B282D4A39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AA9-872A-402D-A12D-22D5C3C6100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NT Commercial Operations Working Meet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vid Pot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23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Energy Settlement: E-H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22560" y="3456000"/>
            <a:ext cx="2046240" cy="12747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y Ahead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. Net Interchang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DA 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7080" y="207792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f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3"/>
            <a:endCxn id="186" idx="1"/>
          </p:cNvCxnSpPr>
          <p:nvPr/>
        </p:nvCxnSpPr>
        <p:spPr>
          <a:xfrm>
            <a:off x="1430280" y="2226960"/>
            <a:ext cx="797760" cy="717840"/>
          </a:xfrm>
          <a:prstGeom prst="bentConnector3">
            <a:avLst>
              <a:gd name="adj1" fmla="val 499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27080" y="247176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 A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080" y="3260880"/>
            <a:ext cx="1303200" cy="296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7080" y="286704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Su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7" idx="3"/>
            <a:endCxn id="186" idx="1"/>
          </p:cNvCxnSpPr>
          <p:nvPr/>
        </p:nvCxnSpPr>
        <p:spPr>
          <a:xfrm>
            <a:off x="1430280" y="2620800"/>
            <a:ext cx="797760" cy="324720"/>
          </a:xfrm>
          <a:prstGeom prst="bentConnector3">
            <a:avLst>
              <a:gd name="adj1" fmla="val 499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9" idx="3"/>
            <a:endCxn id="186" idx="1"/>
          </p:cNvCxnSpPr>
          <p:nvPr/>
        </p:nvCxnSpPr>
        <p:spPr>
          <a:xfrm flipV="1">
            <a:off x="1430280" y="2944440"/>
            <a:ext cx="797760" cy="72000"/>
          </a:xfrm>
          <a:prstGeom prst="bentConnector3">
            <a:avLst>
              <a:gd name="adj1" fmla="val 499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8" idx="3"/>
            <a:endCxn id="186" idx="1"/>
          </p:cNvCxnSpPr>
          <p:nvPr/>
        </p:nvCxnSpPr>
        <p:spPr>
          <a:xfrm flipV="1">
            <a:off x="1430280" y="2944440"/>
            <a:ext cx="797760" cy="465840"/>
          </a:xfrm>
          <a:prstGeom prst="bentConnector3">
            <a:avLst>
              <a:gd name="adj1" fmla="val 499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12680" y="4546440"/>
            <a:ext cx="1303200" cy="29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 B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3"/>
            <a:endCxn id="186" idx="1"/>
          </p:cNvCxnSpPr>
          <p:nvPr/>
        </p:nvCxnSpPr>
        <p:spPr>
          <a:xfrm flipV="1">
            <a:off x="1415880" y="2944440"/>
            <a:ext cx="812160" cy="1751760"/>
          </a:xfrm>
          <a:prstGeom prst="bentConnector3">
            <a:avLst>
              <a:gd name="adj1" fmla="val 498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12680" y="4938840"/>
            <a:ext cx="1303200" cy="296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De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680" y="5330880"/>
            <a:ext cx="1303200" cy="296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3"/>
            <a:endCxn id="186" idx="1"/>
          </p:cNvCxnSpPr>
          <p:nvPr/>
        </p:nvCxnSpPr>
        <p:spPr>
          <a:xfrm flipV="1">
            <a:off x="1415880" y="2944080"/>
            <a:ext cx="812160" cy="2143800"/>
          </a:xfrm>
          <a:prstGeom prst="bentConnector3">
            <a:avLst>
              <a:gd name="adj1" fmla="val 498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86" idx="1"/>
          </p:cNvCxnSpPr>
          <p:nvPr/>
        </p:nvCxnSpPr>
        <p:spPr>
          <a:xfrm flipV="1">
            <a:off x="1415880" y="2944440"/>
            <a:ext cx="812160" cy="2535840"/>
          </a:xfrm>
          <a:prstGeom prst="bentConnector3">
            <a:avLst>
              <a:gd name="adj1" fmla="val 498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127080" y="3656160"/>
            <a:ext cx="1303200" cy="296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al Pu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280" y="5722920"/>
            <a:ext cx="1303560" cy="29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al 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9" idx="3"/>
            <a:endCxn id="186" idx="1"/>
          </p:cNvCxnSpPr>
          <p:nvPr/>
        </p:nvCxnSpPr>
        <p:spPr>
          <a:xfrm flipV="1">
            <a:off x="1430280" y="2944440"/>
            <a:ext cx="797760" cy="861120"/>
          </a:xfrm>
          <a:prstGeom prst="bentConnector3">
            <a:avLst>
              <a:gd name="adj1" fmla="val 499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3"/>
            <a:endCxn id="186" idx="1"/>
          </p:cNvCxnSpPr>
          <p:nvPr/>
        </p:nvCxnSpPr>
        <p:spPr>
          <a:xfrm flipV="1">
            <a:off x="1428840" y="2944440"/>
            <a:ext cx="799200" cy="2928240"/>
          </a:xfrm>
          <a:prstGeom prst="bentConnector3">
            <a:avLst>
              <a:gd name="adj1" fmla="val 4988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6" idx="2"/>
            <a:endCxn id="183" idx="0"/>
          </p:cNvCxnSpPr>
          <p:nvPr/>
        </p:nvCxnSpPr>
        <p:spPr>
          <a:xfrm flipV="1" rot="10800000">
            <a:off x="3145680" y="3174480"/>
            <a:ext cx="1080" cy="281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3" idx="4"/>
            <a:endCxn id="205" idx="0"/>
          </p:cNvCxnSpPr>
          <p:nvPr/>
        </p:nvCxnSpPr>
        <p:spPr>
          <a:xfrm flipV="1" rot="10800000">
            <a:off x="3145680" y="4730400"/>
            <a:ext cx="1080" cy="1021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1971720" y="1585800"/>
            <a:ext cx="2347920" cy="51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Ahea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70880" y="247176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ered 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6480" y="3517920"/>
            <a:ext cx="1303200" cy="29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ered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56480" y="3909960"/>
            <a:ext cx="1303200" cy="29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8280" y="207792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1"/>
            <a:endCxn id="212" idx="3"/>
          </p:cNvCxnSpPr>
          <p:nvPr/>
        </p:nvCxnSpPr>
        <p:spPr>
          <a:xfrm flipV="1" rot="10800000">
            <a:off x="6977880" y="2225880"/>
            <a:ext cx="680400" cy="71784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7" idx="1"/>
            <a:endCxn id="212" idx="3"/>
          </p:cNvCxnSpPr>
          <p:nvPr/>
        </p:nvCxnSpPr>
        <p:spPr>
          <a:xfrm flipV="1" rot="10800000">
            <a:off x="6977880" y="2620440"/>
            <a:ext cx="693000" cy="324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8" idx="1"/>
            <a:endCxn id="212" idx="3"/>
          </p:cNvCxnSpPr>
          <p:nvPr/>
        </p:nvCxnSpPr>
        <p:spPr>
          <a:xfrm rot="10800000">
            <a:off x="6977880" y="2944800"/>
            <a:ext cx="678600" cy="722520"/>
          </a:xfrm>
          <a:prstGeom prst="bentConnector3">
            <a:avLst>
              <a:gd name="adj1" fmla="val 4984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9" idx="1"/>
            <a:endCxn id="212" idx="3"/>
          </p:cNvCxnSpPr>
          <p:nvPr/>
        </p:nvCxnSpPr>
        <p:spPr>
          <a:xfrm rot="10800000">
            <a:off x="6977880" y="2944080"/>
            <a:ext cx="678600" cy="1115280"/>
          </a:xfrm>
          <a:prstGeom prst="bentConnector3">
            <a:avLst>
              <a:gd name="adj1" fmla="val 4984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078520" y="5087880"/>
            <a:ext cx="1963800" cy="3729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 NI – DA 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120" y="3456000"/>
            <a:ext cx="2046240" cy="12747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l-Time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. Net Interchang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T 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2" idx="2"/>
            <a:endCxn id="217" idx="0"/>
          </p:cNvCxnSpPr>
          <p:nvPr/>
        </p:nvCxnSpPr>
        <p:spPr>
          <a:xfrm flipV="1" rot="10800000">
            <a:off x="6060240" y="3174480"/>
            <a:ext cx="1080" cy="281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3" idx="4"/>
            <a:endCxn id="216" idx="1"/>
          </p:cNvCxnSpPr>
          <p:nvPr/>
        </p:nvCxnSpPr>
        <p:spPr>
          <a:xfrm flipH="1" rot="16200000">
            <a:off x="3839040" y="4036680"/>
            <a:ext cx="545400" cy="1932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7" idx="4"/>
            <a:endCxn id="216" idx="0"/>
          </p:cNvCxnSpPr>
          <p:nvPr/>
        </p:nvCxnSpPr>
        <p:spPr>
          <a:xfrm flipV="1" rot="10800000">
            <a:off x="6060240" y="4730400"/>
            <a:ext cx="1080" cy="357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 flipV="1" rot="10800000">
            <a:off x="6060240" y="5460480"/>
            <a:ext cx="1080" cy="2912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4886280" y="1585800"/>
            <a:ext cx="2347920" cy="51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y Ahea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 Real-Tim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7320" y="2712960"/>
            <a:ext cx="1836720" cy="461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y – Demand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er 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41880" y="2712960"/>
            <a:ext cx="1836720" cy="4618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y – Demand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er 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360" y="1427040"/>
            <a:ext cx="15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ear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9360" y="3935520"/>
            <a:ext cx="1384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eared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70880" y="1440000"/>
            <a:ext cx="1361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70880" y="2881440"/>
            <a:ext cx="1384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71720" y="5751360"/>
            <a:ext cx="2347920" cy="1020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y Ahead Settlement Qty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LMP or LMP Componen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6280" y="5751360"/>
            <a:ext cx="2347920" cy="10209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l-Time Settlement Qty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MP or LMP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56480" y="4724280"/>
            <a:ext cx="1303200" cy="297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ke W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70880" y="4290840"/>
            <a:ext cx="1384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69080" y="5105520"/>
            <a:ext cx="1303560" cy="296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4200" y="6553080"/>
            <a:ext cx="1303560" cy="297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ke W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6119640"/>
            <a:ext cx="1384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69080" y="5499000"/>
            <a:ext cx="1303560" cy="297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149-1C07-4954-977C-CB8562AE83D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03E35-CA77-4B13-9D00-38D906D2A9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139716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rom a settlement perspective, is there a market we want to emulate (PJM, NY, NE, MISO)?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e we going to componentize the LM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so, how are we going to select the reference bus (static/variable)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ow will the energy behind the capacity be dispatch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the dispatches be separated or part of the energy set-point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ill be the inputs to BENA?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will clear the Auction Day-Ahead Mark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We Don’t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A05-137F-4FC3-B251-E606F7F7C72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D4077-2943-452C-8294-E02BC2AFD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139716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ow will the CRR payments and charges work?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ow will DC Ties be treated?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ow will the Make Whole charge be allocated?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e there specific eligibility requirements for the make whole besides offering and starting 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sed upon minimum of instruction vs. meter 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We Don’t Know </a:t>
            </a: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E3E-9ACF-4824-8586-4C6F9FBD510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3D036-47E0-495F-98A5-153CC1D34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6000" y="3715920"/>
            <a:ext cx="38862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1482840" y="1596960"/>
            <a:ext cx="575460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e Kno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al Settlements in Other Marke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e Don’t Know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CB9-1C64-4CED-B2EF-444D0FF2F1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3D38C-3F1B-4701-AEFD-EC2A5A928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39716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rmine if there is an ex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dal Market that we could e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m a settlements persp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B2C-DA4F-437F-90AD-BA3221BD788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F9763-8D55-4673-91B4-C758B7BC73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We Know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9716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Assumptions Relevant to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5-minute Settlement Interv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egrate 5-minute L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ubs are simple average &amp; Zones are weighted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vailable at or before market go-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nancial forward market with binding clearing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gestion is not reflected in the clear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-H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vailable 1 year after market go-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milar to other nodal based Day-Ahead Mar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ique feature - option to move CRRs to 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D99-9913-44D6-97BD-7496AC0B984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1D116-D906-4265-A3FF-BD1DE6D8F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39716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Assumptions Relevant to 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wo Settle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parate prices for Day-Ahead and Real-Time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l-Time Markets will be settled based upon deviation from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verage losses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ke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enerators who perform will be made w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R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rget allocation uses a Shadow Price vs. difference in LMPs (Sink – 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min Fee will remain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We Know </a:t>
            </a: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D79-2E7E-40BE-8895-49181D765FB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4DDFC-105B-4935-AD12-E8CBED7CB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ypical Footprin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Nodal Settle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72728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ttlement Calculatio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ergy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gestion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rating Reserve or Make Whole Set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cillary Service Settlement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Reg, Spin, Non-spin, OR, Replac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NA &amp; Other Uplif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024440"/>
            <a:ext cx="491472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acity Settlements (I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lack Start/R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TR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thers (U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4B9-6ADC-466D-B130-55E0016191E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E57A9-A05C-4113-AFA0-80AC8077FE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exas Nodal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72728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ttlement Calculatio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ergy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gestion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rating Reserve or Make Whole Set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cillary Service Settlement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Reg, Spin, Non-spin, OR, Replac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NA &amp; Other Uplif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024440"/>
            <a:ext cx="491472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acity Settlements (I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lack Start/R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TR Sett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thers (U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035160"/>
            <a:ext cx="203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3352680"/>
            <a:ext cx="2382840" cy="5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4360" y="3933720"/>
            <a:ext cx="1511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4360" y="4689360"/>
            <a:ext cx="367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128-FD02-4469-9CEF-2399EABE2FB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06808-93D1-481D-9208-74AF5A3C4F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6760" y="141912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 Energy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, LI, AS Energy/Reser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760" y="222264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OM &amp; Local 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302724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gestion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&amp; RPRS CS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62404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OM &amp; Local Balanc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760" y="543888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360" y="5842080"/>
            <a:ext cx="372924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760" y="342900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Rs/P-TCR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760" y="423216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760" y="383076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 Capacity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S, DRS, RRS, NSRS, RPR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9360" y="1820880"/>
            <a:ext cx="372924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760" y="463536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" y="503712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8120" y="141912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ettlement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8120" y="222264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 W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18120" y="302724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gestion Settlement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8120" y="262404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lement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er/LMP mitig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18120" y="543888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30720" y="5842080"/>
            <a:ext cx="372924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18120" y="342900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s/P-CCR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 &amp;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8120" y="423216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8120" y="3830760"/>
            <a:ext cx="37288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 Capacity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S, DRS, QS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30720" y="1820880"/>
            <a:ext cx="372924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C?, Make Whole?, LMP Mit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8120" y="463536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oes Away – Confirm Sche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8120" y="5037120"/>
            <a:ext cx="372888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07" idx="3"/>
            <a:endCxn id="119" idx="1"/>
          </p:cNvCxnSpPr>
          <p:nvPr/>
        </p:nvCxnSpPr>
        <p:spPr>
          <a:xfrm>
            <a:off x="3995640" y="156816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6" idx="3"/>
            <a:endCxn id="128" idx="1"/>
          </p:cNvCxnSpPr>
          <p:nvPr/>
        </p:nvCxnSpPr>
        <p:spPr>
          <a:xfrm>
            <a:off x="4008240" y="196956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08" idx="3"/>
            <a:endCxn id="120" idx="1"/>
          </p:cNvCxnSpPr>
          <p:nvPr/>
        </p:nvCxnSpPr>
        <p:spPr>
          <a:xfrm>
            <a:off x="3995640" y="237132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0" idx="3"/>
            <a:endCxn id="122" idx="1"/>
          </p:cNvCxnSpPr>
          <p:nvPr/>
        </p:nvCxnSpPr>
        <p:spPr>
          <a:xfrm>
            <a:off x="3995640" y="277308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09" idx="3"/>
            <a:endCxn id="121" idx="1"/>
          </p:cNvCxnSpPr>
          <p:nvPr/>
        </p:nvCxnSpPr>
        <p:spPr>
          <a:xfrm>
            <a:off x="3995640" y="317628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3" idx="3"/>
            <a:endCxn id="125" idx="1"/>
          </p:cNvCxnSpPr>
          <p:nvPr/>
        </p:nvCxnSpPr>
        <p:spPr>
          <a:xfrm>
            <a:off x="3995640" y="357804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5" idx="3"/>
            <a:endCxn id="127" idx="1"/>
          </p:cNvCxnSpPr>
          <p:nvPr/>
        </p:nvCxnSpPr>
        <p:spPr>
          <a:xfrm>
            <a:off x="3995640" y="397944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4" idx="3"/>
            <a:endCxn id="126" idx="1"/>
          </p:cNvCxnSpPr>
          <p:nvPr/>
        </p:nvCxnSpPr>
        <p:spPr>
          <a:xfrm>
            <a:off x="3995640" y="438120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17" idx="3"/>
            <a:endCxn id="129" idx="1"/>
          </p:cNvCxnSpPr>
          <p:nvPr/>
        </p:nvCxnSpPr>
        <p:spPr>
          <a:xfrm>
            <a:off x="3995640" y="478440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8" idx="3"/>
            <a:endCxn id="130" idx="1"/>
          </p:cNvCxnSpPr>
          <p:nvPr/>
        </p:nvCxnSpPr>
        <p:spPr>
          <a:xfrm>
            <a:off x="3995640" y="518616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1" idx="3"/>
            <a:endCxn id="123" idx="1"/>
          </p:cNvCxnSpPr>
          <p:nvPr/>
        </p:nvCxnSpPr>
        <p:spPr>
          <a:xfrm>
            <a:off x="3995640" y="558756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2" idx="3"/>
            <a:endCxn id="124" idx="1"/>
          </p:cNvCxnSpPr>
          <p:nvPr/>
        </p:nvCxnSpPr>
        <p:spPr>
          <a:xfrm>
            <a:off x="4008240" y="5990760"/>
            <a:ext cx="11228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efore &amp; 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A6E-A1A2-48E6-84FB-DFAB12058EB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752B3-F9CA-4412-809A-DD22C6C311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25800" y="3254400"/>
            <a:ext cx="2046240" cy="12747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y Ahead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. Net Interchang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DA A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080" y="2093760"/>
            <a:ext cx="126504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47" idx="1"/>
          </p:cNvCxnSpPr>
          <p:nvPr/>
        </p:nvCxnSpPr>
        <p:spPr>
          <a:xfrm>
            <a:off x="1391760" y="2242800"/>
            <a:ext cx="839160" cy="500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12680" y="3481560"/>
            <a:ext cx="1265400" cy="296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8" idx="3"/>
            <a:endCxn id="147" idx="1"/>
          </p:cNvCxnSpPr>
          <p:nvPr/>
        </p:nvCxnSpPr>
        <p:spPr>
          <a:xfrm flipV="1">
            <a:off x="1378080" y="2742480"/>
            <a:ext cx="853200" cy="888120"/>
          </a:xfrm>
          <a:prstGeom prst="bentConnector3">
            <a:avLst>
              <a:gd name="adj1" fmla="val 4989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79360" y="1378080"/>
            <a:ext cx="15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ear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9360" y="2857680"/>
            <a:ext cx="1384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eared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0560" y="2511360"/>
            <a:ext cx="1836720" cy="461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y – Demand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er 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44" idx="0"/>
          </p:cNvCxnSpPr>
          <p:nvPr/>
        </p:nvCxnSpPr>
        <p:spPr>
          <a:xfrm flipV="1" rot="10800000">
            <a:off x="3148920" y="2972880"/>
            <a:ext cx="1080" cy="281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974960" y="5384880"/>
            <a:ext cx="2347920" cy="1020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y Ahead Settlement Qty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ction Clearing Pri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44" idx="4"/>
            <a:endCxn id="153" idx="0"/>
          </p:cNvCxnSpPr>
          <p:nvPr/>
        </p:nvCxnSpPr>
        <p:spPr>
          <a:xfrm flipV="1" rot="10800000">
            <a:off x="3148920" y="4528800"/>
            <a:ext cx="1080" cy="856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974960" y="1384200"/>
            <a:ext cx="2347920" cy="51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Ahea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70880" y="2438280"/>
            <a:ext cx="130320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ered 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56480" y="3481560"/>
            <a:ext cx="1303200" cy="296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ered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56480" y="3873600"/>
            <a:ext cx="1303200" cy="296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70880" y="1378080"/>
            <a:ext cx="1361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0880" y="2857680"/>
            <a:ext cx="1384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3040" y="5384880"/>
            <a:ext cx="2347920" cy="1020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l-Time Settlement Qty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MP or LMP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58280" y="2055960"/>
            <a:ext cx="1303200" cy="296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4" idx="3"/>
          </p:cNvCxnSpPr>
          <p:nvPr/>
        </p:nvCxnSpPr>
        <p:spPr>
          <a:xfrm flipV="1" rot="10800000">
            <a:off x="6974640" y="2203920"/>
            <a:ext cx="683640" cy="5389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6" idx="1"/>
            <a:endCxn id="164" idx="3"/>
          </p:cNvCxnSpPr>
          <p:nvPr/>
        </p:nvCxnSpPr>
        <p:spPr>
          <a:xfrm flipV="1" rot="10800000">
            <a:off x="6974640" y="2587680"/>
            <a:ext cx="696240" cy="15588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1"/>
            <a:endCxn id="164" idx="3"/>
          </p:cNvCxnSpPr>
          <p:nvPr/>
        </p:nvCxnSpPr>
        <p:spPr>
          <a:xfrm rot="10800000">
            <a:off x="6974640" y="2742480"/>
            <a:ext cx="681840" cy="888120"/>
          </a:xfrm>
          <a:prstGeom prst="bentConnector3">
            <a:avLst>
              <a:gd name="adj1" fmla="val 4986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8" idx="1"/>
            <a:endCxn id="164" idx="3"/>
          </p:cNvCxnSpPr>
          <p:nvPr/>
        </p:nvCxnSpPr>
        <p:spPr>
          <a:xfrm rot="10800000">
            <a:off x="6974640" y="2742480"/>
            <a:ext cx="681840" cy="1280160"/>
          </a:xfrm>
          <a:prstGeom prst="bentConnector3">
            <a:avLst>
              <a:gd name="adj1" fmla="val 4986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138640" y="2511360"/>
            <a:ext cx="1836720" cy="4618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y – Demand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er 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5280" y="4683240"/>
            <a:ext cx="1963800" cy="3729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 ANI – DA 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3880" y="3254400"/>
            <a:ext cx="2046240" cy="12747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l-Time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. Net Interchang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T A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2"/>
            <a:endCxn id="169" idx="0"/>
          </p:cNvCxnSpPr>
          <p:nvPr/>
        </p:nvCxnSpPr>
        <p:spPr>
          <a:xfrm flipV="1" rot="10800000">
            <a:off x="6057360" y="2972880"/>
            <a:ext cx="1080" cy="281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4" idx="4"/>
            <a:endCxn id="168" idx="1"/>
          </p:cNvCxnSpPr>
          <p:nvPr/>
        </p:nvCxnSpPr>
        <p:spPr>
          <a:xfrm flipH="1" rot="16200000">
            <a:off x="3940920" y="3736800"/>
            <a:ext cx="342000" cy="1926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4"/>
            <a:endCxn id="168" idx="0"/>
          </p:cNvCxnSpPr>
          <p:nvPr/>
        </p:nvCxnSpPr>
        <p:spPr>
          <a:xfrm flipV="1" rot="10800000">
            <a:off x="6057360" y="4528800"/>
            <a:ext cx="1080" cy="154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2"/>
            <a:endCxn id="161" idx="0"/>
          </p:cNvCxnSpPr>
          <p:nvPr/>
        </p:nvCxnSpPr>
        <p:spPr>
          <a:xfrm flipV="1" rot="10800000">
            <a:off x="6057360" y="5055480"/>
            <a:ext cx="1080" cy="329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4883040" y="1384200"/>
            <a:ext cx="2347920" cy="513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y Ahea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 Real-Tim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56480" y="4789440"/>
            <a:ext cx="1303200" cy="297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ke W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70880" y="4356000"/>
            <a:ext cx="1384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9080" y="5170320"/>
            <a:ext cx="1303560" cy="297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480" y="2500200"/>
            <a:ext cx="1265040" cy="297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al Pu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2680" y="3875040"/>
            <a:ext cx="1265400" cy="29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al 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0492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Energy Settlement: A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69080" y="5589720"/>
            <a:ext cx="1303560" cy="296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FDE-3EC0-4CA7-90DE-65CF711A45E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DB81E-0CA0-4A7F-B7E3-908BEB3A3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dpotts</cp:lastModifiedBy>
  <dcterms:modified xsi:type="dcterms:W3CDTF">2004-03-23T15:32:16Z</dcterms:modified>
  <cp:revision>271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  <property fmtid="{D5CDD505-2E9C-101B-9397-08002B2CF9AE}" pid="4" name="_AdHocReviewCycleID">
    <vt:r8>262652914</vt:r8>
  </property>
  <property fmtid="{D5CDD505-2E9C-101B-9397-08002B2CF9AE}" pid="5" name="_AuthorEmail">
    <vt:lpwstr>davidpotts@earthlink.net</vt:lpwstr>
  </property>
  <property fmtid="{D5CDD505-2E9C-101B-9397-08002B2CF9AE}" pid="6" name="_AuthorEmailDisplayName">
    <vt:lpwstr>David Potts</vt:lpwstr>
  </property>
  <property fmtid="{D5CDD505-2E9C-101B-9397-08002B2CF9AE}" pid="7" name="_EmailSubject">
    <vt:lpwstr>Presentation</vt:lpwstr>
  </property>
  <property fmtid="{D5CDD505-2E9C-101B-9397-08002B2CF9AE}" pid="8" name="_PreviousAdHocReviewCycleID">
    <vt:r8>1129597225</vt:r8>
  </property>
</Properties>
</file>