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B72-7596-4FAA-B6BF-89EBB809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3D2-1AB7-44ED-BB40-705FD9DE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CAA-1E91-410E-9B3C-E503207D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999-1FB5-403B-B317-7EF01303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D990-A433-4FC8-8244-E2A17DE6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D88E-B91E-4CCE-9F5A-53142A1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B52F-8A83-493E-8022-63DFB7D1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00A-439A-4548-B103-86928054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A6F-0487-4452-BB49-9916E509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81A-85F1-43C1-BAEC-04EC0FE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03ED-B5BE-413F-91CC-530A30C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811-A200-43F4-9317-78ABF78B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A7E-2904-49B6-9FE2-406CFCAC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FF52-A943-4E83-B193-BE9463A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99C-7BB5-4C41-BB07-E7B47B9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7D5-F21F-459F-BD70-AC0A1672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F5FF-D9E2-4A61-B39B-FC21C14F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713-07B0-41E3-97E2-5C514F1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37A-D499-428E-B07C-F6BA3A5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0FF-BD86-48CF-8778-E5F2E23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D95-78A0-4A7D-8EA4-8ACEAC9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E2A-6C60-44E8-BFE1-61F2767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86B-C039-48A6-BF9B-279D761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404-F4CE-4404-A157-A4EC3D9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C80E-DA6E-4879-B059-6F61E0163C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54E-E907-4CF7-8180-02133CAD9F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view of TNT Credit Implic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Credit Work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ch 23, 2004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RCOT Credit Work Grou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Credit Work Group Mee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weekly conference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several educational meetings with NECC and NYMEX clearing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a two day face to face meeting in Austin (tentatively set for April 6-7, 200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ly conference calls scheduled thru June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RCOT Credit Work Grou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a Congestion Revenue Rights – Credit Requirements Strawm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ed key issues related to congestion revenue options and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d how ERCOT will minimize/mitigate credit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pecifics to be covered in Strawman present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RCOT Credit Work Grou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items to be addres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best credit practices by other ISOs as related to the new market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credit implications of the Day Ahead Market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fully develop CRR collater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st with drafting ERCOT Protocols related to credit policy and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st Commercial Operations WG regarding other TNT credit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RCOT Credit Work Grou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7:50:26Z</dcterms:created>
  <dc:creator>vspells</dc:creator>
  <dc:description/>
  <dc:language>en-US</dc:language>
  <cp:lastModifiedBy>vspells</cp:lastModifiedBy>
  <dcterms:modified xsi:type="dcterms:W3CDTF">2004-03-22T21:33:08Z</dcterms:modified>
  <cp:revision>19</cp:revision>
  <dc:subject/>
  <dc:title>Congestion Revenue Rights</dc:title>
</cp:coreProperties>
</file>