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727B-96C3-44FE-91AC-8AC67AEB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F66-18E0-437D-ACB8-AB9D77D8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529-BF90-4709-87E9-7B524FE1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D92-FF22-4DBA-98D1-CAEA0378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7545-DE71-4FE9-9B31-19A31F62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0DF-EBD6-49EB-995B-2A1BA3A5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0EAF-8DDB-4B5E-84ED-06995B01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5204-C5A2-4EE7-A23F-0029B863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E1ED-9461-4727-AE7A-963888A8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2F6-0BFF-4723-9D7E-83C47202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E033-F6C1-419F-82B9-DAC5082E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2A5-2B73-4EE0-BE7C-FC1562ED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21D8-F025-4E4F-8C07-DFE65661ED4F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9437-6E61-4D23-91A2-7CE9D255ED6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21896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2895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324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ommercial Operations Concept Group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Updat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90720" y="457200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enneth Ragsdale/Betty Day/BJ Flow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ch 17, 2004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ctivities Since Last TNT Meeting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ch 9 Meeting Focu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cussed ERCOT Settlement Matr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ved old versions of calc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dentified all Settlement equations that remain unchanged (Unchanged Docu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ollowing statuses were assign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t Change – no change 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leted – charge will be removed under nod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placed – charge will be replaced with a nodal related cha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ew – entirely new charge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erify – needs clar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87F-0843-4A8F-9B08-B5C88B4350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ctivities Since Last TNT Meeting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harge types added were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yments to CRR 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y-Ahead Model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y-Ahead Model cha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ur-Ahead Model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ur-Ahead Model cha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R Auction Reven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y-Ahead RUC Make-Whole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y-Ahead RUC Make-Whole cha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ur-Ahead RUC Make-Whole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ur-Ahead RUC Make-Whole cha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ome of these charges are still waiting for definition from the respective concept group to write equation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784C-94AB-4CDE-99B5-09CE096636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Basic Assumption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Renewable Energy Credit will be handled by ERCOT (Pamela Dautel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FE cuts of data will remain in the extracts, same as today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Zonal Replacement, Local Replacement, Responsive Reserve Underscheduled Charge, Replacement Reserve Underscheduled Charge will be replaced by DA RUC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Load is settled in 15 minute intervals (as in the white paper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Resources scheduled at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5 minute intervals, Load scheduled at 15 minute interval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rice corrections will be at the 5 minute level, with correction causing an automatic change to the 15 minute dat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52F-A4F3-4B87-87B1-57380476D6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Question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Will Ancillary Service Defaults, Second Markets and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OOM Ancillary Services(White Paper to follow)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be handled the same as they are today? (A/S White Paper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What is the Shadow Price for Ancillary Services? (A/S White Paper)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(Will be delivered by MO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ow will Ancillary Service Mismatches be handled? Will they use the same dual-confirm process as energy schedules?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o we need to have “real-time” 15 minute zonal prices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54DB-13B4-42F8-A12F-9EAD203D1A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ctions for TN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None at this tim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9A1-F36D-4AC7-A54D-92070833EB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Next Meeting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ch 23, 2004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RCOT MET Cent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inue working through concept group pap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RU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5FB-5148-40C8-B92D-FDF34A53C4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22:28Z</dcterms:created>
  <dc:creator>Laura </dc:creator>
  <dc:description/>
  <dc:language>en-US</dc:language>
  <cp:lastModifiedBy>RMA4</cp:lastModifiedBy>
  <dcterms:modified xsi:type="dcterms:W3CDTF">2004-03-27T22:43:43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01946522</vt:r8>
  </property>
  <property fmtid="{D5CDD505-2E9C-101B-9397-08002B2CF9AE}" pid="3" name="_AuthorEmail">
    <vt:lpwstr>KRagsdale@ercot.com</vt:lpwstr>
  </property>
  <property fmtid="{D5CDD505-2E9C-101B-9397-08002B2CF9AE}" pid="4" name="_AuthorEmailDisplayName">
    <vt:lpwstr>Ragsdale, Kenneth</vt:lpwstr>
  </property>
  <property fmtid="{D5CDD505-2E9C-101B-9397-08002B2CF9AE}" pid="5" name="_EmailSubject">
    <vt:lpwstr>Suggestions and comments on 2-18-04 COCG Report </vt:lpwstr>
  </property>
  <property fmtid="{D5CDD505-2E9C-101B-9397-08002B2CF9AE}" pid="6" name="_PreviousAdHocReviewCycleID">
    <vt:r8>1877428915</vt:r8>
  </property>
  <property fmtid="{D5CDD505-2E9C-101B-9397-08002B2CF9AE}" pid="7" name="_ReviewingToolsShownOnce">
    <vt:lpwstr/>
  </property>
</Properties>
</file>