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87A0A-6EF3-44DB-9C90-6F5F6C907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39730-A1AB-4424-830B-4D50C60A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7F9CE-298A-437D-9106-E6C439896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F63D2-C653-4565-A220-B554E0218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AE4E2-8208-416E-8A42-41A4E7DB6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4B6FD-B95E-4463-88D3-0A112ADE7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EA217-3EA5-4D37-B956-3FDB5E6F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56A35-972B-4CE9-9B19-FFC76A2E1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256F5-2C2C-491D-84F9-13EB20673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ECCF-7215-40F5-9AEC-A7E6733B2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5B83D-8663-4431-A7B8-D1CAD8D6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753C6-B306-4ED0-95CC-7D9ECCF0C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335C-AAA3-4BB8-B849-0A737958D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ngestion Revenue Righ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dit Requirement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wma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696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br>
              <a:rPr sz="3200"/>
            </a:br>
            <a:r>
              <a:rPr b="0" i="1" lang="en-US" sz="3200" spc="-1" strike="noStrike">
                <a:solidFill>
                  <a:srgbClr val="000000"/>
                </a:solidFill>
                <a:latin typeface="Times New Roman"/>
              </a:rPr>
              <a:t>Obligations</a:t>
            </a:r>
            <a:endParaRPr b="0" lang="en-US" sz="3200" spc="-1" strike="noStrike">
              <a:solidFill>
                <a:srgbClr val="000000"/>
              </a:solidFill>
              <a:latin typeface="Times New Roman"/>
            </a:endParaRPr>
          </a:p>
        </p:txBody>
      </p:sp>
      <p:sp>
        <p:nvSpPr>
          <p:cNvPr id="61" name="PlaceHolder 2"/>
          <p:cNvSpPr>
            <a:spLocks noGrp="1"/>
          </p:cNvSpPr>
          <p:nvPr>
            <p:ph/>
          </p:nvPr>
        </p:nvSpPr>
        <p:spPr>
          <a:xfrm>
            <a:off x="609480" y="1904760"/>
            <a:ext cx="7772400" cy="4267080"/>
          </a:xfrm>
          <a:prstGeom prst="rect">
            <a:avLst/>
          </a:prstGeom>
          <a:noFill/>
          <a:ln w="0">
            <a:noFill/>
          </a:ln>
        </p:spPr>
        <p:txBody>
          <a:bodyPr lIns="90000" rIns="90000" tIns="46800" bIns="46800" anchor="t">
            <a:normAutofit/>
          </a:bodyPr>
          <a:p>
            <a:pPr marL="60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tinued)</a:t>
            </a:r>
            <a:endParaRPr b="0" lang="en-US" sz="18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Ele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 </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ce</a:t>
            </a:r>
            <a:endParaRPr b="0" lang="en-US" sz="2800" spc="-1" strike="noStrike">
              <a:solidFill>
                <a:srgbClr val="000000"/>
              </a:solidFill>
              <a:latin typeface="Times New Roman"/>
            </a:endParaRPr>
          </a:p>
          <a:p>
            <a:pPr lvl="2" marL="13716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atility</a:t>
            </a:r>
            <a:endParaRPr b="0" lang="en-US" sz="24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ation (days of exposure)</a:t>
            </a:r>
            <a:endParaRPr b="0" lang="en-US" sz="2800" spc="-1" strike="noStrike">
              <a:solidFill>
                <a:srgbClr val="000000"/>
              </a:solidFill>
              <a:latin typeface="Times New Roman"/>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3716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 </a:t>
            </a:r>
            <a:br>
              <a:rPr sz="3200"/>
            </a:br>
            <a:r>
              <a:rPr b="0" i="1" lang="en-US" sz="3200" spc="-1" strike="noStrike">
                <a:solidFill>
                  <a:srgbClr val="000000"/>
                </a:solidFill>
                <a:latin typeface="Times New Roman"/>
              </a:rPr>
              <a:t>Obligation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d)</a:t>
            </a:r>
            <a:endParaRPr b="0" lang="en-US" sz="18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lateral</a:t>
            </a:r>
            <a:endParaRPr b="0" lang="en-US" sz="3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teral must be posted 3 – 5 days prior to the Au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und of collateral no later than two (2) business days after payment of the invoice in ful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invoices are awarded, collateral will be returned no later than two (2) business days after close of the Auction</a:t>
            </a:r>
            <a:endParaRPr b="0" lang="en-US" sz="24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going Credit Monitoring – Reassessment</a:t>
            </a:r>
            <a:endParaRPr b="0" lang="en-US" sz="3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assessment (daily/monthly) of risk is mandator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ongestion Revenue Rights </a:t>
            </a:r>
            <a:br>
              <a:rPr sz="3600"/>
            </a:br>
            <a:r>
              <a:rPr b="0" i="1" lang="en-US" sz="3600" spc="-1" strike="noStrike">
                <a:solidFill>
                  <a:srgbClr val="000000"/>
                </a:solidFill>
                <a:latin typeface="Times New Roman"/>
              </a:rPr>
              <a:t>Obligations </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inu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tools to prospectively evaluate risk (not just historical if plan to offer obligations greater than one month i.e. SFT, State Estimat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onsider limits on duration and volume by Q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onsider collateral premium for duration greater than one mont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ongestion Revenue Rights </a:t>
            </a:r>
            <a:br>
              <a:rPr sz="3600"/>
            </a:br>
            <a:r>
              <a:rPr b="0" i="1" lang="en-US" sz="3600" spc="-1" strike="noStrike">
                <a:solidFill>
                  <a:srgbClr val="000000"/>
                </a:solidFill>
                <a:latin typeface="Times New Roman"/>
              </a:rPr>
              <a:t>Obligation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d</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itoring Tools should be able to provi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prices and volumes in the ‘steady state’. i.e. what is the exposure at a given point in time? This includes the effects of future known ev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ed prices and volumes. Ability to calculate the effects of unknown events on prices given a stress test scenar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cal pricing. Maintain a history of previous prices for purposes of comparison and analysi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ary Mar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R secondary market is a market through which CRR Holders may sell CRRs on a bilateral basis. Bilateral trading may be done independently or through an ERCOT – administered bilateral trading system that facilitates trading of existing CRRs between CRR Holders through an Internet computer application that will provide for verification and recordation of bilateral CRR transf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 </a:t>
            </a:r>
            <a:br>
              <a:rPr sz="3200"/>
            </a:br>
            <a:r>
              <a:rPr b="0" i="1" lang="en-US" sz="3200" spc="-1" strike="noStrike">
                <a:solidFill>
                  <a:srgbClr val="000000"/>
                </a:solidFill>
                <a:latin typeface="Times New Roman"/>
              </a:rPr>
              <a:t>Secondary Market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d)</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design for trades (buy and sel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owner is financially responsible until Letter of Credit or Cash collateral is provided to ERCO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ongestion Revenue Rights</a:t>
            </a:r>
            <a:br>
              <a:rPr sz="3600"/>
            </a:b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ditional 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other markets offer a product that extends beyond one (1) year in dur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the ERCOT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Bidding</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bjectives</a:t>
            </a:r>
            <a:endParaRPr b="0" lang="en-US" sz="3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redit risk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 how ERCOT will minimize/mitigate credit ris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liga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Strawman to address credit issu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CRR credit procedures and incorporate into ERCOT Protoc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br>
              <a:rPr sz="3200"/>
            </a:br>
            <a:r>
              <a:rPr b="0" i="1" lang="en-US" sz="3200" spc="-1" strike="noStrike">
                <a:solidFill>
                  <a:srgbClr val="000000"/>
                </a:solidFill>
                <a:latin typeface="Times New Roman"/>
              </a:rPr>
              <a:t>Obligations</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sk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teral can be calculated:</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urred and Billed</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urred but not Billed (if able to estimat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 a Method to calculate collateral:</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ed risk based on known outag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d to events as they happen</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 that can’t be calculated in advanc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known events with short duration (accept risk)</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known events with long du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endParaRPr b="0" lang="en-US" sz="3200" spc="-1" strike="noStrike">
              <a:solidFill>
                <a:srgbClr val="000000"/>
              </a:solidFill>
              <a:latin typeface="Times New Roman"/>
            </a:endParaRPr>
          </a:p>
        </p:txBody>
      </p:sp>
      <p:sp>
        <p:nvSpPr>
          <p:cNvPr id="49" name="PlaceHolder 2"/>
          <p:cNvSpPr>
            <a:spLocks noGrp="1"/>
          </p:cNvSpPr>
          <p:nvPr>
            <p:ph/>
          </p:nvPr>
        </p:nvSpPr>
        <p:spPr>
          <a:xfrm>
            <a:off x="685440" y="1066680"/>
            <a:ext cx="8001000" cy="50292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nual and Monthly Auction Amounts</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400" spc="-1" strike="noStrike">
                <a:solidFill>
                  <a:srgbClr val="000000"/>
                </a:solidFill>
                <a:latin typeface="Times New Roman"/>
              </a:rPr>
              <a:t>The following PTP Option, PTP Obligation (if available) and Flowgate (if available), products will be offered, subject to credit requirements developed by the Credit Workgroup:</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of network capacity will be sold as two year strip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of network capacity will be sold as one year strips (40% in the first year)</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 +/- (or 15% +/-) of network capacity will be sold as monthly strip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 of network capacity will be reserved for use in a day- ahead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 to Point Op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P Option products will be evaluated in each CRR Auction as the positive power flows on all directional network elements created by the injection and withdrawal at the specified source and sink points of the quantity represented by the CRR bid or offer (MW), excluding all negative flows on all directional network ele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current Transmission Congestion Rights (TC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br>
              <a:rPr sz="3200"/>
            </a:br>
            <a:r>
              <a:rPr b="0" i="1" lang="en-US" sz="3200" spc="-1" strike="noStrike">
                <a:solidFill>
                  <a:srgbClr val="000000"/>
                </a:solidFill>
                <a:latin typeface="Times New Roman"/>
              </a:rPr>
              <a:t>Option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3" name="PlaceHolder 2"/>
          <p:cNvSpPr>
            <a:spLocks noGrp="1"/>
          </p:cNvSpPr>
          <p:nvPr>
            <p:ph/>
          </p:nvPr>
        </p:nvSpPr>
        <p:spPr>
          <a:xfrm>
            <a:off x="609480" y="1143000"/>
            <a:ext cx="7772400" cy="4952880"/>
          </a:xfrm>
          <a:prstGeom prst="rect">
            <a:avLst/>
          </a:prstGeom>
          <a:noFill/>
          <a:ln w="0">
            <a:noFill/>
          </a:ln>
        </p:spPr>
        <p:txBody>
          <a:bodyPr lIns="90000" rIns="90000" tIns="46800" bIns="46800" anchor="t">
            <a:normAutofit/>
          </a:bodyPr>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tinu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itial Credit Requirements </a:t>
            </a:r>
            <a:r>
              <a:rPr b="1" lang="en-US" sz="2000" spc="-1" strike="noStrike">
                <a:solidFill>
                  <a:srgbClr val="000000"/>
                </a:solidFill>
                <a:latin typeface="Times New Roman"/>
              </a:rPr>
              <a:t>(if unable to meet credit standard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nts must post collateral (in the form of Letter of Credit or Cash) equal to the full amount of all positive bids submitted to purchase CRR’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Element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 MWH</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 Pr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 MWH x Bid Pri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20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br>
              <a:rPr sz="3200"/>
            </a:br>
            <a:r>
              <a:rPr b="0" i="1" lang="en-US" sz="3200" spc="-1" strike="noStrike">
                <a:solidFill>
                  <a:srgbClr val="000000"/>
                </a:solidFill>
                <a:latin typeface="Times New Roman"/>
              </a:rPr>
              <a:t>Option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d)</a:t>
            </a:r>
            <a:endParaRPr b="0" lang="en-US" sz="18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llateral </a:t>
            </a:r>
            <a:endParaRPr b="0" lang="en-US" sz="3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teral must be posted 3 – 5 days prior to the Au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und of collateral no later than two (2) business days after payment of the invoice in ful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invoices are awarded, collateral will be returned no later than two (2) business days after the close of the auction</a:t>
            </a:r>
            <a:endParaRPr b="0" lang="en-US" sz="24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going Credit Monitoring - Reassessment</a:t>
            </a:r>
            <a:endParaRPr b="0" lang="en-US" sz="3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dditional collateral requirement once invoice is paid in full</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 to Point Obliga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P Obligation products will be evaluated in each CRR auction as the positive and negative power flows on all directional network elements created by the injection and withdrawal at the specified source and sink points of the quantity represented by the CRR bid or offer (MW).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gestion Revenue Rights</a:t>
            </a:r>
            <a:br>
              <a:rPr sz="3200"/>
            </a:br>
            <a:r>
              <a:rPr b="0" i="1" lang="en-US" sz="3200" spc="-1" strike="noStrike">
                <a:solidFill>
                  <a:srgbClr val="000000"/>
                </a:solidFill>
                <a:latin typeface="Times New Roman"/>
              </a:rPr>
              <a:t>Obligations</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inued)</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 Credit Requirements</a:t>
            </a:r>
            <a:r>
              <a:rPr b="1" lang="en-US" sz="2400" spc="-1" strike="noStrike">
                <a:solidFill>
                  <a:srgbClr val="000000"/>
                </a:solidFill>
                <a:latin typeface="Times New Roman"/>
              </a:rPr>
              <a:t> </a:t>
            </a:r>
            <a:r>
              <a:rPr b="1" lang="en-US" sz="1800" spc="-1" strike="noStrike">
                <a:solidFill>
                  <a:srgbClr val="000000"/>
                </a:solidFill>
                <a:latin typeface="Times New Roman"/>
              </a:rPr>
              <a:t>(if unable to meet credit standards)</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nts must post collateral (in the form of a Letter of Credit or Cash) equal to the full amount of all positive bids and the absolute value of all negative bills submitted to purchase CRR’s Obligation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best credit practices of other ISO’s (reviewing some aspects of the MISO DRAF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dit Requirement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WH</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e @ source and sink</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osure peri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14:36:37Z</dcterms:created>
  <dc:creator>vspells</dc:creator>
  <dc:description/>
  <dc:language>en-US</dc:language>
  <cp:lastModifiedBy>vspells</cp:lastModifiedBy>
  <dcterms:modified xsi:type="dcterms:W3CDTF">2004-03-23T14:08:56Z</dcterms:modified>
  <cp:revision>79</cp:revision>
  <dc:subject/>
  <dc:title>Credit Requiremen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52616685</vt:r8>
  </property>
  <property fmtid="{D5CDD505-2E9C-101B-9397-08002B2CF9AE}" pid="3" name="_AuthorEmail">
    <vt:lpwstr>cpais@ercot.com</vt:lpwstr>
  </property>
  <property fmtid="{D5CDD505-2E9C-101B-9397-08002B2CF9AE}" pid="4" name="_AuthorEmailDisplayName">
    <vt:lpwstr>Pais, Cheryl</vt:lpwstr>
  </property>
  <property fmtid="{D5CDD505-2E9C-101B-9397-08002B2CF9AE}" pid="5" name="_EmailSubject">
    <vt:lpwstr>Strawman</vt:lpwstr>
  </property>
  <property fmtid="{D5CDD505-2E9C-101B-9397-08002B2CF9AE}" pid="6" name="_ReviewingToolsShownOnce">
    <vt:lpwstr/>
  </property>
</Properties>
</file>