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D89-D5D2-4E70-9B66-73B97022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0EF-B0F4-4AB2-AF3B-B986D217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7A6-AAFC-40D8-AD65-FEB29372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AEA-70F0-43DC-AAA7-C92FC05C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C987-1388-4A89-87D9-30151155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AA1F-BE70-4D92-BD20-AF6E2B1F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B69F-5A67-4D7D-BCC8-35D0CD4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0FDA-36A4-4FD5-9C90-D06DB58A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93CC-FCCF-4E25-A9A2-E8B858F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9FE-6BDE-4A7E-BD6B-84BB521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67DF-02E4-4321-A2D3-CA85F64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548-638C-4366-98E8-2A1A06CB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74CE-29DD-472D-A716-E947BAD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6D42-383A-4D81-A584-615DFDCD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5386-A4BD-4BEF-8479-7E53165E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06BA-2C35-414B-9E3E-EE78A415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284-773F-4D0D-89F6-B9F8706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BC5-143A-400A-A474-5712918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2C1-6AB5-448E-8C19-3F7C9DCA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311-AAEE-4880-8861-E63219C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FDA-0732-4770-A32D-C359CBB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E73-F258-4870-AFD3-D574993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45C-99A1-49AD-B963-E1C8FE4A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9C5-C0D8-4A6B-8BFE-989B7847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46AE-2F77-47F4-B806-75A8169FAC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088-6253-4E1E-A35E-309B2E2639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ption #3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itting Costs Appropriat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is the proposal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method similar to that of Replacement Reserve cost allocation toda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costs associated with market insufficiency and allocate those to QSEs who have insufficient capacity in real tim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lift costs associated with local cong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w is this different than Option #2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 2 would inappropriately assign all costs to entities who are short capa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ch of these costs will be due to local congestion, even when sufficient capacity is on line in the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cation of this type is simply random.  It would make as much sense to put names on a wheel and spin to assign the co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ren’t those who are short “free riders”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!  If there is already sufficient generation online, that generation was started voluntarily and adds no cost to the mar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sts being allocated are for units that were required to be started and couldn’t recover their costs in the mar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luntarily started units will be the ones that set the energy price that the short QSE will p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price will hardly be fr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would result from Option #2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tion #2 adds the risk of local congestion startups to those who are short in the mar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ill encourage all QSEs to oversupply capacity for their lo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there is no way to avoid these costs by decommitting your units this capacity will stay on line with the least efficient being unloa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st efficient system result is when the most efficient capacity needed to supply the load is on line with the remainder id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will not occur under Option #2, so the result is a consistent inefficiency in the mar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w is it different from Option #4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 #4 is similar to the “Locational ICAP” method recently developed in NEP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rewards those capable of obtaining generation in load pock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re are few entities in these areas, the supply would not be competi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at would result from Option #4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ck of competitive suppliers of capacity in the load security areas lends itself to competitive advantages in the market for affiliates of the suppli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ast one of these areas is one of the largest markets in ERC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an allocation could put a chill on the competitive mark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ption #3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the most appropriate allocation of costs possible where competition can exis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not an arbitrary “direct assignment” of costs to those not causing the cost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not create additional market power through “Locational ICAP”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 for your sup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5:01:37Z</dcterms:created>
  <dc:creator>Clayton Greer</dc:creator>
  <dc:description/>
  <dc:language>en-US</dc:language>
  <cp:lastModifiedBy>Clayton Greer</cp:lastModifiedBy>
  <dcterms:modified xsi:type="dcterms:W3CDTF">2004-03-17T05:40:39Z</dcterms:modified>
  <cp:revision>3</cp:revision>
  <dc:subject/>
  <dc:title>Option #3</dc:title>
</cp:coreProperties>
</file>