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91B4D-4AC0-4080-AE96-6F47293C1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1AA64-7F91-4813-941D-87D449D26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ADB410-D784-4D00-A980-7650B5FF7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704A5-E195-41AF-8AA7-CEB40DAB8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ED1074-C311-436E-A38E-D0E7020165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12051-1F7F-4F05-9D34-2EC575C31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EE370-E7D6-454E-B044-EAFC70540B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F91BC-0A93-4D1D-B027-CD084E9C3B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88849F-6F21-4693-8340-0D04F72EC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876C4-17B3-4AC2-834F-2536DBA0E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01F20-1AF8-4873-85D1-97D84BD05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31C67-BAA9-4CE0-937B-6369B4BFF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E8A62-90ED-4031-8081-B2A780FD9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95378-391E-4666-A515-5AC6C2868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8AE4F-FF49-4406-8612-ABD65F396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702818-9DF6-41F4-A54F-4A42CA6470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C14926-CAC3-40A7-ACF7-F93E7A8A59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3E2F1-F9FB-4D8C-B2F5-B812723A2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5AD3B-9DBA-4717-8F5F-B215696F7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B9EDA-258A-4F72-85F3-72D5D18A8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C0F0F-FF30-49AB-A869-1E1FC8877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5D4C2-1755-4E0E-896E-BEE9C39D4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4023F-802E-414B-8643-C40A2C20F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33D40-BF97-4395-B7F2-E62835710E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5670-AAC9-4F50-B669-146BFBB9A61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D92A-9101-42CF-82CD-5A2CE16B259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28564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Day-Ahead RUC: Cost Allocation</a:t>
            </a:r>
            <a:br>
              <a:rPr sz="4000"/>
            </a:br>
            <a:br>
              <a:rPr sz="4000"/>
            </a:br>
            <a:r>
              <a:rPr b="0" lang="en-US" sz="4000" spc="-1" strike="noStrike">
                <a:solidFill>
                  <a:srgbClr val="ffffff"/>
                </a:solidFill>
                <a:latin typeface="Times New Roman"/>
              </a:rPr>
              <a:t>Option 2: Encourage Self-Commitment &amp; Minimize Uplifted RUC Costs</a:t>
            </a:r>
            <a:endParaRPr b="0" lang="en-US" sz="4000" spc="-1" strike="noStrike">
              <a:solidFill>
                <a:srgbClr val="ffcc66"/>
              </a:solidFill>
              <a:latin typeface="Times New Roman"/>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NT Meeting</a:t>
            </a:r>
            <a:endParaRPr b="0" lang="en-US" sz="32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ch 17, 200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ption 2: Description</a:t>
            </a:r>
            <a:endParaRPr b="0" lang="en-US" sz="4400" spc="-1" strike="noStrike">
              <a:solidFill>
                <a:srgbClr val="ffcc66"/>
              </a:solidFill>
              <a:latin typeface="Times New Roman"/>
            </a:endParaRPr>
          </a:p>
        </p:txBody>
      </p:sp>
      <p:sp>
        <p:nvSpPr>
          <p:cNvPr id="103" name="PlaceHolder 2"/>
          <p:cNvSpPr>
            <a:spLocks noGrp="1"/>
          </p:cNvSpPr>
          <p:nvPr>
            <p:ph/>
          </p:nvPr>
        </p:nvSpPr>
        <p:spPr>
          <a:xfrm>
            <a:off x="685440" y="1066680"/>
            <a:ext cx="8077320" cy="51055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ign DaRUC costs to QSEs that fail to bilaterally arrange for sufficient energy and/or capacity to meet their obligation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RUC costs are actual make-whole payments and not hypothetical cos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osure of QSEs that are short are cappe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ly DaRUC costs above the cap are potentially uplifted and only in cases that the cap is actually hit</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A24F2AD4-D43D-41CA-AFA3-70681D2ACC8A}"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ption 2: Features</a:t>
            </a:r>
            <a:endParaRPr b="0" lang="en-US" sz="4400" spc="-1" strike="noStrike">
              <a:solidFill>
                <a:srgbClr val="ffcc66"/>
              </a:solidFill>
              <a:latin typeface="Times New Roman"/>
            </a:endParaRPr>
          </a:p>
        </p:txBody>
      </p:sp>
      <p:sp>
        <p:nvSpPr>
          <p:cNvPr id="105" name="PlaceHolder 2"/>
          <p:cNvSpPr>
            <a:spLocks noGrp="1"/>
          </p:cNvSpPr>
          <p:nvPr>
            <p:ph/>
          </p:nvPr>
        </p:nvSpPr>
        <p:spPr>
          <a:xfrm>
            <a:off x="685440" y="1066320"/>
            <a:ext cx="807732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des a strong incentive to self-commit or bilaterally contract for energy and/or capacity</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SEs that self-commit capacity greater than their own needs can monetize the value of their excess capacity in bilateral markets – self-commitment not disadvantage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iminates “free-rider” problem – short QSEs don’t need to commit costly units but must at least contract for some cheap excess capacity (QSEs that have excess capacity can get value for that capacity only by selling in bilateral market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like other options, Option 2 does not depend on hypothetical costs or subjective allocation to yet another arbitrarily drawn “load security area”</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CD12D931-6B94-45DE-92D2-B7787B6841FC}" type="slidenum">
              <a:t>3</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ption 2: Benefits</a:t>
            </a:r>
            <a:endParaRPr b="0" lang="en-US" sz="4400" spc="-1" strike="noStrike">
              <a:solidFill>
                <a:srgbClr val="ffcc66"/>
              </a:solidFill>
              <a:latin typeface="Times New Roman"/>
            </a:endParaRPr>
          </a:p>
        </p:txBody>
      </p:sp>
      <p:sp>
        <p:nvSpPr>
          <p:cNvPr id="107" name="PlaceHolder 2"/>
          <p:cNvSpPr>
            <a:spLocks noGrp="1"/>
          </p:cNvSpPr>
          <p:nvPr>
            <p:ph/>
          </p:nvPr>
        </p:nvSpPr>
        <p:spPr>
          <a:xfrm>
            <a:off x="685440" y="1066320"/>
            <a:ext cx="8077320" cy="57913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plest and Least Costly to Implemen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courages Self-Commitmen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courages forward bilateral contracting rather than creating a real-time power poo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nimizes Uplifted DaRUC cos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ts self-committed capacity and DaRUC capacity on a more equal footing – all capacity has val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ilar to PJM but improved to limit exposure</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94A8A862-B000-4E37-891F-75557973E260}" type="slidenum">
              <a:t>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07">
                                            <p:txEl>
                                              <p:pRg st="3" end="3"/>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07">
                                            <p:txEl>
                                              <p:pRg st="4" end="4"/>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0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5331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cc66"/>
                </a:solidFill>
                <a:latin typeface="Times New Roman"/>
              </a:rPr>
              <a:t>VOTE Option 2</a:t>
            </a:r>
            <a:endParaRPr b="0" lang="en-US" sz="7200" spc="-1" strike="noStrike">
              <a:solidFill>
                <a:srgbClr val="ffcc66"/>
              </a:solidFill>
              <a:latin typeface="Times New Roman"/>
            </a:endParaRPr>
          </a:p>
        </p:txBody>
      </p:sp>
      <p:sp>
        <p:nvSpPr>
          <p:cNvPr id="109" name="PlaceHolder 2"/>
          <p:cNvSpPr>
            <a:spLocks noGrp="1"/>
          </p:cNvSpPr>
          <p:nvPr>
            <p:ph/>
          </p:nvPr>
        </p:nvSpPr>
        <p:spPr>
          <a:xfrm>
            <a:off x="685440" y="2514240"/>
            <a:ext cx="8077320" cy="160020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Option 2 is really Number 1</a:t>
            </a:r>
            <a:endParaRPr b="0" lang="en-US" sz="5400" spc="-1" strike="noStrike">
              <a:solidFill>
                <a:srgbClr val="ffffff"/>
              </a:solidFill>
              <a:latin typeface="Times New Roman"/>
            </a:endParaRPr>
          </a:p>
        </p:txBody>
      </p:sp>
      <p:sp>
        <p:nvSpPr>
          <p:cNvPr id="4" name="PlaceHolder 3"/>
          <p:cNvSpPr>
            <a:spLocks noGrp="1"/>
          </p:cNvSpPr>
          <p:nvPr>
            <p:ph type="sldNum" idx="3"/>
          </p:nvPr>
        </p:nvSpPr>
        <p:spPr/>
        <p:txBody>
          <a:bodyPr/>
          <a:p>
            <a:fld id="{A0A93DAB-9315-4CC2-8DB4-6FF5957A0988}" type="slidenum">
              <a:t>5</a:t>
            </a:fld>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6T19:39:42Z</dcterms:created>
  <dc:creator>Shams Siddiqi</dc:creator>
  <dc:description/>
  <dc:language>en-US</dc:language>
  <cp:lastModifiedBy>MOCG</cp:lastModifiedBy>
  <cp:lastPrinted>2003-01-09T21:32:30Z</cp:lastPrinted>
  <dcterms:modified xsi:type="dcterms:W3CDTF">2004-03-17T15:00:36Z</dcterms:modified>
  <cp:revision>100</cp:revision>
  <dc:subject/>
  <dc:title>Doing Business in Entergy</dc:title>
</cp:coreProperties>
</file>