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1CC-EB77-4796-9227-AE730B66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7E1-00A1-4A63-ACDD-DEF4B5B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4D0-041D-4300-B597-F60208D2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BBD-CB8A-482D-9C6E-5EF0D7DA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DA5-F73C-41F3-88B7-57057CE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AAD-8557-4ED8-9726-5FF9EAC0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268-EC5C-45CF-8866-5F55A43B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7DE-C291-4A74-8BDC-ED02226C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32A-7E16-4C24-9226-15D55FE2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B63-1C85-4398-B98A-214E1D3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7C3-958E-42A8-BE30-8856344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82B-0CA4-420A-86D0-2FCF741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4AD-2138-4F30-B32D-908964D6EA61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273-F6A6-4611-96A1-3DAF4BDBA9A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mmercial Operations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enneth Ragsdale/Betty Day/BJ Flow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ch 17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vities Since Last TN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ch 9 Meeting Focu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ussed ERCOT Settlement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ved old versions of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ied all Settlement equations that remain unchanged (Unchanged Docu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ollowing statuses were assign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 Change – no change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leted – charge will be removed under no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laced – charge will be replaced with a nodal related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 – entirely new charg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ify – needs cla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98A-65F1-4966-B734-D9081B3D86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vities Since Last TN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harge types added wer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ments to CRR 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Model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Model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Model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Model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R Auction Reven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RUC Make-Whol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-Ahead RUC Make-Whole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RUC Make-Whol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r-Ahead RUC Make-Whole ch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ome of these charges are still waiting for definition from the respective concept group to write equation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CBB-8187-4307-9A8F-7148C2F6B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asic Assumptio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newable Energy Credit will be handled by ERCOT (Pamela Daute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FE cuts of data will remain in the extracts, same as today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Zonal Replacement, Local Replacement, Replacement Reserve Underscheduled Charge will be replaced by DA RU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oad is settled in 15 minute intervals (as in the white paper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sources scheduled at 5 minute intervals, Load scheduled at 15 minute interva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ice corrections will be at the 5 minute level, with correction causing an automatic change to the 15 minute dat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CF8-D8D0-4BE9-9F74-06FC70A98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ill Ancillary Service Defaults, Second Markets and OOM Ancillary Services be handled the same as they are today? (A/S White Pap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is the Shadow Price for Ancillary Services? (A/S White Pap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will Ancillary Service Mismatches be handled? Will they use the same dual-confirm process as energy schedule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 we need to have “real-time” 15 minute zonal price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21A-19A0-445C-BAB6-FBBE514C9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one at this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628-8EF8-4B80-9A71-C1EF37BE9B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ext Meet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ch 23, 2004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RCOT MET Cen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e working through concept group pap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RU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499-6C16-4297-9892-3D46A371B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ercot/if</cp:lastModifiedBy>
  <dcterms:modified xsi:type="dcterms:W3CDTF">2004-03-22T16:59:48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1946522</vt:r8>
  </property>
  <property fmtid="{D5CDD505-2E9C-101B-9397-08002B2CF9AE}" pid="3" name="_AuthorEmail">
    <vt:lpwstr>KRagsdale@ercot.com</vt:lpwstr>
  </property>
  <property fmtid="{D5CDD505-2E9C-101B-9397-08002B2CF9AE}" pid="4" name="_AuthorEmailDisplayName">
    <vt:lpwstr>Ragsdale, Kenneth</vt:lpwstr>
  </property>
  <property fmtid="{D5CDD505-2E9C-101B-9397-08002B2CF9AE}" pid="5" name="_EmailSubject">
    <vt:lpwstr>Suggestions and comments on 2-18-04 COCG Report </vt:lpwstr>
  </property>
  <property fmtid="{D5CDD505-2E9C-101B-9397-08002B2CF9AE}" pid="6" name="_PreviousAdHocReviewCycleID">
    <vt:r8>1877428915</vt:r8>
  </property>
  <property fmtid="{D5CDD505-2E9C-101B-9397-08002B2CF9AE}" pid="7" name="_ReviewingToolsShownOnce">
    <vt:lpwstr/>
  </property>
</Properties>
</file>