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4AE-172E-4487-B260-A67E6C3E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FD5-5B6F-42C5-A690-C7980815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1A7-B97B-49BA-AE67-2310C5E5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87A-A225-4F5F-A51B-46378B45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014-212D-436C-B952-CBDD987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83D-1428-4AAA-A29B-0DBF0C11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CCA-3CE9-4201-BCBA-647C26B7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B29-711C-4C9C-AE82-ABEBAACB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A09-AB6E-4D2F-8716-50BA9F3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50D-DE44-4A4A-B26D-30E36618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E57-5975-4A56-9B78-AA4563A8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743-1D0C-4166-98AF-FFDAB654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AD26-9064-4D72-8872-9D3B7E7BEFDD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2294-4CDA-4A9B-8BC9-6E1513E95B9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Market Mitigation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m Galvi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17, 200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ast Meeting Dat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 on March 1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termination of Competitive and Non-competitive constraints [how &amp; when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Mitigation Options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 Hea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rogate Pro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JM Cost (verifiable operating co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Heat Rate or cost plus 10% (No RMR &amp; negotiate c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ost plus option (similar to DaRU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9C6-101E-4268-A9AA-01EBF0838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urrent Discussion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mitigation options – the group is currently considering four options and is working towards eliminating some of the op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MCG continues to discuss the method that will be used to determine competitive and non-competitive constrai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MCG is discussing price floors for non-bidding entit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62A-51A7-433E-866E-683BD58A9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Topics for Upcoming Meeting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nalize the Market Mitigation white paper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tigation Rules for Day-ahead RUC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tigation Rules for CRRs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n-bidding resources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rket Monitoring and the MOD Monitoring Plan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raft business rules to address local market power as directed by the TNT vote taken on February 18 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tigation for Day Ahead Energy Market (E-HDAM)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E27-EB93-4F54-A58C-8B4A5DDF6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Future Meeting Dat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18, 2004 at the Austin Airport Hilton – joint meeting with Congestion Managemen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26, 2004 at the Comfort Suit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368-12D3-432E-AE3C-86F98A805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ons for T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NT participants need to become familiar with the real-time mitigation options that will be brought to TNT for a vote at the next meeting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522-31AF-48F9-909A-ACCE2BD72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Isabel Flores </dc:creator>
  <dc:description/>
  <dc:language>en-US</dc:language>
  <cp:lastModifiedBy>ERCOT/if</cp:lastModifiedBy>
  <dcterms:modified xsi:type="dcterms:W3CDTF">2004-03-16T09:26:37Z</dcterms:modified>
  <cp:revision>46</cp:revision>
  <dc:subject/>
  <dc:title>PowerPoint Presentation</dc:title>
</cp:coreProperties>
</file>