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669B-5F14-478D-8B11-F39D2C1A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0FD1-F5E1-4E35-98E6-50EFDB22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9F9F-B827-44C7-B407-80BCC953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106-1A97-414F-8EF1-671E2BDA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FA4C-0FFD-4B92-A6AC-E1E70CB7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B737-56A1-4061-BFB6-C3A93AED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BB05-6C74-43B6-B05A-8A3087FF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D844-54C8-4C61-9366-8C3F0903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7C9-46A8-403E-A38F-368654EE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8907-30EF-421F-8F1F-E8A9F262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201-3A29-43ED-BE6A-F2FF587E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FF7C-2AB0-43E7-8498-3C463FB4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FAA8-575F-4898-B338-582D3FB3970D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1EBF-5EA9-460B-A202-30578E4A291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1218960" cy="106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289548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32448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4191120" cy="404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ost Benefit Concept Group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Updat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90720" y="457200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ick Covington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Vikki Gates Cudd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ch 17, 2004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ost Benefit Study Updat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uccessful negotiations were completed with Tabors, Caramanis &amp; Associates (TCA)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nering with KEMA Consul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CA attended Cost Benefit Workshop at the PUCT Open Meeting on March 10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CA has begun working with ERCOT to prepare and populate data for their modeling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CA needs Change Cases largely defined by April 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9F8D-96A3-40EC-A2C4-7DE6235A73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Last Meeting Dat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ch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PUCT Worksho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esentations made by Ellen Wolf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Cost-Benefit Consultant from T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anel discussion with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ick Covington – Modified Zonal Change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andy Jones – Northeast/Replication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llen Wolfe – Cost Benefit Consul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hams Siddiq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an Jo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A2A5-E8E1-4D98-80E9-644D6551F5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hange Cas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Replicator (formerly Northeast) Change Case is ready for consideration by the T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tem will be discussed more by Randy J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Modified Zonal Change Case has held two meetings to address major design elements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te to include the Modified Zonal is expected on March 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D1A7-45F8-4E5D-BBC1-18D5BADE78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Issue Managemen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RCOT is developing a public issue tracking tool as part of the TNT websit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ry and report functionality similar to dispute management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s defined at high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ivery date unconfirmed curr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ssues and questions between the C-B Consultant and ERCOT/Market Participants will be tracked in a spreadsheet until web tool is available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8DA-E2A3-4667-AB1B-CBEA050CBD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Future Meeting Dat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ch 26, 2004 at ERCOT Austin 206B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pril 6, 2004 at the Austin Airport Hilton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y 4, 2004 at ERCOT Austin 206B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une 1, 2004 at ERCOT Austin 206B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116F-A157-4FBE-9BFF-CF280E0E17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ctions for TN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view Modified Zonal Change Case material to prepare for March 3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meeting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D054-B4DF-48DA-BAD1-DD7C0B2821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22:28Z</dcterms:created>
  <dc:creator>Isabel Flores </dc:creator>
  <dc:description/>
  <dc:language>en-US</dc:language>
  <cp:lastModifiedBy>Vikki Gates Cuddy</cp:lastModifiedBy>
  <dcterms:modified xsi:type="dcterms:W3CDTF">2004-03-17T03:14:29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67695489</vt:r8>
  </property>
  <property fmtid="{D5CDD505-2E9C-101B-9397-08002B2CF9AE}" pid="3" name="_AuthorEmail">
    <vt:lpwstr>vikki.cuddy@scgo.com</vt:lpwstr>
  </property>
  <property fmtid="{D5CDD505-2E9C-101B-9397-08002B2CF9AE}" pid="4" name="_AuthorEmailDisplayName">
    <vt:lpwstr>Vikki Gates Cuddy</vt:lpwstr>
  </property>
  <property fmtid="{D5CDD505-2E9C-101B-9397-08002B2CF9AE}" pid="5" name="_EmailSubject">
    <vt:lpwstr>CBCG Update</vt:lpwstr>
  </property>
  <property fmtid="{D5CDD505-2E9C-101B-9397-08002B2CF9AE}" pid="6" name="_PreviousAdHocReviewCycleID">
    <vt:r8>-743062114</vt:r8>
  </property>
</Properties>
</file>