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52A0-0C1B-417A-9ED6-A1451AFA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7C1F-AD93-43A3-A3FA-8607C6DD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DF13-30BC-4375-A47A-E128B9C3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48C3-FF5F-4D35-BC72-46A89AB88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88E1-DAC4-4B1E-8CFD-0A6B0784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49CD-2CD9-460D-A32A-8945607F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AAFC-9F95-41D4-9F04-4ABB21A2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9C81-0FCA-4033-B344-4F35EF74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C4C-4F1C-45F6-93CC-EFA5F484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C0C9-BC25-4A2C-9E47-7613C17C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5102-42A9-4A82-B76D-8D24DF2F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2929-FFFF-4F33-BD7A-81D56420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C41C-97AE-408A-9AE5-5A894EC0D84E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962E-A20D-4011-8EB1-B3ACE644D63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1218960" cy="106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289548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32448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297000"/>
            <a:ext cx="4191120" cy="404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582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ongestion Management Concept Group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Updat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720" y="457200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rguerite Wagn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rch 17, 2004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Last/Next Meeting Dat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o meetings since the March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TNT General Sess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ext Meeting is March 1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(with MMCG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3611-143F-44B4-B70B-27BEEE6CD3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Topics for Upcoming Meeting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view CRR Whitepaper to incorporate recent TNT decis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view outstanding “boxed” langua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/post CRR auction information pos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CRR elig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ork with MMCG on overlap issu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R Ownership lim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R deration methodology im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ork with COCG to ensure proper capture of CRR and Load Zone issu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FBB8-9824-43A1-A8EC-A1F0695054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Future Meeting Dat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rch 18, 2004 at the Austin Airport Hilton (joint meeting with MMCG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pril 19, 2004 (ERCOT Austin 206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A6F7-535C-46B8-8804-EABA169697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ctions for TN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on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29BB-DB81-4A6F-9C31-13A21DB146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9:22:28Z</dcterms:created>
  <dc:creator>Isabel Flores </dc:creator>
  <dc:description/>
  <dc:language>en-US</dc:language>
  <cp:lastModifiedBy>MOCG</cp:lastModifiedBy>
  <dcterms:modified xsi:type="dcterms:W3CDTF">2004-03-16T23:50:13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43062114</vt:r8>
  </property>
  <property fmtid="{D5CDD505-2E9C-101B-9397-08002B2CF9AE}" pid="3" name="_AuthorEmail">
    <vt:lpwstr>IFlores@ercot.com</vt:lpwstr>
  </property>
  <property fmtid="{D5CDD505-2E9C-101B-9397-08002B2CF9AE}" pid="4" name="_AuthorEmailDisplayName">
    <vt:lpwstr>Flores, Isabel</vt:lpwstr>
  </property>
  <property fmtid="{D5CDD505-2E9C-101B-9397-08002B2CF9AE}" pid="5" name="_EmailSubject">
    <vt:lpwstr>Concept Group Updates</vt:lpwstr>
  </property>
</Properties>
</file>